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4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C71A-61FA-4E8C-8F00-A077F6ADD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764E-D284-429D-8C5A-D4E53437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B53E-E487-4E57-9D5C-E2D32607B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D2F4-101E-47AA-9B00-60C61967A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8363-FDCA-4405-BD54-4C27FD103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65AD-578F-410D-B36B-FBC97DDD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7C3C-ED60-4CCE-B1F7-74665972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CA19-6CD6-44DF-9D68-FF075E17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5664-5A75-4596-8E0E-D7CE992F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6C9D-F2B6-400E-AB06-79A2C4FA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9A81-9A74-43EB-8998-15A6D47B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BFC4-F328-4556-995D-8413E619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E654-D756-42A8-BF51-30A88864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977D-E523-4319-884E-91FE73E4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46F2-3E30-4401-9137-0DA9E4B5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1BA3-3622-4F5B-8DE1-EF4A5F0CB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AAEE-5E7F-46BD-A059-FDB1796B1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30B5D-80F3-4E92-885B-B002CF34D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AE4EA-0113-4BB0-82DB-0AD1FBF3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0AF0E-E98D-4E2B-A303-7376B23F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05329-99ED-4724-897B-DEF6606A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35D02-2C43-447F-B30B-34B1CF13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E648-ACF0-483B-8517-C5C70ABC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4BD1F-868D-41DA-905C-7867518B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4B778-20D4-452D-AE15-AF8AF4FA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C904C-25B0-4378-AFA8-3333221B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DD08B-8123-4A65-8B30-EF0C2C23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5DCB1-A3E8-4DF7-A015-044F5E19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37333-5FE6-4EC2-887E-4148701C9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8E5A6-7584-42BC-AE86-5E98BD4B9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3470F-F5B3-4505-9A2F-03AD38CA7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79326-8F18-4431-B40C-33A1CBB0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55BC1-C874-4759-B4FE-CE7D2506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F74F-D650-4FF6-91AC-EB0A4BDA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BA8B4-DE9C-4D65-94E7-B3CB2937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6996D-2F8B-4B01-9579-BB7A4429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EE8D2-229B-4094-889D-9A7A0458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1C43B-A593-4114-ABE9-40A81B55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2A1F2-0FE5-4456-9FF3-06794374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E9CDA-DD6D-4E0F-9503-847305B8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A643D-93D7-44DE-B7C7-6765BD37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EB8FC-9C6A-4963-A151-5262D32FC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6769B-CE5E-41EA-B188-49EFA628D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165F-8B9D-4A34-BACD-A05BA5F6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2B72-B4C1-47D5-97F0-BCD056E0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880A-00D4-48C3-8532-2FD1C51A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44A6-0CBC-4CEA-97BC-7216DFA8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456D-334A-45A4-AB03-FE6FEB05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E14C-1CE7-4F85-8DCD-9AFF1F2ED64B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C089-56DB-4F6B-827E-2E1D461B29C8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9AD0-C168-418D-A2B7-3AD2DB8EA9B9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84DE-C6C0-47E6-93C7-38808488D0B0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ultinfo.ru/fulltext/1/001/008/086/342.htm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antropogenez.ru/catalog/" TargetMode="External"/><Relationship Id="rId2" Type="http://schemas.openxmlformats.org/officeDocument/2006/relationships/hyperlink" Target="http://antropogenez.ru/catalog/" TargetMode="External"/><Relationship Id="rId3" Type="http://schemas.openxmlformats.org/officeDocument/2006/relationships/hyperlink" Target="http://antropogenez.ru/catalog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5476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МБОУ «ФИЗИКО-МАТЕМАТИЧЕСКИЙ ЛИЦЕЙ»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СЕРГИЕВ ПОСАД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Учитель химии-биологии Перепелкин О.В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Narrow"/>
              </a:rPr>
              <a:t>ОСНОВНЫЕ ЭТАПЫ АНТРОПОГЕНЕЗА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5280" y="2340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ЕЛОВЕК ПРЯМОХОДЯЩИЙ ( 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HOMO ERECTUS 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5580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АРХАНТРОП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Эректус жил от 1,5 до 0,2 млн. лет назад.«Человекообразная обезьяна с острова Ява» была первым первобытным человеком,окаменевшие останки которого были найдены во второй половине XIX в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Эректусы обладали средним ростом (1,5—1,8 м), прямой походкой и архаическим строением черепа (толстые стенки, низкая лобная кость, выступающие надглазничные валики, скошенный подбородок). Объём мозга у некарликовых форм достигал 900—1200 см³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6021360" y="1828800"/>
            <a:ext cx="133020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ЕЛОВЕК ПРЯМОХОДЯЩИЙ ( 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HOMO ERECTUS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 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Эректусы активно изготовливали каменные орудия (ашёльская культура), использовали шкуры в качестве одежды, жили в пещерах, пользовались огнём и практиковали каннибализм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Начали готовить пищу на огне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0" name="Объект 4" descr=""/>
          <p:cNvPicPr/>
          <p:nvPr/>
        </p:nvPicPr>
        <p:blipFill>
          <a:blip r:embed="rId1"/>
          <a:stretch/>
        </p:blipFill>
        <p:spPr>
          <a:xfrm>
            <a:off x="5022720" y="1828800"/>
            <a:ext cx="37958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280" y="-1717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ЕЛОВЕК ПРЯМОХОДЯЩИЙ ( 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HOMO ERECTUS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 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0003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Эректусы были сравнительно широко распространены по Старому Свету. За африканским подвидом закрепилось название Homo ergaster, хотя к африканским эректусам относят также атлантропа и родезийского человека. За европейским подвидом закрепилось название гейдельбергского человека, хотя существовали и «догейдельбергские» эректусы. В Восточной Азии обитали два подвида: более прогрессивные синантропы из Китая и более примитивные питекантропы из Индонезии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3" name="Объект 4" descr=""/>
          <p:cNvPicPr/>
          <p:nvPr/>
        </p:nvPicPr>
        <p:blipFill>
          <a:blip r:embed="rId1"/>
          <a:stretch/>
        </p:blipFill>
        <p:spPr>
          <a:xfrm>
            <a:off x="4811760" y="1844640"/>
            <a:ext cx="4359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НЕАНДЕРТАЛЬЦ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( 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HOMO NEANDERTHALENSIS</a:t>
            </a: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 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6480" y="1197000"/>
            <a:ext cx="4457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Палеоантропы (от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 Narrow"/>
              </a:rPr>
              <a:t>палео-древний</a:t>
            </a:r>
            <a:r>
              <a:rPr b="0" lang="ru-RU" sz="3200" spc="-1" strike="noStrike" u="sng">
                <a:solidFill>
                  <a:srgbClr val="646464"/>
                </a:solidFill>
                <a:uFillTx/>
                <a:latin typeface="Arial Narrow"/>
                <a:hlinkClick r:id="rId1"/>
              </a:rPr>
              <a:t>..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 и греч. anthropos — человек), обобщённое (не систематическое) название ископаемых людей, обитавших в Азии, Африке и Европе 250—35 тыс. лет назад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6" name="Picture 5" descr="C:\Documents and Settings\Ghostdog\Рабочий стол\антропогенез\evolution-primitive-man.jpg"/>
          <p:cNvPicPr/>
          <p:nvPr/>
        </p:nvPicPr>
        <p:blipFill>
          <a:blip r:embed="rId2"/>
          <a:stretch/>
        </p:blipFill>
        <p:spPr>
          <a:xfrm>
            <a:off x="468360" y="1413000"/>
            <a:ext cx="4032360" cy="4103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НЕАНДЕРТАЛЬЦЫ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(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OMO NEANDERTHALENSIS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28760" y="1143000"/>
            <a:ext cx="40006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Неандертальцы обладали средним ростом (около 165 см), массивным телосложением и большой головой необычной формы. По объёму черепной коробки (1400—1740 см³) они даже превосходили современных людей. Их отличали мощные надбровные дуги, выступающий широкий нос и очень маленький подбородок.Голова наклонена вперёд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9" name="Объект 6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475272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НЕАНДЕРТАЛЬЦЫ И КРОМАНЬОНЦ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1" name="Фильм 1.wmv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5832360" cy="48243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4" dur="1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КРОМАНЬОНЦЫ (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HOMO SAPIENS 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4859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Неоантропы (буквально — новые люди, от греч. néos — новый и ánthropos — человек), обобщенное название людей современного вида (Homo sapiens), ископаемых и ныне живущих Соответствуют ситематическому названию </a:t>
            </a: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Homo sapiens sapiens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, появились около 40 тысяч лет назад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5" name="Picture 6" descr=""/>
          <p:cNvPicPr/>
          <p:nvPr/>
        </p:nvPicPr>
        <p:blipFill>
          <a:blip r:embed="rId1"/>
          <a:stretch/>
        </p:blipFill>
        <p:spPr>
          <a:xfrm>
            <a:off x="5148360" y="1484280"/>
            <a:ext cx="360036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98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280" y="2340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КРОМАНЬОНЦЫ (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HOMO SAPIENS 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40006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Объём головного мозга равен 1600—1800 см³ (больше, чем у среднего современного европейца). Рост около 180 см. и выше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Название происходит от грота Кро-Маньон во Франции, где в 1868 году было обнаружено несколько скелетов людей вместе с орудиями позднего палеолита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Жили общинами по 15—30 человек и впервые в истории создали поселения. Жилищем были пещеры, шатры из шкур, в Восточной Европе встречаются землянки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8" name="Объект 4" descr=""/>
          <p:cNvPicPr/>
          <p:nvPr/>
        </p:nvPicPr>
        <p:blipFill>
          <a:blip r:embed="rId1"/>
          <a:stretch/>
        </p:blipFill>
        <p:spPr>
          <a:xfrm>
            <a:off x="4643280" y="1844640"/>
            <a:ext cx="44881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КРОМАНЬОНЦЫ (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 HOMO SAPIENS 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2" name="кроманьонцы.wmv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77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155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8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СОВРЕМЕННЫЙ ВЗГЛЯД НА АНТРОПОГЕНЕЗ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В последние несколько десятилетий найдено огромное количество новых ископаемых гоминид. И ученым ещё предстоит разобраться в их родственных связях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5" name="Объект 4" descr=""/>
          <p:cNvPicPr/>
          <p:nvPr/>
        </p:nvPicPr>
        <p:blipFill>
          <a:blip r:embed="rId1"/>
          <a:stretch/>
        </p:blipFill>
        <p:spPr>
          <a:xfrm>
            <a:off x="5008680" y="981000"/>
            <a:ext cx="410508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ФИЛОГЕНЕТИЧЕСКИЙ РЯД ЧЕЛОВЕКА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4680" y="1844640"/>
            <a:ext cx="3504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Антропогенез </a:t>
            </a:r>
            <a:r>
              <a:rPr b="0" lang="en-US" sz="2700" spc="-1" strike="noStrike">
                <a:solidFill>
                  <a:srgbClr val="ffffff"/>
                </a:solidFill>
                <a:latin typeface="Arial Narrow"/>
              </a:rPr>
              <a:t>- процесс эволюционного развития человека</a:t>
            </a:r>
            <a:endParaRPr b="0" lang="en-US" sz="2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1" name="Объект 2" descr=""/>
          <p:cNvPicPr/>
          <p:nvPr/>
        </p:nvPicPr>
        <p:blipFill>
          <a:blip r:embed="rId1"/>
          <a:stretch/>
        </p:blipFill>
        <p:spPr>
          <a:xfrm>
            <a:off x="3492360" y="1484280"/>
            <a:ext cx="540072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000080"/>
            <a:ext cx="40003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В процессе антропогенеза увеличивался объем головного мозга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Уменьшалась роль биологических факторов, увеличивалась роль социальных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Развивались анатомо-морфологические особенности,связанные с прямохождением и трудовой деятельностью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8" name="Объект 6" descr=""/>
          <p:cNvPicPr/>
          <p:nvPr/>
        </p:nvPicPr>
        <p:blipFill>
          <a:blip r:embed="rId1"/>
          <a:stretch/>
        </p:blipFill>
        <p:spPr>
          <a:xfrm>
            <a:off x="4716360" y="1413000"/>
            <a:ext cx="423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ИСПОЛЬЗОВАЛИСЬ МАТЕРИАЛЫ САЙТОВ: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1.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1700" spc="-1" strike="noStrike" u="sng">
                <a:solidFill>
                  <a:srgbClr val="646464"/>
                </a:solidFill>
                <a:uFillTx/>
                <a:latin typeface="Arial Narrow"/>
                <a:hlinkClick r:id="rId1"/>
              </a:rPr>
              <a:t>http://</a:t>
            </a:r>
            <a:r>
              <a:rPr b="0" lang="en-US" sz="1700" spc="-1" strike="noStrike" u="sng">
                <a:solidFill>
                  <a:srgbClr val="646464"/>
                </a:solidFill>
                <a:uFillTx/>
                <a:latin typeface="Arial Narrow"/>
                <a:hlinkClick r:id="rId2"/>
              </a:rPr>
              <a:t>antropogenez.ru</a:t>
            </a:r>
            <a:r>
              <a:rPr b="0" lang="en-US" sz="1700" spc="-1" strike="noStrike" u="sng">
                <a:solidFill>
                  <a:srgbClr val="646464"/>
                </a:solidFill>
                <a:uFillTx/>
                <a:latin typeface="Arial Narrow"/>
                <a:hlinkClick r:id="rId3"/>
              </a:rPr>
              <a:t>/catalog/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2.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http://ru.wikipedia.org/wiki/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3.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 http://www.evolbiol.ru/human.htm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СТАДИИ  АНТРОПОГЕНЕЗА     (КЛАССИЧЕСКОЕ ПРЕДСТАВЛЕНИЕ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1"/>
          <a:stretch/>
        </p:blipFill>
        <p:spPr>
          <a:xfrm>
            <a:off x="0" y="1628640"/>
            <a:ext cx="4932360" cy="39610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148000" y="1600200"/>
            <a:ext cx="367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Австралопитеки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Человек умелый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Архантропы (Человек прямоходящий)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Палеоантропы (Неандерталец)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Неоантропы (Кроманьонец)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Narrow"/>
              </a:rPr>
              <a:t>ДРИОПИТЕКИ (</a:t>
            </a: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DRYOPITHECUS</a:t>
            </a:r>
            <a:r>
              <a:rPr b="0" lang="ru-RU" sz="44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9280" y="1196640"/>
            <a:ext cx="40006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Дриопите́к — род вымерших антропоморфных приматов, известный по ряду остатков, найденных в Восточной Африке и Евразии. Жил примерно 12 - 9 миллионов лет назад. Общий предок горилл, шимпанзе и людей. Представляли собой приматов,размером с  шимпанзе. В длину достигали 60 см и по способу передвижения напоминали современных орангутанов. масса тела - 20-35 кг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788000" y="155736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8" name="Picture 2" descr="C:\Documents and Settings\Ghostdog\Рабочий стол\антропогенез\дриопитек\dryopithecus.jpg"/>
          <p:cNvPicPr/>
          <p:nvPr/>
        </p:nvPicPr>
        <p:blipFill>
          <a:blip r:embed="rId1"/>
          <a:stretch/>
        </p:blipFill>
        <p:spPr>
          <a:xfrm>
            <a:off x="4788000" y="1989000"/>
            <a:ext cx="4176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ДРИОПИТЕКИ (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DRYOPITHECUS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Дриопитек обитал на деревьях и питался, вероятно, ягодами и фруктами, т.к. найденные коренные зубы покрыты очень тонким слоем эмали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 Чтобы выжить, дриопитеки собирались в стаи по 25-30 животных в каждой.Объем мозга до 500 куб.см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2" name="Picture 3" descr="C:\Documents and Settings\Ghostdog\Рабочий стол\антропогенез\дриопитек\dryopithecus_1.jpg"/>
          <p:cNvPicPr/>
          <p:nvPr/>
        </p:nvPicPr>
        <p:blipFill>
          <a:blip r:embed="rId1"/>
          <a:stretch/>
        </p:blipFill>
        <p:spPr>
          <a:xfrm>
            <a:off x="4859280" y="1628640"/>
            <a:ext cx="414828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АВСТРАЛОПИТЕКИ                       (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AUSTRALOPITHECUS AFARENSIS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45338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(австралопитековые) (от лат. australis — южный и греч. pithekos — обезьяна), вымершие двуногие обезьяны. Австралопитеки жили примерно с 4 млн лет назад, до менее миллиона лет назад. Головной мозг до 530 см³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5307120" y="1828800"/>
            <a:ext cx="275904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280" y="28440"/>
            <a:ext cx="40006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Как австралопитеки перешли к прямохождению, пока не ясно. Среди рассматриваемых причин называют необходимость хватать объекты, такие как пищу и детенышей, передними лапами, и осматривать окрестности поверх высокой травы в поисках пищи или чтобы вовремя заметить опасность.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8" name="Объект 6" descr=""/>
          <p:cNvPicPr/>
          <p:nvPr/>
        </p:nvPicPr>
        <p:blipFill>
          <a:blip r:embed="rId1"/>
          <a:stretch/>
        </p:blipFill>
        <p:spPr>
          <a:xfrm>
            <a:off x="5148360" y="836640"/>
            <a:ext cx="36716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ЕЛОВЕК УМЕЛЫЙ (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HOMO HABILIS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23760" y="1700280"/>
            <a:ext cx="4619520" cy="42656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6480" y="1557000"/>
            <a:ext cx="42782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(      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Homo habilis) древний тип человека способный к прямохождению, способен выполнять ряд трудовых операций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Существовал 2,6—2,5 млн. лет назад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Размер мозга Человека умелого — 650-1100 см³. Рост составлял 1,0—1,5 м, вес — около 30—50 кг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HOMO HABILIS (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ЕЛОВЕК УМЕЛЫЙ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3" name="Объект 4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716000" y="1412640"/>
            <a:ext cx="40006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Narrow"/>
              </a:rPr>
              <a:t>Человек умелый — по-видимому, первое существо, сознательно изготовившее орудия труда и охоты: первые ещё грубо обработанные каменные гальки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Narrow"/>
              </a:rPr>
              <a:t>Именно Человек умелый перешагнул невидимую границу, отделяющую род Homo от всех других биологических существ — он сделал первый шаг по пути подчинения себе окружающ</a:t>
            </a:r>
            <a:r>
              <a:rPr b="0" lang="ru-RU" sz="1600" spc="-1" strike="noStrike">
                <a:solidFill>
                  <a:srgbClr val="ffffff"/>
                </a:solidFill>
                <a:latin typeface="Arial Narrow"/>
              </a:rPr>
              <a:t>ей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природы.</a:t>
            </a:r>
            <a:r>
              <a:rPr b="0" lang="ru-RU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7:43:04Z</dcterms:created>
  <dc:creator>Personal</dc:creator>
  <dc:description/>
  <dc:language>en-US</dc:language>
  <cp:lastModifiedBy>Василий</cp:lastModifiedBy>
  <dcterms:modified xsi:type="dcterms:W3CDTF">2012-11-16T16:22:40Z</dcterms:modified>
  <cp:revision>55</cp:revision>
  <dc:subject/>
  <dc:title>Антропогенез</dc:title>
</cp:coreProperties>
</file>