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775-7579-41C0-BE30-5187A3FD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EF4-3F26-4667-9CB4-89D92EEB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3706-0C51-4266-B4DB-8E4B9376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29E6-41FF-4546-85B3-B10F88CC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5BC9-1478-4320-8F7B-120315AC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6100-FB95-41E7-88BD-0613A351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F4AD-0E1E-4C3F-81B7-AB292D7F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4929-7F6B-4A99-9E62-EFE21570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4F2A-A015-47C2-AA70-28AEF091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C78C-CD9C-47DF-9D19-866A582F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7BC1-BDD8-493C-BC4E-227A960C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00B2-9DAE-48E5-B017-5FD0F9B0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BE2B-E68D-4F63-B720-2DF0371E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CFEC-577D-4D8E-9A3C-2552F8BF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8E2D-2CF1-4CD3-A913-4996E3A8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56C4-20B6-40CF-B0FC-84493169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E026-3202-45F9-A383-74A8132F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BD91F-84E9-4599-AFC2-87195C87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342D4-0A55-4971-ABEC-DCA7CC56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E1135-820F-415B-993F-887131A3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79D77-BD0E-4234-9C10-EF58AE9A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46EB8-C309-4E87-9257-125E7922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680-8417-4978-A85E-2B7E70DE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783AB-B7EE-493D-A86C-2556E62B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EDCC7-B604-4C49-88A7-7D99AE34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44B6C-8EFA-473F-B73F-79862CDE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52417-3A46-4E66-8897-FDC2FE29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920CA-FCE5-4FBA-866A-FAE783B9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A082E-9BB4-4FF9-8CF4-09710FAD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4E166-A3B1-4A73-B320-30F90F7F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A7215-8608-4CC4-B5EF-051CDB04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2BEFF-03D8-4B0C-AB20-692FAB83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1A0D5-59D2-4621-8508-E8E5D098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8BE8-5BBF-4344-A479-07B8E46B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59E90-502D-44C4-ACC8-C5090040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85C34-9079-4006-A4D7-7F14682C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6BC6E-951A-415B-B90E-AF350A9B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FD425-32E8-4FCA-B531-45DD4ACE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04EB5-4C47-43B1-8526-A007D36D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80E03-E8AA-4460-BF16-C93451F5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A9AD2-81FD-416D-910E-A1956556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46289-AE65-4D2F-9C9B-E65F77E2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C25AC-870B-4D40-B6A2-A82B49AC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765-4F69-4AF2-A66C-3A52C827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F91-FA6A-4159-95D7-521671E0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CAB7-C07D-4F79-B46C-5D30BDB4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617-B216-4972-8697-D4D6B7D0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C820-5825-4541-8AE0-5C65B650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7FD9-4FEA-4640-88B8-B81BE3FDDBF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78A3-66BE-4861-AB94-24C3C548D4CC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5319-BAD7-4907-9999-688962B704A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92C4-0DE6-4A0E-8747-06913A3299A0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ultinfo.ru/fulltext/1/001/008/086/342.htm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antropogenez.ru/catalog/" TargetMode="External"/><Relationship Id="rId2" Type="http://schemas.openxmlformats.org/officeDocument/2006/relationships/hyperlink" Target="http://antropogenez.ru/catalog/" TargetMode="External"/><Relationship Id="rId3" Type="http://schemas.openxmlformats.org/officeDocument/2006/relationships/hyperlink" Target="http://antropogenez.ru/catalog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547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МБОУ «ФИЗИКО-МАТЕМАТИЧЕСКИЙ ЛИЦЕЙ»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СЕРГИЕВ ПОСАД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Учитель химии-биологии Перепелкин О.В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ОСНОВНЫЕ ЭТАПЫ АНТРОПОГЕНЕЗА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234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 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580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АРХАНТРОП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 жил от 1,5 до 0,2 млн. лет назад.«Человекообразная обезьяна с острова Ява» была первым первобытным человеком,окаменевшие останки которого были найдены во второй половине XIX в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ы обладали средним ростом (1,5—1,8 м), прямой походкой и архаическим строением черепа (толстые стенки, низкая лобная кость, выступающие надглазничные валики, скошенный подбородок). Объём мозга у некарликовых форм достигал 900—1200 см³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6021360" y="1828800"/>
            <a:ext cx="133020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ы активно изготовливали каменные орудия (ашёльская культура), использовали шкуры в качестве одежды, жили в пещерах, пользовались огнём и практиковали каннибализм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ачали готовить пищу на огне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0" name="Объект 4" descr=""/>
          <p:cNvPicPr/>
          <p:nvPr/>
        </p:nvPicPr>
        <p:blipFill>
          <a:blip r:embed="rId1"/>
          <a:stretch/>
        </p:blipFill>
        <p:spPr>
          <a:xfrm>
            <a:off x="5022720" y="1828800"/>
            <a:ext cx="37958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-1717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003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Эректусы были сравнительно широко распространены по Старому Свету. За африканским подвидом закрепилось название Homo ergaster, хотя к африканским эректусам относят также атлантропа и родезийского человека. За европейским подвидом закрепилось название гейдельбергского человека, хотя существовали и «догейдельбергские» эректусы. В Восточной Азии обитали два подвида: более прогрессивные синантропы из Китая и более примитивные питекантропы из Индонези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3" name="Объект 4" descr=""/>
          <p:cNvPicPr/>
          <p:nvPr/>
        </p:nvPicPr>
        <p:blipFill>
          <a:blip r:embed="rId1"/>
          <a:stretch/>
        </p:blipFill>
        <p:spPr>
          <a:xfrm>
            <a:off x="4811760" y="1844640"/>
            <a:ext cx="4359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НЕАНДЕРТАЛЬЦ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( 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HOMO NEANDERTHALENSIS</a:t>
            </a: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6480" y="1197000"/>
            <a:ext cx="4457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Палеоантропы (от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 Narrow"/>
              </a:rPr>
              <a:t>палео-древний</a:t>
            </a:r>
            <a:r>
              <a:rPr b="0" lang="ru-RU" sz="3200" spc="-1" strike="noStrike" u="sng">
                <a:solidFill>
                  <a:srgbClr val="646464"/>
                </a:solidFill>
                <a:uFillTx/>
                <a:latin typeface="Arial Narrow"/>
                <a:hlinkClick r:id="rId1"/>
              </a:rPr>
              <a:t>..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и греч. anthropos — человек), обобщённое (не систематическое) название ископаемых людей, обитавших в Азии, Африке и Европе 250—35 тыс. лет назад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6" name="Picture 5" descr="C:\Documents and Settings\Ghostdog\Рабочий стол\антропогенез\evolution-primitive-man.jpg"/>
          <p:cNvPicPr/>
          <p:nvPr/>
        </p:nvPicPr>
        <p:blipFill>
          <a:blip r:embed="rId2"/>
          <a:stretch/>
        </p:blipFill>
        <p:spPr>
          <a:xfrm>
            <a:off x="468360" y="1413000"/>
            <a:ext cx="4032360" cy="410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ЕАНДЕРТАЛЬЦ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OMO NEANDERTHALENSIS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28760" y="1143000"/>
            <a:ext cx="40006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еандертальцы обладали средним ростом (около 165 см), массивным телосложением и большой головой необычной формы. По объёму черепной коробки (1400—1740 см³) они даже превосходили современных людей. Их отличали мощные надбровные дуги, выступающий широкий нос и очень маленький подбородок.Голова наклонена вперёд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9" name="Объект 6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47527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НЕАНДЕРТАЛЬЦЫ И КРОМАНЬОНЦ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1" name="Фильм 1.wmv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832360" cy="4824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РОМАНЬОНЦЫ (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859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еоантропы (буквально — новые люди, от греч. néos — новый и ánthropos — человек), обобщенное название людей современного вида (Homo sapiens), ископаемых и ныне живущих Соответствуют ситематическому названию </a:t>
            </a: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Homo sapiens sapiens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, появились около 40 тысяч лет назад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6003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2340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РОМАНЬОНЦЫ (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40006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бъём головного мозга равен 1600—1800 см³ (больше, чем у среднего современного европейца). Рост около 180 см. и выше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Название происходит от грота Кро-Маньон во Франции, где в 1868 году было обнаружено несколько скелетов людей вместе с орудиями позднего палеолита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Жили общинами по 15—30 человек и впервые в истории создали поселения. Жилищем были пещеры, шатры из шкур, в Восточной Европе встречаются землянк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8" name="Объект 4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44881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КРОМАНЬОНЦЫ (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2" name="кроманьонцы.wmv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77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8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СОВРЕМЕННЫЙ ВЗГЛЯД НА АНТРОПОГЕНЕЗ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В последние несколько десятилетий найдено огромное количество новых ископаемых гоминид. И ученым ещё предстоит разобраться в их родственных связях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Объект 4" descr=""/>
          <p:cNvPicPr/>
          <p:nvPr/>
        </p:nvPicPr>
        <p:blipFill>
          <a:blip r:embed="rId1"/>
          <a:stretch/>
        </p:blipFill>
        <p:spPr>
          <a:xfrm>
            <a:off x="5008680" y="981000"/>
            <a:ext cx="41050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ФИЛОГЕНЕТИЧЕСКИЙ РЯД ЧЕЛОВЕКА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4680" y="1844640"/>
            <a:ext cx="350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Антропогенез </a:t>
            </a:r>
            <a:r>
              <a:rPr b="0" lang="en-US" sz="2700" spc="-1" strike="noStrike">
                <a:solidFill>
                  <a:srgbClr val="ffffff"/>
                </a:solidFill>
                <a:latin typeface="Arial Narrow"/>
              </a:rPr>
              <a:t>- процесс эволюционного развития человека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1" name="Объект 2" descr=""/>
          <p:cNvPicPr/>
          <p:nvPr/>
        </p:nvPicPr>
        <p:blipFill>
          <a:blip r:embed="rId1"/>
          <a:stretch/>
        </p:blipFill>
        <p:spPr>
          <a:xfrm>
            <a:off x="3492360" y="1484280"/>
            <a:ext cx="540072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000080"/>
            <a:ext cx="40003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процессе антропогенеза увеличивался объем головного мозга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Уменьшалась роль биологических факторов, увеличивалась роль социальных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азвивались анатомо-морфологические особенности,связанные с прямохождением и трудовой деятельностью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8" name="Объект 6" descr=""/>
          <p:cNvPicPr/>
          <p:nvPr/>
        </p:nvPicPr>
        <p:blipFill>
          <a:blip r:embed="rId1"/>
          <a:stretch/>
        </p:blipFill>
        <p:spPr>
          <a:xfrm>
            <a:off x="4716360" y="1413000"/>
            <a:ext cx="423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ИСПОЛЬЗОВАЛИСЬ МАТЕРИАЛЫ САЙТОВ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1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1"/>
              </a:rPr>
              <a:t>http://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2"/>
              </a:rPr>
              <a:t>antropogenez.ru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3"/>
              </a:rPr>
              <a:t>/catalog/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http://ru.wikipedia.org/wiki/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http://www.evolbiol.ru/human.htm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СТАДИИ  АНТРОПОГЕНЕЗА     (КЛАССИЧЕСКОЕ ПРЕДСТАВЛЕНИЕ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0" y="1628640"/>
            <a:ext cx="4932360" cy="39610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67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Австралопитеки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Человек умелый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Архантропы (Человек прямоходящий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Палеоантропы (Неандерталец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Неоантропы (Кроманьонец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ДРИОПИТЕКИ (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DRYOPITHECUS</a:t>
            </a: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9280" y="1196640"/>
            <a:ext cx="4000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Дриопите́к — род вымерших антропоморфных приматов, известный по ряду остатков, найденных в Восточной Африке и Евразии. Жил примерно 12 - 9 миллионов лет назад. Общий предок горилл, шимпанзе и людей. Представляли собой приматов,размером с  шимпанзе. В длину достигали 60 см и по способу передвижения напоминали современных орангутанов. масса тела - 20-35 кг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788000" y="155736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8" name="Picture 2" descr="C:\Documents and Settings\Ghostdog\Рабочий стол\антропогенез\дриопитек\dryopithecus.jpg"/>
          <p:cNvPicPr/>
          <p:nvPr/>
        </p:nvPicPr>
        <p:blipFill>
          <a:blip r:embed="rId1"/>
          <a:stretch/>
        </p:blipFill>
        <p:spPr>
          <a:xfrm>
            <a:off x="4788000" y="198900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ДРИОПИТЕКИ (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DRYOPITHECUS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Дриопитек обитал на деревьях и питался, вероятно, ягодами и фруктами, т.к. найденные коренные зубы покрыты очень тонким слоем эмал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Чтобы выжить, дриопитеки собирались в стаи по 25-30 животных в каждой.Объем мозга до 500 куб.см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2" name="Picture 3" descr="C:\Documents and Settings\Ghostdog\Рабочий стол\антропогенез\дриопитек\dryopithecus_1.jpg"/>
          <p:cNvPicPr/>
          <p:nvPr/>
        </p:nvPicPr>
        <p:blipFill>
          <a:blip r:embed="rId1"/>
          <a:stretch/>
        </p:blipFill>
        <p:spPr>
          <a:xfrm>
            <a:off x="4859280" y="1628640"/>
            <a:ext cx="41482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АВСТРАЛОПИТЕКИ                       (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USTRALOPITHECUS AFARENSI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5338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(австралопитековые) (от лат. australis — южный и греч. pithekos — обезьяна), вымершие двуногие обезьяны. Австралопитеки жили примерно с 4 млн лет назад, до менее миллиона лет назад. Головной мозг до 530 см³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5307120" y="1828800"/>
            <a:ext cx="275904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28440"/>
            <a:ext cx="40006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Как австралопитеки перешли к прямохождению, пока не ясно. Среди рассматриваемых причин называют необходимость хватать объекты, такие как пищу и детенышей, передними лапами, и осматривать окрестности поверх высокой травы в поисках пищи или чтобы вовремя заметить опасность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8" name="Объект 6" descr=""/>
          <p:cNvPicPr/>
          <p:nvPr/>
        </p:nvPicPr>
        <p:blipFill>
          <a:blip r:embed="rId1"/>
          <a:stretch/>
        </p:blipFill>
        <p:spPr>
          <a:xfrm>
            <a:off x="5148360" y="836640"/>
            <a:ext cx="3671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УМЕЛЫЙ (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HABILI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23760" y="1700280"/>
            <a:ext cx="4619520" cy="4265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6480" y="1557000"/>
            <a:ext cx="42782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(   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Homo habilis) древний тип человека способный к прямохождению, способен выполнять ряд трудовых операций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Существовал 2,6—2,5 млн. лет назад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Размер мозга Человека умелого — 650-1100 см³. Рост составлял 1,0—1,5 м, вес — около 30—50 кг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HABILIS (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УМЕЛЫЙ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3" name="Объект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716000" y="1412640"/>
            <a:ext cx="4000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Человек умелый — по-видимому, первое существо, сознательно изготовившее орудия труда и охоты: первые ещё грубо обработанные каменные гальки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Именно Человек умелый перешагнул невидимую границу, отделяющую род Homo от всех других биологических существ — он сделал первый шаг по пути подчинения себе окружающ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ей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ироды.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7:43:04Z</dcterms:created>
  <dc:creator>Personal</dc:creator>
  <dc:description/>
  <dc:language>en-US</dc:language>
  <cp:lastModifiedBy>Василий</cp:lastModifiedBy>
  <dcterms:modified xsi:type="dcterms:W3CDTF">2012-11-16T16:22:40Z</dcterms:modified>
  <cp:revision>55</cp:revision>
  <dc:subject/>
  <dc:title>Антропогенез</dc:title>
</cp:coreProperties>
</file>