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BC53-79A5-4F3D-BC0F-04747705A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DB47-A519-4F56-9F67-0F92BBE9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D96C-78DC-4D70-875A-C110EC8B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83EF-CE22-4FE6-AACF-546261571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B194-EF43-4403-966D-9791E5766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523B-B7D5-46D5-A1AF-ACF32FC6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6239-0817-4A83-92AB-F4139F28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8E5D-B993-4939-9193-DAB5A40A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23CE-CCE2-45BD-B979-1C885E3D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3408-8D47-452F-8D2D-610EB27F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06E4-6B8B-4E88-87B5-CE22D73B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2384-93F1-4823-B298-77130807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FDB5-A382-4BD4-BE04-18CF6D85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D4AF-BD8A-42B0-B1EF-7E36EB16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83A8-08B5-421D-97A6-0D56D6F0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443B-7AC2-4039-9BC7-D81C67454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8958-57EC-4DA7-91D2-9FAF89003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21418-D29C-406E-8374-535F8497C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C044E-5AD0-4231-A906-C2289DD3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A13E1-F9CA-4C4B-99DE-DBC8AAC8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3400F-615D-4CE2-9FB0-97FBE8F7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62532-CF86-4E02-BCAF-61CA49FA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1F6C-8922-4D7F-981A-D1018A02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74F5A-6885-431E-A3F1-E3D30777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43F9D-5798-4FFB-B440-8DC69599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AF854-EDBC-4E45-BC9C-F8BFB9A1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105FF-C678-4398-9AAE-EE6D5DB8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BABF5-1ADB-49FB-B476-18BBAFC6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E7188-F66A-451E-A8E6-6905A76E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95C66-599A-439D-A56B-D29EA890C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5185C-37C8-460F-B2FF-0EDB71B4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A998A-1F38-458D-933F-23B7D343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1F616-693B-42E9-AB8F-9B33ABAA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D544-547B-45FE-AACE-3A417E50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A0153-B908-45A6-837C-32099C5B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E6701-9B96-4195-827C-1A5CBCD8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5168D-0353-4225-B970-7F6E5C86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A0A8F-B5E3-4CDE-97FF-6D8DD251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6F527-55C9-4931-B559-0B35AF6B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A4BFE-1DA0-44B7-874A-3615088A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420F3-D71A-4FC2-9B57-3EA8BE54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30DC6-EB7E-4BB0-B7DC-1ECC5CEE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28217-CF70-42B0-97F1-803B16FD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D84F-0CCD-4694-BB79-17F6C545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CB9C-62DD-4795-A6C9-AFFFCB0F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58EC-36ED-44DC-A2C5-DDC5C434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749F-89D0-41C2-95BE-FAC76EC9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852C-D6E9-4640-AD4B-1D53A313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E26B-3483-41BA-A3DA-8173395AB011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603C-F803-4D14-A439-886CCA766057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DA0D-0C7C-4BCB-BC5C-38A89737AFE5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168E-D7FE-43DD-9C43-50583CFA3E58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ultinfo.ru/fulltext/1/001/008/086/342.htm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antropogenez.ru/catalog/" TargetMode="External"/><Relationship Id="rId2" Type="http://schemas.openxmlformats.org/officeDocument/2006/relationships/hyperlink" Target="http://antropogenez.ru/catalog/" TargetMode="External"/><Relationship Id="rId3" Type="http://schemas.openxmlformats.org/officeDocument/2006/relationships/hyperlink" Target="http://antropogenez.ru/catalog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5476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МБОУ «ФИЗИКО-МАТЕМАТИЧЕСКИЙ ЛИЦЕЙ»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СЕРГИЕВ ПОСАД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Учитель химии-биологии Перепелкин О.В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Narrow"/>
              </a:rPr>
              <a:t>ОСНОВНЫЕ ЭТАПЫ АНТРОПОГЕНЕЗА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234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ПРЯМОХОДЯЩИЙ ( 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ERECTUS 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5580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АРХАНТРОП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Эректус жил от 1,5 до 0,2 млн. лет назад.«Человекообразная обезьяна с острова Ява» была первым первобытным человеком,окаменевшие останки которого были найдены во второй половине XIX в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Эректусы обладали средним ростом (1,5—1,8 м), прямой походкой и архаическим строением черепа (толстые стенки, низкая лобная кость, выступающие надглазничные валики, скошенный подбородок). Объём мозга у некарликовых форм достигал 900—1200 см³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6021360" y="1828800"/>
            <a:ext cx="133020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ПРЯМОХОДЯЩИЙ ( 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ERECTUS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 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Эректусы активно изготовливали каменные орудия (ашёльская культура), использовали шкуры в качестве одежды, жили в пещерах, пользовались огнём и практиковали каннибализм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Начали готовить пищу на огне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0" name="Объект 4" descr=""/>
          <p:cNvPicPr/>
          <p:nvPr/>
        </p:nvPicPr>
        <p:blipFill>
          <a:blip r:embed="rId1"/>
          <a:stretch/>
        </p:blipFill>
        <p:spPr>
          <a:xfrm>
            <a:off x="5022720" y="1828800"/>
            <a:ext cx="37958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280" y="-1717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ПРЯМОХОДЯЩИЙ ( 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ERECTUS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 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0003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Эректусы были сравнительно широко распространены по Старому Свету. За африканским подвидом закрепилось название Homo ergaster, хотя к африканским эректусам относят также атлантропа и родезийского человека. За европейским подвидом закрепилось название гейдельбергского человека, хотя существовали и «догейдельбергские» эректусы. В Восточной Азии обитали два подвида: более прогрессивные синантропы из Китая и более примитивные питекантропы из Индонезии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3" name="Объект 4" descr=""/>
          <p:cNvPicPr/>
          <p:nvPr/>
        </p:nvPicPr>
        <p:blipFill>
          <a:blip r:embed="rId1"/>
          <a:stretch/>
        </p:blipFill>
        <p:spPr>
          <a:xfrm>
            <a:off x="4811760" y="1844640"/>
            <a:ext cx="4359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НЕАНДЕРТАЛЬЦ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( 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HOMO NEANDERTHALENSIS</a:t>
            </a: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 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6480" y="1197000"/>
            <a:ext cx="4457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Палеоантропы (от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 Narrow"/>
              </a:rPr>
              <a:t>палео-древний</a:t>
            </a:r>
            <a:r>
              <a:rPr b="0" lang="ru-RU" sz="3200" spc="-1" strike="noStrike" u="sng">
                <a:solidFill>
                  <a:srgbClr val="646464"/>
                </a:solidFill>
                <a:uFillTx/>
                <a:latin typeface="Arial Narrow"/>
                <a:hlinkClick r:id="rId1"/>
              </a:rPr>
              <a:t>..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и греч. anthropos — человек), обобщённое (не систематическое) название ископаемых людей, обитавших в Азии, Африке и Европе 250—35 тыс. лет назад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6" name="Picture 5" descr="C:\Documents and Settings\Ghostdog\Рабочий стол\антропогенез\evolution-primitive-man.jpg"/>
          <p:cNvPicPr/>
          <p:nvPr/>
        </p:nvPicPr>
        <p:blipFill>
          <a:blip r:embed="rId2"/>
          <a:stretch/>
        </p:blipFill>
        <p:spPr>
          <a:xfrm>
            <a:off x="468360" y="1413000"/>
            <a:ext cx="4032360" cy="4103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НЕАНДЕРТАЛЬЦЫ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(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OMO NEANDERTHALENSIS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28760" y="1143000"/>
            <a:ext cx="40006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Неандертальцы обладали средним ростом (около 165 см), массивным телосложением и большой головой необычной формы. По объёму черепной коробки (1400—1740 см³) они даже превосходили современных людей. Их отличали мощные надбровные дуги, выступающий широкий нос и очень маленький подбородок.Голова наклонена вперёд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9" name="Объект 6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475272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НЕАНДЕРТАЛЬЦЫ И КРОМАНЬОНЦ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1" name="Фильм 1.wmv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5832360" cy="48243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4" dur="1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РОМАНЬОНЦЫ (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HOMO SAPIENS 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4859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Неоантропы (буквально — новые люди, от греч. néos — новый и ánthropos — человек), обобщенное название людей современного вида (Homo sapiens), ископаемых и ныне живущих Соответствуют ситематическому названию </a:t>
            </a:r>
            <a:r>
              <a:rPr b="0" i="1" lang="ru-RU" sz="3200" spc="-1" strike="noStrike">
                <a:solidFill>
                  <a:srgbClr val="ffffff"/>
                </a:solidFill>
                <a:latin typeface="Arial Narrow"/>
              </a:rPr>
              <a:t>Homo sapiens sapiens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, появились около 40 тысяч лет назад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5" name="Picture 6" descr=""/>
          <p:cNvPicPr/>
          <p:nvPr/>
        </p:nvPicPr>
        <p:blipFill>
          <a:blip r:embed="rId1"/>
          <a:stretch/>
        </p:blipFill>
        <p:spPr>
          <a:xfrm>
            <a:off x="5148360" y="1484280"/>
            <a:ext cx="360036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98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2340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РОМАНЬОНЦЫ (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HOMO SAPIENS 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40006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Объём головного мозга равен 1600—1800 см³ (больше, чем у среднего современного европейца). Рост около 180 см. и выше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Название происходит от грота Кро-Маньон во Франции, где в 1868 году было обнаружено несколько скелетов людей вместе с орудиями позднего палеолита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Жили общинами по 15—30 человек и впервые в истории создали поселения. Жилищем были пещеры, шатры из шкур, в Восточной Европе встречаются землянки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8" name="Объект 4" descr=""/>
          <p:cNvPicPr/>
          <p:nvPr/>
        </p:nvPicPr>
        <p:blipFill>
          <a:blip r:embed="rId1"/>
          <a:stretch/>
        </p:blipFill>
        <p:spPr>
          <a:xfrm>
            <a:off x="4643280" y="1844640"/>
            <a:ext cx="44881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КРОМАНЬОНЦЫ (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HOMO SAPIENS 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2" name="кроманьонцы.wmv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77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155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8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СОВРЕМЕННЫЙ ВЗГЛЯД НА АНТРОПОГЕНЕЗ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В последние несколько десятилетий найдено огромное количество новых ископаемых гоминид. И ученым ещё предстоит разобраться в их родственных связях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5" name="Объект 4" descr=""/>
          <p:cNvPicPr/>
          <p:nvPr/>
        </p:nvPicPr>
        <p:blipFill>
          <a:blip r:embed="rId1"/>
          <a:stretch/>
        </p:blipFill>
        <p:spPr>
          <a:xfrm>
            <a:off x="5008680" y="981000"/>
            <a:ext cx="410508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ФИЛОГЕНЕТИЧЕСКИЙ РЯД ЧЕЛОВЕКА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4680" y="1844640"/>
            <a:ext cx="3504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Антропогенез </a:t>
            </a:r>
            <a:r>
              <a:rPr b="0" lang="en-US" sz="2700" spc="-1" strike="noStrike">
                <a:solidFill>
                  <a:srgbClr val="ffffff"/>
                </a:solidFill>
                <a:latin typeface="Arial Narrow"/>
              </a:rPr>
              <a:t>- процесс эволюционного развития человека</a:t>
            </a:r>
            <a:endParaRPr b="0" lang="en-US" sz="2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1" name="Объект 2" descr=""/>
          <p:cNvPicPr/>
          <p:nvPr/>
        </p:nvPicPr>
        <p:blipFill>
          <a:blip r:embed="rId1"/>
          <a:stretch/>
        </p:blipFill>
        <p:spPr>
          <a:xfrm>
            <a:off x="3492360" y="1484280"/>
            <a:ext cx="540072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000080"/>
            <a:ext cx="40003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В процессе антропогенеза увеличивался объем головного мозга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Уменьшалась роль биологических факторов, увеличивалась роль социальных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Развивались анатомо-морфологические особенности,связанные с прямохождением и трудовой деятельностью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8" name="Объект 6" descr=""/>
          <p:cNvPicPr/>
          <p:nvPr/>
        </p:nvPicPr>
        <p:blipFill>
          <a:blip r:embed="rId1"/>
          <a:stretch/>
        </p:blipFill>
        <p:spPr>
          <a:xfrm>
            <a:off x="4716360" y="1413000"/>
            <a:ext cx="423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ИСПОЛЬЗОВАЛИСЬ МАТЕРИАЛЫ САЙТОВ: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1.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1700" spc="-1" strike="noStrike" u="sng">
                <a:solidFill>
                  <a:srgbClr val="646464"/>
                </a:solidFill>
                <a:uFillTx/>
                <a:latin typeface="Arial Narrow"/>
                <a:hlinkClick r:id="rId1"/>
              </a:rPr>
              <a:t>http://</a:t>
            </a:r>
            <a:r>
              <a:rPr b="0" lang="en-US" sz="1700" spc="-1" strike="noStrike" u="sng">
                <a:solidFill>
                  <a:srgbClr val="646464"/>
                </a:solidFill>
                <a:uFillTx/>
                <a:latin typeface="Arial Narrow"/>
                <a:hlinkClick r:id="rId2"/>
              </a:rPr>
              <a:t>antropogenez.ru</a:t>
            </a:r>
            <a:r>
              <a:rPr b="0" lang="en-US" sz="1700" spc="-1" strike="noStrike" u="sng">
                <a:solidFill>
                  <a:srgbClr val="646464"/>
                </a:solidFill>
                <a:uFillTx/>
                <a:latin typeface="Arial Narrow"/>
                <a:hlinkClick r:id="rId3"/>
              </a:rPr>
              <a:t>/catalog/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2.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http://ru.wikipedia.org/wiki/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3.</a:t>
            </a: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 http://www.evolbiol.ru/human.htm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СТАДИИ  АНТРОПОГЕНЕЗА     (КЛАССИЧЕСКОЕ ПРЕДСТАВЛЕНИЕ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1"/>
          <a:stretch/>
        </p:blipFill>
        <p:spPr>
          <a:xfrm>
            <a:off x="0" y="1628640"/>
            <a:ext cx="4932360" cy="39610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48000" y="1600200"/>
            <a:ext cx="367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Австралопитеки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Человек умелый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Архантропы (Человек прямоходящий)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Палеоантропы (Неандерталец)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Narrow"/>
              </a:rPr>
              <a:t>Неоантропы (Кроманьонец)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ДРИОПИТЕКИ (</a:t>
            </a: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DRYOPITHECUS</a:t>
            </a:r>
            <a:r>
              <a:rPr b="0" lang="ru-RU" sz="44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9280" y="1196640"/>
            <a:ext cx="40006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Дриопите́к — род вымерших антропоморфных приматов, известный по ряду остатков, найденных в Восточной Африке и Евразии. Жил примерно 12 - 9 миллионов лет назад. Общий предок горилл, шимпанзе и людей. Представляли собой приматов,размером с  шимпанзе. В длину достигали 60 см и по способу передвижения напоминали современных орангутанов. масса тела - 20-35 кг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788000" y="155736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8" name="Picture 2" descr="C:\Documents and Settings\Ghostdog\Рабочий стол\антропогенез\дриопитек\dryopithecus.jpg"/>
          <p:cNvPicPr/>
          <p:nvPr/>
        </p:nvPicPr>
        <p:blipFill>
          <a:blip r:embed="rId1"/>
          <a:stretch/>
        </p:blipFill>
        <p:spPr>
          <a:xfrm>
            <a:off x="4788000" y="1989000"/>
            <a:ext cx="4176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ДРИОПИТЕКИ (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DRYOPITHECUS</a:t>
            </a: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Дриопитек обитал на деревьях и питался, вероятно, ягодами и фруктами, т.к. найденные коренные зубы покрыты очень тонким слоем эмал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 Чтобы выжить, дриопитеки собирались в стаи по 25-30 животных в каждой.Объем мозга до 500 куб.см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2" name="Picture 3" descr="C:\Documents and Settings\Ghostdog\Рабочий стол\антропогенез\дриопитек\dryopithecus_1.jpg"/>
          <p:cNvPicPr/>
          <p:nvPr/>
        </p:nvPicPr>
        <p:blipFill>
          <a:blip r:embed="rId1"/>
          <a:stretch/>
        </p:blipFill>
        <p:spPr>
          <a:xfrm>
            <a:off x="4859280" y="1628640"/>
            <a:ext cx="414828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АВСТРАЛОПИТЕКИ                       (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AUSTRALOPITHECUS AFARENSIS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45338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(австралопитековые) (от лат. australis — южный и греч. pithekos — обезьяна), вымершие двуногие обезьяны. Австралопитеки жили примерно с 4 млн лет назад, до менее миллиона лет назад. Головной мозг до 530 см³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5307120" y="1828800"/>
            <a:ext cx="275904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280" y="28440"/>
            <a:ext cx="40006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Как австралопитеки перешли к прямохождению, пока не ясно. Среди рассматриваемых причин называют необходимость хватать объекты, такие как пищу и детенышей, передними лапами, и осматривать окрестности поверх высокой травы в поисках пищи или чтобы вовремя заметить опасность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8" name="Объект 6" descr=""/>
          <p:cNvPicPr/>
          <p:nvPr/>
        </p:nvPicPr>
        <p:blipFill>
          <a:blip r:embed="rId1"/>
          <a:stretch/>
        </p:blipFill>
        <p:spPr>
          <a:xfrm>
            <a:off x="5148360" y="836640"/>
            <a:ext cx="36716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УМЕЛЫЙ (</a:t>
            </a: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HABILIS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23760" y="1700280"/>
            <a:ext cx="4619520" cy="42656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6480" y="1557000"/>
            <a:ext cx="42782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(     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Homo habilis) древний тип человека способный к прямохождению, способен выполнять ряд трудовых операций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Существовал 2,6—2,5 млн. лет назад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Размер мозга Человека умелого — 650-1100 см³. Рост составлял 1,0—1,5 м, вес — около 30—50 кг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HOMO HABILIS (</a:t>
            </a: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ЧЕЛОВЕК УМЕЛЫЙ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3" name="Объект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716000" y="1412640"/>
            <a:ext cx="40006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Человек умелый — по-видимому, первое существо, сознательно изготовившее орудия труда и охоты: первые ещё грубо обработанные каменные гальки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Narrow"/>
              </a:rPr>
              <a:t>Именно Человек умелый перешагнул невидимую границу, отделяющую род Homo от всех других биологических существ — он сделал первый шаг по пути подчинения себе окружающ</a:t>
            </a: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ей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природы.</a:t>
            </a: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7:43:04Z</dcterms:created>
  <dc:creator>Personal</dc:creator>
  <dc:description/>
  <dc:language>en-US</dc:language>
  <cp:lastModifiedBy>Василий</cp:lastModifiedBy>
  <dcterms:modified xsi:type="dcterms:W3CDTF">2012-11-16T16:22:40Z</dcterms:modified>
  <cp:revision>55</cp:revision>
  <dc:subject/>
  <dc:title>Антропогенез</dc:title>
</cp:coreProperties>
</file>