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B536-2BC4-4ACF-B093-3FE4EE72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F38-BFBE-4F36-B32D-E7F9988A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8BC1-6E14-4B08-A71C-A7995BEB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5E0-6964-49D1-A712-A929A64A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3B94-1B32-4A45-AF25-3C38BCDF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BD52-8285-426E-999F-52179F34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1B1F-9E52-4773-A658-EACE514E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1229-961E-49B5-AB27-AF4C1061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7F45-43FE-442A-9A41-FF06E9EC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497C-28B6-4521-B3C1-C722BE27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509D-CD04-4E09-90EA-98DA26F7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053-62C3-43A4-870B-E737CD70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B87E-8EC2-458D-B09F-A5AD451F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B68D-11DB-486E-8AFC-A0E3DD71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D3F1-C9A2-475F-AAA6-59E289AD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E76C-8F7E-46B7-A2C8-7E85E8C4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230E-D31F-4BDC-977C-0CE3115E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A9359-CA3F-4511-AEF1-8303D27D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D263E-4EB7-422E-90D4-6AB0D9DD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BAC21-1A7D-4747-99BF-D79271B4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93C56-E4D4-4E51-B914-431E558F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58CBE-DB1A-4B8D-AADD-A54447E5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F780-FB03-4336-9DDD-3552F696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88F8C-1DC2-4F2B-A33F-961C932E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C500B-5386-4711-95F5-3B397489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B2968-ACE3-462D-B3C5-69F5C34A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77503-F6C2-4CA2-9A74-A745E331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CF0C6-2D40-4D3C-9F6C-5F638ACA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8CCD7-0209-4B7A-9E9A-FC246F03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19F3D-17E2-4604-8F00-31EAAC11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AFB2A-4990-4C18-9EDE-844CED17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7A2EA-A9B4-424A-AEEC-6C45CE81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EBE2C-BC58-4C44-9D97-DB51F63E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E09C-8F6B-4503-AD0F-5A2DC312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787B2-BF96-4442-8D03-9AB96F87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EAD08-F5CB-41D3-8800-C604661F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53BAE-9F04-47B7-91C5-84F2E86B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985C0-BA16-4610-8F64-F3398142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C2A14-88E1-428A-9EA3-15AD0CBE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C12E9-6AB0-4DF2-BD7F-C9DD611F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241BD-C2F6-449D-A881-D37BC8F3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1AF63-B2E3-4801-A9E8-BE39E00C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1C8C3-49E3-4813-8394-A3D5A7F1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1CA32-09E6-431A-9D0A-AB9D738A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E18F-3EDF-4781-8935-580B2EAA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27D84-B9DA-4C02-BAFD-A841E6C5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CB3DC-96BA-4F35-89F9-E2AE85BF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D0841-FAE2-44CD-A65C-056CC677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20C3E-61A0-4118-919E-EC758D23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B7BB7-DE10-4D5E-89E7-F21EF3CD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8DE5F-025F-4D22-BCDC-989D7386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D24B6-660C-4A26-A109-BCBBC442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8EC68-6287-408A-8762-0E556CC7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EDD59-4656-4055-B0F6-E8F40545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66333-170D-4FE6-8F99-838F333A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0D9-79F2-490F-91DA-EBD2DFDA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7C81D-3B6E-441F-9775-E63DDC68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37ABB4-C57C-4EDF-8607-0159AE8E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43C65E-8F23-4373-AD39-13583D61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8F56A8-F0CE-4C0E-922F-9A9294A6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E2BF3B-F9EE-4FB4-86E4-4E07C550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09595D-B16B-4004-BF2D-73CF0DAE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1E927E-7E4C-4954-B6FF-E32266E6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EAC9E5-6329-441E-8F47-823CA436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879FF5-3344-48AC-BB45-B45D5247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C26FAA-A91E-49FB-9161-DC15E1A5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3965-156F-40AD-AED2-D8458E2E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0A5690-F5CB-4687-A9D5-A6BE3D08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AAC49-33B5-4FB1-A5F9-F3352124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75645-B246-4230-B663-508B1741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95E56-D63C-44F9-B771-EE362E91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F420C-A9F3-4429-9B68-1013E2C4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E8ABA-C5FD-475B-8C19-096907BE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A2BC9-51CE-4B20-A66B-AD5F1CCA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53D1A-66E4-4FA1-A680-2BAF4F6F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40E8A-D897-4832-B93B-D5D88AA7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27C4F-5A90-418B-9F59-D8BE6FE4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E83-1C1D-4C44-A008-8BF30E1D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18408-04D0-4339-8F87-54D33D2E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5F142-2BE9-4D04-8129-C096C8F4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72A52-7D5F-4A49-8094-BCC57F24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845D2-201C-409C-9D4F-A33255EA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673FE-4E88-4239-B8DD-B9FAF290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E75F9-85DF-4881-AA7A-4A0321F0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25A0C-AAA0-4864-88FB-00CB87A9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EA0F9-89D6-4611-9778-B925565F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D7119-F3AE-4DC3-A1C7-B6FEADB0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7A74F-987A-4AEA-98EF-0B631133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DF5B-7581-4F8A-A7E0-05715E9E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3E571-F9EC-4AEC-AD8C-0845BEC3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8D573-6743-4676-AF0B-B81EF9E6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1BF07-F991-4EFB-A9FD-4C744DAD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9AEDF-AF58-4FBE-B8EF-8833D5F9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9B7A4-D37B-4FA3-B294-7806F820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36CB0-0EF3-4080-A72A-A4656386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4BDE4-8CF6-47CC-94CE-EBDB9DB9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488E-F58A-4A92-83F4-E48234E90EFB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5029-4935-4921-99A8-17ECAB5B6DBA}" type="slidenum">
              <a:rPr b="0" lang="en-US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F6D4-1F21-49C0-A101-8EAD5B5F98F5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8F2B-3F4F-47BA-B2B6-AA8172B0A1E6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7709-E2C9-4D3D-BBE5-7819E37A869C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AD99-7D0D-43B6-87F0-5484764CB1C5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A5C2-0633-4FC1-9CFF-BC13774AB2B4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8EC5-4A3A-408C-85D7-6CEF72E8D9FA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Тема уро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entury Gothic"/>
              </a:rPr>
              <a:t>Приспособленность организмов к условиям внешней среды как результат действия естественного отбора</a:t>
            </a:r>
            <a:r>
              <a:rPr b="1" i="1" lang="ru-RU" sz="36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 Мишнина  Лидия Александровна,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СОШ №3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булакского района Оренбургской области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7534c"/>
              </a:solidFill>
              <a:latin typeface="Book Antiqua"/>
            </a:endParaRPr>
          </a:p>
        </p:txBody>
      </p:sp>
      <p:sp>
        <p:nvSpPr>
          <p:cNvPr id="394" name="Прямоугольник 1"/>
          <p:cNvSpPr/>
          <p:nvPr/>
        </p:nvSpPr>
        <p:spPr>
          <a:xfrm>
            <a:off x="16812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ительные особенности строения, окраски 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В3.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ия к жизни в воде, сформировавшиеся в</a:t>
            </a:r>
            <a:br>
              <a:rPr sz="2400"/>
            </a:b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оцессе эволюции у дельфинов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1.превращение передних конечностей в ласты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2.дыхание кислородом, растворенным в воде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3.дыхание кислородом воздух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4.обтекаемая форм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5.толстый подкожный слой жир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6.постоянная температур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ПАЛОЧНИК ПОХОЖ НА ВЕТОЧКУ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7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177840" y="1700280"/>
            <a:ext cx="8794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C:\Users\Администратор\Desktop\кора.jpg"/>
          <p:cNvPicPr/>
          <p:nvPr/>
        </p:nvPicPr>
        <p:blipFill>
          <a:blip r:embed="rId2"/>
          <a:stretch/>
        </p:blipFill>
        <p:spPr>
          <a:xfrm>
            <a:off x="179280" y="189000"/>
            <a:ext cx="5267520" cy="6480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126440" y="6118920"/>
            <a:ext cx="72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ровительствен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ра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совок , большого тушкан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"/>
          <p:cNvPicPr/>
          <p:nvPr/>
        </p:nvPicPr>
        <p:blipFill>
          <a:blip r:embed="rId3"/>
          <a:stretch/>
        </p:blipFill>
        <p:spPr>
          <a:xfrm>
            <a:off x="4368960" y="2205000"/>
            <a:ext cx="46004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7245360" cy="4103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3724200" cy="278604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1"/>
          <p:cNvSpPr/>
          <p:nvPr/>
        </p:nvSpPr>
        <p:spPr>
          <a:xfrm>
            <a:off x="997560" y="4292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рл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7" descr="http://im6-tub-ru.yandex.net/i?id=31007761-17-72&amp;n=21"/>
          <p:cNvPicPr/>
          <p:nvPr/>
        </p:nvPicPr>
        <p:blipFill>
          <a:blip r:embed="rId4"/>
          <a:stretch/>
        </p:blipFill>
        <p:spPr>
          <a:xfrm>
            <a:off x="4309920" y="3068640"/>
            <a:ext cx="4834080" cy="3502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2"/>
          <p:cNvSpPr/>
          <p:nvPr/>
        </p:nvSpPr>
        <p:spPr>
          <a:xfrm>
            <a:off x="4131720" y="6200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6483600" y="622944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овидная м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2"/>
          <a:stretch/>
        </p:blipFill>
        <p:spPr>
          <a:xfrm>
            <a:off x="1692360" y="100080"/>
            <a:ext cx="4608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СРЕДСТВА ПАССИВНОЙ ЗАЩИТЫ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12" name="Picture 5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5381640" cy="4051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3"/>
          <a:stretch/>
        </p:blipFill>
        <p:spPr>
          <a:xfrm>
            <a:off x="5292720" y="394488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БИОЛОГИЧЕСКИЙ ДИКТАНТ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50920" y="1752480"/>
          <a:ext cx="8435880" cy="2133720"/>
        </p:xfrm>
        <a:graphic>
          <a:graphicData uri="http://schemas.openxmlformats.org/drawingml/2006/table">
            <a:tbl>
              <a:tblPr/>
              <a:tblGrid>
                <a:gridCol w="2367000"/>
                <a:gridCol w="2022480"/>
                <a:gridCol w="2023920"/>
                <a:gridCol w="202248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ровитель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венная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аск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имик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грожающая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а/ окраска шерсти белого медвед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б/  окраска жираф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в/ окраска шмел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г/ форма тела палочни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д/ окраска божьей коров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е/ черные и оранжевые пятна гусениц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ж/ белая окраска зайца зимой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з/ внешнее сходство некоторых мух с осам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и/ слияние камбалы с фоном морского дн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9" name="Прямоугольник 2"/>
          <p:cNvSpPr/>
          <p:nvPr/>
        </p:nvSpPr>
        <p:spPr>
          <a:xfrm>
            <a:off x="5003640" y="198900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юлени ныряют на глубину 100-200 и даже 600 м и находятся под водой 40-60 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о позволяет ластоногим нырять на столь длительный ср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"/>
          <p:cNvSpPr/>
          <p:nvPr/>
        </p:nvSpPr>
        <p:spPr>
          <a:xfrm>
            <a:off x="468360" y="40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изиологические адап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68360" y="2738520"/>
            <a:ext cx="38019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Целеполагание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формируем понятие приспособленности организмов в среде обитания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учим механизм возникновения приспособленности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кроем относительный характер приспособленности организмов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ЛЯГУШКА-ВОДОНОС, ИЛИ ПУСТЫННАЯ АВСТРАЛИЙСКАЯ ЖАБА 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4" name="Прямоугольник 2"/>
          <p:cNvSpPr/>
          <p:nvPr/>
        </p:nvSpPr>
        <p:spPr>
          <a:xfrm>
            <a:off x="5003640" y="1989000"/>
            <a:ext cx="381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ериод дождей лягушка запасает в больших подкожных "мешках" и полостях тела так много воды, что раздувается и становится похожей на шишковатый теннисный мя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этого она прячется под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я на глубине 30-35 см, жаба выделяет специальную слизь, которая дополнительно защищает животное от потери влаг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468360" y="1989000"/>
            <a:ext cx="41511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8" name="Прямоугольник 2"/>
          <p:cNvSpPr/>
          <p:nvPr/>
        </p:nvSpPr>
        <p:spPr>
          <a:xfrm>
            <a:off x="4643280" y="1628640"/>
            <a:ext cx="417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ение и поведение кошки целесообразны для хищника , предостерегающего добычу в засаде: мягкие подушечки на пальцах и втягивающие когти, тонкий слух и подвижные ушные раковины, способность длительно выжидать жертву и совершать молниеносный прыжок, острые зуб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"/>
          <p:cNvSpPr/>
          <p:nvPr/>
        </p:nvSpPr>
        <p:spPr>
          <a:xfrm>
            <a:off x="468360" y="404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роение живых организмов  очень тонко приспособлено к условиям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2"/>
          <a:stretch/>
        </p:blipFill>
        <p:spPr>
          <a:xfrm>
            <a:off x="289080" y="2349360"/>
            <a:ext cx="432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088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Приспособленность организмов в процессе эволюции возникает в результат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1) географической изоля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2) взаимодействия движущих сил эволю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3) мутационной изменчивост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4) искусственного отбора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07640" y="260280"/>
            <a:ext cx="8785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Относительный характер приспособленности.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ность к среде обитания носит относительный характер, полезна только в тех условиях, в которых она исторически сформировалась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т имеет приспособления к жизни в почве, но на поверхности он беспомощен; медузы приспособлены к жизни в воде, но выброшенные на берег погибают, на яйца аскарид не действуют яды, они не погибают зимой при низких температурах, но солнечные лучи губительны для них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линьки речной рак беспомощен, с ним может справиться даже жук-плавунец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еницы капустной белянки ядовиты, птицы не едят их, но наездники откладывают яйца в гусениц этой бабочки, личинки наездника, которые выводятся из яиц, питаются гусеницами капустной белянк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5.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Муха –осовидка сходна  по окраске и  форме  тела с осой.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Назовите  тип ее </a:t>
            </a:r>
            <a:r>
              <a:rPr b="1" i="1" lang="ru-RU" sz="4400" spc="-1" strike="noStrike">
                <a:solidFill>
                  <a:srgbClr val="564b3c"/>
                </a:solidFill>
                <a:latin typeface="Century Gothic"/>
              </a:rPr>
              <a:t>защищенного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приспособления, объясните его значение и относительный характер  приспособленности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14200" y="285480"/>
            <a:ext cx="8715600" cy="64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т 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Тип приспособленности- мимикрия, подражание окраски  и  формы  тела незащищенного животного защищенному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 Сходство с осой предупреждает возможных хищников об опасности  быть ужаленным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3.Муха  становится  добычей молодых птиц у которых  еще не выработан рефлекс на  опасность общения  с осой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ывод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Любая структура и любая функция  организма является приспособлением к внешней сред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онные изменения-образование новых популяций и видов, возникновение или исчезновение органов, усложнение организации –обусловлены развитием приспособлений  (адаптацией) Приспособленность   в процессе эволюции возникает в результате взаимодействия движущих сил эволюци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</a:t>
            </a: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Актуализация знаний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Естественный отбор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орьба за существование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ид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пуля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менчив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следственн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утации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вторяет домашнее задани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Комментируем   рисун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900000" y="1409760"/>
            <a:ext cx="7417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2"/>
          <p:cNvSpPr/>
          <p:nvPr/>
        </p:nvSpPr>
        <p:spPr>
          <a:xfrm>
            <a:off x="2997360" y="62136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гремок луг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2050920" y="54000"/>
            <a:ext cx="5375520" cy="6629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5040360" cy="3902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4"/>
          <a:stretch/>
        </p:blipFill>
        <p:spPr>
          <a:xfrm>
            <a:off x="3200400" y="3084480"/>
            <a:ext cx="5943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чаем на вопросы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 </a:t>
            </a: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Что является главной движущей силой процесса расхождения по признаку формы клюва у дарвинских вьюрков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В чем заключается причина появления у микроорганизмов, вредителей сельского хозяйства устойчивости к ядохимикатам</a:t>
            </a: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Изучаем новую тему.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Приспособленность –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соответствие внешнего и внутреннего строения , интенсивности физиологических процессов условиям среды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564b3c"/>
                </a:solidFill>
                <a:latin typeface="Century Gothic"/>
              </a:rPr>
              <a:t>Приспособления (адаптации) - результат отбора наследственных изменений, повышающих жизнеспособность организмов к конкретным условиям среды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Century Gothic"/>
              </a:rPr>
              <a:t>Какое значение имеет приспособленность для организмов?</a:t>
            </a:r>
            <a:r>
              <a:rPr b="0" lang="en-US" sz="3700" spc="-1" strike="noStrike">
                <a:solidFill>
                  <a:srgbClr val="564b3c"/>
                </a:solidFill>
                <a:latin typeface="Century Gothic"/>
              </a:rPr>
              <a:t>  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564b3c"/>
                </a:solidFill>
                <a:latin typeface="Century Gothic"/>
              </a:rPr>
              <a:t>(приспособленность к условиям среды повышает шансы организмов на выживание и оставление большого числа потомства)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Показатели приспособленности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к  абиотическому фактору ( холоду) в условиях Оренбургской област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Живот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Густая шер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Толстый подкожный слой жир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Перелет на юг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Зимняя спячк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5. Запасание корма на зим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Расте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Листопад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Холодостойко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Сохранение вегетативных органов в почве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Наличие видоизменений (луковицы, корневища и др. с запасом питательных вещест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Василий</cp:lastModifiedBy>
  <dcterms:modified xsi:type="dcterms:W3CDTF">2012-10-18T15:06:38Z</dcterms:modified>
  <cp:revision>45</cp:revision>
  <dc:subject/>
  <dc:title>Слайд 1</dc:title>
</cp:coreProperties>
</file>