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FC60-B796-495C-BF62-CF6FE108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9D7-091C-484A-8B0F-2CB93432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B06-182A-4D69-B191-B691F07F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CFE-793A-4383-B5DC-ABA9FB52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4C8D-9A5E-4300-A630-17CD5640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A1E5-ECE1-47C0-B116-C009A638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571F-62A2-40D2-9E7E-88B15EA9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419A-68C4-46CE-8C65-38AD0947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426E-506A-421D-88D9-24E8BC05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6213-153F-4960-9A95-B8D90BBC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E34F-3C4B-4F7C-A99E-D1463828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5C5-10E8-4A84-8E26-D5B81543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5B8B-79CB-414C-B5FA-66586C8B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66F5-B81C-4C68-AC7C-3CCCC196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E4A4-387C-4034-8F1D-6BEE201D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050C-CC14-42F3-BB98-24B43EB9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25C4-5033-467E-908B-8BBB889B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3422D-A65A-4B9D-9614-9E95FCC9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5306-5C3A-4AB5-A664-1B56E8B9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A17F4-9D7D-4FF9-B145-DF43DB89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BECC-B2EA-4BC2-8209-72E6E62A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F49F9-CB58-4BEF-899F-E35ECE89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BB7-B5B3-4F97-817F-AF0673CE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98D2-E5F9-4890-BAB1-FC1664FF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D7F3D-3414-480B-A054-FAF19136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58F5C-ABE9-4EBD-9069-1FEE374F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F57D-FAC5-484A-91F9-38473B35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EB9B9-164B-496B-AF02-964206E2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3D0F7-E3A4-42EA-B73F-A72D4411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8BAE-B288-423C-9E71-F811B3D5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580E2-EF10-4FE7-86D9-6EFC3340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58498-2381-4FAB-883C-0586818D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4917C-B31D-4D55-BEFF-EBE1E0E4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330-8329-4986-9C70-3A4928DA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14F2E-1298-41E2-A81F-B8D19ADC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02C5F-7F97-4047-94F9-703A3DB3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774E7-ABF2-4CC7-BEF7-976EE063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10A0D-1B62-40F0-BE50-FE9C1E5A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67891-D629-4ACF-93FA-C1E94912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E2090-C3DA-4F9D-8356-9294672B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CA3FE-EF7C-43B7-8526-7D5C9137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70874-DA90-4467-93E7-BFFA56EF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CF406-2D9C-4144-9C53-FD15EB0F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3CFE3-32F5-49F0-A3DA-7D02B042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340-B3F3-4EA9-BDC3-D0711FC6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6F2E-1679-4BD7-B33D-CBCEB93E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11EDF-AA19-45B6-A7C1-314F29C6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002D6-2F7D-4497-86A9-8B506CDB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C5A2E-677D-4FC9-9A28-84F65578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A60A5-ACE7-44B1-94E1-80C98850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EA851-C0CE-4E20-9CEA-69AB325F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24E7C-FAEA-4631-879F-846F5583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CD84D-B60D-455E-A00C-38B20EBC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AF08E-5152-4613-8268-04767876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C2385-989B-4338-B021-ABCD58D0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F37-9CC5-440A-A932-0818652D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9C32D-63F2-4238-9F27-D1EE2D96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D2ACE-6B32-4C73-A781-C166478E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61633-31B4-4DFE-94EF-A5E5AE98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35686B-29DD-428F-A785-5090C1B2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0C8D2A-AAC2-499F-A382-E0EB6110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8CBEF-A051-4EFB-975E-5AFAA618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287B0-C082-4784-AE08-F8C82400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EB855-DB1C-4A23-8A4F-79C4588F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FB498-93E1-4AA9-9D10-DE303068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1C96A-2E75-4F67-93B9-730C8CF2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B07-6596-4A3C-9339-92EA46BA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13E219-8D86-4412-97D3-D0B2AFC3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AE9A2E-6813-4D05-B74E-A8C67A0C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61DA7-3375-499B-957A-189EFC62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BEB58-0E5F-4577-A639-F2A91AAC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40D24-8D38-4347-AE24-B5C4DB32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931BB-7AAC-4499-AC8C-5E5B1732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EFDC9-AF62-4813-AE66-6E3D9F07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66F52-15DE-4B8C-8266-B34C14D4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749A8-016C-40BD-8C88-6F8F6781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38681-8F51-401F-882C-E7219B1B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D15-7D22-4295-AC41-FF2B307C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CBFFF-7A33-44C0-93CB-3539E3DC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1A6D2-4E40-4F7A-A871-0B9CFD2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2DE52-C7F5-4500-BC90-C780B352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FAE17-5F9C-4070-9F62-C44CDAA1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D9788-CFDB-4960-B1A0-35159983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3AC06-D02C-4002-9F5E-CD6A285C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41990-78F1-429B-81E3-F07DE8F8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5CE10-0F32-4A3F-81AD-E9A7DA0F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AD149-28E2-45DA-97E2-1973B1EB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6A880-CCF8-48F4-BC3D-3C27E67A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3A4-912E-4F21-B19A-FE260694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AC36A-10CE-4E64-92C2-3BA61215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3EC54-00AE-414C-A51B-3C8E113A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28FFA-BF82-4059-9B85-67431601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30ACA-BB63-4684-81B9-2E868AF2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7131C-D381-4FA4-9C8E-571630FD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16626-1A89-4CEE-923E-9F4B7FE4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003ED-4E65-4710-B77C-D98CEF36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DB6F-BC5A-42D8-9193-01B2DD7F2790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2E29-8C05-42C9-81A1-060AF1421DEF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1FD6-94A8-4B94-82FE-E49DA4ECF728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7884-DDD9-467D-997E-B8EFD9857864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62B7-09AD-4049-A37D-8CC30B8E804F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2B93-D28F-4DB2-AE07-51D3E7CED510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F33F-553A-4F7A-97A5-81F51DFD364A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CF94-489F-44EE-9D71-574FAC4291B5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ема уро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Приспособленность организмов к условиям внешней среды как результат действия естественного отбора</a:t>
            </a:r>
            <a:r>
              <a:rPr b="1" i="1" lang="ru-RU" sz="3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Мишнина  Лидия Александровна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СОШ №3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булакского района Оренбургской област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7534c"/>
              </a:solidFill>
              <a:latin typeface="Book Antiqua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812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ительные особенности строения, окраски 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В3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ия к жизни в воде, сформировавшиеся в</a:t>
            </a:r>
            <a:br>
              <a:rPr sz="2400"/>
            </a:b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оцессе эволюции у дельфин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1.превращение передних конечностей в ласт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2.дыхание кислородом, растворенным в воде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3.дыхание кислородом воздух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4.обтекаемая форм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5.толстый подкожный слой жир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6.постоянная температур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ПАЛОЧНИК ПОХОЖ НА ВЕТОЧК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177840" y="1700280"/>
            <a:ext cx="8794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C:\Users\Администратор\Desktop\кора.jpg"/>
          <p:cNvPicPr/>
          <p:nvPr/>
        </p:nvPicPr>
        <p:blipFill>
          <a:blip r:embed="rId2"/>
          <a:stretch/>
        </p:blipFill>
        <p:spPr>
          <a:xfrm>
            <a:off x="179280" y="189000"/>
            <a:ext cx="5267520" cy="6480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26440" y="6118920"/>
            <a:ext cx="72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ровитель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совок , большого тушкан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4368960" y="220500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7245360" cy="4103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2420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"/>
          <p:cNvSpPr/>
          <p:nvPr/>
        </p:nvSpPr>
        <p:spPr>
          <a:xfrm>
            <a:off x="997560" y="4292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р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http://im6-tub-ru.yandex.net/i?id=31007761-17-72&amp;n=21"/>
          <p:cNvPicPr/>
          <p:nvPr/>
        </p:nvPicPr>
        <p:blipFill>
          <a:blip r:embed="rId4"/>
          <a:stretch/>
        </p:blipFill>
        <p:spPr>
          <a:xfrm>
            <a:off x="4309920" y="3068640"/>
            <a:ext cx="4834080" cy="3502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131720" y="620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83600" y="62294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овид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692360" y="100080"/>
            <a:ext cx="4608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СРЕДСТВА ПАССИВНОЙ ЗАЩИТЫ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381640" cy="4051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5292720" y="394488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БИОЛОГИЧЕСКИЙ ДИКТАНТ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0920" y="1752480"/>
          <a:ext cx="8435880" cy="2133720"/>
        </p:xfrm>
        <a:graphic>
          <a:graphicData uri="http://schemas.openxmlformats.org/drawingml/2006/table">
            <a:tbl>
              <a:tblPr/>
              <a:tblGrid>
                <a:gridCol w="2367000"/>
                <a:gridCol w="2022480"/>
                <a:gridCol w="2023920"/>
                <a:gridCol w="20224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рови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венная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аск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имик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грожающая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а/ окраска шерсти белого медвед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б/  окраска жираф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в/ окраска шмел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г/ форма тела палочни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д/ окраска божьей коров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е/ черные и оранжевые пятна гусениц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ж/ белая окраска зайца зимой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з/ внешнее сходство некоторых мух с осам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и/ слияние камбалы с фоном морского д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5003640" y="198900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юлени ныряют на глубину 100-200 и даже 600 м и находятся под водой 40-6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позволяет ластоногим нырять на столь длительный ср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46836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изиологические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8360" y="2738520"/>
            <a:ext cx="3801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Целеполагание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формируем понятие приспособленности организмов в среде обитания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учим механизм возникновения приспособленности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кроем относительный характер приспособленности организмо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ЛЯГУШКА-ВОДОНОС, ИЛИ ПУСТЫННАЯ АВСТРАЛИЙСКАЯ ЖАБА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5003640" y="19890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ериод дождей лягушка запасает в больших подкожных "мешках" и полостях тела так много воды, что раздувается и становится похожей на шишковатый теннисный мя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этого она прячется под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я на глубине 30-35 см, жаба выделяет специальную слизь, которая дополнительно защищает животное от потери вл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468360" y="1989000"/>
            <a:ext cx="41511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4643280" y="1628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и поведение кошки целесообразны для хищника , предостерегающего добычу в засаде: мягкие подушечки на пальцах и втягивающие когти, тонкий слух и подвижные ушные раковины, способность длительно выжидать жертву и совершать молниеносный прыжок, острые зуб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оение живых организмов  очень тонко приспособлено к условиям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289080" y="2349360"/>
            <a:ext cx="432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Приспособленность организмов в процессе эволюции возникает в результат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1) географической изоля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2) взаимодействия движущих сил эволю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3) мутационной изменчивост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4) искусственного отбор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260280"/>
            <a:ext cx="8785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Относительный характер приспособленности.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ность к среде обитания носит относительный характер, полезна только в тех условиях, в которых она исторически сформировалас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т имеет приспособления к жизни в почве, но на поверхности он беспомощен; медузы приспособлены к жизни в воде, но выброшенные на берег погибают, на яйца аскарид не действуют яды, они не погибают зимой при низких температурах, но солнечные лучи губительны для них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линьки речной рак беспомощен, с ним может справиться даже жук-плавунец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ницы капустной белянки ядовиты, птицы не едят их, но наездники откладывают яйца в гусениц этой бабочки, личинки наездника, которые выводятся из яиц, питаются гусеницами капустной белян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5.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Муха –осовидка сходна  по окраске и  форме  тела с осой.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Назовите  тип ее </a:t>
            </a:r>
            <a:r>
              <a:rPr b="1" i="1" lang="ru-RU" sz="4400" spc="-1" strike="noStrike">
                <a:solidFill>
                  <a:srgbClr val="564b3c"/>
                </a:solidFill>
                <a:latin typeface="Century Gothic"/>
              </a:rPr>
              <a:t>защищенного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приспособления, объясните его значение и относительный характер  приспособленности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85480"/>
            <a:ext cx="8715600" cy="64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т 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Тип приспособленности- мимикрия, подражание окраски  и  формы  тела незащищенного животного защищенному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 Сходство с осой предупреждает возможных хищников об опасности  быть ужаленным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.Муха  становится  добычей молодых птиц у которых  еще не выработан рефлекс на  опасность общения  с осой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вод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Любая структура и любая функция  организма является приспособлением к внешней сред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онные изменения-образование новых популяций и видов, возникновение или исчезновение органов, усложнение организации –обусловлены развитием приспособлений  (адаптацией) Приспособленность   в процессе эволюции возникает в результате взаимодействия движущих сил эволю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</a:t>
            </a: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Актуализация знаний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Естественный отбор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орьба за существование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ид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пуля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менчив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тации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торяет домашнее задани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Комментируем   рисун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00000" y="1409760"/>
            <a:ext cx="7417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2997360" y="6213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ремо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2050920" y="54000"/>
            <a:ext cx="5375520" cy="662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902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200400" y="3084480"/>
            <a:ext cx="5943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чаем на вопросы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 </a:t>
            </a: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является главной движущей силой процесса расхождения по признаку формы клюва у дарвинских вьюрков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В чем заключается причина появления у микроорганизмов, вредителей сельского хозяйства устойчивости к ядохимикатам</a:t>
            </a: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Изучаем новую тему.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Приспособленность –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соответствие внешнего и внутреннего строения , интенсивности физиологических процессов условиям среды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564b3c"/>
                </a:solidFill>
                <a:latin typeface="Century Gothic"/>
              </a:rPr>
              <a:t>Приспособления (адаптации) - результат отбора наследственных изменений, повышающих жизнеспособность организмов к конкретным условиям среды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Century Gothic"/>
              </a:rPr>
              <a:t>Какое значение имеет приспособленность для организмов?</a:t>
            </a:r>
            <a:r>
              <a:rPr b="0" lang="en-US" sz="37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564b3c"/>
                </a:solidFill>
                <a:latin typeface="Century Gothic"/>
              </a:rPr>
              <a:t>(приспособленность к условиям среды повышает шансы организмов на выживание и оставление большого числа потомства)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Показатели приспособленност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к  абиотическому фактору ( холоду) в условиях Оренбургской обла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Живо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Густая шер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Толстый подкожный слой жир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Перелет на юг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Зимняя спячк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5. Запасание корма на зим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Раст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Листопад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Холодостойко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Сохранение вегетативных органов в почве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Наличие видоизменений (луковицы, корневища и др. с запасом питательных вещест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Василий</cp:lastModifiedBy>
  <dcterms:modified xsi:type="dcterms:W3CDTF">2012-10-18T15:06:38Z</dcterms:modified>
  <cp:revision>45</cp:revision>
  <dc:subject/>
  <dc:title>Слайд 1</dc:title>
</cp:coreProperties>
</file>