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D9B0-3C5B-40CB-B58E-E67AB4195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9F99-3EAE-462B-85BD-93751541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763E-5300-4D4B-B85A-79E59A05C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AD93-6413-4A79-875A-D68847BED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73AD-A506-4C8F-BCEB-B5CD24A33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5734-D258-426B-A587-3E242521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D46F-40C7-44DF-AD0C-372F4969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14FD-49A5-465C-B911-E32EA05E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05E9-4C90-40D2-9003-1B104481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1B40-8365-4FB7-9688-FC48057B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0FEF-675E-4A02-9C75-ACBE22D7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12AF-CCDE-4CAB-9D96-C7551293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1D22-663B-4954-B9D6-3057C778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2EC8-1D71-4786-9F89-5EEAF088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D894-7E97-433B-AF64-B2D7CF6B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A716-88BD-47B3-ABFD-AFEDB164D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BBB1-BBD3-44DC-92FC-5AEC9D02D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00E16-DB1E-43CB-87F9-8B4C3FC6D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EE33C-868E-47C9-B36C-393874B1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0E67A-B5BE-4182-A7C0-96B06628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C537D-8C27-441C-84B3-159E9949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950F0-ACBF-4628-90A7-CC997CAE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7F33-8EDD-4256-8E40-637DFB12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62DFE-98F6-461E-87A9-E27212A8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26103-250A-4AF2-8148-D0BB1CC4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FACF1-84D3-4DF0-9D86-44FB3A5D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67CB4-5C55-44AC-869D-B9B3F82F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3A76A-BF72-4EA0-8C2C-F68A9306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AC562-0F41-49A3-AA3B-5CB87ADF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79FA8-D2F0-4E2C-81F4-114C8A8B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6D5E5-FF7C-40E2-A9D0-A0FEE484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C3F9F-F43F-431B-A196-197B6951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AB0E9-A787-4E38-B095-AC28B378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7F7F-DAB3-4BF6-A600-3B511DAB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7CF34-6FBF-489A-8BC5-4AD0D10A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14D5A-36E6-4322-9759-FA8C39B1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B9EFC-223C-4CC9-B962-3211FA5C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FFF0F-F78F-4682-84C4-D6681099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24D5E-EB88-479F-92CD-B6A7B4F2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409FA-EE5A-42D3-8A9C-913AC02F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F7804-A12C-4F23-A1D6-1D30BBA3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73BDE-B666-4194-A609-500434C1D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4FE22-7115-438F-8B55-AB41F8958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02A16-807E-48B3-BCB7-C79CA5F4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A601-099F-4FC6-A82B-48B3D551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76155-F89D-42DB-A8C5-1895D63C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4E5E5-CAF3-47EF-814A-A2E454B0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26AA6-5AD9-44F9-81E8-6A5BA6DA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60CAE-54FF-4F18-B2EC-7B4BF5F2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61E56-6667-42C6-8010-0FA6577D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9DAC0-3925-4F8F-9CA2-9E405A2C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C0946-DC6D-49DC-8099-B0C1CD3B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A9BA7-1E9C-40F9-AFBB-40874F3D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10137-B94C-47CB-BE0E-5F504491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49037-1592-4DDD-9C67-DF51E032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7B4F-21E2-4579-96FC-93823BB3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80400-3142-4236-8C24-86D250B8B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FE205E-FA0F-43DC-96D0-39CF51D44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216525-B772-4A1D-8770-CBA07BC3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5AE99D-EE44-4555-9F63-14831059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E39263-0C4E-46A1-8231-27DCCD79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900C41-0DE2-4F18-A4AA-C88A4E4B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997634-DE11-4747-812A-06586097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C7D389-DE7A-4254-AF52-9A0D934D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947413-EC04-4214-9C27-228C48E2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271E67-8202-4CF5-8937-4F5D702B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FD5F-40D7-4491-9681-054D8234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F3D99D-124C-4A31-8478-8D95DBCE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B20851-7051-4038-87D6-A322DECE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9D34DF-720D-45C4-B2E9-E34B44644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B2D24-02F9-41CE-93F9-67B09D404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C9A6D-9F52-4B71-B386-F69DDBCD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FD5F9-7E64-4234-9ACA-6E4DB775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87CAE-D3C2-4291-8FFA-BE8B9411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3C79E-DC04-4A6E-A5F2-97CCEFCF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A360B-C96F-47C9-839E-1A0ADBB3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ED19A-3198-4A01-9463-4D25CB2B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77D5-F772-4F0C-B47A-4E5FB1F7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64A4F-A8D6-4F0F-A67C-0DB8424A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FA769-4E4F-4935-88E0-30CC7537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620A2-2B86-4C0D-9B14-3D772144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69A43-9B53-4A1F-BAD8-AC49F81AE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D1B47-F139-4D10-933F-248CD1CC6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9E50A-075A-4668-BABE-1D9AAED29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92024-097D-4120-A2E0-30C8C116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BC0D8-A334-437A-9E83-F9F409A8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99924-18B4-4B19-A1DB-DDBD4D6C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97560-8364-43B7-86C9-4C061D1C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D2B1-5998-4DF0-AE03-D6EEB504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5F759-6D7F-40B3-A70B-6F625EE8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97ABD-2279-4BBB-B2E3-5FF35BFD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710E9-B871-4A6D-8C4D-33FD635B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4BC55-BAF7-487D-A3AF-6F7598E4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D9E11-2D00-422B-9A2F-2CD23ACD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B648F-C6C3-4A6F-8C17-2B7626549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1C76E-CCF4-4BBD-ACF4-9B31DE09F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1CEA-AB91-4161-8298-AE9D1A628027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C262-EFB7-4EEB-A075-BF34A8474B25}" type="slidenum">
              <a:rPr b="0" lang="en-US" sz="2800" spc="-1" strike="noStrike">
                <a:solidFill>
                  <a:srgbClr val="47534c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92F4-4593-4FD6-8017-E16E5D2CB617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BA73-0315-4FEA-8230-1CD7859AB09E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A85D-EC27-4809-B59E-861733E55149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80E8-71DB-4523-9861-A4261CF62C1A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9DAF-BBD2-4A3D-83F3-A3068052FF52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334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85F2-C107-45DA-ADA0-10BE77FC0894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6836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Тема урок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entury Gothic"/>
              </a:rPr>
              <a:t>Приспособленность организмов к условиям внешней среды как результат действия естественного отбора</a:t>
            </a:r>
            <a:r>
              <a:rPr b="1" i="1" lang="ru-RU" sz="36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 Мишнина  Лидия Александровна,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биологии СОШ №3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булакского района Оренбургской области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7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7534c"/>
              </a:solidFill>
              <a:latin typeface="Book Antiqua"/>
            </a:endParaRPr>
          </a:p>
        </p:txBody>
      </p:sp>
      <p:sp>
        <p:nvSpPr>
          <p:cNvPr id="394" name="Прямоугольник 1"/>
          <p:cNvSpPr/>
          <p:nvPr/>
        </p:nvSpPr>
        <p:spPr>
          <a:xfrm>
            <a:off x="168120" y="47628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пособительные особенности строения, окраски те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В3.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Приспособления к жизни в воде, сформировавшиеся в</a:t>
            </a:r>
            <a:br>
              <a:rPr sz="2400"/>
            </a:b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процессе эволюции у дельфинов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1.превращение передних конечностей в ласты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2.дыхание кислородом, растворенным в воде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3.дыхание кислородом воздух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4.обтекаемая форма тел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5.толстый подкожный слой жир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6.постоянная температура тел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ПАЛОЧНИК ПОХОЖ НА ВЕТОЧКУ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97" name="Picture 2" descr="C:\Users\Лидия\Desktop\Рисунок1.png"/>
          <p:cNvPicPr/>
          <p:nvPr/>
        </p:nvPicPr>
        <p:blipFill>
          <a:blip r:embed="rId2"/>
          <a:stretch/>
        </p:blipFill>
        <p:spPr>
          <a:xfrm>
            <a:off x="177840" y="1700280"/>
            <a:ext cx="8794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6" descr="C:\Users\Администратор\Desktop\кора.jpg"/>
          <p:cNvPicPr/>
          <p:nvPr/>
        </p:nvPicPr>
        <p:blipFill>
          <a:blip r:embed="rId2"/>
          <a:stretch/>
        </p:blipFill>
        <p:spPr>
          <a:xfrm>
            <a:off x="179280" y="189000"/>
            <a:ext cx="5267520" cy="64800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1126440" y="6118920"/>
            <a:ext cx="72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кровительственн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рас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 совок , большого тушканч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5" descr=""/>
          <p:cNvPicPr/>
          <p:nvPr/>
        </p:nvPicPr>
        <p:blipFill>
          <a:blip r:embed="rId3"/>
          <a:stretch/>
        </p:blipFill>
        <p:spPr>
          <a:xfrm>
            <a:off x="4368960" y="2205000"/>
            <a:ext cx="460044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7245360" cy="4103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"/>
          <p:cNvPicPr/>
          <p:nvPr/>
        </p:nvPicPr>
        <p:blipFill>
          <a:blip r:embed="rId3"/>
          <a:stretch/>
        </p:blipFill>
        <p:spPr>
          <a:xfrm>
            <a:off x="395280" y="907920"/>
            <a:ext cx="3724200" cy="2786040"/>
          </a:xfrm>
          <a:prstGeom prst="rect">
            <a:avLst/>
          </a:prstGeom>
          <a:ln w="0">
            <a:noFill/>
          </a:ln>
        </p:spPr>
      </p:pic>
      <p:sp>
        <p:nvSpPr>
          <p:cNvPr id="405" name="Прямоугольник 1"/>
          <p:cNvSpPr/>
          <p:nvPr/>
        </p:nvSpPr>
        <p:spPr>
          <a:xfrm>
            <a:off x="997560" y="429264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рля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7" descr="http://im6-tub-ru.yandex.net/i?id=31007761-17-72&amp;n=21"/>
          <p:cNvPicPr/>
          <p:nvPr/>
        </p:nvPicPr>
        <p:blipFill>
          <a:blip r:embed="rId4"/>
          <a:stretch/>
        </p:blipFill>
        <p:spPr>
          <a:xfrm>
            <a:off x="4309920" y="3068640"/>
            <a:ext cx="4834080" cy="350208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2"/>
          <p:cNvSpPr/>
          <p:nvPr/>
        </p:nvSpPr>
        <p:spPr>
          <a:xfrm>
            <a:off x="4131720" y="620064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жья кор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9" name="Прямоугольник 4"/>
          <p:cNvSpPr/>
          <p:nvPr/>
        </p:nvSpPr>
        <p:spPr>
          <a:xfrm>
            <a:off x="6483600" y="6229440"/>
            <a:ext cx="26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совидная м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2"/>
          <a:stretch/>
        </p:blipFill>
        <p:spPr>
          <a:xfrm>
            <a:off x="1692360" y="100080"/>
            <a:ext cx="460836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СРЕДСТВА ПАССИВНОЙ ЗАЩИТЫ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12" name="Picture 5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5381640" cy="40514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"/>
          <p:cNvPicPr/>
          <p:nvPr/>
        </p:nvPicPr>
        <p:blipFill>
          <a:blip r:embed="rId3"/>
          <a:stretch/>
        </p:blipFill>
        <p:spPr>
          <a:xfrm>
            <a:off x="5292720" y="3944880"/>
            <a:ext cx="367200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БИОЛОГИЧЕСКИЙ ДИКТАНТ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250920" y="1752480"/>
          <a:ext cx="8435880" cy="2133720"/>
        </p:xfrm>
        <a:graphic>
          <a:graphicData uri="http://schemas.openxmlformats.org/drawingml/2006/table">
            <a:tbl>
              <a:tblPr/>
              <a:tblGrid>
                <a:gridCol w="2367000"/>
                <a:gridCol w="2022480"/>
                <a:gridCol w="2023920"/>
                <a:gridCol w="202248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ровитель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твенная 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крас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аскиро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имик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Угрожающая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крас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21384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а/ окраска шерсти белого медведя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б/  окраска жираф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в/ окраска шмеля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г/ форма тела палочник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д/ окраска божьей коровк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е/ черные и оранжевые пятна гусениц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ж/ белая окраска зайца зимой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з/ внешнее сходство некоторых мух с осам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и/ слияние камбалы с фоном морского дн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895640" y="218880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19" name="Прямоугольник 2"/>
          <p:cNvSpPr/>
          <p:nvPr/>
        </p:nvSpPr>
        <p:spPr>
          <a:xfrm>
            <a:off x="5003640" y="1989000"/>
            <a:ext cx="381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юлени ныряют на глубину 100-200 и даже 600 м и находятся под водой 40-60 м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Что позволяет ластоногим нырять на столь длительный срок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1"/>
          <p:cNvSpPr/>
          <p:nvPr/>
        </p:nvSpPr>
        <p:spPr>
          <a:xfrm>
            <a:off x="468360" y="40464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Физиологические адап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468360" y="2738520"/>
            <a:ext cx="380196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Целеполагание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формируем понятие приспособленности организмов в среде обитания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зучим механизм возникновения приспособленности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Раскроем относительный характер приспособленности организмов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ЛЯГУШКА-ВОДОНОС, ИЛИ ПУСТЫННАЯ АВСТРАЛИЙСКАЯ ЖАБА  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4" name="Прямоугольник 2"/>
          <p:cNvSpPr/>
          <p:nvPr/>
        </p:nvSpPr>
        <p:spPr>
          <a:xfrm>
            <a:off x="5003640" y="1989000"/>
            <a:ext cx="3816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период дождей лягушка запасает в больших подкожных "мешках" и полостях тела так много воды, что раздувается и становится похожей на шишковатый теннисный мя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ле этого она прячется под зем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дя на глубине 30-35 см, жаба выделяет специальную слизь, которая дополнительно защищает животное от потери влаг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C:\Users\Лидия\Desktop\Рисунок1.png"/>
          <p:cNvPicPr/>
          <p:nvPr/>
        </p:nvPicPr>
        <p:blipFill>
          <a:blip r:embed="rId2"/>
          <a:stretch/>
        </p:blipFill>
        <p:spPr>
          <a:xfrm>
            <a:off x="468360" y="1989000"/>
            <a:ext cx="415116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895640" y="218880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8" name="Прямоугольник 2"/>
          <p:cNvSpPr/>
          <p:nvPr/>
        </p:nvSpPr>
        <p:spPr>
          <a:xfrm>
            <a:off x="4643280" y="1628640"/>
            <a:ext cx="4176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оение и поведение кошки целесообразны для хищника , предостерегающего добычу в засаде: мягкие подушечки на пальцах и втягивающие когти, тонкий слух и подвижные ушные раковины, способность длительно выжидать жертву и совершать молниеносный прыжок, острые зуб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1"/>
          <p:cNvSpPr/>
          <p:nvPr/>
        </p:nvSpPr>
        <p:spPr>
          <a:xfrm>
            <a:off x="468360" y="40464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троение живых организмов  очень тонко приспособлено к условиям сущ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7" descr=""/>
          <p:cNvPicPr/>
          <p:nvPr/>
        </p:nvPicPr>
        <p:blipFill>
          <a:blip r:embed="rId2"/>
          <a:stretch/>
        </p:blipFill>
        <p:spPr>
          <a:xfrm>
            <a:off x="289080" y="2349360"/>
            <a:ext cx="4321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8088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Приспособленность организмов в процессе эволюции возникает в результате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1) географической изоляци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2) взаимодействия движущих сил эволюци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3) мутационной изменчивост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4) искусственного отбора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107640" y="260280"/>
            <a:ext cx="8785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entury Gothic"/>
              </a:rPr>
              <a:t>Относительный характер приспособленности.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Приспособленность к среде обитания носит относительный характер, полезна только в тех условиях, в которых она исторически сформировалась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т имеет приспособления к жизни в почве, но на поверхности он беспомощен; медузы приспособлены к жизни в воде, но выброшенные на берег погибают, на яйца аскарид не действуют яды, они не погибают зимой при низких температурах, но солнечные лучи губительны для них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линьки речной рак беспомощен, с ним может справиться даже жук-плавунец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еницы капустной белянки ядовиты, птицы не едят их, но наездники откладывают яйца в гусениц этой бабочки, личинки наездника, которые выводятся из яиц, питаются гусеницами капустной белянк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>
              <a:lnSpc>
                <a:spcPct val="90000"/>
              </a:lnSpc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5. </a:t>
            </a: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Муха –осовидка сходна  по окраске и  форме  тела с осой.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  <a:p>
            <a:pPr marL="329040" indent="-219240">
              <a:lnSpc>
                <a:spcPct val="90000"/>
              </a:lnSpc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Назовите  тип ее </a:t>
            </a:r>
            <a:r>
              <a:rPr b="1" i="1" lang="ru-RU" sz="4400" spc="-1" strike="noStrike">
                <a:solidFill>
                  <a:srgbClr val="564b3c"/>
                </a:solidFill>
                <a:latin typeface="Century Gothic"/>
              </a:rPr>
              <a:t>защищенного </a:t>
            </a: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приспособления, объясните его значение и относительный характер  приспособленности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214200" y="285480"/>
            <a:ext cx="8715600" cy="64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твет 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.Тип приспособленности- мимикрия, подражание окраски  и  формы  тела незащищенного животного защищенному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. Сходство с осой предупреждает возможных хищников об опасности  быть ужаленным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3.Муха  становится  добычей молодых птиц у которых  еще не выработан рефлекс на  опасность общения  с осой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ывод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Любая структура и любая функция  организма является приспособлением к внешней среде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Эволюционные изменения-образование новых популяций и видов, возникновение или исчезновение органов, усложнение организации –обусловлены развитием приспособлений  (адаптацией) Приспособленность   в процессе эволюции возникает в результате взаимодействия движущих сил эволюци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7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</a:t>
            </a: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 Актуализация знаний.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Эволюция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Естественный отбор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Борьба за существование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ид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пуляция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зменчивость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Наследственность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Мутации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I</a:t>
            </a: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 </a:t>
            </a:r>
            <a:r>
              <a:rPr b="1" i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вторяет домашнее задание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.Комментируем   рисунк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900000" y="1409760"/>
            <a:ext cx="741708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рямоугольник 2"/>
          <p:cNvSpPr/>
          <p:nvPr/>
        </p:nvSpPr>
        <p:spPr>
          <a:xfrm>
            <a:off x="2997360" y="621360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гремок луг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6" descr="C:\Users\Лидия\Desktop\Рисунок1.png"/>
          <p:cNvPicPr/>
          <p:nvPr/>
        </p:nvPicPr>
        <p:blipFill>
          <a:blip r:embed="rId2"/>
          <a:stretch/>
        </p:blipFill>
        <p:spPr>
          <a:xfrm>
            <a:off x="2050920" y="54000"/>
            <a:ext cx="5375520" cy="66294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5040360" cy="39020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"/>
          <p:cNvPicPr/>
          <p:nvPr/>
        </p:nvPicPr>
        <p:blipFill>
          <a:blip r:embed="rId4"/>
          <a:stretch/>
        </p:blipFill>
        <p:spPr>
          <a:xfrm>
            <a:off x="3200400" y="3084480"/>
            <a:ext cx="59436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твечаем на вопросы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. </a:t>
            </a:r>
            <a:r>
              <a:rPr b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Что является главной движущей силой процесса расхождения по признаку формы клюва у дарвинских вьюрков?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.В чем заключается причина появления у микроорганизмов, вредителей сельского хозяйства устойчивости к ядохимикатам</a:t>
            </a: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 Изучаем новую тему.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564b3c"/>
                </a:solidFill>
                <a:latin typeface="Century Gothic"/>
              </a:rPr>
              <a:t>Приспособленность –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564b3c"/>
                </a:solidFill>
                <a:latin typeface="Century Gothic"/>
              </a:rPr>
              <a:t>соответствие внешнего и внутреннего строения , интенсивности физиологических процессов условиям среды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564b3c"/>
                </a:solidFill>
                <a:latin typeface="Century Gothic"/>
              </a:rPr>
              <a:t>Приспособления (адаптации) - результат отбора наследственных изменений, повышающих жизнеспособность организмов к конкретным условиям среды.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564b3c"/>
                </a:solidFill>
                <a:latin typeface="Century Gothic"/>
              </a:rPr>
              <a:t>Какое значение имеет приспособленность для организмов?</a:t>
            </a:r>
            <a:r>
              <a:rPr b="0" lang="en-US" sz="3700" spc="-1" strike="noStrike">
                <a:solidFill>
                  <a:srgbClr val="564b3c"/>
                </a:solidFill>
                <a:latin typeface="Century Gothic"/>
              </a:rPr>
              <a:t>  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564b3c"/>
                </a:solidFill>
                <a:latin typeface="Century Gothic"/>
              </a:rPr>
              <a:t>(приспособленность к условиям среды повышает шансы организмов на выживание и оставление большого числа потомства).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28584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Показатели приспособленности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к  абиотическому фактору ( холоду) в условиях Оренбургской област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Животны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1. Густая шерсть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2. Толстый подкожный слой жира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3. Перелет на юг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4. Зимняя спячка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5. Запасание корма на зиму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Растения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1. Листопад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2. Холодостойкость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3. Сохранение вегетативных органов в почве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4. Наличие видоизменений (луковицы, корневища и др. с запасом питательных веществ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Василий</cp:lastModifiedBy>
  <dcterms:modified xsi:type="dcterms:W3CDTF">2012-10-18T15:06:38Z</dcterms:modified>
  <cp:revision>45</cp:revision>
  <dc:subject/>
  <dc:title>Слайд 1</dc:title>
</cp:coreProperties>
</file>