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DBF-39BB-4CC6-BB6E-38648362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FF1B-59FF-42C2-AC01-4398D189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F7F8-074C-4C88-9471-085D9F94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7060-67CB-4B4D-B660-AE96D30C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66ED-31D8-40F8-BF77-65A72399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6296-01EA-4F03-B089-3AA6A008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D51D-A259-4C45-B403-3D8FAA71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4A51-DF40-41A9-B073-B75A3841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DEDF-F4F4-4F64-96C4-A84ED4B2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7F6F-30F2-404A-A56F-268B357E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97C3-DAED-4641-BD5D-49D74FD9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257-A4AD-436F-95A9-2743C3B1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BB1D-CC29-45AB-9401-90633F97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DDA9-D869-464C-9A2B-3F567792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A952-BB66-46D8-BEA5-9909936E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20C0-D7A4-4AA7-9780-299C173D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94C0-40C2-407D-AA93-E243F991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D43FB-9942-41B5-B67E-AC48F326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00E7F-D194-43DC-9655-7EE94C4E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D4439-AC74-4B83-94F8-942FB24E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20F2B-52D9-4FB8-BAAD-880024E6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9073A-35F8-4043-9AD5-517ED894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53EE-1960-467B-B49D-39ABE670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92CED-FE9D-4254-BB92-D342B07D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60F3B-9146-4CDB-BB3D-1FFA7762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B4942-DBB3-4DB7-AE12-0DB5C7A8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BB893-D226-45A6-B3D0-66121D85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04A24-5619-4842-BE83-A079547F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7CF63-81F4-4374-80E1-80C75B9B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09724-7633-4E23-97EA-9C7F75D6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F494B-AF84-44FA-9419-438AC5E5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EADC6-E2FE-475F-9457-B763F239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B6AD0-ECBF-49A1-AC31-13D3C94C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6D6-D1E7-4C4D-BA5D-EBAFF941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C3AC1-EB2F-4295-B3E0-2FD33A1E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AF017-95CC-4EAC-A1C7-B40DEEF7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CBF6A-7A2E-421D-9B77-F22C23F6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5B385-2B44-4940-A60F-D3A789FB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DCAE3-259F-492D-BDD8-2DAFF627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8039B-5249-4176-ACEB-8CD41E6D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7B992-147E-443C-ADFD-D979E08B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669FD-FA79-4C6A-8912-3112EFF3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F9C4C-165F-4211-A74B-13F80FFB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E3152-81EC-47D0-916C-A5B0A430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65D5-74B6-45EC-B7CA-44B09824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937D1-D44F-4266-92AF-F497925B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7E0A4-4200-479B-AD54-8D16E3EE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FAC86-D7A3-4EB4-BC50-A5D730F2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BE601-DB5C-482E-A462-381002E7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03AD2-C016-4CB9-BF39-EF67EF21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EC64C-EBCF-43BD-834E-8FC2DF33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B07B9-BD51-4D2B-A538-6CF8EE43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9C93C-D3EE-40D5-ADF6-230C43A0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84F83-0EB2-4F6C-A456-DDFF0239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A27EA-0BE3-40C9-A4BB-51EAEA71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C3F9-45E9-49D4-A515-F56AA789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4D565-A926-4122-B8DA-93B96A34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5DCEFA-F3A1-4133-B400-FDBAD5E3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72B918-397A-4A74-9784-5F1359F4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6F8F6C-9DDA-47BF-9895-EB1A51A8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876D2-D9D2-469E-9923-09B9E7C7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BD5A40-709E-4C94-A05C-3F6086D0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0DE373-C595-4566-B76F-4644F7AC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C717EF-A290-4FB1-A7D4-8ADBA0FF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7FE95A-6AB0-4368-A37C-ADE126BF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5BCC85-6291-4B1C-AC65-72ACC63B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1CD-6BBF-41B0-8BBF-0E075B33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9A8ADE-A7B3-401D-8827-DFBAF4B8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F6C971-A750-4084-8D29-1A28EEC1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005246-EA52-4C2A-9925-2124F4D5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53B00-FBCE-4892-999C-24E6A296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2250D-19C6-4E50-B60A-B4044A6D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78865-355A-4033-9C76-24911484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1E2D9-B106-4148-A772-64999D62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C67F6-7A64-4246-B710-1BEA487E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2242D-E019-4EA2-B675-5D34D80D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B3F2E-31ED-4334-A6DC-F147DB01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8EE-E89D-428B-AC4D-895273A8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F0ACA-503A-4A43-8E51-8BC251F1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FFBB8-E11B-41D3-A461-DC407FDE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AC5A1-8F27-4602-87EB-C2260361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754E8-D925-49C1-A629-47ED3ADE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AA076-0D84-401A-A865-E4C486AF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3BE08-5963-436F-AD8A-6443A6D6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60136-A2FB-4774-821C-77920622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D4067-E768-4537-8DAF-B9D791E3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6347F-722D-455E-9913-397044F9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93ECD-C1A5-4C4F-9E92-9A4CF61D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3835-D858-401D-B188-34BD87BB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A0CDD-25BC-474C-98A3-B2CC1F69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1297B-A375-441A-AE02-C7D98C68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B5B28-505D-430A-AC1E-0DBD18A8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D9ED5-4456-44A2-97FA-FDE49D03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ACE1E-A88C-41C3-BB8A-89B1E203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4AB5E-5BA1-4E4A-92F4-2F6F9D1A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C234A-81FF-4E08-AC82-1F48DD7B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1C59-48D4-4A09-AEC7-C54EC57EC152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49DD-B3B2-49AC-980F-D3775E587012}" type="slidenum">
              <a:rPr b="0" lang="en-US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920D-84F5-47D9-B54D-2855F3A92A07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BFEC-B99B-4336-B053-99F3A422308B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C737-90C8-4688-BD1F-E2D0C28F976A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014A-0840-40A1-9106-7EBF8F21E8C2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5AB2-CF3A-4A5F-B5A3-F0DF6F1B9E4C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8D30-EAEF-4E7C-8E19-FD1D93CC701E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Тема уро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entury Gothic"/>
              </a:rPr>
              <a:t>Приспособленность организмов к условиям внешней среды как результат действия естественного отбора</a:t>
            </a:r>
            <a:r>
              <a:rPr b="1" i="1" lang="ru-RU" sz="36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 Мишнина  Лидия Александровна,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СОШ №3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булакского района Оренбургской области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7534c"/>
              </a:solidFill>
              <a:latin typeface="Book Antiqua"/>
            </a:endParaRPr>
          </a:p>
        </p:txBody>
      </p:sp>
      <p:sp>
        <p:nvSpPr>
          <p:cNvPr id="394" name="Прямоугольник 1"/>
          <p:cNvSpPr/>
          <p:nvPr/>
        </p:nvSpPr>
        <p:spPr>
          <a:xfrm>
            <a:off x="16812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ительные особенности строения, окраски 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В3.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ия к жизни в воде, сформировавшиеся в</a:t>
            </a:r>
            <a:br>
              <a:rPr sz="2400"/>
            </a:b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оцессе эволюции у дельфинов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1.превращение передних конечностей в ласты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2.дыхание кислородом, растворенным в воде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3.дыхание кислородом воздух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4.обтекаемая форм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5.толстый подкожный слой жир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6.постоянная температур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ПАЛОЧНИК ПОХОЖ НА ВЕТОЧКУ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7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177840" y="1700280"/>
            <a:ext cx="8794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C:\Users\Администратор\Desktop\кора.jpg"/>
          <p:cNvPicPr/>
          <p:nvPr/>
        </p:nvPicPr>
        <p:blipFill>
          <a:blip r:embed="rId2"/>
          <a:stretch/>
        </p:blipFill>
        <p:spPr>
          <a:xfrm>
            <a:off x="179280" y="189000"/>
            <a:ext cx="5267520" cy="6480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126440" y="6118920"/>
            <a:ext cx="72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ровительствен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совок , большого тушкан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"/>
          <p:cNvPicPr/>
          <p:nvPr/>
        </p:nvPicPr>
        <p:blipFill>
          <a:blip r:embed="rId3"/>
          <a:stretch/>
        </p:blipFill>
        <p:spPr>
          <a:xfrm>
            <a:off x="4368960" y="2205000"/>
            <a:ext cx="46004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7245360" cy="4103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3724200" cy="278604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1"/>
          <p:cNvSpPr/>
          <p:nvPr/>
        </p:nvSpPr>
        <p:spPr>
          <a:xfrm>
            <a:off x="997560" y="4292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рл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7" descr="http://im6-tub-ru.yandex.net/i?id=31007761-17-72&amp;n=21"/>
          <p:cNvPicPr/>
          <p:nvPr/>
        </p:nvPicPr>
        <p:blipFill>
          <a:blip r:embed="rId4"/>
          <a:stretch/>
        </p:blipFill>
        <p:spPr>
          <a:xfrm>
            <a:off x="4309920" y="3068640"/>
            <a:ext cx="4834080" cy="3502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2"/>
          <p:cNvSpPr/>
          <p:nvPr/>
        </p:nvSpPr>
        <p:spPr>
          <a:xfrm>
            <a:off x="4131720" y="6200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6483600" y="622944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овидная м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2"/>
          <a:stretch/>
        </p:blipFill>
        <p:spPr>
          <a:xfrm>
            <a:off x="1692360" y="100080"/>
            <a:ext cx="4608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СРЕДСТВА ПАССИВНОЙ ЗАЩИТЫ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5381640" cy="4051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3"/>
          <a:stretch/>
        </p:blipFill>
        <p:spPr>
          <a:xfrm>
            <a:off x="5292720" y="394488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БИОЛОГИЧЕСКИЙ ДИКТАНТ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50920" y="1752480"/>
          <a:ext cx="8435880" cy="2133720"/>
        </p:xfrm>
        <a:graphic>
          <a:graphicData uri="http://schemas.openxmlformats.org/drawingml/2006/table">
            <a:tbl>
              <a:tblPr/>
              <a:tblGrid>
                <a:gridCol w="2367000"/>
                <a:gridCol w="2022480"/>
                <a:gridCol w="2023920"/>
                <a:gridCol w="202248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ровитель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венная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аск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имик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грожающая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а/ окраска шерсти белого медвед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б/  окраска жираф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в/ окраска шмел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г/ форма тела палочни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д/ окраска божьей коров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е/ черные и оранжевые пятна гусениц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ж/ белая окраска зайца зимой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з/ внешнее сходство некоторых мух с осам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и/ слияние камбалы с фоном морского дн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9" name="Прямоугольник 2"/>
          <p:cNvSpPr/>
          <p:nvPr/>
        </p:nvSpPr>
        <p:spPr>
          <a:xfrm>
            <a:off x="5003640" y="198900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юлени ныряют на глубину 100-200 и даже 600 м и находятся под водой 40-60 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 позволяет ластоногим нырять на столь длительный ср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"/>
          <p:cNvSpPr/>
          <p:nvPr/>
        </p:nvSpPr>
        <p:spPr>
          <a:xfrm>
            <a:off x="46836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изиологические адап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68360" y="2738520"/>
            <a:ext cx="38019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Целеполагание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формируем понятие приспособленности организмов в среде обитания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учим механизм возникновения приспособленности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кроем относительный характер приспособленности организмов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ЛЯГУШКА-ВОДОНОС, ИЛИ ПУСТЫННАЯ АВСТРАЛИЙСКАЯ ЖАБА 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4" name="Прямоугольник 2"/>
          <p:cNvSpPr/>
          <p:nvPr/>
        </p:nvSpPr>
        <p:spPr>
          <a:xfrm>
            <a:off x="5003640" y="1989000"/>
            <a:ext cx="381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ериод дождей лягушка запасает в больших подкожных "мешках" и полостях тела так много воды, что раздувается и становится похожей на шишковатый теннисный мя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этого она прячется под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я на глубине 30-35 см, жаба выделяет специальную слизь, которая дополнительно защищает животное от потери вла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468360" y="1989000"/>
            <a:ext cx="41511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4643280" y="1628640"/>
            <a:ext cx="41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ение и поведение кошки целесообразны для хищника , предостерегающего добычу в засаде: мягкие подушечки на пальцах и втягивающие когти, тонкий слух и подвижные ушные раковины, способность длительно выжидать жертву и совершать молниеносный прыжок, острые зуб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"/>
          <p:cNvSpPr/>
          <p:nvPr/>
        </p:nvSpPr>
        <p:spPr>
          <a:xfrm>
            <a:off x="468360" y="404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роение живых организмов  очень тонко приспособлено к условиям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2"/>
          <a:stretch/>
        </p:blipFill>
        <p:spPr>
          <a:xfrm>
            <a:off x="289080" y="2349360"/>
            <a:ext cx="432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088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Приспособленность организмов в процессе эволюции возникает в результат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1) географической изоля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2) взаимодействия движущих сил эволю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3) мутационной изменчивост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4) искусственного отбора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07640" y="260280"/>
            <a:ext cx="8785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Относительный характер приспособленности.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ность к среде обитания носит относительный характер, полезна только в тех условиях, в которых она исторически сформировалась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т имеет приспособления к жизни в почве, но на поверхности он беспомощен; медузы приспособлены к жизни в воде, но выброшенные на берег погибают, на яйца аскарид не действуют яды, они не погибают зимой при низких температурах, но солнечные лучи губительны для них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линьки речной рак беспомощен, с ним может справиться даже жук-плавунец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еницы капустной белянки ядовиты, птицы не едят их, но наездники откладывают яйца в гусениц этой бабочки, личинки наездника, которые выводятся из яиц, питаются гусеницами капустной белянк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5.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Муха –осовидка сходна  по окраске и  форме  тела с осой.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Назовите  тип ее </a:t>
            </a:r>
            <a:r>
              <a:rPr b="1" i="1" lang="ru-RU" sz="4400" spc="-1" strike="noStrike">
                <a:solidFill>
                  <a:srgbClr val="564b3c"/>
                </a:solidFill>
                <a:latin typeface="Century Gothic"/>
              </a:rPr>
              <a:t>защищенного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приспособления, объясните его значение и относительный характер  приспособленности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14200" y="285480"/>
            <a:ext cx="8715600" cy="64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т 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Тип приспособленности- мимикрия, подражание окраски  и  формы  тела незащищенного животного защищенному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 Сходство с осой предупреждает возможных хищников об опасности  быть ужаленным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3.Муха  становится  добычей молодых птиц у которых  еще не выработан рефлекс на  опасность общения  с осой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ывод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Любая структура и любая функция  организма является приспособлением к внешней сред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онные изменения-образование новых популяций и видов, возникновение или исчезновение органов, усложнение организации –обусловлены развитием приспособлений  (адаптацией) Приспособленность   в процессе эволюции возникает в результате взаимодействия движущих сил эволюци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</a:t>
            </a: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Актуализация знаний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Естественный отбор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орьба за существование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ид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пуля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менчив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следственн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утации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вторяет домашнее задани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Комментируем   рисун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900000" y="1409760"/>
            <a:ext cx="7417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2"/>
          <p:cNvSpPr/>
          <p:nvPr/>
        </p:nvSpPr>
        <p:spPr>
          <a:xfrm>
            <a:off x="2997360" y="62136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гремок луг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2050920" y="54000"/>
            <a:ext cx="5375520" cy="6629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5040360" cy="3902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4"/>
          <a:stretch/>
        </p:blipFill>
        <p:spPr>
          <a:xfrm>
            <a:off x="3200400" y="3084480"/>
            <a:ext cx="5943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чаем на вопросы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 </a:t>
            </a: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Что является главной движущей силой процесса расхождения по признаку формы клюва у дарвинских вьюрков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В чем заключается причина появления у микроорганизмов, вредителей сельского хозяйства устойчивости к ядохимикатам</a:t>
            </a: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Изучаем новую тему.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Приспособленность –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соответствие внешнего и внутреннего строения , интенсивности физиологических процессов условиям среды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564b3c"/>
                </a:solidFill>
                <a:latin typeface="Century Gothic"/>
              </a:rPr>
              <a:t>Приспособления (адаптации) - результат отбора наследственных изменений, повышающих жизнеспособность организмов к конкретным условиям среды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Century Gothic"/>
              </a:rPr>
              <a:t>Какое значение имеет приспособленность для организмов?</a:t>
            </a:r>
            <a:r>
              <a:rPr b="0" lang="en-US" sz="3700" spc="-1" strike="noStrike">
                <a:solidFill>
                  <a:srgbClr val="564b3c"/>
                </a:solidFill>
                <a:latin typeface="Century Gothic"/>
              </a:rPr>
              <a:t>  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564b3c"/>
                </a:solidFill>
                <a:latin typeface="Century Gothic"/>
              </a:rPr>
              <a:t>(приспособленность к условиям среды повышает шансы организмов на выживание и оставление большого числа потомства)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Показатели приспособленности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к  абиотическому фактору ( холоду) в условиях Оренбургской обла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Живот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Густая шер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Толстый подкожный слой жир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Перелет на юг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Зимняя спячк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5. Запасание корма на зим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Расте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Листопад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Холодостойко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Сохранение вегетативных органов в почве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Наличие видоизменений (луковицы, корневища и др. с запасом питательных вещест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Василий</cp:lastModifiedBy>
  <dcterms:modified xsi:type="dcterms:W3CDTF">2012-10-18T15:06:38Z</dcterms:modified>
  <cp:revision>45</cp:revision>
  <dc:subject/>
  <dc:title>Слайд 1</dc:title>
</cp:coreProperties>
</file>