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BA18-5788-4B77-83CD-8D6F3598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C707-051D-4768-94F4-CEBD02B8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0A95-8BA6-402D-8122-F217FE7F0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F1E1-729C-4236-8040-C4D5E6A4D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1645-4F83-4A15-86C2-6B1F7EF11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C358-E8E5-4D21-B261-B9CFF43D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4BE0-5E83-4833-A3F7-A5A35972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E618-A29B-4E5F-983F-25810130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3D26-9181-41BB-9B5F-E4360C7C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34E6-CEE6-4205-AA4E-E318B232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9E9F-5448-4ECC-97B1-2B2DC625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8E5F-AA78-4E52-AD23-227C0791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FAE7-6373-42B9-9E5F-C6ADAA1B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840B-FBA3-4B2A-8F98-F4C2652F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CE47-AB2C-4336-8AD3-316856CA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A121-8B50-4351-838F-8F60F8ED9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8503-B549-417E-8E85-CBF8ACE03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41666-B218-474F-998A-E2A01D59D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F614E-25E7-46FB-8911-3D266D1B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2C4F2-793E-4A05-9F8B-F4D82316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C2195-F32E-4509-9618-C48D845F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DCDF6-F8E7-4170-BADB-57CF027A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DB71-0D47-42BD-9C6A-526D9702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CAAA4-3910-40B3-B1FD-B2C5DD11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0FB5F-C4AF-439E-87A7-E338912D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79A6A-CBE3-4AA9-89C8-2039FDD8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8F520-607A-4744-B2A3-CE01E8FC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24EBB-7792-4ECE-9B16-4D21E158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97F91-4D69-47FD-A04B-1361A9226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6A3B5-0591-465D-8C7F-0E57DC0C5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9C7BC-9800-4FB8-8CA0-149EB37EB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96885-B574-4C56-A043-88E253A3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D915A-59B1-45B6-822D-8CF5213E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2D74-AEEA-4064-8B14-720BF4A3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F3EB4-BA8E-4CC5-B80B-695701B0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393D9-D16E-45AE-9A74-612F7120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F2CD9-D0AC-4038-A3A4-9588A3EC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2BD9A-F0FC-4492-8DFA-EDA4F4B6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83B69-C907-4BF8-97A9-F3A35879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308A5-0496-4292-BC0B-41677D87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5999F-87F2-4AFC-97CA-78B602FB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6D3E6-5246-4EEB-9B52-7D775458D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ABF71-29D0-482F-8457-B6DCE10AA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1DD1E-C11B-418F-A51A-D0C708C43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7269-8F38-4C7C-8A17-A0EC484C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CB766-3B14-4C1D-92B2-F8DDF6B4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9516E-46CB-4ABE-B8F6-5EF8A419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12950-188A-4A87-9625-4C3C5F53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636B5-586C-4683-8C17-77ECF11B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37D66-B95B-487E-9B40-DB1841E6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A8BBC-7B4B-4B59-A715-68387253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9D33A-9F56-4CEA-90AB-F69572C0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B7279-7C5A-4A74-A6B6-E7606DE6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D05F8-E04E-4FD2-A332-AFC84FB5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133EF-44C9-45A5-949F-6A969B134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C641-9E5B-4F08-B8E1-6C335F56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72CF0-DADD-4961-AFEF-DC129073B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1C89A5-4292-450B-98F5-F3E9980CD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00B9CB-DB6F-4F8E-8F3C-BCBD983A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3DC965-C2E1-4DD2-B631-071084CA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B1B1D8-06F0-4A2F-9911-22BADD73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837DEA-17C5-4A68-BB37-E14578A7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177A95-BF85-4145-8B01-7E0D335C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48810C-E048-4FDB-8A6B-7C428229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5D2FA9-7C2C-4E86-BECC-5DDF97F8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60A074-2A58-4647-91E1-F87717F0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D0C1-4293-4209-9382-BA398808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B1982B-CB32-48EF-8E69-2D26FA2A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6CF622-0F94-481F-8988-1335B46C7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E617D2-AC00-4E20-81A4-5238D00F7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778C2-9467-4F6D-89E1-EFF90C2A1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544D8-1A71-450B-9FFC-E14522FA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D6AF3-AAA0-4F12-8D65-D37DBD16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7A7DD-D812-4E0E-BCC0-B709A59B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AE676-ADCD-449D-8392-1A223592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E144E-9A7F-4DD6-B0F1-FA6BDC01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183BA-FE5F-4610-9D7B-60FC5E14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847E-4CF3-45ED-AF73-76909E9A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CC71B-DA7B-44FB-AF95-64D980EB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A8968-C809-434F-BD47-87AA784A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31988-2055-485C-8A10-4F237A99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3BA6A-AF14-4F8D-A441-FE7C11BB3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84242-E826-47C0-B7C6-B53984304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D30E8-21F3-4A35-833B-4192FC432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B694F-8EDD-453E-AA73-C974876B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64929-44C2-4173-AB1B-19537CDE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90973-518B-4222-A4D6-73E3934E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8494A-2317-4323-9661-AE1D9DEC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2414-BB23-4C0B-86E2-FA130AD1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0D84F-39DD-408F-961D-157B0CBC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9A11D-9653-4880-8A42-E3690FAE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42047-6456-46C5-875C-99768F10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8824A-05A1-4218-BA7A-AFAEB2A1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B49C6-487C-4C6A-A01D-BC5A0A5E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44650-D915-4BA7-9979-4E8B908F0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BC51C-931B-44D4-AF47-65FCA191E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A877-5994-43A9-B7AD-68A95DD78253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47534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2363-4F34-46A6-B388-809E0313894A}" type="slidenum">
              <a:rPr b="0" lang="en-US" sz="2800" spc="-1" strike="noStrike">
                <a:solidFill>
                  <a:srgbClr val="47534c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B382-8EF7-4FB6-8319-FC93FDD5B886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9CF9-0236-4FDF-B5DB-2BD9701F99A9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04F0-A011-41EE-8210-8BE659690256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BE6E-BA46-470E-B5BB-78AB9148C2CA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931D-6CB4-4FC1-BDD5-C23A1702ABAA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334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DA46-401F-4CEC-9F80-622FC5FAC2A6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6836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Тема урок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entury Gothic"/>
              </a:rPr>
              <a:t>Приспособленность организмов к условиям внешней среды как результат действия естественного отбора</a:t>
            </a:r>
            <a:r>
              <a:rPr b="1" i="1" lang="ru-RU" sz="36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 Мишнина  Лидия Александровна,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биологии СОШ №3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булакского района Оренбургской области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7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42600" y="46483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7534c"/>
              </a:solidFill>
              <a:latin typeface="Book Antiqua"/>
            </a:endParaRPr>
          </a:p>
        </p:txBody>
      </p:sp>
      <p:sp>
        <p:nvSpPr>
          <p:cNvPr id="394" name="Прямоугольник 1"/>
          <p:cNvSpPr/>
          <p:nvPr/>
        </p:nvSpPr>
        <p:spPr>
          <a:xfrm>
            <a:off x="168120" y="47628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пособительные особенности строения, окраски те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В3.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Приспособления к жизни в воде, сформировавшиеся в</a:t>
            </a:r>
            <a:br>
              <a:rPr sz="2400"/>
            </a:b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процессе эволюции у дельфинов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1.превращение передних конечностей в ласты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2.дыхание кислородом, растворенным в воде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3.дыхание кислородом воздух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4.обтекаемая форма тел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5.толстый подкожный слой жир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6.постоянная температура тел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ПАЛОЧНИК ПОХОЖ НА ВЕТОЧКУ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97" name="Picture 2" descr="C:\Users\Лидия\Desktop\Рисунок1.png"/>
          <p:cNvPicPr/>
          <p:nvPr/>
        </p:nvPicPr>
        <p:blipFill>
          <a:blip r:embed="rId2"/>
          <a:stretch/>
        </p:blipFill>
        <p:spPr>
          <a:xfrm>
            <a:off x="177840" y="1700280"/>
            <a:ext cx="8794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6" descr="C:\Users\Администратор\Desktop\кора.jpg"/>
          <p:cNvPicPr/>
          <p:nvPr/>
        </p:nvPicPr>
        <p:blipFill>
          <a:blip r:embed="rId2"/>
          <a:stretch/>
        </p:blipFill>
        <p:spPr>
          <a:xfrm>
            <a:off x="179280" y="189000"/>
            <a:ext cx="5267520" cy="64800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1126440" y="6118920"/>
            <a:ext cx="72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кровительственн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рас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 совок , большого тушканч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5" descr=""/>
          <p:cNvPicPr/>
          <p:nvPr/>
        </p:nvPicPr>
        <p:blipFill>
          <a:blip r:embed="rId3"/>
          <a:stretch/>
        </p:blipFill>
        <p:spPr>
          <a:xfrm>
            <a:off x="4368960" y="2205000"/>
            <a:ext cx="460044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7245360" cy="4103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"/>
          <p:cNvPicPr/>
          <p:nvPr/>
        </p:nvPicPr>
        <p:blipFill>
          <a:blip r:embed="rId3"/>
          <a:stretch/>
        </p:blipFill>
        <p:spPr>
          <a:xfrm>
            <a:off x="395280" y="907920"/>
            <a:ext cx="3724200" cy="2786040"/>
          </a:xfrm>
          <a:prstGeom prst="rect">
            <a:avLst/>
          </a:prstGeom>
          <a:ln w="0">
            <a:noFill/>
          </a:ln>
        </p:spPr>
      </p:pic>
      <p:sp>
        <p:nvSpPr>
          <p:cNvPr id="405" name="Прямоугольник 1"/>
          <p:cNvSpPr/>
          <p:nvPr/>
        </p:nvSpPr>
        <p:spPr>
          <a:xfrm>
            <a:off x="997560" y="429264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рля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7" descr="http://im6-tub-ru.yandex.net/i?id=31007761-17-72&amp;n=21"/>
          <p:cNvPicPr/>
          <p:nvPr/>
        </p:nvPicPr>
        <p:blipFill>
          <a:blip r:embed="rId4"/>
          <a:stretch/>
        </p:blipFill>
        <p:spPr>
          <a:xfrm>
            <a:off x="4309920" y="3068640"/>
            <a:ext cx="4834080" cy="350208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2"/>
          <p:cNvSpPr/>
          <p:nvPr/>
        </p:nvSpPr>
        <p:spPr>
          <a:xfrm>
            <a:off x="4131720" y="620064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жья кор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9" name="Прямоугольник 4"/>
          <p:cNvSpPr/>
          <p:nvPr/>
        </p:nvSpPr>
        <p:spPr>
          <a:xfrm>
            <a:off x="6483600" y="6229440"/>
            <a:ext cx="26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совидная м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2"/>
          <a:stretch/>
        </p:blipFill>
        <p:spPr>
          <a:xfrm>
            <a:off x="1692360" y="100080"/>
            <a:ext cx="460836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СРЕДСТВА ПАССИВНОЙ ЗАЩИТЫ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12" name="Picture 5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5381640" cy="40514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"/>
          <p:cNvPicPr/>
          <p:nvPr/>
        </p:nvPicPr>
        <p:blipFill>
          <a:blip r:embed="rId3"/>
          <a:stretch/>
        </p:blipFill>
        <p:spPr>
          <a:xfrm>
            <a:off x="5292720" y="3944880"/>
            <a:ext cx="367200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БИОЛОГИЧЕСКИЙ ДИКТАНТ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250920" y="1752480"/>
          <a:ext cx="8435880" cy="2133720"/>
        </p:xfrm>
        <a:graphic>
          <a:graphicData uri="http://schemas.openxmlformats.org/drawingml/2006/table">
            <a:tbl>
              <a:tblPr/>
              <a:tblGrid>
                <a:gridCol w="2367000"/>
                <a:gridCol w="2022480"/>
                <a:gridCol w="2023920"/>
                <a:gridCol w="2022480"/>
              </a:tblGrid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ровитель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твенная 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крас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аскиров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имик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Угрожающая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крас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21384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а/ окраска шерсти белого медведя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б/  окраска жираф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в/ окраска шмеля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г/ форма тела палочник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д/ окраска божьей коровк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е/ черные и оранжевые пятна гусениц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ж/ белая окраска зайца зимой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з/ внешнее сходство некоторых мух с осам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и/ слияние камбалы с фоном морского дн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1760" y="40464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895640" y="218880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19" name="Прямоугольник 2"/>
          <p:cNvSpPr/>
          <p:nvPr/>
        </p:nvSpPr>
        <p:spPr>
          <a:xfrm>
            <a:off x="5003640" y="1989000"/>
            <a:ext cx="381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юлени ныряют на глубину 100-200 и даже 600 м и находятся под водой 40-60 м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Что позволяет ластоногим нырять на столь длительный срок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1"/>
          <p:cNvSpPr/>
          <p:nvPr/>
        </p:nvSpPr>
        <p:spPr>
          <a:xfrm>
            <a:off x="468360" y="40464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Физиологические адап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468360" y="2738520"/>
            <a:ext cx="380196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Целеполагание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формируем понятие приспособленности организмов в среде обитания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зучим механизм возникновения приспособленности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Раскроем относительный характер приспособленности организмов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61760" y="40464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ЛЯГУШКА-ВОДОНОС, ИЛИ ПУСТЫННАЯ АВСТРАЛИЙСКАЯ ЖАБА  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4" name="Прямоугольник 2"/>
          <p:cNvSpPr/>
          <p:nvPr/>
        </p:nvSpPr>
        <p:spPr>
          <a:xfrm>
            <a:off x="5003640" y="1989000"/>
            <a:ext cx="3816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период дождей лягушка запасает в больших подкожных "мешках" и полостях тела так много воды, что раздувается и становится похожей на шишковатый теннисный мя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ле этого она прячется под зем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дя на глубине 30-35 см, жаба выделяет специальную слизь, которая дополнительно защищает животное от потери влаг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" descr="C:\Users\Лидия\Desktop\Рисунок1.png"/>
          <p:cNvPicPr/>
          <p:nvPr/>
        </p:nvPicPr>
        <p:blipFill>
          <a:blip r:embed="rId2"/>
          <a:stretch/>
        </p:blipFill>
        <p:spPr>
          <a:xfrm>
            <a:off x="468360" y="1989000"/>
            <a:ext cx="415116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5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61760" y="40464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895640" y="218880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8" name="Прямоугольник 2"/>
          <p:cNvSpPr/>
          <p:nvPr/>
        </p:nvSpPr>
        <p:spPr>
          <a:xfrm>
            <a:off x="4643280" y="1628640"/>
            <a:ext cx="4176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оение и поведение кошки целесообразны для хищника , предостерегающего добычу в засаде: мягкие подушечки на пальцах и втягивающие когти, тонкий слух и подвижные ушные раковины, способность длительно выжидать жертву и совершать молниеносный прыжок, острые зубы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1"/>
          <p:cNvSpPr/>
          <p:nvPr/>
        </p:nvSpPr>
        <p:spPr>
          <a:xfrm>
            <a:off x="468360" y="40464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троение живых организмов  очень тонко приспособлено к условиям сущес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7" descr=""/>
          <p:cNvPicPr/>
          <p:nvPr/>
        </p:nvPicPr>
        <p:blipFill>
          <a:blip r:embed="rId2"/>
          <a:stretch/>
        </p:blipFill>
        <p:spPr>
          <a:xfrm>
            <a:off x="289080" y="2349360"/>
            <a:ext cx="4321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38088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Приспособленность организмов в процессе эволюции возникает в результате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1) географической изоляции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2) взаимодействия движущих сил эволюции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3) мутационной изменчивости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4) искусственного отбора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107640" y="260280"/>
            <a:ext cx="8785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entury Gothic"/>
              </a:rPr>
              <a:t>Относительный характер приспособленности. 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Приспособленность к среде обитания носит относительный характер, полезна только в тех условиях, в которых она исторически сформировалась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т имеет приспособления к жизни в почве, но на поверхности он беспомощен; медузы приспособлены к жизни в воде, но выброшенные на берег погибают, на яйца аскарид не действуют яды, они не погибают зимой при низких температурах, но солнечные лучи губительны для них;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линьки речной рак беспомощен, с ним может справиться даже жук-плавунец;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сеницы капустной белянки ядовиты, птицы не едят их, но наездники откладывают яйца в гусениц этой бабочки, личинки наездника, которые выводятся из яиц, питаются гусеницами капустной белянк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" dur="5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213840" y="213840"/>
            <a:ext cx="86439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19240">
              <a:lnSpc>
                <a:spcPct val="90000"/>
              </a:lnSpc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5. </a:t>
            </a: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Муха –осовидка сходна  по окраске и  форме  тела с осой.</a:t>
            </a:r>
            <a:endParaRPr b="0" lang="en-US" sz="4800" spc="-1" strike="noStrike">
              <a:solidFill>
                <a:srgbClr val="564b3c"/>
              </a:solidFill>
              <a:latin typeface="Century Gothic"/>
            </a:endParaRPr>
          </a:p>
          <a:p>
            <a:pPr marL="329040" indent="-219240">
              <a:lnSpc>
                <a:spcPct val="90000"/>
              </a:lnSpc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Назовите  тип ее </a:t>
            </a:r>
            <a:r>
              <a:rPr b="1" i="1" lang="ru-RU" sz="4400" spc="-1" strike="noStrike">
                <a:solidFill>
                  <a:srgbClr val="564b3c"/>
                </a:solidFill>
                <a:latin typeface="Century Gothic"/>
              </a:rPr>
              <a:t>защищенного </a:t>
            </a: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приспособления, объясните его значение и относительный характер  приспособленности</a:t>
            </a:r>
            <a:endParaRPr b="0" lang="en-US" sz="4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214200" y="285480"/>
            <a:ext cx="8715600" cy="64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твет 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.Тип приспособленности- мимикрия, подражание окраски  и  формы  тела незащищенного животного защищенному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2. Сходство с осой предупреждает возможных хищников об опасности  быть ужаленным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3.Муха  становится  добычей молодых птиц у которых  еще не выработан рефлекс на  опасность общения  с осой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ывод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Любая структура и любая функция  организма является приспособлением к внешней среде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Эволюционные изменения-образование новых популяций и видов, возникновение или исчезновение органов, усложнение организации –обусловлены развитием приспособлений  (адаптацией) Приспособленность   в процессе эволюции возникает в результате взаимодействия движущих сил эволюци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7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</a:t>
            </a: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. Актуализация знаний.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Эволюция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Естественный отбор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Борьба за существование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ид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пуляция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зменчивость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Наследственность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Мутации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I</a:t>
            </a: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. </a:t>
            </a:r>
            <a:r>
              <a:rPr b="1" i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вторяет домашнее задание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.Комментируем   рисунк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2"/>
          <a:stretch/>
        </p:blipFill>
        <p:spPr>
          <a:xfrm>
            <a:off x="900000" y="1409760"/>
            <a:ext cx="741708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Прямоугольник 2"/>
          <p:cNvSpPr/>
          <p:nvPr/>
        </p:nvSpPr>
        <p:spPr>
          <a:xfrm>
            <a:off x="2997360" y="621360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гремок луг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6" descr="C:\Users\Лидия\Desktop\Рисунок1.png"/>
          <p:cNvPicPr/>
          <p:nvPr/>
        </p:nvPicPr>
        <p:blipFill>
          <a:blip r:embed="rId2"/>
          <a:stretch/>
        </p:blipFill>
        <p:spPr>
          <a:xfrm>
            <a:off x="2050920" y="54000"/>
            <a:ext cx="5375520" cy="66294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5040360" cy="39020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"/>
          <p:cNvPicPr/>
          <p:nvPr/>
        </p:nvPicPr>
        <p:blipFill>
          <a:blip r:embed="rId4"/>
          <a:stretch/>
        </p:blipFill>
        <p:spPr>
          <a:xfrm>
            <a:off x="3200400" y="3084480"/>
            <a:ext cx="59436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твечаем на вопросы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. </a:t>
            </a:r>
            <a:r>
              <a:rPr b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Что является главной движущей силой процесса расхождения по признаку формы клюва у дарвинских вьюрков?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2.В чем заключается причина появления у микроорганизмов, вредителей сельского хозяйства устойчивости к ядохимикатам</a:t>
            </a: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3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. Изучаем новую тему.</a:t>
            </a: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564b3c"/>
                </a:solidFill>
                <a:latin typeface="Century Gothic"/>
              </a:rPr>
              <a:t>Приспособленность –</a:t>
            </a: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564b3c"/>
                </a:solidFill>
                <a:latin typeface="Century Gothic"/>
              </a:rPr>
              <a:t>соответствие внешнего и внутреннего строения , интенсивности физиологических процессов условиям среды</a:t>
            </a: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564b3c"/>
                </a:solidFill>
                <a:latin typeface="Century Gothic"/>
              </a:rPr>
              <a:t>Приспособления (адаптации) - результат отбора наследственных изменений, повышающих жизнеспособность организмов к конкретным условиям среды.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564b3c"/>
                </a:solidFill>
                <a:latin typeface="Century Gothic"/>
              </a:rPr>
              <a:t>Какое значение имеет приспособленность для организмов?</a:t>
            </a:r>
            <a:r>
              <a:rPr b="0" lang="en-US" sz="3700" spc="-1" strike="noStrike">
                <a:solidFill>
                  <a:srgbClr val="564b3c"/>
                </a:solidFill>
                <a:latin typeface="Century Gothic"/>
              </a:rPr>
              <a:t>  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564b3c"/>
                </a:solidFill>
                <a:latin typeface="Century Gothic"/>
              </a:rPr>
              <a:t>(приспособленность к условиям среды повышает шансы организмов на выживание и оставление большого числа потомства).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285840"/>
            <a:ext cx="8229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Показатели приспособленности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к  абиотическому фактору ( холоду) в условиях Оренбургской област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Животные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1. Густая шерсть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2. Толстый подкожный слой жира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3. Перелет на юг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4. Зимняя спячка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5. Запасание корма на зиму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Растения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1. Листопад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2. Холодостойкость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3. Сохранение вегетативных органов в почве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4. Наличие видоизменений (луковицы, корневища и др. с запасом питательных веществ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Василий</cp:lastModifiedBy>
  <dcterms:modified xsi:type="dcterms:W3CDTF">2012-10-18T15:06:38Z</dcterms:modified>
  <cp:revision>45</cp:revision>
  <dc:subject/>
  <dc:title>Слайд 1</dc:title>
</cp:coreProperties>
</file>