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DFA-2906-4854-BD82-DE85D940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367-4247-44E2-B391-BB9FA7AB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223-8CA1-42FB-8C0C-F88A890C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1B4-DBB7-45A2-BA04-45C41A54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BC0D-D0EF-49BB-B896-5FE7DD27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84C9-5C8E-405C-BDC3-6A1B36FC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09AF-3D0D-4152-89C2-DE8A4FF4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1EBD9-551E-4CA7-86ED-C108EA0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49ED-015A-458E-892C-509BEFF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446A-B034-41CB-9745-5CB3D19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E6A9-856A-407B-AF3B-15D7C2F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E8F4-6EBF-4D88-AED6-634BD9E4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CAD3-4251-4195-82BF-714F7975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627B-F3F1-4CBC-A1AC-B5B40AE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A997-6EFA-47CD-93A0-4703D702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719E-55FA-4D78-A02B-EAE069B62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955E-CE73-4F33-9CED-B45E9DB6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FDD60-682A-407E-9BD9-E5C98000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A55E-7FAD-4605-B43E-1569379C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0540-C960-4A09-9EB3-4A59B71A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3F94D-706E-4DDE-A5E5-744EA3B2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EDE4-3536-4C58-9D47-AD0C3FEE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6D6-9848-4D6C-A4C7-83B64FB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BFC1-A39F-4673-86FF-72839B0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66F2C-E67A-489F-A988-B5ACC046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42F37-4B0F-43A6-90D8-91941D36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24D9E-C2A4-454A-9E46-321609DB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9E3DA-FB8E-4B8E-A258-2158FEDB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D4745-5469-40C4-8A9D-8845DCE2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2D1E3-9D39-473E-B01D-2404F17F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98CB4-B682-4066-B721-447481AF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167AA-DA44-4172-8178-4C097381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36C20-C928-4E1D-A78E-8287A332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C6A-98C3-4A95-A299-77FC1360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1D3E4-D0D7-4291-98DE-D76BC581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A8791-FF54-477E-9EE6-AA6D71EA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9A32A-5317-4D8C-B075-1D110785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49910-F49A-4F87-AD3F-DA4FC19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8AE4-5D92-439B-B923-CC8A8581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6E458-6664-4439-A50A-0846B2DD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C0A19-E9D9-4E12-A747-35D1C8D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659DA-B2FA-43EB-A3BD-8B1F252E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688B8-360D-4460-996F-DE1D789E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4DCB2-B321-4A64-ADA5-E760AC95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6CA9-8050-427F-8DDA-673D5862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F6A65-F5F9-4A03-BA2F-94FE5718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FE883-8487-43DE-9F51-7B3AB659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475A-A753-45CF-8578-0F260B6B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73238-0D4E-4AEC-BD25-054A13BC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B49A1-E7A5-4087-A434-973075E1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AB88E-5D7A-4CE9-94B2-443570A8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56F70-22E7-4735-B123-34E53DE3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71715-767A-42A0-B465-43B43B7A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D8C0-6A3E-4CD4-9709-EF827494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068D-B856-4171-A239-8C3316ED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6758-CADC-42AC-B57E-25E7CB4C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2530D-148F-4517-B591-67F18492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71703-5D54-4DA3-8390-41D2D6887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7E448-F7A2-4CB4-B475-73A292C7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260FC1-022E-4A5D-867B-A8D1B19E5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CFF4D-62FA-40BC-8029-947624AD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08F787-F2AD-479C-980A-D9A8F0EE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95672-143C-48E9-8CC5-CB23026C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C005C9-E8FD-48E5-B587-975EE39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FAFB8C-26E9-4C79-8506-F384293E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E8F72-CAF7-4137-855E-D56B9724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FBA-3224-49DC-A87F-AE3E6FB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B8B0B6-B70D-4B78-8AA4-20259FE4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81D8C-DA81-47E6-A688-F9F048F3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BEDD60-CDB4-447A-9D72-E7B96786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F9FCB-FE83-4F4F-98EA-E4B6CC6E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1413-FF19-4FE8-9ACF-EE6D73AE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DC91F-0DB5-4B13-83CF-27FA4EE4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C4B90-DE86-4E0C-90AA-CE09CCCD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7A70-0549-44DA-A476-C7BE4B2D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14EA-212D-4B13-87BD-7F05F85E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D8609-349B-4663-8C18-04359F9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6FE7-804F-46BF-A953-9909B461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45007-1CFC-46C8-88B6-9B39B6AF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1AD9-8A16-44EC-BDCA-648B40D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6A34E-E43E-4A5D-B311-EA1B377D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89AA1-A371-4ACB-ABAC-85FC302F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E843-0947-4208-B052-168A9C24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B3ECD-B1F9-472E-A72F-4A5124E6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F076D-221C-40E0-B20B-F5E3253F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F97DD-EC63-4E8C-B1E6-8DBB40E7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BD75D-14DE-4E06-BB59-6A2014F2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D11A-04D6-4159-B348-81572340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70D-346F-42CC-8B8A-007194D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9F15F-0429-4500-80D4-CEEEF78D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C12AA-5D08-4B12-96BF-6DC1926C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602E7-61FB-4058-A6FA-6F65AA9D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49D93-847E-4E4F-8838-2A18240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68043-6446-4A5B-B557-F5AD892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65AD0-30A8-4C41-97BC-5E6635D7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41D82-B14D-46B2-9C79-12E7F30E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0669-0905-4DE1-AC53-C0B0F291BF2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47534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4670-101D-4F98-B201-832327F02F3C}" type="slidenum">
              <a:rPr b="0" lang="en-US" sz="2800" spc="-1" strike="noStrike">
                <a:solidFill>
                  <a:srgbClr val="47534c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41F3-B37C-4B5B-8897-DFC38492F520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298E-9EF1-43E3-A7AA-587674A69975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8B7-9CDD-4E4E-8E5D-A0E894B17F11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69A8-2880-4BBC-8208-6E3BDF505BDB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64b3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304F-43F0-43AA-8C8A-51596745F55A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64b3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50F8-32B4-4C52-9D84-7D11001577CE}" type="slidenum">
              <a:rPr b="0" lang="en-US" sz="1200" spc="-1" strike="noStrike">
                <a:solidFill>
                  <a:srgbClr val="564b3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36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Century Gothic"/>
              </a:rPr>
              <a:t>Тема уро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Century Gothic"/>
              </a:rPr>
              <a:t>Приспособленность организмов к условиям внешней среды как результат действия естественного отбора</a:t>
            </a:r>
            <a:r>
              <a:rPr b="1" i="1" lang="ru-RU" sz="36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Мишнина  Лидия Александровна,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СОШ №3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булакского района Оренбургской области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7534c"/>
              </a:solidFill>
              <a:latin typeface="Book Antiqua"/>
            </a:endParaRPr>
          </a:p>
        </p:txBody>
      </p:sp>
      <p:sp>
        <p:nvSpPr>
          <p:cNvPr id="394" name="Прямоугольник 1"/>
          <p:cNvSpPr/>
          <p:nvPr/>
        </p:nvSpPr>
        <p:spPr>
          <a:xfrm>
            <a:off x="168120" y="476280"/>
            <a:ext cx="864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пособительные особенности строения, окраски т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В3.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ия к жизни в воде, сформировавшиеся в</a:t>
            </a:r>
            <a:br>
              <a:rPr sz="2400"/>
            </a:b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оцессе эволюции у дельфинов: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1.превращение передних конечностей в ласты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2.дыхание кислородом, растворенным в воде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3.дыхание кислородом воздух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4.обтекаемая форм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5.толстый подкожный слой жир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6.постоянная температура тел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ПАЛОЧНИК ПОХОЖ НА ВЕТОЧКУ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97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177840" y="1700280"/>
            <a:ext cx="8794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6" descr="C:\Users\Администратор\Desktop\кора.jpg"/>
          <p:cNvPicPr/>
          <p:nvPr/>
        </p:nvPicPr>
        <p:blipFill>
          <a:blip r:embed="rId2"/>
          <a:stretch/>
        </p:blipFill>
        <p:spPr>
          <a:xfrm>
            <a:off x="179280" y="189000"/>
            <a:ext cx="5267520" cy="6480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26440" y="6118920"/>
            <a:ext cx="72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кровительственна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ас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совок , большого тушкан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"/>
          <p:cNvPicPr/>
          <p:nvPr/>
        </p:nvPicPr>
        <p:blipFill>
          <a:blip r:embed="rId3"/>
          <a:stretch/>
        </p:blipFill>
        <p:spPr>
          <a:xfrm>
            <a:off x="4368960" y="2205000"/>
            <a:ext cx="460044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7245360" cy="4103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24200" cy="2786040"/>
          </a:xfrm>
          <a:prstGeom prst="rect">
            <a:avLst/>
          </a:prstGeom>
          <a:ln w="0">
            <a:noFill/>
          </a:ln>
        </p:spPr>
      </p:pic>
      <p:sp>
        <p:nvSpPr>
          <p:cNvPr id="405" name="Прямоугольник 1"/>
          <p:cNvSpPr/>
          <p:nvPr/>
        </p:nvSpPr>
        <p:spPr>
          <a:xfrm>
            <a:off x="997560" y="4292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ерл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7" descr="http://im6-tub-ru.yandex.net/i?id=31007761-17-72&amp;n=21"/>
          <p:cNvPicPr/>
          <p:nvPr/>
        </p:nvPicPr>
        <p:blipFill>
          <a:blip r:embed="rId4"/>
          <a:stretch/>
        </p:blipFill>
        <p:spPr>
          <a:xfrm>
            <a:off x="4309920" y="3068640"/>
            <a:ext cx="4834080" cy="3502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131720" y="620064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жья кор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83600" y="622944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овидная м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2"/>
          <a:stretch/>
        </p:blipFill>
        <p:spPr>
          <a:xfrm>
            <a:off x="1692360" y="100080"/>
            <a:ext cx="4608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СРЕДСТВА ПАССИВНОЙ ЗАЩИТЫ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12" name="Picture 5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5381640" cy="40514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"/>
          <p:cNvPicPr/>
          <p:nvPr/>
        </p:nvPicPr>
        <p:blipFill>
          <a:blip r:embed="rId3"/>
          <a:stretch/>
        </p:blipFill>
        <p:spPr>
          <a:xfrm>
            <a:off x="5292720" y="3944880"/>
            <a:ext cx="367200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БИОЛОГИЧЕСКИЙ ДИКТАНТ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br>
              <a:rPr sz="3200"/>
            </a:br>
            <a:r>
              <a:rPr b="0" lang="en-US" sz="3200" spc="-1" strike="noStrike">
                <a:solidFill>
                  <a:srgbClr val="6b7d72"/>
                </a:solidFill>
                <a:latin typeface="Book Antiqua"/>
              </a:rPr>
              <a:t> 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250920" y="1752480"/>
          <a:ext cx="8435880" cy="2133720"/>
        </p:xfrm>
        <a:graphic>
          <a:graphicData uri="http://schemas.openxmlformats.org/drawingml/2006/table">
            <a:tbl>
              <a:tblPr/>
              <a:tblGrid>
                <a:gridCol w="2367000"/>
                <a:gridCol w="2022480"/>
                <a:gridCol w="2023920"/>
                <a:gridCol w="202248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окровитель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твенная 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аск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Мимик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Угрожающая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крас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а/ окраска шерсти белого медвед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б/  окраска жираф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в/ окраска шмеля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г/ форма тела палочник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д/ окраска божьей коров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е/ черные и оранжевые пятна гусениц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ж/ белая окраска зайца зимой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з/ внешнее сходство некоторых мух с осам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564b3c"/>
                </a:solidFill>
                <a:latin typeface="Century Gothic"/>
              </a:rPr>
              <a:t>и/ слияние камбалы с фоном морского дна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Прямоугольник 2"/>
          <p:cNvSpPr/>
          <p:nvPr/>
        </p:nvSpPr>
        <p:spPr>
          <a:xfrm>
            <a:off x="5003640" y="198900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юлени ныряют на глубину 100-200 и даже 600 м и находятся под водой 40-60 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Что позволяет ластоногим нырять на столь длительный ср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1"/>
          <p:cNvSpPr/>
          <p:nvPr/>
        </p:nvSpPr>
        <p:spPr>
          <a:xfrm>
            <a:off x="468360" y="404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изиологические адап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2"/>
          <a:stretch/>
        </p:blipFill>
        <p:spPr>
          <a:xfrm>
            <a:off x="468360" y="2738520"/>
            <a:ext cx="380196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Целеполагание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Сформируем понятие приспособленности организмов в среде обитания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учим механизм возникновения приспособленности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Раскроем относительный характер приспособленности организмов.</a:t>
            </a: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ЛЯГУШКА-ВОДОНОС, ИЛИ ПУСТЫННАЯ АВСТРАЛИЙСКАЯ ЖАБА  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4" name="Прямоугольник 2"/>
          <p:cNvSpPr/>
          <p:nvPr/>
        </p:nvSpPr>
        <p:spPr>
          <a:xfrm>
            <a:off x="5003640" y="1989000"/>
            <a:ext cx="381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период дождей лягушка запасает в больших подкожных "мешках" и полостях тела так много воды, что раздувается и становится похожей на шишковатый теннисный мя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е этого она прячется под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дя на глубине 30-35 см, жаба выделяет специальную слизь, которая дополнительно защищает животное от потери влаг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468360" y="1989000"/>
            <a:ext cx="415116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1760" y="404640"/>
            <a:ext cx="79246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 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895640" y="21888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8" name="Прямоугольник 2"/>
          <p:cNvSpPr/>
          <p:nvPr/>
        </p:nvSpPr>
        <p:spPr>
          <a:xfrm>
            <a:off x="4643280" y="1628640"/>
            <a:ext cx="4176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оение и поведение кошки целесообразны для хищника , предостерегающего добычу в засаде: мягкие подушечки на пальцах и втягивающие когти, тонкий слух и подвижные ушные раковины, способность длительно выжидать жертву и совершать молниеносный прыжок, острые зубы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1"/>
          <p:cNvSpPr/>
          <p:nvPr/>
        </p:nvSpPr>
        <p:spPr>
          <a:xfrm>
            <a:off x="468360" y="404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оение живых организмов  очень тонко приспособлено к условиям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2"/>
          <a:stretch/>
        </p:blipFill>
        <p:spPr>
          <a:xfrm>
            <a:off x="289080" y="2349360"/>
            <a:ext cx="432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08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Приспособленность организмов в процессе эволюции возникает в результате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1) географической изоля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2) взаимодействия движущих сил эволюци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3) мутационной изменчивости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Century Gothic"/>
              </a:rPr>
              <a:t>4) искусственного отбора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107640" y="260280"/>
            <a:ext cx="8785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entury Gothic"/>
              </a:rPr>
              <a:t>Относительный характер приспособленности. </a:t>
            </a:r>
            <a:r>
              <a:rPr b="1" i="1" lang="en-US" sz="2400" spc="-1" strike="noStrike">
                <a:solidFill>
                  <a:srgbClr val="564b3c"/>
                </a:solidFill>
                <a:latin typeface="Century Gothic"/>
              </a:rPr>
              <a:t>Приспособленность к среде обитания носит относительный характер, полезна только в тех условиях, в которых она исторически сформировалась.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т имеет приспособления к жизни в почве, но на поверхности он беспомощен; медузы приспособлены к жизни в воде, но выброшенные на берег погибают, на яйца аскарид не действуют яды, они не погибают зимой при низких температурах, но солнечные лучи губительны для них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линьки речной рак беспомощен, с ним может справиться даже жук-плавунец;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еницы капустной белянки ядовиты, птицы не едят их, но наездники откладывают яйца в гусениц этой бабочки, личинки наездника, которые выводятся из яиц, питаются гусеницами капустной белянк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213840" y="213840"/>
            <a:ext cx="86439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С5.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Муха –осовидка сходна  по окраске и  форме  тела с осой.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  <a:p>
            <a:pPr marL="329040" indent="-219240">
              <a:lnSpc>
                <a:spcPct val="90000"/>
              </a:lnSpc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Назовите  тип ее </a:t>
            </a:r>
            <a:r>
              <a:rPr b="1" i="1" lang="ru-RU" sz="4400" spc="-1" strike="noStrike">
                <a:solidFill>
                  <a:srgbClr val="564b3c"/>
                </a:solidFill>
                <a:latin typeface="Century Gothic"/>
              </a:rPr>
              <a:t>защищенного </a:t>
            </a:r>
            <a:r>
              <a:rPr b="1" i="1" lang="ru-RU" sz="4800" spc="-1" strike="noStrike">
                <a:solidFill>
                  <a:srgbClr val="564b3c"/>
                </a:solidFill>
                <a:latin typeface="Century Gothic"/>
              </a:rPr>
              <a:t>приспособления, объясните его значение и относительный характер  приспособленности</a:t>
            </a:r>
            <a:endParaRPr b="0" lang="en-US" sz="4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14200" y="285480"/>
            <a:ext cx="8715600" cy="64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т 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Тип приспособленности- мимикрия, подражание окраски  и  формы  тела незащищенного животного защищенному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 Сходство с осой предупреждает возможных хищников об опасности  быть ужаленным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9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3.Муха  становится  добычей молодых птиц у которых  еще не выработан рефлекс на  опасность общения  с осой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ывод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Любая структура и любая функция  организма является приспособлением к внешней сред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онные изменения-образование новых популяций и видов, возникновение или исчезновение органов, усложнение организации –обусловлены развитием приспособлений  (адаптацией) Приспособленность   в процессе эволюции возникает в результате взаимодействия движущих сил эволюци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</a:t>
            </a: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Актуализация знаний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Эволю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Естественный отбор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Борьба за существование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Вид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пуляция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Изменчив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Наследственность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Мутации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</a:t>
            </a: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</a:t>
            </a:r>
            <a:r>
              <a:rPr b="1" i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Повторяет домашнее задание.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Комментируем   рисунки</a:t>
            </a: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2"/>
          <a:stretch/>
        </p:blipFill>
        <p:spPr>
          <a:xfrm>
            <a:off x="900000" y="1409760"/>
            <a:ext cx="741708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2"/>
          <p:cNvSpPr/>
          <p:nvPr/>
        </p:nvSpPr>
        <p:spPr>
          <a:xfrm>
            <a:off x="2997360" y="621360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гремок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6" descr="C:\Users\Лидия\Desktop\Рисунок1.png"/>
          <p:cNvPicPr/>
          <p:nvPr/>
        </p:nvPicPr>
        <p:blipFill>
          <a:blip r:embed="rId2"/>
          <a:stretch/>
        </p:blipFill>
        <p:spPr>
          <a:xfrm>
            <a:off x="2050920" y="54000"/>
            <a:ext cx="5375520" cy="662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5040360" cy="39020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"/>
          <p:cNvPicPr/>
          <p:nvPr/>
        </p:nvPicPr>
        <p:blipFill>
          <a:blip r:embed="rId4"/>
          <a:stretch/>
        </p:blipFill>
        <p:spPr>
          <a:xfrm>
            <a:off x="3200400" y="3084480"/>
            <a:ext cx="59436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 </a:t>
            </a: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Отвечаем на вопросы.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1. </a:t>
            </a: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Что является главной движущей силой процесса расхождения по признаку формы клюва у дарвинских вьюрков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  <a:p>
            <a:pPr marL="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2.В чем заключается причина появления у микроорганизмов, вредителей сельского хозяйства устойчивости к ядохимикатам</a:t>
            </a:r>
            <a:r>
              <a:rPr b="0" lang="en-US" sz="36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300" spc="-1" strike="noStrike">
                <a:solidFill>
                  <a:srgbClr val="564b3c"/>
                </a:solidFill>
                <a:latin typeface="Times New Roman"/>
                <a:ea typeface="Times New Roman"/>
              </a:rPr>
              <a:t>. Изучаем новую тему.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Приспособленность –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564b3c"/>
                </a:solidFill>
                <a:latin typeface="Century Gothic"/>
              </a:rPr>
              <a:t>соответствие внешнего и внутреннего строения , интенсивности физиологических процессов условиям среды</a:t>
            </a: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825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564b3c"/>
                </a:solidFill>
                <a:latin typeface="Century Gothic"/>
              </a:rPr>
              <a:t>Приспособления (адаптации) - результат отбора наследственных изменений, повышающих жизнеспособность организмов к конкретным условиям среды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4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564b3c"/>
                </a:solidFill>
                <a:latin typeface="Century Gothic"/>
              </a:rPr>
              <a:t>Какое значение имеет приспособленность для организмов?</a:t>
            </a:r>
            <a:r>
              <a:rPr b="0" lang="en-US" sz="3700" spc="-1" strike="noStrike">
                <a:solidFill>
                  <a:srgbClr val="564b3c"/>
                </a:solidFill>
                <a:latin typeface="Century Gothic"/>
              </a:rPr>
              <a:t>  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564b3c"/>
                </a:solidFill>
                <a:latin typeface="Century Gothic"/>
              </a:rPr>
              <a:t>(приспособленность к условиям среды повышает шансы организмов на выживание и оставление большого числа потомства).</a:t>
            </a: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924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Показатели приспособленности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к  абиотическому фактору ( холоду) в условиях Оренбургской обла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Животны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Густая шер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Толстый подкожный слой жир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Перелет на юг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Зимняя спячка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5. Запасание корма на зиму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64b3c"/>
                </a:solidFill>
                <a:latin typeface="Century Gothic"/>
              </a:rPr>
              <a:t>Расте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1. Листопад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2. Холодостойкость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3. Сохранение вегетативных органов в почве</a:t>
            </a:r>
            <a:br>
              <a:rPr sz="2400"/>
            </a:b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4. Наличие видоизменений (луковицы, корневища и др. с запасом питательных веществ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Василий</cp:lastModifiedBy>
  <dcterms:modified xsi:type="dcterms:W3CDTF">2012-10-18T15:06:38Z</dcterms:modified>
  <cp:revision>45</cp:revision>
  <dc:subject/>
  <dc:title>Слайд 1</dc:title>
</cp:coreProperties>
</file>