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68.jpeg" ContentType="image/jpeg"/>
  <Override PartName="/ppt/media/image31.png" ContentType="image/png"/>
  <Override PartName="/ppt/media/image66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png" ContentType="image/png"/>
  <Override PartName="/ppt/media/image67.jpeg" ContentType="image/jpeg"/>
  <Override PartName="/ppt/media/image69.png" ContentType="image/png"/>
  <Override PartName="/ppt/media/image14.png" ContentType="image/png"/>
  <Override PartName="/ppt/media/image2.png" ContentType="image/png"/>
  <Override PartName="/ppt/media/image38.jpeg" ContentType="image/jpeg"/>
  <Override PartName="/ppt/media/image26.png" ContentType="image/pn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29.png" ContentType="image/png"/>
  <Override PartName="/ppt/media/image5.jpeg" ContentType="image/jpe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1.png" ContentType="image/png"/>
  <Override PartName="/ppt/media/image42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4DCA-AC57-4608-B776-2450EDF2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F191-EB21-47B7-B666-E5244980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EB93-7E6B-4A78-92CB-0117D384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4E2D-B769-4266-931C-B6DB4212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AC2B-9057-4516-8E5E-C20CDEB2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97D3-960E-45E6-AE10-AF842C21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C4E8-3149-490D-9AF8-A9A6665B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00E1-FF3D-4AF8-A76A-1D7A0F26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CD39-8E20-4FA7-B67B-719C5805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4E27-BE6F-4B61-AB52-CF4DB280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F962-66C6-4F66-80BB-DB35DC95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9C60-AB99-4191-A797-C12AC0B4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D82D-4E21-4D3B-A1F9-29DB75D8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C571-31D5-4D8D-93FC-D5658755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716A-8B0B-48FF-AF5A-371DE1BE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8493-5858-40BC-98DC-8C99696A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23BF-0386-434F-96D2-3F5C6CE7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CAB07-2ED9-4CA5-A8A8-9B253A9A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A9CB7-7BF7-4EE7-9604-52086934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A8B2C-C6B3-4DB9-83CA-ABA1C081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6BF25-B001-463D-871C-7E7951CB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46044-FABA-4697-9AE2-5B5D4592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7D62-3B0D-49E9-BEFA-F072C6C9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466B3-C58E-4551-BFD7-35AF440D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B2CB3-3B31-4848-BF2D-9AFBEEE7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B93E4-D11F-4DD4-81DD-5F0E8D20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C6FA3-5671-4FF9-ABB7-EAF33885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27B97-8A3A-458C-89D2-11A132D1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A62BF-7105-469B-9A92-CB787391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A279D-F5F2-46D4-8CD1-FCAD6734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819AD-A2FC-418B-8374-6B99C9B4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44EE7-0EBC-4603-9A59-C5A3E4F0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D83D6-5A97-40FD-812B-C6BA9523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3969-E78C-40D1-A0C2-6A56C8DE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41978-0574-462F-B6D7-9514C08A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C4AB4-399B-47EB-9332-056FFEAC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C9764-633E-49DA-A8F6-54582190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02EAB-101F-4548-85E4-6CEADE1F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E8535-8689-453B-BFA7-0FAEC020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56F3A-A4CD-4BA6-889D-D11BFE0D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02886-C62E-4CF9-AA77-2ACAB0B5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A0FBF-F7E2-4E55-B9F8-BDAC1819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DD2AC-78EC-4774-B4C4-17A523BD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07FA8-9A55-401A-B807-0435BB7A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A641-9AC5-4D5C-B255-9A2956CF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4B88F-89CD-442E-8B63-59AAF2FD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32E2D-CFDC-47EC-BE7F-60E5FB63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31240-C33D-4BDF-9259-0C944669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34D8E-3C13-4209-AC8C-50852F4A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7D357-75FF-42BD-B5D4-0E9DB907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F2C08-4214-472B-83E7-10A3A082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A3ACE-268F-42B5-9B8D-AEA7E90A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066FF-8F61-48B9-B19B-38D871AD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ED76E-737B-4A31-822C-B41EFC6D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99121-FC8A-4A7F-9B73-67898334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C395-5E28-4C49-ABD8-74A14C87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76EB3-114F-4CF0-9A5F-9FD2515A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E25B-86E1-451B-AAC6-E13CC3B8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A1C3-1F53-4A85-BAAD-899D4771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6DAB-DB5D-486C-8FAB-92A2E18A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7AF6-3263-4747-8B01-1FE83FD4CB9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B0C7-C0B3-4C0E-89B3-750D657065A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9E24-6C64-4D57-9B32-D33FA4D1B61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9C43-ACF1-48ED-A8F0-DD5DF13ECE2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8318-AE9A-4CB8-B6FD-65AD8D3E589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Тип Членистоног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714680" y="48574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Учитель биологии: 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214720" cy="157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2195640" cy="153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6357960" y="2928960"/>
            <a:ext cx="2195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5. Смешанная полость тела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иксоцель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полости тела находятся внутренние органы, относящиеся 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ищевар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ыха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енос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ерв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ыдел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ловой системам</a:t>
            </a: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92040" y="3786120"/>
            <a:ext cx="8180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54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6. кровеносная система незамкнутая </a:t>
            </a:r>
            <a:br>
              <a:rPr sz="32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Есть сердце (больших размеров и расположено с брюшной стороны)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ь у большинства  членистоногих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есцветная (гемолимфа) или голубого цвета</a:t>
            </a:r>
            <a:br>
              <a:rPr sz="3200"/>
            </a:b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785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1224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7. Нервная система узлового типа.</a:t>
            </a:r>
            <a:br>
              <a:rPr sz="3600"/>
            </a:b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остоит из окологлоточного нервного кольца и брюшной нервной цепочки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9680" y="314280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860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584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Хорошо развиты органы чувств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зре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боняния,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сяза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слуха 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равновес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 rot="10800000">
            <a:off x="714240" y="6432480"/>
            <a:ext cx="8043840" cy="68400"/>
          </a:xfrm>
          <a:prstGeom prst="rect">
            <a:avLst/>
          </a:prstGeom>
          <a:noFill/>
          <a:ln w="0">
            <a:noFill/>
          </a:ln>
        </p:spPr>
        <p:txBody>
          <a:bodyPr lIns="182880" tIns="22680" bIns="-230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3" descr="image95"/>
          <p:cNvPicPr/>
          <p:nvPr/>
        </p:nvPicPr>
        <p:blipFill>
          <a:blip r:embed="rId1"/>
          <a:stretch/>
        </p:blipFill>
        <p:spPr>
          <a:xfrm>
            <a:off x="3143160" y="3571920"/>
            <a:ext cx="2652840" cy="2571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mage93"/>
          <p:cNvPicPr/>
          <p:nvPr/>
        </p:nvPicPr>
        <p:blipFill>
          <a:blip r:embed="rId2"/>
          <a:stretch/>
        </p:blipFill>
        <p:spPr>
          <a:xfrm>
            <a:off x="5572080" y="1285920"/>
            <a:ext cx="3138480" cy="304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image94"/>
          <p:cNvPicPr/>
          <p:nvPr/>
        </p:nvPicPr>
        <p:blipFill>
          <a:blip r:embed="rId3"/>
          <a:stretch/>
        </p:blipFill>
        <p:spPr>
          <a:xfrm>
            <a:off x="428760" y="3571920"/>
            <a:ext cx="2652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змножение и развити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785760" y="1285920"/>
            <a:ext cx="490068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Членистоногие – раздельнополые животны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У многих ярко выражен половой диморфиз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Развитие происходит как с метаморфозом, так и без нег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Некоторые размножаются партеногенезом (дафнии, т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357120" y="1285920"/>
            <a:ext cx="4559400" cy="4571640"/>
            <a:chOff x="357120" y="1285920"/>
            <a:chExt cx="4559400" cy="4571640"/>
          </a:xfrm>
        </p:grpSpPr>
        <p:pic>
          <p:nvPicPr>
            <p:cNvPr id="313" name="Picture 5" descr="image4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4" name="Picture 6" descr="image5"/>
            <p:cNvPicPr/>
            <p:nvPr/>
          </p:nvPicPr>
          <p:blipFill>
            <a:blip r:embed="rId2"/>
            <a:stretch/>
          </p:blipFill>
          <p:spPr>
            <a:xfrm>
              <a:off x="1667880" y="360756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5" name="Rectangle 7"/>
            <p:cNvSpPr/>
            <p:nvPr/>
          </p:nvSpPr>
          <p:spPr>
            <a:xfrm>
              <a:off x="1167480" y="1285920"/>
              <a:ext cx="2436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2506320" y="5478480"/>
              <a:ext cx="24102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Личинка" descr="01.jpg"/>
          <p:cNvPicPr/>
          <p:nvPr/>
        </p:nvPicPr>
        <p:blipFill>
          <a:blip r:embed="rId3"/>
          <a:stretch/>
        </p:blipFill>
        <p:spPr>
          <a:xfrm>
            <a:off x="5214960" y="350028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318" name="Куколка" descr="04.jpg"/>
          <p:cNvPicPr/>
          <p:nvPr/>
        </p:nvPicPr>
        <p:blipFill>
          <a:blip r:embed="rId4"/>
          <a:stretch/>
        </p:blipFill>
        <p:spPr>
          <a:xfrm>
            <a:off x="6429240" y="4500720"/>
            <a:ext cx="2159280" cy="1618920"/>
          </a:xfrm>
          <a:prstGeom prst="rect">
            <a:avLst/>
          </a:prstGeom>
          <a:ln w="0">
            <a:noFill/>
          </a:ln>
        </p:spPr>
      </p:pic>
      <p:sp>
        <p:nvSpPr>
          <p:cNvPr id="319" name="Т Личинка 2"/>
          <p:cNvSpPr/>
          <p:nvPr/>
        </p:nvSpPr>
        <p:spPr>
          <a:xfrm>
            <a:off x="5143680" y="4804920"/>
            <a:ext cx="1433160" cy="337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и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Т Куколка"/>
          <p:cNvSpPr/>
          <p:nvPr/>
        </p:nvSpPr>
        <p:spPr>
          <a:xfrm>
            <a:off x="6786720" y="5947920"/>
            <a:ext cx="1433520" cy="3373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исхождение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Picture 3" descr="image47"/>
          <p:cNvPicPr/>
          <p:nvPr/>
        </p:nvPicPr>
        <p:blipFill>
          <a:blip r:embed="rId1"/>
          <a:stretch/>
        </p:blipFill>
        <p:spPr>
          <a:xfrm>
            <a:off x="571680" y="1571760"/>
            <a:ext cx="3071520" cy="40003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4"/>
          <p:cNvSpPr/>
          <p:nvPr/>
        </p:nvSpPr>
        <p:spPr>
          <a:xfrm>
            <a:off x="4143240" y="164304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ленистоногие – очень древний тип животных. Членистоногие возникли раньше позвоночных. Их предками были древние многощетинковые кольчатые че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428760" y="54291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ервыми членистоногими на Земле были представители двух классов: дожившие до настоящего времени ракообразные и вымершие примерно 250 миллионов лет назад трилоб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image48"/>
          <p:cNvPicPr/>
          <p:nvPr/>
        </p:nvPicPr>
        <p:blipFill>
          <a:blip r:embed="rId2"/>
          <a:stretch/>
        </p:blipFill>
        <p:spPr>
          <a:xfrm>
            <a:off x="5214960" y="3214800"/>
            <a:ext cx="280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42720" y="1143000"/>
            <a:ext cx="4643640" cy="5256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ип  Членистоног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3"/>
          <p:cNvGrpSpPr/>
          <p:nvPr/>
        </p:nvGrpSpPr>
        <p:grpSpPr>
          <a:xfrm>
            <a:off x="3357720" y="1928880"/>
            <a:ext cx="2357280" cy="1906560"/>
            <a:chOff x="3357720" y="1928880"/>
            <a:chExt cx="2357280" cy="1906560"/>
          </a:xfrm>
        </p:grpSpPr>
        <p:sp>
          <p:nvSpPr>
            <p:cNvPr id="329" name="Text Box 14"/>
            <p:cNvSpPr/>
            <p:nvPr/>
          </p:nvSpPr>
          <p:spPr>
            <a:xfrm>
              <a:off x="3357720" y="1928880"/>
              <a:ext cx="235728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Меростом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15" descr="image53"/>
            <p:cNvPicPr/>
            <p:nvPr/>
          </p:nvPicPr>
          <p:blipFill>
            <a:blip r:embed="rId1"/>
            <a:stretch/>
          </p:blipFill>
          <p:spPr>
            <a:xfrm>
              <a:off x="3571920" y="232416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7"/>
          <p:cNvGrpSpPr/>
          <p:nvPr/>
        </p:nvGrpSpPr>
        <p:grpSpPr>
          <a:xfrm>
            <a:off x="714240" y="1857240"/>
            <a:ext cx="1846440" cy="1906560"/>
            <a:chOff x="714240" y="1857240"/>
            <a:chExt cx="1846440" cy="1906560"/>
          </a:xfrm>
        </p:grpSpPr>
        <p:sp>
          <p:nvSpPr>
            <p:cNvPr id="332" name="Text Box 8"/>
            <p:cNvSpPr/>
            <p:nvPr/>
          </p:nvSpPr>
          <p:spPr>
            <a:xfrm>
              <a:off x="736560" y="1857240"/>
              <a:ext cx="180036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рилоб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9" descr="image51"/>
            <p:cNvPicPr/>
            <p:nvPr/>
          </p:nvPicPr>
          <p:blipFill>
            <a:blip r:embed="rId2"/>
            <a:stretch/>
          </p:blipFill>
          <p:spPr>
            <a:xfrm>
              <a:off x="714240" y="225252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19"/>
          <p:cNvGrpSpPr/>
          <p:nvPr/>
        </p:nvGrpSpPr>
        <p:grpSpPr>
          <a:xfrm>
            <a:off x="6500880" y="1928880"/>
            <a:ext cx="1846080" cy="1906560"/>
            <a:chOff x="6500880" y="1928880"/>
            <a:chExt cx="1846080" cy="1906560"/>
          </a:xfrm>
        </p:grpSpPr>
        <p:sp>
          <p:nvSpPr>
            <p:cNvPr id="335" name="Text Box 20"/>
            <p:cNvSpPr/>
            <p:nvPr/>
          </p:nvSpPr>
          <p:spPr>
            <a:xfrm>
              <a:off x="6524640" y="1928880"/>
              <a:ext cx="180000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ногонож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1" descr="image55"/>
            <p:cNvPicPr/>
            <p:nvPr/>
          </p:nvPicPr>
          <p:blipFill>
            <a:blip r:embed="rId3"/>
            <a:stretch/>
          </p:blipFill>
          <p:spPr>
            <a:xfrm>
              <a:off x="6500880" y="2324160"/>
              <a:ext cx="18460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10"/>
          <p:cNvGrpSpPr/>
          <p:nvPr/>
        </p:nvGrpSpPr>
        <p:grpSpPr>
          <a:xfrm>
            <a:off x="500040" y="4214880"/>
            <a:ext cx="2303280" cy="1913040"/>
            <a:chOff x="500040" y="4214880"/>
            <a:chExt cx="2303280" cy="1913040"/>
          </a:xfrm>
        </p:grpSpPr>
        <p:sp>
          <p:nvSpPr>
            <p:cNvPr id="338" name="Text Box 11"/>
            <p:cNvSpPr/>
            <p:nvPr/>
          </p:nvSpPr>
          <p:spPr>
            <a:xfrm>
              <a:off x="529920" y="4214880"/>
              <a:ext cx="224532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Класс Ра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12" descr="image52"/>
            <p:cNvPicPr/>
            <p:nvPr/>
          </p:nvPicPr>
          <p:blipFill>
            <a:blip r:embed="rId4"/>
            <a:stretch/>
          </p:blipFill>
          <p:spPr>
            <a:xfrm>
              <a:off x="500040" y="4616640"/>
              <a:ext cx="23032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16"/>
          <p:cNvGrpSpPr/>
          <p:nvPr/>
        </p:nvGrpSpPr>
        <p:grpSpPr>
          <a:xfrm>
            <a:off x="3429000" y="4214880"/>
            <a:ext cx="2520720" cy="1913040"/>
            <a:chOff x="3429000" y="4214880"/>
            <a:chExt cx="2520720" cy="1913040"/>
          </a:xfrm>
        </p:grpSpPr>
        <p:sp>
          <p:nvSpPr>
            <p:cNvPr id="341" name="Text Box 17"/>
            <p:cNvSpPr/>
            <p:nvPr/>
          </p:nvSpPr>
          <p:spPr>
            <a:xfrm>
              <a:off x="3461400" y="4214880"/>
              <a:ext cx="24584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Пау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8" descr="image54"/>
            <p:cNvPicPr/>
            <p:nvPr/>
          </p:nvPicPr>
          <p:blipFill>
            <a:blip r:embed="rId5"/>
            <a:stretch/>
          </p:blipFill>
          <p:spPr>
            <a:xfrm>
              <a:off x="3429000" y="4616640"/>
              <a:ext cx="252072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4"/>
          <p:cNvGrpSpPr/>
          <p:nvPr/>
        </p:nvGrpSpPr>
        <p:grpSpPr>
          <a:xfrm>
            <a:off x="6500880" y="4214880"/>
            <a:ext cx="2122200" cy="1913040"/>
            <a:chOff x="6500880" y="4214880"/>
            <a:chExt cx="2122200" cy="1913040"/>
          </a:xfrm>
        </p:grpSpPr>
        <p:sp>
          <p:nvSpPr>
            <p:cNvPr id="344" name="Text Box 5"/>
            <p:cNvSpPr/>
            <p:nvPr/>
          </p:nvSpPr>
          <p:spPr>
            <a:xfrm>
              <a:off x="6526080" y="4214880"/>
              <a:ext cx="20696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6" descr="image56"/>
            <p:cNvPicPr/>
            <p:nvPr/>
          </p:nvPicPr>
          <p:blipFill>
            <a:blip r:embed="rId6"/>
            <a:stretch/>
          </p:blipFill>
          <p:spPr>
            <a:xfrm>
              <a:off x="6500880" y="4616640"/>
              <a:ext cx="212220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540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илоби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14240" y="157140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амая древняя, вымершая группа примитивных членистоногих. Их тело, до полуметра длиной, было разделено продольными бороздками на центральную и две боковые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но состояло из множества сегментов, объединенных в три отдела, типичных для членистоногих. На голове располагались фасеточные глаза и антен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3" descr="image71"/>
          <p:cNvPicPr/>
          <p:nvPr/>
        </p:nvPicPr>
        <p:blipFill>
          <a:blip r:embed="rId1"/>
          <a:stretch/>
        </p:blipFill>
        <p:spPr>
          <a:xfrm>
            <a:off x="50004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image67"/>
          <p:cNvPicPr/>
          <p:nvPr/>
        </p:nvPicPr>
        <p:blipFill>
          <a:blip r:embed="rId2"/>
          <a:stretch/>
        </p:blipFill>
        <p:spPr>
          <a:xfrm>
            <a:off x="607212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image70"/>
          <p:cNvPicPr/>
          <p:nvPr/>
        </p:nvPicPr>
        <p:blipFill>
          <a:blip r:embed="rId3"/>
          <a:stretch/>
        </p:blipFill>
        <p:spPr>
          <a:xfrm>
            <a:off x="3214800" y="4000680"/>
            <a:ext cx="252396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ростомовые (Мечехво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8400" y="1000080"/>
            <a:ext cx="83293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амая древняя группа хелицеровых. К ним относятся 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ракоскорпионы 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– наиболее крупные из членистоногих, населявших моря и даже пресные водоемы. Они вымерли около 280 миллионов лет назад. А вот некоторые из мечехвостов – крупных, до метра, морских хелицеровых – дожили до наших дней, практически не изменившись за последние 350 миллионов ле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3" descr="image81"/>
          <p:cNvPicPr/>
          <p:nvPr/>
        </p:nvPicPr>
        <p:blipFill>
          <a:blip r:embed="rId1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image80"/>
          <p:cNvPicPr/>
          <p:nvPr/>
        </p:nvPicPr>
        <p:blipFill>
          <a:blip r:embed="rId2"/>
          <a:stretch/>
        </p:blipFill>
        <p:spPr>
          <a:xfrm>
            <a:off x="5000760" y="3500280"/>
            <a:ext cx="302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онож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57120" y="1142640"/>
            <a:ext cx="825840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Червеобразное тело многоножек расчленено на большое (до 200) число одинаковых члеников, из которых отличаются только передний и последний. Каждый членик снабжен 1 или 2 парами членистых ножек, заканчивающихся коготком. Головной сегмент несет пару нитевидных щупалец и несколько глаз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Picture 4" descr="image87"/>
          <p:cNvPicPr/>
          <p:nvPr/>
        </p:nvPicPr>
        <p:blipFill>
          <a:blip r:embed="rId1"/>
          <a:stretch/>
        </p:blipFill>
        <p:spPr>
          <a:xfrm>
            <a:off x="614376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image89"/>
          <p:cNvPicPr/>
          <p:nvPr/>
        </p:nvPicPr>
        <p:blipFill>
          <a:blip r:embed="rId2"/>
          <a:stretch/>
        </p:blipFill>
        <p:spPr>
          <a:xfrm>
            <a:off x="342900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image90"/>
          <p:cNvPicPr/>
          <p:nvPr/>
        </p:nvPicPr>
        <p:blipFill>
          <a:blip r:embed="rId3"/>
          <a:stretch/>
        </p:blipFill>
        <p:spPr>
          <a:xfrm>
            <a:off x="785880" y="3143160"/>
            <a:ext cx="2293920" cy="2224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7"/>
          <p:cNvSpPr/>
          <p:nvPr/>
        </p:nvSpPr>
        <p:spPr>
          <a:xfrm>
            <a:off x="571680" y="53578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ногоножки живут преимущественно в темных сырых местах, в почве. Питаются разлагающейся органикой или мелкими животными. Наиболее известны из них сколопендры, костянки и кивс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многочисл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распростран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амый процветающий тип животных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3" descr="Членистоногие"/>
          <p:cNvPicPr/>
          <p:nvPr/>
        </p:nvPicPr>
        <p:blipFill>
          <a:blip r:embed="rId1"/>
          <a:stretch/>
        </p:blipFill>
        <p:spPr>
          <a:xfrm>
            <a:off x="2463840" y="16556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Грибы"/>
          <p:cNvPicPr/>
          <p:nvPr/>
        </p:nvPicPr>
        <p:blipFill>
          <a:blip r:embed="rId2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Цветковые растения"/>
          <p:cNvPicPr/>
          <p:nvPr/>
        </p:nvPicPr>
        <p:blipFill>
          <a:blip r:embed="rId3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Простейшие"/>
          <p:cNvPicPr/>
          <p:nvPr/>
        </p:nvPicPr>
        <p:blipFill>
          <a:blip r:embed="rId4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Позвоночные"/>
          <p:cNvPicPr/>
          <p:nvPr/>
        </p:nvPicPr>
        <p:blipFill>
          <a:blip r:embed="rId5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Моллюски"/>
          <p:cNvPicPr/>
          <p:nvPr/>
        </p:nvPicPr>
        <p:blipFill>
          <a:blip r:embed="rId6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Другие"/>
          <p:cNvPicPr/>
          <p:nvPr/>
        </p:nvPicPr>
        <p:blipFill>
          <a:blip r:embed="rId7"/>
          <a:stretch/>
        </p:blipFill>
        <p:spPr>
          <a:xfrm>
            <a:off x="2500200" y="1643040"/>
            <a:ext cx="3929040" cy="39006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9"/>
          <p:cNvSpPr/>
          <p:nvPr/>
        </p:nvSpPr>
        <p:spPr>
          <a:xfrm>
            <a:off x="5214960" y="164304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ветк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0"/>
          <p:cNvSpPr/>
          <p:nvPr/>
        </p:nvSpPr>
        <p:spPr>
          <a:xfrm>
            <a:off x="3888720" y="14288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и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1"/>
          <p:cNvSpPr/>
          <p:nvPr/>
        </p:nvSpPr>
        <p:spPr>
          <a:xfrm>
            <a:off x="6336000" y="300024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тей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143920" y="96120"/>
            <a:ext cx="35064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210320" y="2786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ленистоно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4"/>
          <p:cNvSpPr/>
          <p:nvPr/>
        </p:nvSpPr>
        <p:spPr>
          <a:xfrm>
            <a:off x="6190560" y="4286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607140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6"/>
          <p:cNvSpPr/>
          <p:nvPr/>
        </p:nvSpPr>
        <p:spPr>
          <a:xfrm>
            <a:off x="6286680" y="3571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ру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468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колопенд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2920" y="1143000"/>
            <a:ext cx="5568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Это хищники, нападающие на насекомых и даже мелких позвоночных. Первая пара ног у них превратилась в ногочелюсти с  серповидными когтями и ядовитыми желез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ус крупных тропических сколопендр опасен и для человека. Наша самая крупная сороконожка, обитающая на юге, достигает 10 см в длину и не так опасна: ее укус, особенно весной, болезнен, вызывает отек и повышение температуры, но потом все быстро проходи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Живут они под камнями, в щелях строений. На охоту выходят ночь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Самка сколопендры – заботливая мать: она «высиживает» в норке кучку яиц, постоянно облизывая их и удаляя со скорлупы плесе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Рисунок 5" descr="размеры сколоп.JPG"/>
          <p:cNvPicPr/>
          <p:nvPr/>
        </p:nvPicPr>
        <p:blipFill>
          <a:blip r:embed="rId1"/>
          <a:stretch/>
        </p:blipFill>
        <p:spPr>
          <a:xfrm>
            <a:off x="5931000" y="3714840"/>
            <a:ext cx="2793960" cy="27795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6" descr="Изображение"/>
          <p:cNvPicPr/>
          <p:nvPr/>
        </p:nvPicPr>
        <p:blipFill>
          <a:blip r:embed="rId2"/>
          <a:stretch/>
        </p:blipFill>
        <p:spPr>
          <a:xfrm>
            <a:off x="6000840" y="1214280"/>
            <a:ext cx="2523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571680" y="500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Если сколопендра пробежит по телу, то на коже остается неприятная обжигающая слизь. От ожогов, полученных от тропических сколопендр, может скончаться и взрослый здоровый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их-либо мер по оказанию первой помощи, в случае укуса или ожога ядом сколопендры, нет. Можно протереть пораженное место спиртом и наложить стерильную повязку, но, даже если боль начала стихать, все равно в обязательном порядке нужно обратиться в ближайшую больницу, так как симптомы могут повторитьс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357120" y="392904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Длина: до 30 см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сто обитания: Австралия, Южная Америка, Крым, Средиземноморье и Закавка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Verdana"/>
              </a:rPr>
              <a:t>Гигантская сколопе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7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3429000"/>
            <a:ext cx="385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9" name="Содержимое 3" descr="image59"/>
          <p:cNvPicPr/>
          <p:nvPr/>
        </p:nvPicPr>
        <p:blipFill>
          <a:blip r:embed="rId1"/>
          <a:stretch/>
        </p:blipFill>
        <p:spPr>
          <a:xfrm>
            <a:off x="642960" y="1643040"/>
            <a:ext cx="3286080" cy="3214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4643280" y="207180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новые учеб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§22,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старые учебн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428760" y="4929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одготовить сообщения и презентации по теме «Общая характеристика Членистоног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Закрепление пройденного материал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1142640"/>
            <a:ext cx="7926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500040" y="988560"/>
            <a:ext cx="81439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ylfaen"/>
                <a:ea typeface="Times New Roman"/>
              </a:rPr>
              <a:t>1. Линька у членистоногих происходит в связи с тем, что хитиновый покров по мере роста живо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1) изнаш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2) теряет свою окра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3) становится нерастяжим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4) пропускает в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57120" y="87480"/>
            <a:ext cx="82868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icrosoft San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Усложнение членистоногих по сравнению с кольчатыми червями проявляется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1) многие имеют покровительственную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предостерегающую о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2) появилась кровеносная система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3) у них есть пищеварительная, выделительная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кровеносная, нервная системы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4) наружный скелет состоит из хитина, конечности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чле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357120" y="428760"/>
            <a:ext cx="842976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Чем членистоногие отличаются от других беспозвоночных? </a:t>
            </a: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(выбрать несколько правильных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о состоит из неодинаковых чл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система опоры и движения образована хитиновым покровом и мыш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передвигаются с помощью лопастевидных вы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покровы тела и мышцы образуют кожно-мускульный м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кровеносная система 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конечности расчлен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_  _  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брать правильные отв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3280" y="150012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Членистоногие  животные име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лучевую симмет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трехслойные  те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вторичную полость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гетерономную метаме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незамкнутую кровенос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внутренний ске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узловую нерв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)Кожно-мускульный меш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нашей планете обитает более 1 миллиона видов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Picture 18" descr="image14"/>
          <p:cNvPicPr/>
          <p:nvPr/>
        </p:nvPicPr>
        <p:blipFill>
          <a:blip r:embed="rId1"/>
          <a:stretch/>
        </p:blipFill>
        <p:spPr>
          <a:xfrm>
            <a:off x="785880" y="207180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9" descr="image13"/>
          <p:cNvPicPr/>
          <p:nvPr/>
        </p:nvPicPr>
        <p:blipFill>
          <a:blip r:embed="rId2"/>
          <a:stretch/>
        </p:blipFill>
        <p:spPr>
          <a:xfrm>
            <a:off x="5072040" y="2071800"/>
            <a:ext cx="3114720" cy="29718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6"/>
          <p:cNvSpPr/>
          <p:nvPr/>
        </p:nvSpPr>
        <p:spPr>
          <a:xfrm>
            <a:off x="3357720" y="514368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исленность Членистоногих превосходит Позвоночных в 2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(на 1 позвоночное  приходится  20 членистоног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6797E-006 L 0.39028 0.31832 E">
                                      <p:cBhvr>
                                        <p:cTn id="5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4525E-007 L -0.2474 0.40773 E">
                                      <p:cBhvr>
                                        <p:cTn id="6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Членистые конечност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4" descr="image38"/>
          <p:cNvPicPr/>
          <p:nvPr/>
        </p:nvPicPr>
        <p:blipFill>
          <a:blip r:embed="rId1"/>
          <a:stretch/>
        </p:blipFill>
        <p:spPr>
          <a:xfrm>
            <a:off x="500040" y="271476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3"/>
          <p:cNvSpPr/>
          <p:nvPr/>
        </p:nvSpPr>
        <p:spPr>
          <a:xfrm>
            <a:off x="571680" y="158256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онечности членистоногих подвижно соединяются с телом посредством суставов и сами состоят из нескольких чле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3786120" y="250020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многочисленные рычаги, посредством которых можно плавать, ходить, захватывать добычу, пережевы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6286680" y="3714840"/>
            <a:ext cx="17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Та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вертлуг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е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гол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428760" y="52862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У большинства многоножек,    стрекоз и перепончатокрылых вертлуг двучлен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Сегментированное тело (гетерономная сегментация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Голова"/>
          <p:cNvSpPr/>
          <p:nvPr/>
        </p:nvSpPr>
        <p:spPr>
          <a:xfrm>
            <a:off x="6643800" y="1714680"/>
            <a:ext cx="1763640" cy="369720"/>
          </a:xfrm>
          <a:prstGeom prst="rect">
            <a:avLst/>
          </a:prstGeom>
          <a:solidFill>
            <a:srgbClr val="ff191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Брюшко"/>
          <p:cNvSpPr/>
          <p:nvPr/>
        </p:nvSpPr>
        <p:spPr>
          <a:xfrm>
            <a:off x="2571840" y="178596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Головогрудь"/>
          <p:cNvSpPr/>
          <p:nvPr/>
        </p:nvSpPr>
        <p:spPr>
          <a:xfrm>
            <a:off x="785880" y="1785960"/>
            <a:ext cx="1743120" cy="3366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лово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рудь"/>
          <p:cNvSpPr/>
          <p:nvPr/>
        </p:nvSpPr>
        <p:spPr>
          <a:xfrm>
            <a:off x="6643800" y="2071800"/>
            <a:ext cx="1765080" cy="369720"/>
          </a:xfrm>
          <a:prstGeom prst="rect">
            <a:avLst/>
          </a:prstGeom>
          <a:solidFill>
            <a:srgbClr val="ffb9b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Брюшко"/>
          <p:cNvSpPr/>
          <p:nvPr/>
        </p:nvSpPr>
        <p:spPr>
          <a:xfrm>
            <a:off x="6643800" y="242892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ак полоски" descr="C:\Documents and Settings\Lebedev SN\Рабочий стол\Членистоногие\5.emf"/>
          <p:cNvPicPr/>
          <p:nvPr/>
        </p:nvPicPr>
        <p:blipFill>
          <a:blip r:embed="rId1"/>
          <a:stretch/>
        </p:blipFill>
        <p:spPr>
          <a:xfrm>
            <a:off x="1071720" y="4214880"/>
            <a:ext cx="2482560" cy="879480"/>
          </a:xfrm>
          <a:prstGeom prst="rect">
            <a:avLst/>
          </a:prstGeom>
          <a:ln w="0">
            <a:noFill/>
          </a:ln>
        </p:spPr>
      </p:pic>
      <p:pic>
        <p:nvPicPr>
          <p:cNvPr id="258" name="рак головогрудь" descr="C:\Documents and Settings\Lebedev SN\Рабочий стол\Членистоногие\1.emf"/>
          <p:cNvPicPr/>
          <p:nvPr/>
        </p:nvPicPr>
        <p:blipFill>
          <a:blip r:embed="rId2"/>
          <a:stretch/>
        </p:blipFill>
        <p:spPr>
          <a:xfrm>
            <a:off x="1214280" y="4143240"/>
            <a:ext cx="1246320" cy="530280"/>
          </a:xfrm>
          <a:prstGeom prst="rect">
            <a:avLst/>
          </a:prstGeom>
          <a:ln w="0">
            <a:noFill/>
          </a:ln>
        </p:spPr>
      </p:pic>
      <p:pic>
        <p:nvPicPr>
          <p:cNvPr id="259" name="рак брюшко" descr="C:\Documents and Settings\Lebedev SN\Рабочий стол\Членистоногие\7.emf"/>
          <p:cNvPicPr/>
          <p:nvPr/>
        </p:nvPicPr>
        <p:blipFill>
          <a:blip r:embed="rId3"/>
          <a:stretch/>
        </p:blipFill>
        <p:spPr>
          <a:xfrm>
            <a:off x="2428920" y="4143240"/>
            <a:ext cx="1065240" cy="617760"/>
          </a:xfrm>
          <a:prstGeom prst="rect">
            <a:avLst/>
          </a:prstGeom>
          <a:ln w="0">
            <a:noFill/>
          </a:ln>
        </p:spPr>
      </p:pic>
      <p:pic>
        <p:nvPicPr>
          <p:cNvPr id="260" name="рак ноги" descr="C:\Documents and Settings\Lebedev SN\Рабочий стол\Членистоногие\4.emf"/>
          <p:cNvPicPr/>
          <p:nvPr/>
        </p:nvPicPr>
        <p:blipFill>
          <a:blip r:embed="rId4"/>
          <a:stretch/>
        </p:blipFill>
        <p:spPr>
          <a:xfrm>
            <a:off x="714240" y="4500720"/>
            <a:ext cx="1887840" cy="515880"/>
          </a:xfrm>
          <a:prstGeom prst="rect">
            <a:avLst/>
          </a:prstGeom>
          <a:ln w="0">
            <a:noFill/>
          </a:ln>
        </p:spPr>
      </p:pic>
      <p:pic>
        <p:nvPicPr>
          <p:cNvPr id="261" name="нас контур" descr="D:\Папа\Рабочее место учителя\В работе\Зоология\З28 Членистоногие\Рис\Кто такие членистоногие\Внешнее строение\насекомые\насекомые-контур.png"/>
          <p:cNvPicPr/>
          <p:nvPr/>
        </p:nvPicPr>
        <p:blipFill>
          <a:blip r:embed="rId5"/>
          <a:stretch/>
        </p:blipFill>
        <p:spPr>
          <a:xfrm>
            <a:off x="5286240" y="3643200"/>
            <a:ext cx="3167280" cy="1587600"/>
          </a:xfrm>
          <a:prstGeom prst="rect">
            <a:avLst/>
          </a:prstGeom>
          <a:ln w="0">
            <a:noFill/>
          </a:ln>
        </p:spPr>
      </p:pic>
      <p:pic>
        <p:nvPicPr>
          <p:cNvPr id="262" name="нас грудь" descr="D:\Папа\Рабочее место учителя\В работе\Зоология\З28 Членистоногие\Рис\Кто такие членистоногие\Внешнее строение\насекомые\насекомые-грудь.png"/>
          <p:cNvPicPr/>
          <p:nvPr/>
        </p:nvPicPr>
        <p:blipFill>
          <a:blip r:embed="rId6"/>
          <a:stretch/>
        </p:blipFill>
        <p:spPr>
          <a:xfrm>
            <a:off x="5715000" y="4000680"/>
            <a:ext cx="1155600" cy="545760"/>
          </a:xfrm>
          <a:prstGeom prst="rect">
            <a:avLst/>
          </a:prstGeom>
          <a:ln w="0">
            <a:noFill/>
          </a:ln>
        </p:spPr>
      </p:pic>
      <p:pic>
        <p:nvPicPr>
          <p:cNvPr id="263" name="нас брюшко" descr="D:\Папа\Рабочее место учителя\В работе\Зоология\З28 Членистоногие\Рис\Кто такие членистоногие\Внешнее строение\насекомые\насекомые-брюшко.png"/>
          <p:cNvPicPr/>
          <p:nvPr/>
        </p:nvPicPr>
        <p:blipFill>
          <a:blip r:embed="rId7"/>
          <a:stretch/>
        </p:blipFill>
        <p:spPr>
          <a:xfrm>
            <a:off x="6786720" y="4000680"/>
            <a:ext cx="1546200" cy="696600"/>
          </a:xfrm>
          <a:prstGeom prst="rect">
            <a:avLst/>
          </a:prstGeom>
          <a:ln w="0">
            <a:noFill/>
          </a:ln>
        </p:spPr>
      </p:pic>
      <p:pic>
        <p:nvPicPr>
          <p:cNvPr id="264" name="нас ноги" descr="D:\Папа\Рабочее место учителя\В работе\Зоология\З28 Членистоногие\Рис\Кто такие членистоногие\Внешнее строение\насекомые\насекомые-ноги.png"/>
          <p:cNvPicPr/>
          <p:nvPr/>
        </p:nvPicPr>
        <p:blipFill>
          <a:blip r:embed="rId8"/>
          <a:stretch/>
        </p:blipFill>
        <p:spPr>
          <a:xfrm>
            <a:off x="5286240" y="4357800"/>
            <a:ext cx="3100680" cy="806400"/>
          </a:xfrm>
          <a:prstGeom prst="rect">
            <a:avLst/>
          </a:prstGeom>
          <a:ln w="0">
            <a:noFill/>
          </a:ln>
        </p:spPr>
      </p:pic>
      <p:pic>
        <p:nvPicPr>
          <p:cNvPr id="265" name="нас голова" descr="D:\Папа\Рабочее место учителя\В работе\Зоология\З28 Членистоногие\Рис\Кто такие членистоногие\Внешнее строение\насекомые\насекомые-голова.png"/>
          <p:cNvPicPr/>
          <p:nvPr/>
        </p:nvPicPr>
        <p:blipFill>
          <a:blip r:embed="rId9"/>
          <a:stretch/>
        </p:blipFill>
        <p:spPr>
          <a:xfrm>
            <a:off x="5643720" y="4286160"/>
            <a:ext cx="492120" cy="505080"/>
          </a:xfrm>
          <a:prstGeom prst="rect">
            <a:avLst/>
          </a:prstGeom>
          <a:ln w="0">
            <a:noFill/>
          </a:ln>
        </p:spPr>
      </p:pic>
      <p:pic>
        <p:nvPicPr>
          <p:cNvPr id="266" name="нас полоски" descr="D:\Папа\Рабочее место учителя\В работе\Зоология\З28 Членистоногие\Рис\Кто такие членистоногие\Внешнее строение\насекомые\насекомые-полоски.png"/>
          <p:cNvPicPr/>
          <p:nvPr/>
        </p:nvPicPr>
        <p:blipFill>
          <a:blip r:embed="rId10"/>
          <a:stretch/>
        </p:blipFill>
        <p:spPr>
          <a:xfrm>
            <a:off x="5500800" y="4000680"/>
            <a:ext cx="2936880" cy="1145880"/>
          </a:xfrm>
          <a:prstGeom prst="rect">
            <a:avLst/>
          </a:prstGeom>
          <a:ln w="0">
            <a:noFill/>
          </a:ln>
        </p:spPr>
      </p:pic>
      <p:sp>
        <p:nvSpPr>
          <p:cNvPr id="267" name="Насекомые"/>
          <p:cNvSpPr/>
          <p:nvPr/>
        </p:nvSpPr>
        <p:spPr>
          <a:xfrm>
            <a:off x="6000840" y="5429160"/>
            <a:ext cx="1763640" cy="3700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кообразные"/>
          <p:cNvSpPr/>
          <p:nvPr/>
        </p:nvSpPr>
        <p:spPr>
          <a:xfrm>
            <a:off x="1214280" y="5357880"/>
            <a:ext cx="176400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паук контур" descr="паук-контур.png"/>
          <p:cNvPicPr/>
          <p:nvPr/>
        </p:nvPicPr>
        <p:blipFill>
          <a:blip r:embed="rId11"/>
          <a:stretch/>
        </p:blipFill>
        <p:spPr>
          <a:xfrm>
            <a:off x="928800" y="2500200"/>
            <a:ext cx="3168360" cy="1020960"/>
          </a:xfrm>
          <a:prstGeom prst="rect">
            <a:avLst/>
          </a:prstGeom>
          <a:ln w="0">
            <a:noFill/>
          </a:ln>
        </p:spPr>
      </p:pic>
      <p:pic>
        <p:nvPicPr>
          <p:cNvPr id="270" name="паук ноги" descr="паук-ноги.png"/>
          <p:cNvPicPr/>
          <p:nvPr/>
        </p:nvPicPr>
        <p:blipFill>
          <a:blip r:embed="rId12"/>
          <a:stretch/>
        </p:blipFill>
        <p:spPr>
          <a:xfrm>
            <a:off x="928800" y="2500200"/>
            <a:ext cx="3147840" cy="997200"/>
          </a:xfrm>
          <a:prstGeom prst="rect">
            <a:avLst/>
          </a:prstGeom>
          <a:ln w="0">
            <a:noFill/>
          </a:ln>
        </p:spPr>
      </p:pic>
      <p:pic>
        <p:nvPicPr>
          <p:cNvPr id="271" name="паук головогрудь" descr="паук-головогрдь.png"/>
          <p:cNvPicPr/>
          <p:nvPr/>
        </p:nvPicPr>
        <p:blipFill>
          <a:blip r:embed="rId13"/>
          <a:stretch/>
        </p:blipFill>
        <p:spPr>
          <a:xfrm>
            <a:off x="1500120" y="2643120"/>
            <a:ext cx="1001880" cy="642960"/>
          </a:xfrm>
          <a:prstGeom prst="rect">
            <a:avLst/>
          </a:prstGeom>
          <a:ln w="0">
            <a:noFill/>
          </a:ln>
        </p:spPr>
      </p:pic>
      <p:pic>
        <p:nvPicPr>
          <p:cNvPr id="272" name="паук полоски" descr="паук-полоски.png"/>
          <p:cNvPicPr/>
          <p:nvPr/>
        </p:nvPicPr>
        <p:blipFill>
          <a:blip r:embed="rId14"/>
          <a:stretch/>
        </p:blipFill>
        <p:spPr>
          <a:xfrm>
            <a:off x="1000080" y="2571840"/>
            <a:ext cx="3073320" cy="961920"/>
          </a:xfrm>
          <a:prstGeom prst="rect">
            <a:avLst/>
          </a:prstGeom>
          <a:ln w="0">
            <a:noFill/>
          </a:ln>
        </p:spPr>
      </p:pic>
      <p:pic>
        <p:nvPicPr>
          <p:cNvPr id="273" name="паук брюшко" descr="паук-брюшео.png"/>
          <p:cNvPicPr/>
          <p:nvPr/>
        </p:nvPicPr>
        <p:blipFill>
          <a:blip r:embed="rId15"/>
          <a:stretch/>
        </p:blipFill>
        <p:spPr>
          <a:xfrm>
            <a:off x="2500200" y="2500200"/>
            <a:ext cx="1141560" cy="782640"/>
          </a:xfrm>
          <a:prstGeom prst="rect">
            <a:avLst/>
          </a:prstGeom>
          <a:ln w="0">
            <a:noFill/>
          </a:ln>
        </p:spPr>
      </p:pic>
      <p:sp>
        <p:nvSpPr>
          <p:cNvPr id="274" name="Паукообразные"/>
          <p:cNvSpPr/>
          <p:nvPr/>
        </p:nvSpPr>
        <p:spPr>
          <a:xfrm>
            <a:off x="1000080" y="3571920"/>
            <a:ext cx="197820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онечности"/>
          <p:cNvSpPr/>
          <p:nvPr/>
        </p:nvSpPr>
        <p:spPr>
          <a:xfrm>
            <a:off x="4572000" y="2071800"/>
            <a:ext cx="1714680" cy="4284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Хитиновый пок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7" name="Picture 5" descr="image39"/>
          <p:cNvPicPr/>
          <p:nvPr/>
        </p:nvPicPr>
        <p:blipFill>
          <a:blip r:embed="rId1"/>
          <a:stretch/>
        </p:blipFill>
        <p:spPr>
          <a:xfrm>
            <a:off x="6215040" y="500040"/>
            <a:ext cx="2548080" cy="4546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40"/>
          <p:cNvPicPr/>
          <p:nvPr/>
        </p:nvPicPr>
        <p:blipFill>
          <a:blip r:embed="rId2"/>
          <a:stretch/>
        </p:blipFill>
        <p:spPr>
          <a:xfrm>
            <a:off x="1143000" y="2071800"/>
            <a:ext cx="3571920" cy="28512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6"/>
          <p:cNvSpPr/>
          <p:nvPr/>
        </p:nvSpPr>
        <p:spPr>
          <a:xfrm>
            <a:off x="428760" y="150012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(Хитин-легкое и прочное  вещ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поминающее пластмасс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500040" y="50720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некоторых животных хитиновые пластины сливаются, образуя единый хитиновый покров. В хитиновом панцире краб или жук напоминает закованного в латы средневекового рыцаря. Его тело прикрыто броней, но она позволяет ему быстро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"/>
          <p:cNvSpPr/>
          <p:nvPr/>
        </p:nvSpPr>
        <p:spPr>
          <a:xfrm>
            <a:off x="571680" y="42876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Хитиновый покров очень прочен и выполняет многочисленны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ружного скелета (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к внутренним выростам хитинового  покрова крепятся мышцы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тело членистоногих от различны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ханических и химических повре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епятствует излишней потери вл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от ож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Иногда хитин пропитывается известью, поэтому некоторых крабов трудно разбить даже моло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image73"/>
          <p:cNvPicPr/>
          <p:nvPr/>
        </p:nvPicPr>
        <p:blipFill>
          <a:blip r:embed="rId1"/>
          <a:stretch/>
        </p:blipFill>
        <p:spPr>
          <a:xfrm>
            <a:off x="3286080" y="414324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image76"/>
          <p:cNvPicPr/>
          <p:nvPr/>
        </p:nvPicPr>
        <p:blipFill>
          <a:blip r:embed="rId2"/>
          <a:stretch/>
        </p:blipFill>
        <p:spPr>
          <a:xfrm>
            <a:off x="6000840" y="421488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77"/>
          <p:cNvPicPr/>
          <p:nvPr/>
        </p:nvPicPr>
        <p:blipFill>
          <a:blip r:embed="rId3"/>
          <a:stretch/>
        </p:blipFill>
        <p:spPr>
          <a:xfrm>
            <a:off x="571680" y="4143240"/>
            <a:ext cx="2374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4. Линь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428760" y="121428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хитинового скелета есть недостаток — он не позволяет постоянно расти. Приходится регулярно линять — сбрасывать старые «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4929120" y="857160"/>
            <a:ext cx="3643560" cy="3643560"/>
            <a:chOff x="4929120" y="857160"/>
            <a:chExt cx="3643560" cy="3643560"/>
          </a:xfrm>
        </p:grpSpPr>
        <p:pic>
          <p:nvPicPr>
            <p:cNvPr id="288" name="Picture 6" descr="image44"/>
            <p:cNvPicPr/>
            <p:nvPr/>
          </p:nvPicPr>
          <p:blipFill>
            <a:blip r:embed="rId1"/>
            <a:srcRect l="0" t="0" r="0" b="-22931"/>
            <a:stretch/>
          </p:blipFill>
          <p:spPr>
            <a:xfrm>
              <a:off x="4929120" y="857160"/>
              <a:ext cx="3643560" cy="364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9" name="Rectangle 7"/>
            <p:cNvSpPr/>
            <p:nvPr/>
          </p:nvSpPr>
          <p:spPr>
            <a:xfrm>
              <a:off x="4929120" y="3833640"/>
              <a:ext cx="36435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брошенный при линьке хитиновый покров речного ра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Прямоугольник 11"/>
          <p:cNvSpPr/>
          <p:nvPr/>
        </p:nvSpPr>
        <p:spPr>
          <a:xfrm>
            <a:off x="357120" y="3286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Линька — процесс непростой, ведь из старой брони приходится вытаскивать даже тончайшие 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428760" y="5072040"/>
            <a:ext cx="8286480" cy="1486440"/>
            <a:chOff x="428760" y="5072040"/>
            <a:chExt cx="8286480" cy="1486440"/>
          </a:xfrm>
        </p:grpSpPr>
        <p:pic>
          <p:nvPicPr>
            <p:cNvPr id="292" name="Picture 7" descr="image12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8286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8"/>
            <p:cNvSpPr/>
            <p:nvPr/>
          </p:nvSpPr>
          <p:spPr>
            <a:xfrm>
              <a:off x="675720" y="6190200"/>
              <a:ext cx="2425680" cy="36828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инька кузнеч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186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571680" y="500040"/>
            <a:ext cx="79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тот момент, когда старые покровы сброшены, а новые еще не успели затвердеть, происходит увеличение размеров и объем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030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9:01Z</dcterms:created>
  <dc:creator>Владелец</dc:creator>
  <dc:description/>
  <dc:language>en-US</dc:language>
  <cp:lastModifiedBy>Олег</cp:lastModifiedBy>
  <dcterms:modified xsi:type="dcterms:W3CDTF">2012-10-18T16:55:18Z</dcterms:modified>
  <cp:revision>39</cp:revision>
  <dc:subject/>
  <dc:title>Тип Членистоногие</dc:title>
</cp:coreProperties>
</file>