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jpeg" ContentType="image/jpeg"/>
  <Override PartName="/ppt/media/image13.png" ContentType="image/png"/>
  <Override PartName="/ppt/media/image1.png" ContentType="image/png"/>
  <Override PartName="/ppt/media/image51.jpeg" ContentType="image/jpeg"/>
  <Override PartName="/ppt/media/image25.png" ContentType="image/png"/>
  <Override PartName="/ppt/media/image56.jpeg" ContentType="image/jpeg"/>
  <Override PartName="/ppt/media/image3.png" ContentType="image/png"/>
  <Override PartName="/ppt/media/image15.png" ContentType="image/png"/>
  <Override PartName="/ppt/media/image49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1.png" ContentType="image/png"/>
  <Override PartName="/ppt/media/image22.png" ContentType="image/png"/>
  <Override PartName="/ppt/media/image24.png" ContentType="image/png"/>
  <Override PartName="/ppt/media/image68.jpeg" ContentType="image/jpeg"/>
  <Override PartName="/ppt/media/image31.png" ContentType="image/png"/>
  <Override PartName="/ppt/media/image66.jpeg" ContentType="image/jpeg"/>
  <Override PartName="/ppt/media/image11.png" ContentType="image/png"/>
  <Override PartName="/ppt/media/image6.jpeg" ContentType="image/jpeg"/>
  <Override PartName="/ppt/media/image33.jpeg" ContentType="image/jpeg"/>
  <Override PartName="/ppt/media/image27.png" ContentType="image/png"/>
  <Override PartName="/ppt/media/image67.jpeg" ContentType="image/jpeg"/>
  <Override PartName="/ppt/media/image69.png" ContentType="image/png"/>
  <Override PartName="/ppt/media/image14.png" ContentType="image/png"/>
  <Override PartName="/ppt/media/image2.png" ContentType="image/png"/>
  <Override PartName="/ppt/media/image38.jpeg" ContentType="image/jpeg"/>
  <Override PartName="/ppt/media/image26.png" ContentType="image/png"/>
  <Override PartName="/ppt/media/image55.jpeg" ContentType="image/jpeg"/>
  <Override PartName="/ppt/media/image61.jpeg" ContentType="image/jpeg"/>
  <Override PartName="/ppt/media/image4.jpeg" ContentType="image/jpeg"/>
  <Override PartName="/ppt/media/image40.png" ContentType="image/png"/>
  <Override PartName="/ppt/media/image60.jpeg" ContentType="image/jpeg"/>
  <Override PartName="/ppt/media/image30.png" ContentType="image/png"/>
  <Override PartName="/ppt/media/image65.jpeg" ContentType="image/jpeg"/>
  <Override PartName="/ppt/media/image8.png" ContentType="image/png"/>
  <Override PartName="/ppt/media/image63.jpeg" ContentType="image/jpeg"/>
  <Override PartName="/ppt/media/image29.png" ContentType="image/png"/>
  <Override PartName="/ppt/media/image5.jpeg" ContentType="image/jpeg"/>
  <Override PartName="/ppt/media/image54.jpeg" ContentType="image/jpe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41.png" ContentType="image/png"/>
  <Override PartName="/ppt/media/image42.png" ContentType="image/png"/>
  <Override PartName="/ppt/media/image28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6AAF-5177-484A-AE1B-0F31DCD9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4CC3-3065-4985-A186-876E9343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C92D-2179-4DFC-B899-E9B93048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9BAB-EABC-4A84-8842-AEF61749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9DDE-1805-4F68-86EF-A98BABC7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0ABB-E82D-47D8-A758-FEEB0B06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7F34-983C-4020-97EA-5DF3C5FF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E1A9-55AC-44C9-BB1D-E90864E1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0CE9-8228-494D-B955-E599D316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3010-7C23-4223-B6A2-06D6D1AF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40A3-B5AB-46E5-B932-8BBCDDC1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1CB-446E-44A3-97F7-5B8A717F0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E892-D0F1-4305-AD35-5B996DD8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3CFE-2BC3-4E6F-AC8F-8774BDFB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8E3A-0EDF-4088-9A88-05F1B52C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5F14-ACB4-4BC9-AF65-0BE16406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C3F4-8C90-484D-906A-9A894D1B2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8352F-BD89-4980-86E4-87E173EB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849DE-F93A-44D6-BF08-9C27B042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6DBA8-7DA3-49B7-A8FD-ABF6CD13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DB08E-DB2D-4EA3-ACA5-12CFCBBF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36AEE-B2A9-44D1-B9FC-8AE86BC6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F2CC-B6B0-4CF9-A69F-6FC5EACE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BD9CE-19E9-42D6-BFB4-AA859726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409F-5124-4F55-99D8-B96C5FFC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B2C69-E21A-4CF4-BC65-01308864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2D0F-27C4-4FF9-BC47-0657247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F0D04-3B0E-4756-BCAA-84B02FF53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2BB8-F67E-41BC-8474-8302C761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CC99-F478-4AD6-A40E-A12469C5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7BEB5-EF7E-47B2-9BEC-97F86E7F8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06386-84F2-49C0-BB18-856F4C5B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95FDE-2B75-430D-BD7D-55A50A42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13F-02FF-40B2-92F9-AEA53482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E4BCD-2C89-4DAA-AAD2-FC42EFC2D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DE75-2D20-4A9F-BEDF-87D309AC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8B19D-FE18-4FB8-9DDD-5077B2ED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71A7E-D600-4A57-A280-300CB854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A8DE1-4BC6-4696-A26D-F1032169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E91A3-4B1E-444F-AEAB-ACEF13D2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5649-6409-4DB0-9B64-40B62AAE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BF217-6174-46B4-843E-D812ECBD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89773-F215-4E1D-A779-0CECDF6E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E80EF-F3FF-4DD5-8017-252E24BB7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213A-7144-4F9E-9522-4709A1FC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8A718-7C85-4320-A6C4-E1A28570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69F5E-D835-42F5-8E2F-5079AFFB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5D33C-41D1-4365-ACB9-1FCE699D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16744-7F58-4407-8923-BFD79C87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0457C-48D7-438D-B743-2E232FE3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54DB0-0FF8-4155-9EC5-942A390D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CFC2C-2B3D-496B-985F-887CA877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EB7FF-81C0-4103-877A-DDA08F4D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7E21A-D777-4192-8D10-9BF042B3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BCA6E-6CED-488F-A6FD-8471CAFF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D77-F9E7-464F-B17D-6864EF28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7B51F-A1F3-4F66-873B-5EF9F5B9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690C-4D6A-40E7-A73F-DBE8E5D4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111C-5639-4F2E-AA99-09A3131C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9C2E-76AF-46DD-AD12-E06E9929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7BA6-C713-43D2-B0DD-2BC77EDB6D96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C568-4C37-4AB1-B480-65EA4E298ED8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35D1-AAFE-42BC-A1AD-983D3E10C9CE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16AB-5034-4F34-BFC2-366BCECDCD6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1D69-9A98-4172-866B-06897563914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image" Target="../media/image57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radikal.ru/" TargetMode="External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8d3e"/>
                </a:solidFill>
                <a:latin typeface="Verdana"/>
              </a:rPr>
              <a:t>Тип Членистоногие</a:t>
            </a: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714680" y="4857480"/>
            <a:ext cx="7000560" cy="15714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СОШ №1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f09"/>
                </a:solidFill>
                <a:latin typeface="Verdana"/>
              </a:rPr>
              <a:t>Учитель биологии: 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2214720" cy="1571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"/>
          <p:cNvPicPr/>
          <p:nvPr/>
        </p:nvPicPr>
        <p:blipFill>
          <a:blip r:embed="rId2"/>
          <a:stretch/>
        </p:blipFill>
        <p:spPr>
          <a:xfrm>
            <a:off x="3571920" y="3000240"/>
            <a:ext cx="2195640" cy="15354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3"/>
          <a:stretch/>
        </p:blipFill>
        <p:spPr>
          <a:xfrm>
            <a:off x="6357960" y="2928960"/>
            <a:ext cx="219564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71320" y="428760"/>
            <a:ext cx="807228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5. Смешанная полость тела</a:t>
            </a: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(миксоцель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571320" y="1428480"/>
            <a:ext cx="8143560" cy="21430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полости тела находятся внутренние органы, относящиеся к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ищевар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дыха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енос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ерв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ыделительной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lnSpc>
                <a:spcPct val="80000"/>
              </a:lnSpc>
              <a:buClr>
                <a:srgbClr val="f07f0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половой системам</a:t>
            </a:r>
            <a:r>
              <a:rPr b="0" lang="ru-RU" sz="1400" spc="-1" strike="noStrike">
                <a:solidFill>
                  <a:srgbClr val="79766f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5" descr=""/>
          <p:cNvPicPr/>
          <p:nvPr/>
        </p:nvPicPr>
        <p:blipFill>
          <a:blip r:embed="rId1"/>
          <a:stretch/>
        </p:blipFill>
        <p:spPr>
          <a:xfrm>
            <a:off x="392040" y="3786120"/>
            <a:ext cx="8180640" cy="2428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54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07f09"/>
                </a:solidFill>
                <a:latin typeface="Verdana"/>
              </a:rPr>
              <a:t>6. кровеносная система незамкнутая </a:t>
            </a:r>
            <a:br>
              <a:rPr sz="32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Есть сердце (больших размеров и расположено с брюшной стороны)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ровь у большинства  членистоногих 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есцветная (гемолимфа) или голубого цвета</a:t>
            </a:r>
            <a:br>
              <a:rPr sz="3200"/>
            </a:br>
            <a:br>
              <a:rPr sz="3200"/>
            </a:br>
            <a:endParaRPr b="1" lang="en-US" sz="20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7858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12240" cy="19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7. Нервная система узлового типа.</a:t>
            </a:r>
            <a:br>
              <a:rPr sz="3600"/>
            </a:b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остоит из окологлоточного нервного кольца и брюшной нервной цепочки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99680" y="3142800"/>
            <a:ext cx="7929720" cy="2714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tretch/>
        </p:blipFill>
        <p:spPr>
          <a:xfrm>
            <a:off x="357120" y="2428920"/>
            <a:ext cx="860436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7120" y="500040"/>
            <a:ext cx="825840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Хорошо развиты органы чувств: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зре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боняния,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осязания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слуха , </a:t>
            </a:r>
            <a:br>
              <a:rPr sz="2400"/>
            </a:br>
            <a:r>
              <a:rPr b="1" lang="ru-RU" sz="2400" spc="-1" strike="noStrike">
                <a:solidFill>
                  <a:srgbClr val="ff8d3e"/>
                </a:solidFill>
                <a:latin typeface="Verdana"/>
              </a:rPr>
              <a:t>    органы равновесия.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 rot="10800000">
            <a:off x="714240" y="6432480"/>
            <a:ext cx="8043840" cy="68400"/>
          </a:xfrm>
          <a:prstGeom prst="rect">
            <a:avLst/>
          </a:prstGeom>
          <a:noFill/>
          <a:ln w="0">
            <a:noFill/>
          </a:ln>
        </p:spPr>
        <p:txBody>
          <a:bodyPr lIns="182880" tIns="22680" bIns="-230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3" descr="image95"/>
          <p:cNvPicPr/>
          <p:nvPr/>
        </p:nvPicPr>
        <p:blipFill>
          <a:blip r:embed="rId1"/>
          <a:stretch/>
        </p:blipFill>
        <p:spPr>
          <a:xfrm>
            <a:off x="3143160" y="3571920"/>
            <a:ext cx="2652840" cy="25718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image93"/>
          <p:cNvPicPr/>
          <p:nvPr/>
        </p:nvPicPr>
        <p:blipFill>
          <a:blip r:embed="rId2"/>
          <a:stretch/>
        </p:blipFill>
        <p:spPr>
          <a:xfrm>
            <a:off x="5572080" y="1285920"/>
            <a:ext cx="3138480" cy="3043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image94"/>
          <p:cNvPicPr/>
          <p:nvPr/>
        </p:nvPicPr>
        <p:blipFill>
          <a:blip r:embed="rId3"/>
          <a:stretch/>
        </p:blipFill>
        <p:spPr>
          <a:xfrm>
            <a:off x="428760" y="3571920"/>
            <a:ext cx="26524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азмножение и развитие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785760" y="1285920"/>
            <a:ext cx="490068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Членистоногие – раздельнополые животные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У многих ярко выражен половой диморфиз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Развитие происходит как с метаморфозом, так и без него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Некоторые размножаются партеногенезом (дафнии, тли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357120" y="1285920"/>
            <a:ext cx="4559400" cy="4571640"/>
            <a:chOff x="357120" y="1285920"/>
            <a:chExt cx="4559400" cy="4571640"/>
          </a:xfrm>
        </p:grpSpPr>
        <p:pic>
          <p:nvPicPr>
            <p:cNvPr id="313" name="Picture 5" descr="image4"/>
            <p:cNvPicPr/>
            <p:nvPr/>
          </p:nvPicPr>
          <p:blipFill>
            <a:blip r:embed="rId1"/>
            <a:stretch/>
          </p:blipFill>
          <p:spPr>
            <a:xfrm>
              <a:off x="357120" y="128592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14" name="Picture 6" descr="image5"/>
            <p:cNvPicPr/>
            <p:nvPr/>
          </p:nvPicPr>
          <p:blipFill>
            <a:blip r:embed="rId2"/>
            <a:stretch/>
          </p:blipFill>
          <p:spPr>
            <a:xfrm>
              <a:off x="1667880" y="3607560"/>
              <a:ext cx="3077280" cy="22500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15" name="Rectangle 7"/>
            <p:cNvSpPr/>
            <p:nvPr/>
          </p:nvSpPr>
          <p:spPr>
            <a:xfrm>
              <a:off x="1167480" y="1285920"/>
              <a:ext cx="2436120" cy="3682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е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"/>
            <p:cNvSpPr/>
            <p:nvPr/>
          </p:nvSpPr>
          <p:spPr>
            <a:xfrm>
              <a:off x="2506320" y="5478480"/>
              <a:ext cx="2410200" cy="3682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Жук-носорог. Сам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Личинка" descr="01.jpg"/>
          <p:cNvPicPr/>
          <p:nvPr/>
        </p:nvPicPr>
        <p:blipFill>
          <a:blip r:embed="rId3"/>
          <a:stretch/>
        </p:blipFill>
        <p:spPr>
          <a:xfrm>
            <a:off x="5214960" y="3500280"/>
            <a:ext cx="2158920" cy="1619280"/>
          </a:xfrm>
          <a:prstGeom prst="rect">
            <a:avLst/>
          </a:prstGeom>
          <a:ln w="0">
            <a:noFill/>
          </a:ln>
        </p:spPr>
      </p:pic>
      <p:pic>
        <p:nvPicPr>
          <p:cNvPr id="318" name="Куколка" descr="04.jpg"/>
          <p:cNvPicPr/>
          <p:nvPr/>
        </p:nvPicPr>
        <p:blipFill>
          <a:blip r:embed="rId4"/>
          <a:stretch/>
        </p:blipFill>
        <p:spPr>
          <a:xfrm>
            <a:off x="6429240" y="4500720"/>
            <a:ext cx="2159280" cy="1618920"/>
          </a:xfrm>
          <a:prstGeom prst="rect">
            <a:avLst/>
          </a:prstGeom>
          <a:ln w="0">
            <a:noFill/>
          </a:ln>
        </p:spPr>
      </p:pic>
      <p:sp>
        <p:nvSpPr>
          <p:cNvPr id="319" name="Т Личинка 2"/>
          <p:cNvSpPr/>
          <p:nvPr/>
        </p:nvSpPr>
        <p:spPr>
          <a:xfrm>
            <a:off x="5143680" y="4804920"/>
            <a:ext cx="1433160" cy="33732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Ли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Т Куколка"/>
          <p:cNvSpPr/>
          <p:nvPr/>
        </p:nvSpPr>
        <p:spPr>
          <a:xfrm>
            <a:off x="6786720" y="5947920"/>
            <a:ext cx="1433520" cy="3373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укол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оисхождение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22" name="Picture 3" descr="image47"/>
          <p:cNvPicPr/>
          <p:nvPr/>
        </p:nvPicPr>
        <p:blipFill>
          <a:blip r:embed="rId1"/>
          <a:stretch/>
        </p:blipFill>
        <p:spPr>
          <a:xfrm>
            <a:off x="571680" y="1571760"/>
            <a:ext cx="3071520" cy="40003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4"/>
          <p:cNvSpPr/>
          <p:nvPr/>
        </p:nvSpPr>
        <p:spPr>
          <a:xfrm>
            <a:off x="4143240" y="164304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ленистоногие – очень древний тип животных. Членистоногие возникли раньше позвоночных. Их предками были древние многощетинковые кольчатые чер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5"/>
          <p:cNvSpPr/>
          <p:nvPr/>
        </p:nvSpPr>
        <p:spPr>
          <a:xfrm>
            <a:off x="428760" y="542916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Первыми членистоногими на Земле были представители двух классов: дожившие до настоящего времени ракообразные и вымершие примерно 250 миллионов лет назад трилоб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8" descr="image48"/>
          <p:cNvPicPr/>
          <p:nvPr/>
        </p:nvPicPr>
        <p:blipFill>
          <a:blip r:embed="rId2"/>
          <a:stretch/>
        </p:blipFill>
        <p:spPr>
          <a:xfrm>
            <a:off x="5214960" y="3214800"/>
            <a:ext cx="2808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18352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Системати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142720" y="1143000"/>
            <a:ext cx="4643640" cy="525600"/>
          </a:xfrm>
          <a:prstGeom prst="rect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Тип  Членистоног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3"/>
          <p:cNvGrpSpPr/>
          <p:nvPr/>
        </p:nvGrpSpPr>
        <p:grpSpPr>
          <a:xfrm>
            <a:off x="3357720" y="1928880"/>
            <a:ext cx="2357280" cy="1906560"/>
            <a:chOff x="3357720" y="1928880"/>
            <a:chExt cx="2357280" cy="1906560"/>
          </a:xfrm>
        </p:grpSpPr>
        <p:sp>
          <p:nvSpPr>
            <p:cNvPr id="329" name="Text Box 14"/>
            <p:cNvSpPr/>
            <p:nvPr/>
          </p:nvSpPr>
          <p:spPr>
            <a:xfrm>
              <a:off x="3357720" y="1928880"/>
              <a:ext cx="235728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Меростомов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5" descr="image53"/>
            <p:cNvPicPr/>
            <p:nvPr/>
          </p:nvPicPr>
          <p:blipFill>
            <a:blip r:embed="rId1"/>
            <a:stretch/>
          </p:blipFill>
          <p:spPr>
            <a:xfrm>
              <a:off x="3571920" y="232416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7"/>
          <p:cNvGrpSpPr/>
          <p:nvPr/>
        </p:nvGrpSpPr>
        <p:grpSpPr>
          <a:xfrm>
            <a:off x="714240" y="1857240"/>
            <a:ext cx="1846440" cy="1906560"/>
            <a:chOff x="714240" y="1857240"/>
            <a:chExt cx="1846440" cy="1906560"/>
          </a:xfrm>
        </p:grpSpPr>
        <p:sp>
          <p:nvSpPr>
            <p:cNvPr id="332" name="Text Box 8"/>
            <p:cNvSpPr/>
            <p:nvPr/>
          </p:nvSpPr>
          <p:spPr>
            <a:xfrm>
              <a:off x="736560" y="1857240"/>
              <a:ext cx="180036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Трилобит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3" name="Picture 9" descr="image51"/>
            <p:cNvPicPr/>
            <p:nvPr/>
          </p:nvPicPr>
          <p:blipFill>
            <a:blip r:embed="rId2"/>
            <a:stretch/>
          </p:blipFill>
          <p:spPr>
            <a:xfrm>
              <a:off x="714240" y="2252520"/>
              <a:ext cx="184644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4" name="Group 19"/>
          <p:cNvGrpSpPr/>
          <p:nvPr/>
        </p:nvGrpSpPr>
        <p:grpSpPr>
          <a:xfrm>
            <a:off x="6500880" y="1928880"/>
            <a:ext cx="1846080" cy="1906560"/>
            <a:chOff x="6500880" y="1928880"/>
            <a:chExt cx="1846080" cy="1906560"/>
          </a:xfrm>
        </p:grpSpPr>
        <p:sp>
          <p:nvSpPr>
            <p:cNvPr id="335" name="Text Box 20"/>
            <p:cNvSpPr/>
            <p:nvPr/>
          </p:nvSpPr>
          <p:spPr>
            <a:xfrm>
              <a:off x="6524640" y="1928880"/>
              <a:ext cx="180000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Многонож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6" name="Picture 21" descr="image55"/>
            <p:cNvPicPr/>
            <p:nvPr/>
          </p:nvPicPr>
          <p:blipFill>
            <a:blip r:embed="rId3"/>
            <a:stretch/>
          </p:blipFill>
          <p:spPr>
            <a:xfrm>
              <a:off x="6500880" y="2324160"/>
              <a:ext cx="18460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10"/>
          <p:cNvGrpSpPr/>
          <p:nvPr/>
        </p:nvGrpSpPr>
        <p:grpSpPr>
          <a:xfrm>
            <a:off x="500040" y="4214880"/>
            <a:ext cx="2303280" cy="1913040"/>
            <a:chOff x="500040" y="4214880"/>
            <a:chExt cx="2303280" cy="1913040"/>
          </a:xfrm>
        </p:grpSpPr>
        <p:sp>
          <p:nvSpPr>
            <p:cNvPr id="338" name="Text Box 11"/>
            <p:cNvSpPr/>
            <p:nvPr/>
          </p:nvSpPr>
          <p:spPr>
            <a:xfrm>
              <a:off x="529920" y="4214880"/>
              <a:ext cx="224532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00"/>
                  </a:solidFill>
                  <a:latin typeface="Verdana"/>
                </a:rPr>
                <a:t>Класс Ра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Picture 12" descr="image52"/>
            <p:cNvPicPr/>
            <p:nvPr/>
          </p:nvPicPr>
          <p:blipFill>
            <a:blip r:embed="rId4"/>
            <a:stretch/>
          </p:blipFill>
          <p:spPr>
            <a:xfrm>
              <a:off x="500040" y="4616640"/>
              <a:ext cx="230328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0" name="Group 16"/>
          <p:cNvGrpSpPr/>
          <p:nvPr/>
        </p:nvGrpSpPr>
        <p:grpSpPr>
          <a:xfrm>
            <a:off x="3429000" y="4214880"/>
            <a:ext cx="2520720" cy="1913040"/>
            <a:chOff x="3429000" y="4214880"/>
            <a:chExt cx="2520720" cy="1913040"/>
          </a:xfrm>
        </p:grpSpPr>
        <p:sp>
          <p:nvSpPr>
            <p:cNvPr id="341" name="Text Box 17"/>
            <p:cNvSpPr/>
            <p:nvPr/>
          </p:nvSpPr>
          <p:spPr>
            <a:xfrm>
              <a:off x="3461400" y="4214880"/>
              <a:ext cx="24584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Паукообраз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image54"/>
            <p:cNvPicPr/>
            <p:nvPr/>
          </p:nvPicPr>
          <p:blipFill>
            <a:blip r:embed="rId5"/>
            <a:stretch/>
          </p:blipFill>
          <p:spPr>
            <a:xfrm>
              <a:off x="3429000" y="4616640"/>
              <a:ext cx="2520720" cy="15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4"/>
          <p:cNvGrpSpPr/>
          <p:nvPr/>
        </p:nvGrpSpPr>
        <p:grpSpPr>
          <a:xfrm>
            <a:off x="6500880" y="4214880"/>
            <a:ext cx="2122200" cy="1913040"/>
            <a:chOff x="6500880" y="4214880"/>
            <a:chExt cx="2122200" cy="1913040"/>
          </a:xfrm>
        </p:grpSpPr>
        <p:sp>
          <p:nvSpPr>
            <p:cNvPr id="344" name="Text Box 5"/>
            <p:cNvSpPr/>
            <p:nvPr/>
          </p:nvSpPr>
          <p:spPr>
            <a:xfrm>
              <a:off x="6526080" y="4214880"/>
              <a:ext cx="2069640" cy="376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ласс Насеком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6" descr="image56"/>
            <p:cNvPicPr/>
            <p:nvPr/>
          </p:nvPicPr>
          <p:blipFill>
            <a:blip r:embed="rId6"/>
            <a:stretch/>
          </p:blipFill>
          <p:spPr>
            <a:xfrm>
              <a:off x="6500880" y="4616640"/>
              <a:ext cx="2122200" cy="151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5405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Трилоби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14240" y="1571400"/>
            <a:ext cx="7786800" cy="2428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амая древняя, вымершая группа примитивных членистоногих. Их тело, до полуметра длиной, было разделено продольными бороздками на центральную и две боковые част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но состояло из множества сегментов, объединенных в три отдела, типичных для членистоногих. На голове располагались фасеточные глаза и антенн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Picture 3" descr="image71"/>
          <p:cNvPicPr/>
          <p:nvPr/>
        </p:nvPicPr>
        <p:blipFill>
          <a:blip r:embed="rId1"/>
          <a:stretch/>
        </p:blipFill>
        <p:spPr>
          <a:xfrm>
            <a:off x="50004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5" descr="image67"/>
          <p:cNvPicPr/>
          <p:nvPr/>
        </p:nvPicPr>
        <p:blipFill>
          <a:blip r:embed="rId2"/>
          <a:stretch/>
        </p:blipFill>
        <p:spPr>
          <a:xfrm>
            <a:off x="6072120" y="3929040"/>
            <a:ext cx="2524320" cy="22496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image70"/>
          <p:cNvPicPr/>
          <p:nvPr/>
        </p:nvPicPr>
        <p:blipFill>
          <a:blip r:embed="rId3"/>
          <a:stretch/>
        </p:blipFill>
        <p:spPr>
          <a:xfrm>
            <a:off x="3214800" y="4000680"/>
            <a:ext cx="252396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еростомовые (Мечехвост)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000080"/>
            <a:ext cx="8329320" cy="2643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Самая древняя группа хелицеровых. К ним относятся </a:t>
            </a:r>
            <a:r>
              <a:rPr b="1" i="1" lang="ru-RU" sz="2200" spc="-1" strike="noStrike">
                <a:solidFill>
                  <a:srgbClr val="c00000"/>
                </a:solidFill>
                <a:latin typeface="Verdana"/>
              </a:rPr>
              <a:t>ракоскорпионы </a:t>
            </a:r>
            <a:r>
              <a:rPr b="1" lang="ru-RU" sz="2200" spc="-1" strike="noStrike">
                <a:solidFill>
                  <a:srgbClr val="c00000"/>
                </a:solidFill>
                <a:latin typeface="Verdana"/>
              </a:rPr>
              <a:t>– наиболее крупные из членистоногих, населявших моря и даже пресные водоемы. Они вымерли около 280 миллионов лет назад. А вот некоторые из мечехвостов – крупных, до метра, морских хелицеровых – дожили до наших дней, практически не изменившись за последние 350 миллионов лет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Picture 3" descr="image81"/>
          <p:cNvPicPr/>
          <p:nvPr/>
        </p:nvPicPr>
        <p:blipFill>
          <a:blip r:embed="rId1"/>
          <a:stretch/>
        </p:blipFill>
        <p:spPr>
          <a:xfrm>
            <a:off x="1357200" y="3500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image80"/>
          <p:cNvPicPr/>
          <p:nvPr/>
        </p:nvPicPr>
        <p:blipFill>
          <a:blip r:embed="rId2"/>
          <a:stretch/>
        </p:blipFill>
        <p:spPr>
          <a:xfrm>
            <a:off x="5000760" y="3500280"/>
            <a:ext cx="302400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Многоножк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57120" y="1142640"/>
            <a:ext cx="8258400" cy="1857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Червеобразное тело многоножек расчленено на большое (до 200) число одинаковых члеников, из которых отличаются только передний и последний. Каждый членик снабжен 1 или 2 парами членистых ножек, заканчивающихся коготком. Головной сегмент несет пару нитевидных щупалец и несколько глаз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Picture 4" descr="image87"/>
          <p:cNvPicPr/>
          <p:nvPr/>
        </p:nvPicPr>
        <p:blipFill>
          <a:blip r:embed="rId1"/>
          <a:stretch/>
        </p:blipFill>
        <p:spPr>
          <a:xfrm>
            <a:off x="614376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8" descr="image89"/>
          <p:cNvPicPr/>
          <p:nvPr/>
        </p:nvPicPr>
        <p:blipFill>
          <a:blip r:embed="rId2"/>
          <a:stretch/>
        </p:blipFill>
        <p:spPr>
          <a:xfrm>
            <a:off x="3429000" y="3143160"/>
            <a:ext cx="2293920" cy="22240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image90"/>
          <p:cNvPicPr/>
          <p:nvPr/>
        </p:nvPicPr>
        <p:blipFill>
          <a:blip r:embed="rId3"/>
          <a:stretch/>
        </p:blipFill>
        <p:spPr>
          <a:xfrm>
            <a:off x="785880" y="3143160"/>
            <a:ext cx="2293920" cy="2224080"/>
          </a:xfrm>
          <a:prstGeom prst="rect">
            <a:avLst/>
          </a:prstGeom>
          <a:ln w="0">
            <a:noFill/>
          </a:ln>
        </p:spPr>
      </p:pic>
      <p:sp>
        <p:nvSpPr>
          <p:cNvPr id="360" name="Прямоугольник 7"/>
          <p:cNvSpPr/>
          <p:nvPr/>
        </p:nvSpPr>
        <p:spPr>
          <a:xfrm>
            <a:off x="571680" y="535788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ногоножки живут преимущественно в темных сырых местах, в почве. Питаются разлагающейся органикой или мелкими животными. Наиболее известны из них сколопендры, костянки и кився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7772400" cy="89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многочисл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Самый распространенный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Самый процветающий тип животных</a:t>
            </a:r>
            <a:endParaRPr b="1" lang="en-US" sz="18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26" name="Picture 3" descr="Членистоногие"/>
          <p:cNvPicPr/>
          <p:nvPr/>
        </p:nvPicPr>
        <p:blipFill>
          <a:blip r:embed="rId1"/>
          <a:stretch/>
        </p:blipFill>
        <p:spPr>
          <a:xfrm>
            <a:off x="2463840" y="16556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Грибы"/>
          <p:cNvPicPr/>
          <p:nvPr/>
        </p:nvPicPr>
        <p:blipFill>
          <a:blip r:embed="rId2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Цветковые растения"/>
          <p:cNvPicPr/>
          <p:nvPr/>
        </p:nvPicPr>
        <p:blipFill>
          <a:blip r:embed="rId3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Простейшие"/>
          <p:cNvPicPr/>
          <p:nvPr/>
        </p:nvPicPr>
        <p:blipFill>
          <a:blip r:embed="rId4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Позвоночные"/>
          <p:cNvPicPr/>
          <p:nvPr/>
        </p:nvPicPr>
        <p:blipFill>
          <a:blip r:embed="rId5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9" descr="Моллюски"/>
          <p:cNvPicPr/>
          <p:nvPr/>
        </p:nvPicPr>
        <p:blipFill>
          <a:blip r:embed="rId6"/>
          <a:stretch/>
        </p:blipFill>
        <p:spPr>
          <a:xfrm>
            <a:off x="2500200" y="1643040"/>
            <a:ext cx="3900600" cy="39006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Другие"/>
          <p:cNvPicPr/>
          <p:nvPr/>
        </p:nvPicPr>
        <p:blipFill>
          <a:blip r:embed="rId7"/>
          <a:stretch/>
        </p:blipFill>
        <p:spPr>
          <a:xfrm>
            <a:off x="2500200" y="1643040"/>
            <a:ext cx="3929040" cy="3900600"/>
          </a:xfrm>
          <a:prstGeom prst="rect">
            <a:avLst/>
          </a:prstGeom>
          <a:ln w="0">
            <a:noFill/>
          </a:ln>
        </p:spPr>
      </p:pic>
      <p:sp>
        <p:nvSpPr>
          <p:cNvPr id="233" name="Прямоугольник 19"/>
          <p:cNvSpPr/>
          <p:nvPr/>
        </p:nvSpPr>
        <p:spPr>
          <a:xfrm>
            <a:off x="5214960" y="164304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ветков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ст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0"/>
          <p:cNvSpPr/>
          <p:nvPr/>
        </p:nvSpPr>
        <p:spPr>
          <a:xfrm>
            <a:off x="3888720" y="142884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иб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1"/>
          <p:cNvSpPr/>
          <p:nvPr/>
        </p:nvSpPr>
        <p:spPr>
          <a:xfrm>
            <a:off x="6336000" y="3000240"/>
            <a:ext cx="136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тейш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143920" y="96120"/>
            <a:ext cx="350640" cy="7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10320" y="27860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Членистоно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24"/>
          <p:cNvSpPr/>
          <p:nvPr/>
        </p:nvSpPr>
        <p:spPr>
          <a:xfrm>
            <a:off x="6190560" y="428616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оллюс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6071400" y="457200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26"/>
          <p:cNvSpPr/>
          <p:nvPr/>
        </p:nvSpPr>
        <p:spPr>
          <a:xfrm>
            <a:off x="6286680" y="3571920"/>
            <a:ext cx="2000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руг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позвоноч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46892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Сколопендры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2920" y="1143000"/>
            <a:ext cx="5568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Это хищники, нападающие на насекомых и даже мелких позвоночных. Первая пара ног у них превратилась в ногочелюсти с  серповидными когтями и ядовитыми железами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ус крупных тропических сколопендр опасен и для человека. Наша самая крупная сороконожка, обитающая на юге, достигает 10 см в длину и не так опасна: ее укус, особенно весной, болезнен, вызывает отек и повышение температуры, но потом все быстро проходи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Живут они под камнями, в щелях строений. На охоту выходят ночью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Самка сколопендры – заботливая мать: она «высиживает» в норке кучку яиц, постоянно облизывая их и удаляя со скорлупы плесень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Рисунок 5" descr="размеры сколоп.JPG"/>
          <p:cNvPicPr/>
          <p:nvPr/>
        </p:nvPicPr>
        <p:blipFill>
          <a:blip r:embed="rId1"/>
          <a:stretch/>
        </p:blipFill>
        <p:spPr>
          <a:xfrm>
            <a:off x="5931000" y="3714840"/>
            <a:ext cx="2793960" cy="2779560"/>
          </a:xfrm>
          <a:prstGeom prst="rect">
            <a:avLst/>
          </a:prstGeom>
          <a:ln w="0">
            <a:noFill/>
          </a:ln>
        </p:spPr>
      </p:pic>
      <p:pic>
        <p:nvPicPr>
          <p:cNvPr id="364" name="Рисунок 6" descr="Изображение"/>
          <p:cNvPicPr/>
          <p:nvPr/>
        </p:nvPicPr>
        <p:blipFill>
          <a:blip r:embed="rId2"/>
          <a:stretch/>
        </p:blipFill>
        <p:spPr>
          <a:xfrm>
            <a:off x="6000840" y="1214280"/>
            <a:ext cx="25239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3"/>
          <p:cNvSpPr/>
          <p:nvPr/>
        </p:nvSpPr>
        <p:spPr>
          <a:xfrm>
            <a:off x="571680" y="500040"/>
            <a:ext cx="814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Если сколопендра пробежит по телу, то на коже остается неприятная обжигающая слизь. От ожогов, полученных от тропических сколопендр, может скончаться и взрослый здоровый чело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Каких-либо мер по оказанию первой помощи, в случае укуса или ожога ядом сколопендры, нет. Можно протереть пораженное место спиртом и наложить стерильную повязку, но, даже если боль начала стихать, все равно в обязательном порядке нужно обратиться в ближайшую больницу, так как симптомы могут повториться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5"/>
          <p:cNvSpPr/>
          <p:nvPr/>
        </p:nvSpPr>
        <p:spPr>
          <a:xfrm>
            <a:off x="357120" y="3929040"/>
            <a:ext cx="450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Длина: до 30 см </a:t>
            </a:r>
            <a:br>
              <a:rPr sz="1800"/>
            </a:b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Место обитания: Австралия, Южная Америка, Крым, Средиземноморье и Закавка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0000"/>
                </a:solidFill>
                <a:uFillTx/>
                <a:latin typeface="Verdana"/>
              </a:rPr>
              <a:t>Гигантская сколопе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Рисунок 7" descr="Изображение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3429000"/>
            <a:ext cx="385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омашнее зада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369" name="Содержимое 3" descr="image59"/>
          <p:cNvPicPr/>
          <p:nvPr/>
        </p:nvPicPr>
        <p:blipFill>
          <a:blip r:embed="rId1"/>
          <a:stretch/>
        </p:blipFill>
        <p:spPr>
          <a:xfrm>
            <a:off x="642960" y="1643040"/>
            <a:ext cx="3286080" cy="3214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4"/>
          <p:cNvSpPr/>
          <p:nvPr/>
        </p:nvSpPr>
        <p:spPr>
          <a:xfrm>
            <a:off x="4643280" y="2071800"/>
            <a:ext cx="4071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1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новые учебни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§§22,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старые учебник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5"/>
          <p:cNvSpPr/>
          <p:nvPr/>
        </p:nvSpPr>
        <p:spPr>
          <a:xfrm>
            <a:off x="428760" y="492912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Подготовить сообщения и презентации по теме «Общая характеристика Членистоногих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18352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8d3e"/>
                </a:solidFill>
                <a:latin typeface="Verdana"/>
              </a:rPr>
              <a:t>Закрепление пройденного материала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503280" y="1142640"/>
            <a:ext cx="792648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500040" y="988560"/>
            <a:ext cx="81439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Sylfaen"/>
                <a:ea typeface="Times New Roman"/>
              </a:rPr>
              <a:t>1. Линька у членистоногих происходит в связи с тем, что хитиновый покров по мере роста живот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1) изнаши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2) теряет свою окрас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3) становится нерастяжим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ylfaen"/>
                <a:ea typeface="Times New Roman"/>
              </a:rPr>
              <a:t>4) пропускает во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1"/>
          <p:cNvSpPr/>
          <p:nvPr/>
        </p:nvSpPr>
        <p:spPr>
          <a:xfrm>
            <a:off x="357120" y="87480"/>
            <a:ext cx="82868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buClr>
                <a:srgbClr val="c00000"/>
              </a:buClr>
              <a:buFont typeface="Microsoft Sans Serif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Microsoft Sans Serif"/>
                <a:ea typeface="Times New Roman"/>
              </a:rPr>
              <a:t>Усложнение членистоногих по сравнению с кольчатыми червями проявляется в том, ч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c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1) многие имеют покровительственную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предостерегающую окрас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2) появилась кровеносная система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3) у них есть пищеварительная, выделительная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кровеносная, нервная системы орг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4) наружный скелет состоит из хитина, конечности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Microsoft Sans Serif"/>
                <a:ea typeface="Times New Roman"/>
              </a:rPr>
              <a:t>членист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357120" y="428760"/>
            <a:ext cx="8429760" cy="61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Чем членистоногие отличаются от других беспозвоночных? </a:t>
            </a:r>
            <a:r>
              <a:rPr b="0" i="1" lang="ru-RU" sz="2400" spc="-1" strike="noStrike">
                <a:solidFill>
                  <a:srgbClr val="c00000"/>
                </a:solidFill>
                <a:latin typeface="Verdana"/>
              </a:rPr>
              <a:t>(выбрать несколько правильных ответ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тело состоит из неодинаковых чл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2) система опоры и движения образована хитиновым покровом и мыш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3) передвигаются с помощью лопастевидных выро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4) покровы тела и мышцы образуют кожно-мускульный меш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5) кровеносная система замкну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6) конечности расчлен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 _  _   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1835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Выбрать правильные ответ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03280" y="1500120"/>
            <a:ext cx="828360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Verdana"/>
              </a:rPr>
              <a:t>Членистоногие  животные име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)лучевую симмет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Б)трехслойные  тел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)вторичную полость т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)гетерономную метаме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)незамкнутую кровенос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)внутренний скел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Ж)узловую нервную сист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)Кожно-мускульный меш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80438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 нашей планете обитает более 1 миллиона видов Членистоногих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2" name="Picture 18" descr="image14"/>
          <p:cNvPicPr/>
          <p:nvPr/>
        </p:nvPicPr>
        <p:blipFill>
          <a:blip r:embed="rId1"/>
          <a:stretch/>
        </p:blipFill>
        <p:spPr>
          <a:xfrm>
            <a:off x="785880" y="2071800"/>
            <a:ext cx="2500200" cy="37861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9" descr="image13"/>
          <p:cNvPicPr/>
          <p:nvPr/>
        </p:nvPicPr>
        <p:blipFill>
          <a:blip r:embed="rId2"/>
          <a:stretch/>
        </p:blipFill>
        <p:spPr>
          <a:xfrm>
            <a:off x="5072040" y="2071800"/>
            <a:ext cx="3114720" cy="297180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6"/>
          <p:cNvSpPr/>
          <p:nvPr/>
        </p:nvSpPr>
        <p:spPr>
          <a:xfrm>
            <a:off x="3357720" y="5143680"/>
            <a:ext cx="514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Численность Членистоногих превосходит Позвоночных в 2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(на 1 позвоночное  приходится  20 членистоноги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6797E-006 L 0.39028 0.31832 E">
                                      <p:cBhvr>
                                        <p:cTn id="51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4525E-007 L -0.2474 0.40773 E">
                                      <p:cBhvr>
                                        <p:cTn id="60" dur="2000" fill="hold"/>
                                        <p:tgtEl>
                                          <p:spTgt spid="2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68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1. Членистые конечности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46" name="Picture 4" descr="image38"/>
          <p:cNvPicPr/>
          <p:nvPr/>
        </p:nvPicPr>
        <p:blipFill>
          <a:blip r:embed="rId1"/>
          <a:stretch/>
        </p:blipFill>
        <p:spPr>
          <a:xfrm>
            <a:off x="500040" y="271476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3"/>
          <p:cNvSpPr/>
          <p:nvPr/>
        </p:nvSpPr>
        <p:spPr>
          <a:xfrm>
            <a:off x="571680" y="158256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Конечности членистоногих подвижно соединяются с телом посредством суставов и сами состоят из нескольких чле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4"/>
          <p:cNvSpPr/>
          <p:nvPr/>
        </p:nvSpPr>
        <p:spPr>
          <a:xfrm>
            <a:off x="3786120" y="2500200"/>
            <a:ext cx="4929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многочисленные рычаги, посредством которых можно плавать, ходить, захватывать добычу, пережевывать 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5"/>
          <p:cNvSpPr/>
          <p:nvPr/>
        </p:nvSpPr>
        <p:spPr>
          <a:xfrm>
            <a:off x="6286680" y="3714840"/>
            <a:ext cx="1714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Таз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вертлуг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бед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гол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ла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6"/>
          <p:cNvSpPr/>
          <p:nvPr/>
        </p:nvSpPr>
        <p:spPr>
          <a:xfrm>
            <a:off x="428760" y="52862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У большинства многоножек,    стрекоз и перепончатокрылых вертлуг двучленик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2. Сегментированное тело (гетерономная сегментация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Голова"/>
          <p:cNvSpPr/>
          <p:nvPr/>
        </p:nvSpPr>
        <p:spPr>
          <a:xfrm>
            <a:off x="6643800" y="1714680"/>
            <a:ext cx="1763640" cy="369720"/>
          </a:xfrm>
          <a:prstGeom prst="rect">
            <a:avLst/>
          </a:prstGeom>
          <a:solidFill>
            <a:srgbClr val="ff191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о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рюшко"/>
          <p:cNvSpPr/>
          <p:nvPr/>
        </p:nvSpPr>
        <p:spPr>
          <a:xfrm>
            <a:off x="2571840" y="178596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Головогрудь"/>
          <p:cNvSpPr/>
          <p:nvPr/>
        </p:nvSpPr>
        <p:spPr>
          <a:xfrm>
            <a:off x="785880" y="1785960"/>
            <a:ext cx="1743120" cy="336600"/>
          </a:xfrm>
          <a:prstGeom prst="rect">
            <a:avLst/>
          </a:prstGeom>
          <a:solidFill>
            <a:srgbClr val="8000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Голово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Грудь"/>
          <p:cNvSpPr/>
          <p:nvPr/>
        </p:nvSpPr>
        <p:spPr>
          <a:xfrm>
            <a:off x="6643800" y="2071800"/>
            <a:ext cx="1765080" cy="369720"/>
          </a:xfrm>
          <a:prstGeom prst="rect">
            <a:avLst/>
          </a:prstGeom>
          <a:solidFill>
            <a:srgbClr val="ffb9b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Гру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рюшко"/>
          <p:cNvSpPr/>
          <p:nvPr/>
        </p:nvSpPr>
        <p:spPr>
          <a:xfrm>
            <a:off x="6643800" y="2428920"/>
            <a:ext cx="1763640" cy="369720"/>
          </a:xfrm>
          <a:prstGeom prst="rect">
            <a:avLst/>
          </a:prstGeom>
          <a:solidFill>
            <a:srgbClr val="ff9900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Бр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рак полоски" descr="C:\Documents and Settings\Lebedev SN\Рабочий стол\Членистоногие\5.emf"/>
          <p:cNvPicPr/>
          <p:nvPr/>
        </p:nvPicPr>
        <p:blipFill>
          <a:blip r:embed="rId1"/>
          <a:stretch/>
        </p:blipFill>
        <p:spPr>
          <a:xfrm>
            <a:off x="1071720" y="4214880"/>
            <a:ext cx="2482560" cy="879480"/>
          </a:xfrm>
          <a:prstGeom prst="rect">
            <a:avLst/>
          </a:prstGeom>
          <a:ln w="0">
            <a:noFill/>
          </a:ln>
        </p:spPr>
      </p:pic>
      <p:pic>
        <p:nvPicPr>
          <p:cNvPr id="258" name="рак головогрудь" descr="C:\Documents and Settings\Lebedev SN\Рабочий стол\Членистоногие\1.emf"/>
          <p:cNvPicPr/>
          <p:nvPr/>
        </p:nvPicPr>
        <p:blipFill>
          <a:blip r:embed="rId2"/>
          <a:stretch/>
        </p:blipFill>
        <p:spPr>
          <a:xfrm>
            <a:off x="1214280" y="4143240"/>
            <a:ext cx="1246320" cy="530280"/>
          </a:xfrm>
          <a:prstGeom prst="rect">
            <a:avLst/>
          </a:prstGeom>
          <a:ln w="0">
            <a:noFill/>
          </a:ln>
        </p:spPr>
      </p:pic>
      <p:pic>
        <p:nvPicPr>
          <p:cNvPr id="259" name="рак брюшко" descr="C:\Documents and Settings\Lebedev SN\Рабочий стол\Членистоногие\7.emf"/>
          <p:cNvPicPr/>
          <p:nvPr/>
        </p:nvPicPr>
        <p:blipFill>
          <a:blip r:embed="rId3"/>
          <a:stretch/>
        </p:blipFill>
        <p:spPr>
          <a:xfrm>
            <a:off x="2428920" y="4143240"/>
            <a:ext cx="1065240" cy="617760"/>
          </a:xfrm>
          <a:prstGeom prst="rect">
            <a:avLst/>
          </a:prstGeom>
          <a:ln w="0">
            <a:noFill/>
          </a:ln>
        </p:spPr>
      </p:pic>
      <p:pic>
        <p:nvPicPr>
          <p:cNvPr id="260" name="рак ноги" descr="C:\Documents and Settings\Lebedev SN\Рабочий стол\Членистоногие\4.emf"/>
          <p:cNvPicPr/>
          <p:nvPr/>
        </p:nvPicPr>
        <p:blipFill>
          <a:blip r:embed="rId4"/>
          <a:stretch/>
        </p:blipFill>
        <p:spPr>
          <a:xfrm>
            <a:off x="714240" y="4500720"/>
            <a:ext cx="1887840" cy="515880"/>
          </a:xfrm>
          <a:prstGeom prst="rect">
            <a:avLst/>
          </a:prstGeom>
          <a:ln w="0">
            <a:noFill/>
          </a:ln>
        </p:spPr>
      </p:pic>
      <p:pic>
        <p:nvPicPr>
          <p:cNvPr id="261" name="нас контур" descr="D:\Папа\Рабочее место учителя\В работе\Зоология\З28 Членистоногие\Рис\Кто такие членистоногие\Внешнее строение\насекомые\насекомые-контур.png"/>
          <p:cNvPicPr/>
          <p:nvPr/>
        </p:nvPicPr>
        <p:blipFill>
          <a:blip r:embed="rId5"/>
          <a:stretch/>
        </p:blipFill>
        <p:spPr>
          <a:xfrm>
            <a:off x="5286240" y="3643200"/>
            <a:ext cx="3167280" cy="1587600"/>
          </a:xfrm>
          <a:prstGeom prst="rect">
            <a:avLst/>
          </a:prstGeom>
          <a:ln w="0">
            <a:noFill/>
          </a:ln>
        </p:spPr>
      </p:pic>
      <p:pic>
        <p:nvPicPr>
          <p:cNvPr id="262" name="нас грудь" descr="D:\Папа\Рабочее место учителя\В работе\Зоология\З28 Членистоногие\Рис\Кто такие членистоногие\Внешнее строение\насекомые\насекомые-грудь.png"/>
          <p:cNvPicPr/>
          <p:nvPr/>
        </p:nvPicPr>
        <p:blipFill>
          <a:blip r:embed="rId6"/>
          <a:stretch/>
        </p:blipFill>
        <p:spPr>
          <a:xfrm>
            <a:off x="5715000" y="4000680"/>
            <a:ext cx="1155600" cy="545760"/>
          </a:xfrm>
          <a:prstGeom prst="rect">
            <a:avLst/>
          </a:prstGeom>
          <a:ln w="0">
            <a:noFill/>
          </a:ln>
        </p:spPr>
      </p:pic>
      <p:pic>
        <p:nvPicPr>
          <p:cNvPr id="263" name="нас брюшко" descr="D:\Папа\Рабочее место учителя\В работе\Зоология\З28 Членистоногие\Рис\Кто такие членистоногие\Внешнее строение\насекомые\насекомые-брюшко.png"/>
          <p:cNvPicPr/>
          <p:nvPr/>
        </p:nvPicPr>
        <p:blipFill>
          <a:blip r:embed="rId7"/>
          <a:stretch/>
        </p:blipFill>
        <p:spPr>
          <a:xfrm>
            <a:off x="6786720" y="4000680"/>
            <a:ext cx="1546200" cy="696600"/>
          </a:xfrm>
          <a:prstGeom prst="rect">
            <a:avLst/>
          </a:prstGeom>
          <a:ln w="0">
            <a:noFill/>
          </a:ln>
        </p:spPr>
      </p:pic>
      <p:pic>
        <p:nvPicPr>
          <p:cNvPr id="264" name="нас ноги" descr="D:\Папа\Рабочее место учителя\В работе\Зоология\З28 Членистоногие\Рис\Кто такие членистоногие\Внешнее строение\насекомые\насекомые-ноги.png"/>
          <p:cNvPicPr/>
          <p:nvPr/>
        </p:nvPicPr>
        <p:blipFill>
          <a:blip r:embed="rId8"/>
          <a:stretch/>
        </p:blipFill>
        <p:spPr>
          <a:xfrm>
            <a:off x="5286240" y="4357800"/>
            <a:ext cx="3100680" cy="806400"/>
          </a:xfrm>
          <a:prstGeom prst="rect">
            <a:avLst/>
          </a:prstGeom>
          <a:ln w="0">
            <a:noFill/>
          </a:ln>
        </p:spPr>
      </p:pic>
      <p:pic>
        <p:nvPicPr>
          <p:cNvPr id="265" name="нас голова" descr="D:\Папа\Рабочее место учителя\В работе\Зоология\З28 Членистоногие\Рис\Кто такие членистоногие\Внешнее строение\насекомые\насекомые-голова.png"/>
          <p:cNvPicPr/>
          <p:nvPr/>
        </p:nvPicPr>
        <p:blipFill>
          <a:blip r:embed="rId9"/>
          <a:stretch/>
        </p:blipFill>
        <p:spPr>
          <a:xfrm>
            <a:off x="5643720" y="4286160"/>
            <a:ext cx="492120" cy="505080"/>
          </a:xfrm>
          <a:prstGeom prst="rect">
            <a:avLst/>
          </a:prstGeom>
          <a:ln w="0">
            <a:noFill/>
          </a:ln>
        </p:spPr>
      </p:pic>
      <p:pic>
        <p:nvPicPr>
          <p:cNvPr id="266" name="нас полоски" descr="D:\Папа\Рабочее место учителя\В работе\Зоология\З28 Членистоногие\Рис\Кто такие членистоногие\Внешнее строение\насекомые\насекомые-полоски.png"/>
          <p:cNvPicPr/>
          <p:nvPr/>
        </p:nvPicPr>
        <p:blipFill>
          <a:blip r:embed="rId10"/>
          <a:stretch/>
        </p:blipFill>
        <p:spPr>
          <a:xfrm>
            <a:off x="5500800" y="4000680"/>
            <a:ext cx="2936880" cy="1145880"/>
          </a:xfrm>
          <a:prstGeom prst="rect">
            <a:avLst/>
          </a:prstGeom>
          <a:ln w="0">
            <a:noFill/>
          </a:ln>
        </p:spPr>
      </p:pic>
      <p:sp>
        <p:nvSpPr>
          <p:cNvPr id="267" name="Насекомые"/>
          <p:cNvSpPr/>
          <p:nvPr/>
        </p:nvSpPr>
        <p:spPr>
          <a:xfrm>
            <a:off x="6000840" y="5429160"/>
            <a:ext cx="1763640" cy="3700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секом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Ракообразные"/>
          <p:cNvSpPr/>
          <p:nvPr/>
        </p:nvSpPr>
        <p:spPr>
          <a:xfrm>
            <a:off x="1214280" y="5357880"/>
            <a:ext cx="1764000" cy="368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паук контур" descr="паук-контур.png"/>
          <p:cNvPicPr/>
          <p:nvPr/>
        </p:nvPicPr>
        <p:blipFill>
          <a:blip r:embed="rId11"/>
          <a:stretch/>
        </p:blipFill>
        <p:spPr>
          <a:xfrm>
            <a:off x="928800" y="2500200"/>
            <a:ext cx="3168360" cy="1020960"/>
          </a:xfrm>
          <a:prstGeom prst="rect">
            <a:avLst/>
          </a:prstGeom>
          <a:ln w="0">
            <a:noFill/>
          </a:ln>
        </p:spPr>
      </p:pic>
      <p:pic>
        <p:nvPicPr>
          <p:cNvPr id="270" name="паук ноги" descr="паук-ноги.png"/>
          <p:cNvPicPr/>
          <p:nvPr/>
        </p:nvPicPr>
        <p:blipFill>
          <a:blip r:embed="rId12"/>
          <a:stretch/>
        </p:blipFill>
        <p:spPr>
          <a:xfrm>
            <a:off x="928800" y="2500200"/>
            <a:ext cx="3147840" cy="997200"/>
          </a:xfrm>
          <a:prstGeom prst="rect">
            <a:avLst/>
          </a:prstGeom>
          <a:ln w="0">
            <a:noFill/>
          </a:ln>
        </p:spPr>
      </p:pic>
      <p:pic>
        <p:nvPicPr>
          <p:cNvPr id="271" name="паук головогрудь" descr="паук-головогрдь.png"/>
          <p:cNvPicPr/>
          <p:nvPr/>
        </p:nvPicPr>
        <p:blipFill>
          <a:blip r:embed="rId13"/>
          <a:stretch/>
        </p:blipFill>
        <p:spPr>
          <a:xfrm>
            <a:off x="1500120" y="2643120"/>
            <a:ext cx="1001880" cy="642960"/>
          </a:xfrm>
          <a:prstGeom prst="rect">
            <a:avLst/>
          </a:prstGeom>
          <a:ln w="0">
            <a:noFill/>
          </a:ln>
        </p:spPr>
      </p:pic>
      <p:pic>
        <p:nvPicPr>
          <p:cNvPr id="272" name="паук полоски" descr="паук-полоски.png"/>
          <p:cNvPicPr/>
          <p:nvPr/>
        </p:nvPicPr>
        <p:blipFill>
          <a:blip r:embed="rId14"/>
          <a:stretch/>
        </p:blipFill>
        <p:spPr>
          <a:xfrm>
            <a:off x="1000080" y="2571840"/>
            <a:ext cx="3073320" cy="961920"/>
          </a:xfrm>
          <a:prstGeom prst="rect">
            <a:avLst/>
          </a:prstGeom>
          <a:ln w="0">
            <a:noFill/>
          </a:ln>
        </p:spPr>
      </p:pic>
      <p:pic>
        <p:nvPicPr>
          <p:cNvPr id="273" name="паук брюшко" descr="паук-брюшео.png"/>
          <p:cNvPicPr/>
          <p:nvPr/>
        </p:nvPicPr>
        <p:blipFill>
          <a:blip r:embed="rId15"/>
          <a:stretch/>
        </p:blipFill>
        <p:spPr>
          <a:xfrm>
            <a:off x="2500200" y="2500200"/>
            <a:ext cx="1141560" cy="782640"/>
          </a:xfrm>
          <a:prstGeom prst="rect">
            <a:avLst/>
          </a:prstGeom>
          <a:ln w="0">
            <a:noFill/>
          </a:ln>
        </p:spPr>
      </p:pic>
      <p:sp>
        <p:nvSpPr>
          <p:cNvPr id="274" name="Паукообразные"/>
          <p:cNvSpPr/>
          <p:nvPr/>
        </p:nvSpPr>
        <p:spPr>
          <a:xfrm>
            <a:off x="1000080" y="3571920"/>
            <a:ext cx="1978200" cy="35712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укообраз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Конечности"/>
          <p:cNvSpPr/>
          <p:nvPr/>
        </p:nvSpPr>
        <p:spPr>
          <a:xfrm>
            <a:off x="4572000" y="2071800"/>
            <a:ext cx="1714680" cy="42840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оне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7000"/>
                            </p:stCondLst>
                            <p:childTnLst>
                              <p:par>
                                <p:cTn id="12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3.Хитиновый покров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77" name="Picture 5" descr="image39"/>
          <p:cNvPicPr/>
          <p:nvPr/>
        </p:nvPicPr>
        <p:blipFill>
          <a:blip r:embed="rId1"/>
          <a:stretch/>
        </p:blipFill>
        <p:spPr>
          <a:xfrm>
            <a:off x="6215040" y="500040"/>
            <a:ext cx="2548080" cy="4546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image40"/>
          <p:cNvPicPr/>
          <p:nvPr/>
        </p:nvPicPr>
        <p:blipFill>
          <a:blip r:embed="rId2"/>
          <a:stretch/>
        </p:blipFill>
        <p:spPr>
          <a:xfrm>
            <a:off x="1143000" y="2071800"/>
            <a:ext cx="3571920" cy="285120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6"/>
          <p:cNvSpPr/>
          <p:nvPr/>
        </p:nvSpPr>
        <p:spPr>
          <a:xfrm>
            <a:off x="428760" y="1500120"/>
            <a:ext cx="61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(Хитин-легкое и прочное  веществ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поминающее пластмассу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8"/>
          <p:cNvSpPr/>
          <p:nvPr/>
        </p:nvSpPr>
        <p:spPr>
          <a:xfrm>
            <a:off x="500040" y="507204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некоторых животных хитиновые пластины сливаются, образуя единый хитиновый покров. В хитиновом панцире краб или жук напоминает закованного в латы средневекового рыцаря. Его тело прикрыто броней, но она позволяет ему быстро двиг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Прямоугольник 2"/>
          <p:cNvSpPr/>
          <p:nvPr/>
        </p:nvSpPr>
        <p:spPr>
          <a:xfrm>
            <a:off x="571680" y="428760"/>
            <a:ext cx="80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</a:rPr>
              <a:t>Хитиновый покров очень прочен и выполняет многочисленны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наружного скелета (</a:t>
            </a: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к внутренним выростам хитинового  покрова крепятся мышцы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тело членистоногих от различных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  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механических и химических поврежд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препятствует излишней потери влаг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защищает от ожог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Verdana"/>
              </a:rPr>
              <a:t>Иногда хитин пропитывается известью, поэтому некоторых крабов трудно разбить даже молот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5" descr="image73"/>
          <p:cNvPicPr/>
          <p:nvPr/>
        </p:nvPicPr>
        <p:blipFill>
          <a:blip r:embed="rId1"/>
          <a:stretch/>
        </p:blipFill>
        <p:spPr>
          <a:xfrm>
            <a:off x="3286080" y="414324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8" descr="image76"/>
          <p:cNvPicPr/>
          <p:nvPr/>
        </p:nvPicPr>
        <p:blipFill>
          <a:blip r:embed="rId2"/>
          <a:stretch/>
        </p:blipFill>
        <p:spPr>
          <a:xfrm>
            <a:off x="6000840" y="4214880"/>
            <a:ext cx="2374920" cy="23050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image77"/>
          <p:cNvPicPr/>
          <p:nvPr/>
        </p:nvPicPr>
        <p:blipFill>
          <a:blip r:embed="rId3"/>
          <a:stretch/>
        </p:blipFill>
        <p:spPr>
          <a:xfrm>
            <a:off x="571680" y="4143240"/>
            <a:ext cx="2374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1835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4. Линь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428760" y="1214280"/>
            <a:ext cx="407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Verdana"/>
              </a:rPr>
              <a:t>У хитинового скелета есть недостаток — он не позволяет постоянно расти. Приходится регулярно линять — сбрасывать старые «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4929120" y="857160"/>
            <a:ext cx="3643560" cy="3643560"/>
            <a:chOff x="4929120" y="857160"/>
            <a:chExt cx="3643560" cy="3643560"/>
          </a:xfrm>
        </p:grpSpPr>
        <p:pic>
          <p:nvPicPr>
            <p:cNvPr id="288" name="Picture 6" descr="image44"/>
            <p:cNvPicPr/>
            <p:nvPr/>
          </p:nvPicPr>
          <p:blipFill>
            <a:blip r:embed="rId1"/>
            <a:srcRect l="0" t="0" r="0" b="-22931"/>
            <a:stretch/>
          </p:blipFill>
          <p:spPr>
            <a:xfrm>
              <a:off x="4929120" y="857160"/>
              <a:ext cx="3643560" cy="3643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9" name="Rectangle 7"/>
            <p:cNvSpPr/>
            <p:nvPr/>
          </p:nvSpPr>
          <p:spPr>
            <a:xfrm>
              <a:off x="4929120" y="3833640"/>
              <a:ext cx="364356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Сброшенный при линьке хитиновый покров речного рак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Прямоугольник 11"/>
          <p:cNvSpPr/>
          <p:nvPr/>
        </p:nvSpPr>
        <p:spPr>
          <a:xfrm>
            <a:off x="357120" y="3286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Verdana"/>
              </a:rPr>
              <a:t>Линька — процесс непростой, ведь из старой брони приходится вытаскивать даже тончайшие ус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428760" y="5072040"/>
            <a:ext cx="8286480" cy="1486440"/>
            <a:chOff x="428760" y="5072040"/>
            <a:chExt cx="8286480" cy="1486440"/>
          </a:xfrm>
        </p:grpSpPr>
        <p:pic>
          <p:nvPicPr>
            <p:cNvPr id="292" name="Picture 7" descr="image12"/>
            <p:cNvPicPr/>
            <p:nvPr/>
          </p:nvPicPr>
          <p:blipFill>
            <a:blip r:embed="rId2"/>
            <a:stretch/>
          </p:blipFill>
          <p:spPr>
            <a:xfrm>
              <a:off x="428760" y="5072040"/>
              <a:ext cx="82864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8"/>
            <p:cNvSpPr/>
            <p:nvPr/>
          </p:nvSpPr>
          <p:spPr>
            <a:xfrm>
              <a:off x="675720" y="6190200"/>
              <a:ext cx="2425680" cy="36828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инька кузнеч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9680" y="500040"/>
            <a:ext cx="8186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5" name="Прямоугольник 2"/>
          <p:cNvSpPr/>
          <p:nvPr/>
        </p:nvSpPr>
        <p:spPr>
          <a:xfrm>
            <a:off x="571680" y="500040"/>
            <a:ext cx="7929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В тот момент, когда старые покровы сброшены, а новые еще не успели затвердеть, происходит увеличение размеров и объема те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571680" y="1785960"/>
            <a:ext cx="8030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4:09:01Z</dcterms:created>
  <dc:creator>Владелец</dc:creator>
  <dc:description/>
  <dc:language>en-US</dc:language>
  <cp:lastModifiedBy>Олег</cp:lastModifiedBy>
  <dcterms:modified xsi:type="dcterms:W3CDTF">2012-10-18T16:55:18Z</dcterms:modified>
  <cp:revision>39</cp:revision>
  <dc:subject/>
  <dc:title>Тип Членистоногие</dc:title>
</cp:coreProperties>
</file>