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FCC-400A-48C1-BBA2-05F13F1E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0402-66D0-40FA-897B-F1A33CBD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85B6-2809-4F39-969E-7E3BABE4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3D3-6A0B-406A-94A8-69B75941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2E5F-DA03-4535-BF1F-DF6B350A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6081-903C-403F-AEA7-D272666B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964E-86CF-4628-8051-FF8A1EE6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313D-A3A2-4850-BD35-00FA0789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43F4-ACE8-4C6F-8C51-090FA6E5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D1D4-9F13-4121-980A-BA542C85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78A0-D392-4F96-A004-24717D4B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8EE-A7C1-4AC6-95B6-A3AB1C3D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968E-CD7B-402F-9B68-1E5A1CEE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4163-65DA-4E81-A657-4DDFE3E2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67F6-E5C7-42B2-BD6A-7EB4F7F5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09A3-54B1-4066-923F-3EA68120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FCE0-BDAB-4B13-85B8-653E09DC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03E5B-9FF2-4DEB-BA2E-784ADA10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E6501-D6CE-4DCB-9B10-876CD558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A5760-BD0B-4DE6-8EC6-E2653444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76AFB-D1F6-4827-A8F6-E0A544B7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EDE2F-78E7-4AD9-8784-2B63ED46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5A99-24BD-4EE8-941F-FD6D3456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61975-3545-4141-A0E1-49AE3F7A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6756F-211A-42C1-B1FD-9F0CC7DF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E305B-61C2-4DED-A73F-70460343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46136-6E3A-4F1D-B896-83F60641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16EC1-822B-482D-9537-BABF5476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17904-D999-47B0-9150-3630274B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19F80-DF70-49A6-A495-7DC74CD2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52A99-62BA-4E63-9DD2-67610D13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4A79B-3ADC-4C7F-9EC6-A695D704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6557B-0B48-471C-A617-5C12E0F6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D351-7965-4401-B936-663753A8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6F2D4-53B7-4745-9702-2A9C72B5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82DD5-C177-4C32-96CA-49CE10CC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083E5-EFC2-4060-ADE1-AC06D803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42BE2-EFC7-4B42-9660-3AB47A5E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F4281-301E-4581-834D-A8B46818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1E446-EA8E-437B-941B-D69C1073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DF405-4C83-4BB4-B582-15131F08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58CE2-47B1-47EB-824E-EC92D15C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95697-58EC-4C22-ACAC-15ADB15F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02839-B37C-44E8-813F-D1050331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4EB-8759-4E69-BC8F-F41CBAAE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7ABD1-78D6-46C1-B231-9618ECE7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B6236-FAC7-48E3-9261-B7218118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CF57B-26AF-457D-9081-3822E9F6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745CE-D48E-4459-9F7E-F11435DA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8EEB4-A1D3-4AD0-A781-65E09DBA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E0D68-D470-4D48-BDEE-F93255FF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E4BC5-6E82-46B0-A8FB-EE6C2D0A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5DFDD-F676-4AE6-BD60-EA94629E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0AF98-8A56-4EEF-A052-CF0A886C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90D15-B376-4132-8885-1F126AC3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8AE-39A1-4AB1-9AD6-349C6A0A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45C11-7EE8-4532-971B-91A26E97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279-28E5-4817-9543-26D87099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A649-6E8B-479C-B937-4E521E87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FC3-5706-443A-A492-05DF5C9C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BFF4-726D-4A70-8948-918FF197A03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E2D3-28A7-4ACC-AF69-2150D8064CE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C5C8-4089-4B0F-A9EB-AEF415E6F05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9455-5C6E-4FEC-9E82-C9BCE60D512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E00F-CBBF-41D6-9C53-0C28D7134A8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Олег</cp:lastModifiedBy>
  <dcterms:modified xsi:type="dcterms:W3CDTF">2012-10-18T16:55:18Z</dcterms:modified>
  <cp:revision>39</cp:revision>
  <dc:subject/>
  <dc:title>Тип Членистоногие</dc:title>
</cp:coreProperties>
</file>