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CC20-9370-4CDB-AD59-993DB07222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1EEA-E33F-421A-AC60-D0BDB7AB07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856-A97F-419C-ADB9-6028811C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A4E-AEBE-413A-B69E-AED0DDFC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3BF-2A57-4A2E-ACA4-9FC82B89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41F-3937-492D-855B-1DD28530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7B87-39D1-438D-A811-7117014A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3345-B5F0-4D62-BC11-3E9110AC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56AB-2B95-4756-8765-B11091D9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ED74-6261-4A54-9C21-72911F73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516C-31DB-4C9B-AFFE-521EF72D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71E1-DFBC-4DE4-99A9-5C55668F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983B-E943-4C18-BE67-6450BC14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571-7250-4B68-9294-26918C21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A9F0-8724-482E-A8AD-7BC07CC6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982C-DD37-4EE3-A5E6-3BC04B51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9D0B-EF6A-44AE-A018-21071F07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A3DD-47B5-480E-9508-3A4D4298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2AFB-FF97-4799-A215-688C355A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5A2E8-E5BD-44CF-993C-AF65494D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43460-E9C2-4E89-A139-2277D856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6DF54-A005-4934-ADCC-0C32BCB5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3628-2819-4A17-BA86-14E37E7C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5BA7A-E26E-4B6D-AED5-18B650C3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21D-7562-4EFA-A131-2DF01333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A9648-6296-4B5C-ACE3-A0EF7610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4815C-455D-4EE1-AEA2-7322B688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1504-A992-4C37-A5E1-D9EDA4AC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CD292-064E-4F45-ADA0-30D585C4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8794-30C5-4589-97A7-A8C497B1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9F87C-CEDC-45AA-8552-96532545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CB694-C3C4-457F-9773-AB47F6E3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C0B-1D07-442A-98D3-C342F046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F8F-CB79-4E6F-A375-433E43AA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30E-66BF-492A-AE21-624F3A1E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48B-6789-4260-BAE0-173F68F7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F3F-6394-4F8C-A1B3-69445273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D61-8999-49A5-9B8E-3BAC5A88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F776-EB70-46CD-A2B1-FADC2A8094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65D0-212B-4E2B-BF32-F9BB6DD88F7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59B4-9433-412A-9F70-1A84F10A21A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Горизонтальный свиток 3"/>
          <p:cNvSpPr/>
          <p:nvPr/>
        </p:nvSpPr>
        <p:spPr>
          <a:xfrm>
            <a:off x="285840" y="357120"/>
            <a:ext cx="8715240" cy="65008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596880" y="1670040"/>
            <a:ext cx="8491680" cy="412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"/>
          <p:cNvPicPr/>
          <p:nvPr/>
        </p:nvPicPr>
        <p:blipFill>
          <a:blip r:embed="rId1"/>
          <a:stretch/>
        </p:blipFill>
        <p:spPr>
          <a:xfrm>
            <a:off x="971640" y="928800"/>
            <a:ext cx="7143840" cy="5929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454680" y="285840"/>
            <a:ext cx="87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a839"/>
                </a:solidFill>
                <a:latin typeface="Constantia"/>
              </a:rPr>
              <a:t>Общая схема пищеваритель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39290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"/>
          <p:cNvSpPr/>
          <p:nvPr/>
        </p:nvSpPr>
        <p:spPr>
          <a:xfrm>
            <a:off x="3929040" y="117360"/>
            <a:ext cx="521496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ищеварительный аппара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 — околоушная железа;     2 — зуб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 — полость рта;                  4 — гло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 — язык;                       6 — подъязы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 — поднижнечелюстная железа;  8 — пищевод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 — желудок;                  10 — печен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 — общий желчный проток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 — сжиматель (сфинктер) привратни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 — желчный пузыр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 — поджелудо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 — двенадцатиперст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6 — крутой изгиб двенадцатиперст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7 — ле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8 — пра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9 — тощ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 — во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1 — ни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2 — попереч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3 — илеоцекальный клапан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4 — слепая кишка;                      25 — аппендикс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6 — подвздош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7 — сигмовид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8 — прям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9 — наружный сжиматель заднего про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0" y="2571840"/>
            <a:ext cx="5357880" cy="4286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изистая оболочка язык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tunica mucosa linguae, гладкая в области корня, нижней поверхности тела и верхушки и шероховатая на спинке языка. Эта шероховатость обусловлена большим количеством мелких возвы­шений – сосочков языка, papillae linguales. Все сосочки языка отличаются по 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4662360" y="2714760"/>
            <a:ext cx="496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ит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нус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и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чевиц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Жело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стовидные сосо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http://www.anatomy.tj/images/167.jpg"/>
          <p:cNvPicPr/>
          <p:nvPr/>
        </p:nvPicPr>
        <p:blipFill>
          <a:blip r:embed="rId1"/>
          <a:stretch/>
        </p:blipFill>
        <p:spPr>
          <a:xfrm>
            <a:off x="0" y="2643120"/>
            <a:ext cx="3500280" cy="42148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2142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030a0"/>
                </a:solidFill>
                <a:uFillTx/>
                <a:latin typeface="Constantia"/>
              </a:rPr>
              <a:t>Полость рта (cavum oris) и зев (fauc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714240" y="386640"/>
            <a:ext cx="821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яя зубная дуга;                          2-шов нё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нёбно-глоточная дужка;         4-нёбная миндалин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нёбно-язычная дуж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спинка язы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7-нижняя зубная дуг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8-нижняя гу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9-зев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0-спайка губ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1-язычек (нёбный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2-мягк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3-тверд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14-верхняя губа;  15-бугорок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хней губы; 16-губной желоб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14240" y="500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6686d"/>
                </a:solidFill>
                <a:uFillTx/>
                <a:latin typeface="Constantia"/>
              </a:rPr>
              <a:t>Зубы (denies) верхней и нижней челюстей у взрослого человека. Правая сторо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2" descr="http://www.anatomy.tj/images/173.jpg"/>
          <p:cNvPicPr/>
          <p:nvPr/>
        </p:nvPicPr>
        <p:blipFill>
          <a:blip r:embed="rId1"/>
          <a:stretch/>
        </p:blipFill>
        <p:spPr>
          <a:xfrm>
            <a:off x="5715000" y="200016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0" y="1190880"/>
            <a:ext cx="7143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ие большие коренные зубы (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-верхние малые коренные зубы (пре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верхний клык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-верх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верх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ниж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-ниж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-нижний клык;  9-нижние малые коренные зубы (премоляры);  10-подбородочное отверстие;  11-нижние большие коренные зубы (моляры);  12-канал ниж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25640" y="8571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лись материа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ya-atlas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ология. Человек. Учебник для 8 класса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олесов Д.В. и др.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.: Дрофа, 2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Большая иллюстрированная энциклопед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рудита М Махаон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32:01Z</dcterms:created>
  <dc:creator>Admin</dc:creator>
  <dc:description/>
  <dc:language>en-US</dc:language>
  <cp:lastModifiedBy>Василий</cp:lastModifiedBy>
  <dcterms:modified xsi:type="dcterms:W3CDTF">2012-10-11T16:04:18Z</dcterms:modified>
  <cp:revision>10</cp:revision>
  <dc:subject/>
  <dc:title>Слайд 1</dc:title>
</cp:coreProperties>
</file>