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F2A3-370B-43EA-8EF3-DCF036A5E7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55FF-456F-4AF8-97D2-8B3BC4AB89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F1BA-1546-4EB3-992B-D588956C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E4CB-7562-4F94-AABE-CFD60797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65CD-7AF9-4C95-BA0C-42637616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CDB0-411F-46BC-B6BE-B6871A3D7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B53A-604C-42B9-8877-8F9F8508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B05D-F5CE-4358-A4C0-C337159F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7178-DA50-4706-952E-878E27AB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5CA0-0468-4DE0-AA8D-43677FC7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A218-77D9-49E1-852C-46FA131C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8C4A-4D9B-48F9-A7E7-52444E33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1200-9489-4AD7-A970-994CCBC4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FB63-6C7C-4DCB-A407-28690BF6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2370-84CC-431F-B091-8BA91997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AEA2-1CCB-4893-8896-2FD9DEB3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A949-DAC8-4AD1-A29F-F19FE4A6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A931-6C6F-406D-84CC-D10B50A9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CDE9-9F24-4C57-9896-A9D4C159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78E37-C802-41C7-9E96-8B98BDEA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D5A4E-A7BB-4CE8-B05F-A4731EC0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B8125-FE33-4D7C-BBDE-051FCD24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F757A-2A65-4B8D-B881-6A1DD086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C6617-88D1-4125-9345-F21DBA83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E0C5-73CC-4640-B5EE-E5F4D185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3C5F2-234B-4419-83E5-99795082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7771E-BCF8-454A-977A-7192A64B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9AD95-819D-4041-946C-38ACEBB0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ED3C3-1CE6-4757-82A9-3FE729A8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9BBBF-C6E1-46C0-B782-4B1521E3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63FB3-6AB5-4CA6-B119-E49540D0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5BC75-9BB6-453A-B319-EED33417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DA47-87FA-487D-BD97-5E45E0D5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AD88-1392-432C-9958-881D88B2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E3E9-A0FB-4D25-8BAB-543803EE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83B3-D6BE-406B-B63F-AD7247DA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C60B-5654-4DCE-89F4-A929682F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4F73-BEB0-4837-A3DF-415BD6F8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6DD0-E2EC-4A19-AC0A-AE3E8B9170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AF7F-F71F-4D57-B17B-EB2FEF33D8B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B699-8EA7-477A-94BB-F5D47DD199E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Горизонтальный свиток 3"/>
          <p:cNvSpPr/>
          <p:nvPr/>
        </p:nvSpPr>
        <p:spPr>
          <a:xfrm>
            <a:off x="285840" y="357120"/>
            <a:ext cx="8715240" cy="6500880"/>
          </a:xfrm>
          <a:prstGeom prst="horizontalScroll">
            <a:avLst>
              <a:gd name="adj" fmla="val 12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Прямоугольник 4" descr=""/>
          <p:cNvPicPr/>
          <p:nvPr/>
        </p:nvPicPr>
        <p:blipFill>
          <a:blip r:embed="rId1"/>
          <a:stretch/>
        </p:blipFill>
        <p:spPr>
          <a:xfrm>
            <a:off x="596880" y="1670040"/>
            <a:ext cx="8491680" cy="4121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2" descr=""/>
          <p:cNvPicPr/>
          <p:nvPr/>
        </p:nvPicPr>
        <p:blipFill>
          <a:blip r:embed="rId1"/>
          <a:stretch/>
        </p:blipFill>
        <p:spPr>
          <a:xfrm>
            <a:off x="971640" y="928800"/>
            <a:ext cx="7143840" cy="59292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3"/>
          <p:cNvSpPr/>
          <p:nvPr/>
        </p:nvSpPr>
        <p:spPr>
          <a:xfrm>
            <a:off x="454680" y="285840"/>
            <a:ext cx="87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a839"/>
                </a:solidFill>
                <a:latin typeface="Constantia"/>
              </a:rPr>
              <a:t>Общая схема пищеварительной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392904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"/>
          <p:cNvSpPr/>
          <p:nvPr/>
        </p:nvSpPr>
        <p:spPr>
          <a:xfrm>
            <a:off x="3929040" y="117360"/>
            <a:ext cx="521496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Пищеварительный аппара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 — околоушная железа;     2 — зубы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 — полость рта;                  4 — глот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 — язык;                       6 — подъязычная желез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7 — поднижнечелюстная железа;  8 — пищевод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9 — желудок;                  10 — печень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1 — общий желчный проток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2 — сжиматель (сфинктер) привратни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3 — желчный пузыр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4 — поджелудочная желез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5 — двенадцатиперст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6 — крутой изгиб двенадцатиперст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7 — левый изгиб ободоч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8 — правый изгиб ободоч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9 — тощ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0 — восходящ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1 — нисходящ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2 — поперечн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3 — илеоцекальный клапан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4 — слепая кишка;                      25 — аппендикс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6 — подвздош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7 — сигмовидн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8 — прям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9 — наружный сжиматель заднего прох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0" y="2571840"/>
            <a:ext cx="5357880" cy="428616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2"/>
          <p:cNvSpPr/>
          <p:nvPr/>
        </p:nvSpPr>
        <p:spPr>
          <a:xfrm>
            <a:off x="0" y="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лизистая оболочка язык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 tunica mucosa linguae, гладкая в области корня, нижней поверхности тела и верхушки и шероховатая на спинке языка. Эта шероховатость обусловлена большим количеством мелких возвы­шений – сосочков языка, papillae linguales. Все сосочки языка отличаются по фор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4662360" y="2714760"/>
            <a:ext cx="4966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ите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онус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риб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Чечевице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Желоб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истовидные сосоч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1" descr="http://www.anatomy.tj/images/167.jpg"/>
          <p:cNvPicPr/>
          <p:nvPr/>
        </p:nvPicPr>
        <p:blipFill>
          <a:blip r:embed="rId1"/>
          <a:stretch/>
        </p:blipFill>
        <p:spPr>
          <a:xfrm>
            <a:off x="0" y="2643120"/>
            <a:ext cx="3500280" cy="421488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2"/>
          <p:cNvSpPr/>
          <p:nvPr/>
        </p:nvSpPr>
        <p:spPr>
          <a:xfrm>
            <a:off x="0" y="2142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7030a0"/>
                </a:solidFill>
                <a:uFillTx/>
                <a:latin typeface="Constantia"/>
              </a:rPr>
              <a:t>Полость рта (cavum oris) и зев (fauces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714240" y="386640"/>
            <a:ext cx="8215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-верхняя зубная дуга;                          2-шов нёб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-нёбно-глоточная дужка;         4-нёбная миндалин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-нёбно-язычная дужк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-спинка язык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7-нижняя зубная дуг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8-нижняя губ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9-зев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0-спайка губ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1-язычек (нёбный)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2-мягкое нёбо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3-твердое нёбо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14-верхняя губа;  15-бугорок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рхней губы; 16-губной желобо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714240" y="50004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6686d"/>
                </a:solidFill>
                <a:uFillTx/>
                <a:latin typeface="Constantia"/>
              </a:rPr>
              <a:t>Зубы (denies) верхней и нижней челюстей у взрослого человека. Правая сторон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Рисунок 2" descr="http://www.anatomy.tj/images/173.jpg"/>
          <p:cNvPicPr/>
          <p:nvPr/>
        </p:nvPicPr>
        <p:blipFill>
          <a:blip r:embed="rId1"/>
          <a:stretch/>
        </p:blipFill>
        <p:spPr>
          <a:xfrm>
            <a:off x="5715000" y="2000160"/>
            <a:ext cx="3429000" cy="27860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"/>
          <p:cNvSpPr/>
          <p:nvPr/>
        </p:nvSpPr>
        <p:spPr>
          <a:xfrm>
            <a:off x="0" y="1190880"/>
            <a:ext cx="7143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-верхние большие коренные зубы (моляры)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-верхние малые коренные зубы (премоляры)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-верхний клык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-верхний латер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-верхний меди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-нижний меди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-нижний латер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8-нижний клык;  9-нижние малые коренные зубы (премоляры);  10-подбородочное отверстие;  11-нижние большие коренные зубы (моляры);  12-канал ниж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125640" y="85716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лись материал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tomiya-atlas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иология. Человек. Учебник для 8 класса.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олесов Д.В. и др.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.: Дрофа, 20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Большая иллюстрированная энциклопедия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рудита М Махаон 20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5:32:01Z</dcterms:created>
  <dc:creator>Admin</dc:creator>
  <dc:description/>
  <dc:language>en-US</dc:language>
  <cp:lastModifiedBy>Василий</cp:lastModifiedBy>
  <dcterms:modified xsi:type="dcterms:W3CDTF">2012-10-11T16:04:18Z</dcterms:modified>
  <cp:revision>10</cp:revision>
  <dc:subject/>
  <dc:title>Слайд 1</dc:title>
</cp:coreProperties>
</file>