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750B-1580-44A1-A2B9-E6EFDD9658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5C00-69CC-425F-8B57-B8B9B5B964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BBD-F83D-46AA-B076-2C8A21FC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5B7-E719-4F3F-9F72-CA3F8DC5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777-1549-4618-97ED-F7951657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7A8-1984-41AE-AC92-E7CEA2C9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48CB-3D55-44B7-BED1-A8C8EE07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A599-2FF1-4D50-9AE0-97B9E979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1764-606A-4155-8DC3-6513B306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0A91-F670-44F1-84FA-3BFA7FAE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2242-4104-4598-A518-E6EFC645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EE4A-4D6C-4F8A-9022-606C89DA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E061-67BA-43BD-806E-F48FD969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C5A-C657-4F15-B36E-08A2671D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2182-CB63-4D71-88BA-9C918CC0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9B22-6418-4CC9-A1FD-8692592E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565C-271F-463E-9696-7D171EAD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7A9C-E628-4FDA-8806-E6100C22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82A9-06A8-4B82-9B9F-2B84E9B4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1745-BEE4-4DA8-B0A6-3FA70E5D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01DD7-4A93-4830-AE4B-CBC6C5A2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8642-8A37-47CB-B07D-CB57FD04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1091-1C81-4B7B-94D8-2B0CB7D2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4908-47CE-4994-B8D0-BD50E7D6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7EA-FAD5-4644-91C6-445C97AC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C407-DB2C-43BD-BFE5-8EB10FC4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84032-C73F-4250-ABA5-9722CD15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8AA9D-3236-497E-8671-52D07601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FCDEF-EA3D-434E-AD6A-A9E4983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A97C-0D0E-4670-A436-C98DAEB9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1437-3FD9-4793-A339-B1DCE3D9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329D4-8CA7-4609-BE09-928C30EE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9A5-DB8A-429A-910D-8C2CF701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272-85ED-45A7-B720-B1C2F7CD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924-7B46-411F-82AC-30E80B4F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A89-B3C1-4AF8-B1BE-EF807D30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7E4-C0A7-4463-8582-6C42658E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BF9-81F7-4EB0-9955-66E3DDF0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C01D-2F72-4518-8A3E-A3C9D6A45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9868-5A4F-4E72-8293-910181A53F3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4B51-01CA-41FF-81A0-0DED6C56D9B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Горизонтальный свиток 3"/>
          <p:cNvSpPr/>
          <p:nvPr/>
        </p:nvSpPr>
        <p:spPr>
          <a:xfrm>
            <a:off x="285840" y="357120"/>
            <a:ext cx="871524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596880" y="1670040"/>
            <a:ext cx="8491680" cy="412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971640" y="928800"/>
            <a:ext cx="7143840" cy="5929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454680" y="285840"/>
            <a:ext cx="87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a839"/>
                </a:solidFill>
                <a:latin typeface="Constantia"/>
              </a:rPr>
              <a:t>Общая схема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3929040" y="117360"/>
            <a:ext cx="52149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ищеварительный аппар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— околоушная железа;     2 — зу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— полость рта;                  4 — гло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— язык;                       6 — подъязы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— поднижнечелюстная железа;  8 — пищевод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— желудок;                  10 — печен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— общий желчный проток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— сжиматель (сфинктер) привратни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— желчный пузыр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— поджелудо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— двенадцатиперст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— крутой изгиб двенадцатиперст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7 — ле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8 — пра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 — тощ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 — во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1 — ни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2 — попереч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3 — илеоцекальный клапан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4 — слепая кишка;                      25 — аппендикс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6 — подвздош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7 — сигмовид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8 — прям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9 — наружный сжиматель заднего про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0" y="2571840"/>
            <a:ext cx="5357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изистая оболочка язы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tunica mucosa linguae, гладкая в области корня, нижней поверхности тела и верхушки и шероховатая на спинке языка. Эта шероховатость обусловлена большим количеством мелких возвы­шений – сосочков языка, papillae linguales. Все сосочки языка отличаются по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4662360" y="2714760"/>
            <a:ext cx="496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ус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и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чевиц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ело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стовидные сос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http://www.anatomy.tj/images/167.jpg"/>
          <p:cNvPicPr/>
          <p:nvPr/>
        </p:nvPicPr>
        <p:blipFill>
          <a:blip r:embed="rId1"/>
          <a:stretch/>
        </p:blipFill>
        <p:spPr>
          <a:xfrm>
            <a:off x="0" y="2643120"/>
            <a:ext cx="3500280" cy="4214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2142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Constantia"/>
              </a:rPr>
              <a:t>Полость рта (cavum oris) и зев (fauc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14240" y="38664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яя зубная дуга;                          2-шов нё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нёбно-глоточная дужка;         4-нёбная миндалин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нёбно-язычная дуж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спинка язы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7-нижняя зубная дуг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8-нижняя гу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9-зев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0-спайка губ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1-язычек (нёбный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2-мягк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3-тверд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14-верхняя губа;  15-бугорок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хней губы; 16-губной желоб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50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6686d"/>
                </a:solidFill>
                <a:uFillTx/>
                <a:latin typeface="Constantia"/>
              </a:rPr>
              <a:t>Зубы (denies) верхней и нижней челюстей у взрослого человека. Правая сторо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2" descr="http://www.anatomy.tj/images/173.jpg"/>
          <p:cNvPicPr/>
          <p:nvPr/>
        </p:nvPicPr>
        <p:blipFill>
          <a:blip r:embed="rId1"/>
          <a:stretch/>
        </p:blipFill>
        <p:spPr>
          <a:xfrm>
            <a:off x="571500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1190880"/>
            <a:ext cx="7143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ие большие коренные зубы (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-верхние малые коренные зубы (пре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верхний клык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-верх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верх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ниж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-ниж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-нижний клык;  9-нижние малые коренные зубы (премоляры);  10-подбородочное отверстие;  11-нижние большие коренные зубы (моляры);  12-канал ниж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25640" y="8571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лись материа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ya-atlas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я. Человек. Учебник для 8 класса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олесов Д.В. и др.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.: Дрофа, 2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Большая иллюстрированная энциклопед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рудита М Махаон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2:01Z</dcterms:created>
  <dc:creator>Admin</dc:creator>
  <dc:description/>
  <dc:language>en-US</dc:language>
  <cp:lastModifiedBy>Василий</cp:lastModifiedBy>
  <dcterms:modified xsi:type="dcterms:W3CDTF">2012-10-11T16:04:18Z</dcterms:modified>
  <cp:revision>10</cp:revision>
  <dc:subject/>
  <dc:title>Слайд 1</dc:title>
</cp:coreProperties>
</file>