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CDC9-61F1-4C04-A774-30FC5A6DD0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BB80-6B61-4A0E-BBB0-88E3BC4AC1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7A5F-58FF-47BF-81F4-A0D2E0B5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0DD-8690-4908-A67A-D7E53154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3AB-4699-411A-A4F7-C49C12FE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512-BB8E-4DAA-BCFB-19A12878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3070-BDB1-434C-9BE7-D095A357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D9D0-2BA8-45FD-94D2-8675927D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EE5B-D341-4848-BBBD-62051BA7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1AF3-0F5B-45CB-BA4C-C2B6CF3B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3099-7C61-481A-AC5E-1E63E8AC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90CC-34C4-4CBA-B8B1-870A12D2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CCC5-6BCA-45E9-8B5D-042E7306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C704-AE43-482D-9DA8-2D04DA83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1E27-ED5F-4297-A85B-B46B4458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8D0C-8EEA-4FA2-971C-5A01BB12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B7EF-53C2-4405-B54B-4209F8E8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A38A-2531-4FDC-94E4-64D66D4E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F8A9-0F0F-4EBF-BC02-494BD0F5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AA67C-A880-441F-9CE6-FCBB5473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7B6C4-4178-4064-9A16-01D9BA9B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BDB80-D1F5-4049-B9F7-52627BB3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BED09-A717-4D2D-8871-4A41B092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D5B0F-F30B-45D5-92E5-43A1D5EC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42AB-76EB-4C9C-8449-FFC4FB81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9C600-1D06-473A-8380-946BB82E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25561-DDC1-47AF-AA60-A2ECB81C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F5389-59A4-48A5-B0DA-32BA6502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854A8-E698-4AF7-A512-0E36FBF5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394C7-22DA-4ADA-B899-C5F4CC75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D2582-D667-49F9-9DE1-46338C59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97F4E-5701-4C94-BC40-1F323DEA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CCD4-A91C-461A-9F00-88CBA659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B50C-206F-4342-9052-EACF889B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ACD8-1EFA-47C4-BA96-0A829B08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19C1-9263-4EF0-A9A5-774341D4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E84-802C-4089-A579-0A8EF89D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A313-BC23-4213-99A2-148B436F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73E4-20A0-4BF4-8496-1A8FF33CF4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931A-3585-43E0-B858-8F13A8E49C0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481E-DA34-4249-9C3A-F5F677B903B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Горизонтальный свиток 3"/>
          <p:cNvSpPr/>
          <p:nvPr/>
        </p:nvSpPr>
        <p:spPr>
          <a:xfrm>
            <a:off x="285840" y="357120"/>
            <a:ext cx="8715240" cy="650088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596880" y="1670040"/>
            <a:ext cx="8491680" cy="412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2" descr=""/>
          <p:cNvPicPr/>
          <p:nvPr/>
        </p:nvPicPr>
        <p:blipFill>
          <a:blip r:embed="rId1"/>
          <a:stretch/>
        </p:blipFill>
        <p:spPr>
          <a:xfrm>
            <a:off x="971640" y="928800"/>
            <a:ext cx="7143840" cy="59292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454680" y="285840"/>
            <a:ext cx="87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a839"/>
                </a:solidFill>
                <a:latin typeface="Constantia"/>
              </a:rPr>
              <a:t>Общая схема пищеваритель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392904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"/>
          <p:cNvSpPr/>
          <p:nvPr/>
        </p:nvSpPr>
        <p:spPr>
          <a:xfrm>
            <a:off x="3929040" y="117360"/>
            <a:ext cx="521496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Пищеварительный аппара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 — околоушная железа;     2 — зуб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 — полость рта;                  4 — глот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 — язык;                       6 — подъязы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 — поднижнечелюстная железа;  8 — пищевод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9 — желудок;                  10 — печень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1 — общий желчный проток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2 — сжиматель (сфинктер) привратни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3 — желчный пузыр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4 — поджелудо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5 — двенадцатиперст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6 — крутой изгиб двенадцатиперст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7 — ле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8 — пра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9 — тощ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 — во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1 — ни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2 — попереч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3 — илеоцекальный клапан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4 — слепая кишка;                      25 — аппендикс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6 — подвздош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7 — сигмовид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8 — прям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9 — наружный сжиматель заднего про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0" y="2571840"/>
            <a:ext cx="5357880" cy="42861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лизистая оболочка язык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tunica mucosa linguae, гладкая в области корня, нижней поверхности тела и верхушки и шероховатая на спинке языка. Эта шероховатость обусловлена большим количеством мелких возвы­шений – сосочков языка, papillae linguales. Все сосочки языка отличаются по фор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4662360" y="2714760"/>
            <a:ext cx="4966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ит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нус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и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ечевиц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Жело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стовидные сосоч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http://www.anatomy.tj/images/167.jpg"/>
          <p:cNvPicPr/>
          <p:nvPr/>
        </p:nvPicPr>
        <p:blipFill>
          <a:blip r:embed="rId1"/>
          <a:stretch/>
        </p:blipFill>
        <p:spPr>
          <a:xfrm>
            <a:off x="0" y="2643120"/>
            <a:ext cx="3500280" cy="42148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"/>
          <p:cNvSpPr/>
          <p:nvPr/>
        </p:nvSpPr>
        <p:spPr>
          <a:xfrm>
            <a:off x="0" y="2142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7030a0"/>
                </a:solidFill>
                <a:uFillTx/>
                <a:latin typeface="Constantia"/>
              </a:rPr>
              <a:t>Полость рта (cavum oris) и зев (fauce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714240" y="386640"/>
            <a:ext cx="8215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яя зубная дуга;                          2-шов нё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нёбно-глоточная дужка;         4-нёбная миндалин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нёбно-язычная дуж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спинка язы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7-нижняя зубная дуг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8-нижняя гу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9-зев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0-спайка губ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1-язычек (нёбный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2-мягк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3-тверд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14-верхняя губа;  15-бугорок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хней губы; 16-губной желобо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714240" y="500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6686d"/>
                </a:solidFill>
                <a:uFillTx/>
                <a:latin typeface="Constantia"/>
              </a:rPr>
              <a:t>Зубы (denies) верхней и нижней челюстей у взрослого человека. Правая сторо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2" descr="http://www.anatomy.tj/images/173.jpg"/>
          <p:cNvPicPr/>
          <p:nvPr/>
        </p:nvPicPr>
        <p:blipFill>
          <a:blip r:embed="rId1"/>
          <a:stretch/>
        </p:blipFill>
        <p:spPr>
          <a:xfrm>
            <a:off x="5715000" y="2000160"/>
            <a:ext cx="3429000" cy="27860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"/>
          <p:cNvSpPr/>
          <p:nvPr/>
        </p:nvSpPr>
        <p:spPr>
          <a:xfrm>
            <a:off x="0" y="1190880"/>
            <a:ext cx="7143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ие большие коренные зубы (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-верхние малые коренные зубы (пре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верхний клык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-верх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верх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ниж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-ниж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-нижний клык;  9-нижние малые коренные зубы (премоляры);  10-подбородочное отверстие;  11-нижние большие коренные зубы (моляры);  12-канал ниж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25640" y="8571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лись материал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iya-atlas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иология. Человек. Учебник для 8 класса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олесов Д.В. и др.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.: Дрофа, 20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Большая иллюстрированная энциклопедия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рудита М Махаон 2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5:32:01Z</dcterms:created>
  <dc:creator>Admin</dc:creator>
  <dc:description/>
  <dc:language>en-US</dc:language>
  <cp:lastModifiedBy>Василий</cp:lastModifiedBy>
  <dcterms:modified xsi:type="dcterms:W3CDTF">2012-10-11T16:04:18Z</dcterms:modified>
  <cp:revision>10</cp:revision>
  <dc:subject/>
  <dc:title>Слайд 1</dc:title>
</cp:coreProperties>
</file>