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4BDB5-7B7E-47A4-B5EF-C04AFA61A10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EBCAF-698C-4FF5-99B9-62F71AAD2AA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D6D02-BE75-43AA-A86E-47FFC8A05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76734-7CDF-46E5-940B-C750E4ADD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912DF-30F6-4170-BE42-B721F127A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2AB98-F140-404C-B869-F50987BF6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82480-8AC0-4D5A-8011-F4F1E5AC5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BF540-819D-4BB8-B73F-74764D6A2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B2F3F-3C90-46F3-9AB2-E5EAD0861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C3B53-AC9C-403A-9F29-60C321F06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58A26-914F-49C6-B845-C442A56A9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61C14-1648-4D24-8193-164383D9B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EF9EF-1317-41C3-8674-FF2AB0078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9D62A-F6BD-485A-B018-6589378BC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BE734-AC96-45FC-B7D4-09EB6D595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5FFB1-5366-4DD4-81F2-096C959CC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54876-CB7A-4DE9-9009-73D7C5699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ECEF6-4081-42BB-BBEE-AE6B12CAF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350C3-F4D7-4DFE-92DB-81E11049A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A5AFD0-77B0-4BC0-84F3-218F0D4C2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780FEF-C574-4CDF-9873-01224C47C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9E6ED2-325A-47B6-AAC6-CAD0BEE1A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2D2C18-C6E5-450B-BB67-400A8F880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23C956-F3BB-4660-8C01-6C62FBEF5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4860B-09CC-4407-9215-F093A3C4A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FAC3B2-1695-412C-9F91-40435F03A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3832D6-2DEE-454E-BFCD-52A9164E1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677D7D-974B-423B-AF7E-6B365DB74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CFA75D-0CD0-45F8-90AA-C4CB67116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1C6162-1A46-4750-A2DA-46ECEC84C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200694-663E-4AB2-89E4-2E6B2B7FD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C1B0D6-7B50-4922-8AFC-26A3C8576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73C1F-A4A9-4D04-B016-42CFC464E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F0950-6FE6-4D88-BB6E-978D52E64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3BF2A-208C-4AF9-B699-694FEFB29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9EB73-0496-4BC2-B2AC-C94A84F78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A873A-F2C6-4A3A-9D99-B5BC5DCB1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3EF85-4CBA-44DF-ABC2-C3E0BEE00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5DC83-8D5B-4FF6-81BD-F84993E8699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52ED1-2A78-49EF-803E-61C54031CB02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49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0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2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3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Прямоугольник с одним вырезанным скругленным углом 8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Прямоугольный треугольник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Полилиния 9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Полилиния 10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47B77-1C66-447A-A5B5-C9500A200AE8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Горизонтальный свиток 3"/>
          <p:cNvSpPr/>
          <p:nvPr/>
        </p:nvSpPr>
        <p:spPr>
          <a:xfrm>
            <a:off x="285840" y="357120"/>
            <a:ext cx="8715240" cy="6500880"/>
          </a:xfrm>
          <a:prstGeom prst="horizontalScroll">
            <a:avLst>
              <a:gd name="adj" fmla="val 12500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Прямоугольник 4" descr=""/>
          <p:cNvPicPr/>
          <p:nvPr/>
        </p:nvPicPr>
        <p:blipFill>
          <a:blip r:embed="rId1"/>
          <a:stretch/>
        </p:blipFill>
        <p:spPr>
          <a:xfrm>
            <a:off x="596880" y="1670040"/>
            <a:ext cx="8491680" cy="41212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3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Рисунок 2" descr=""/>
          <p:cNvPicPr/>
          <p:nvPr/>
        </p:nvPicPr>
        <p:blipFill>
          <a:blip r:embed="rId1"/>
          <a:stretch/>
        </p:blipFill>
        <p:spPr>
          <a:xfrm>
            <a:off x="971640" y="928800"/>
            <a:ext cx="7143840" cy="5929200"/>
          </a:xfrm>
          <a:prstGeom prst="rect">
            <a:avLst/>
          </a:prstGeom>
          <a:ln w="0">
            <a:noFill/>
          </a:ln>
        </p:spPr>
      </p:pic>
      <p:sp>
        <p:nvSpPr>
          <p:cNvPr id="146" name="TextBox 3"/>
          <p:cNvSpPr/>
          <p:nvPr/>
        </p:nvSpPr>
        <p:spPr>
          <a:xfrm>
            <a:off x="454680" y="285840"/>
            <a:ext cx="874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a839"/>
                </a:solidFill>
                <a:latin typeface="Constantia"/>
              </a:rPr>
              <a:t>Общая схема пищеварительной систем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heel spokes="3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3929040" cy="6858000"/>
          </a:xfrm>
          <a:prstGeom prst="rect">
            <a:avLst/>
          </a:prstGeom>
          <a:ln w="0">
            <a:noFill/>
          </a:ln>
        </p:spPr>
      </p:pic>
      <p:sp>
        <p:nvSpPr>
          <p:cNvPr id="148" name="Прямоугольник 2"/>
          <p:cNvSpPr/>
          <p:nvPr/>
        </p:nvSpPr>
        <p:spPr>
          <a:xfrm>
            <a:off x="3929040" y="117360"/>
            <a:ext cx="5214960" cy="80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               </a:t>
            </a:r>
            <a:r>
              <a:rPr b="1" i="1" lang="ru-RU" sz="1800" spc="-1" strike="noStrike">
                <a:solidFill>
                  <a:srgbClr val="000000"/>
                </a:solidFill>
                <a:latin typeface="Constantia"/>
              </a:rPr>
              <a:t>Пищеварительный аппарат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1 — околоушная железа;     2 — зубы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3 — полость рта;                  4 — глотка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5 — язык;                       6 — подъязычная железа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7 — поднижнечелюстная железа;  8 — пищевод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9 — желудок;                  10 — печень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11 — общий желчный проток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12 — сжиматель (сфинктер) привратника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13 — желчный пузырь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14 — поджелудочная железа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15 — двенадцатиперстная кишка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16 — крутой изгиб двенадцатиперстной кишки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17 — левый изгиб ободочной кишки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18 — правый изгиб ободочной кишки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19 — тощая кишка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20 — восходящая ободочная кишка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21 — нисходящая ободочная кишка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22 — поперечная ободочная кишка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23 — илеоцекальный клапан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24 — слепая кишка;                      25 — аппендикс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26 — подвздошная кишка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27 — сигмовидная ободочная кишка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28 — прямая кишка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29 — наружный сжиматель заднего проход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heel spokes="3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Рисунок 1" descr=""/>
          <p:cNvPicPr/>
          <p:nvPr/>
        </p:nvPicPr>
        <p:blipFill>
          <a:blip r:embed="rId1"/>
          <a:stretch/>
        </p:blipFill>
        <p:spPr>
          <a:xfrm>
            <a:off x="0" y="2571840"/>
            <a:ext cx="5357880" cy="4286160"/>
          </a:xfrm>
          <a:prstGeom prst="rect">
            <a:avLst/>
          </a:prstGeom>
          <a:ln w="0">
            <a:noFill/>
          </a:ln>
        </p:spPr>
      </p:pic>
      <p:sp>
        <p:nvSpPr>
          <p:cNvPr id="150" name="Прямоугольник 2"/>
          <p:cNvSpPr/>
          <p:nvPr/>
        </p:nvSpPr>
        <p:spPr>
          <a:xfrm>
            <a:off x="0" y="0"/>
            <a:ext cx="9144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nstantia"/>
              </a:rPr>
              <a:t>Слизистая оболочка языка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, tunica mucosa linguae, гладкая в области корня, нижней поверхности тела и верхушки и шероховатая на спинке языка. Эта шероховатость обусловлена большим количеством мелких возвы­шений – сосочков языка, papillae linguales. Все сосочки языка отличаются по форм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Прямоугольник 3"/>
          <p:cNvSpPr/>
          <p:nvPr/>
        </p:nvSpPr>
        <p:spPr>
          <a:xfrm>
            <a:off x="4662360" y="2714760"/>
            <a:ext cx="4966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Нитевидные сосочки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Конусовидные сосочки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Грибовидные сосочки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Чечевицевидные сосочки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Желобовидные сосочки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Листовидные сосочк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heel spokes="3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Рисунок 1" descr="http://www.anatomy.tj/images/167.jpg"/>
          <p:cNvPicPr/>
          <p:nvPr/>
        </p:nvPicPr>
        <p:blipFill>
          <a:blip r:embed="rId1"/>
          <a:stretch/>
        </p:blipFill>
        <p:spPr>
          <a:xfrm>
            <a:off x="0" y="2643120"/>
            <a:ext cx="3500280" cy="4214880"/>
          </a:xfrm>
          <a:prstGeom prst="rect">
            <a:avLst/>
          </a:prstGeom>
          <a:ln w="0">
            <a:noFill/>
          </a:ln>
        </p:spPr>
      </p:pic>
      <p:sp>
        <p:nvSpPr>
          <p:cNvPr id="153" name="Прямоугольник 2"/>
          <p:cNvSpPr/>
          <p:nvPr/>
        </p:nvSpPr>
        <p:spPr>
          <a:xfrm>
            <a:off x="0" y="214200"/>
            <a:ext cx="8786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7030a0"/>
                </a:solidFill>
                <a:uFillTx/>
                <a:latin typeface="Constantia"/>
              </a:rPr>
              <a:t>Полость рта (cavum oris) и зев (fauces)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Rectangle 1"/>
          <p:cNvSpPr/>
          <p:nvPr/>
        </p:nvSpPr>
        <p:spPr>
          <a:xfrm>
            <a:off x="714240" y="386640"/>
            <a:ext cx="821556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1-верхняя зубная дуга;                          2-шов нёба;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3-нёбно-глоточная дужка;         4-нёбная миндалина;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5-нёбно-язычная дужка;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6-спинка языка;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          7-нижняя зубная дуга;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          8-нижняя губа;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          9-зев;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          10-спайка губ;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          11-язычек (нёбный)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          12-мягкое нёбо;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          13-твердое нёбо;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14-верхняя губа;  15-бугорок      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верхней губы; 16-губной желобок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heel spokes="3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Прямоугольник 1"/>
          <p:cNvSpPr/>
          <p:nvPr/>
        </p:nvSpPr>
        <p:spPr>
          <a:xfrm>
            <a:off x="714240" y="500040"/>
            <a:ext cx="8001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6686d"/>
                </a:solidFill>
                <a:uFillTx/>
                <a:latin typeface="Constantia"/>
              </a:rPr>
              <a:t>Зубы (denies) верхней и нижней челюстей у взрослого человека. Правая сторона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6" name="Рисунок 2" descr="http://www.anatomy.tj/images/173.jpg"/>
          <p:cNvPicPr/>
          <p:nvPr/>
        </p:nvPicPr>
        <p:blipFill>
          <a:blip r:embed="rId1"/>
          <a:stretch/>
        </p:blipFill>
        <p:spPr>
          <a:xfrm>
            <a:off x="5715000" y="2000160"/>
            <a:ext cx="3429000" cy="2786040"/>
          </a:xfrm>
          <a:prstGeom prst="rect">
            <a:avLst/>
          </a:prstGeom>
          <a:ln w="0">
            <a:noFill/>
          </a:ln>
        </p:spPr>
      </p:pic>
      <p:sp>
        <p:nvSpPr>
          <p:cNvPr id="157" name="Rectangle 1"/>
          <p:cNvSpPr/>
          <p:nvPr/>
        </p:nvSpPr>
        <p:spPr>
          <a:xfrm>
            <a:off x="0" y="1190880"/>
            <a:ext cx="714384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1-верхние большие коренные зубы (моляры);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2-верхние малые коренные зубы (премоляры);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3-верхний клык;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4-верхний латеральный резец;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5-верхний медиальный резец;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6-нижний медиальный резец;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7-нижний латеральный резец;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8-нижний клык;  9-нижние малые коренные зубы (премоляры);  10-подбородочное отверстие;  11-нижние большие коренные зубы (моляры);  12-канал нижний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heel spokes="3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Box 1"/>
          <p:cNvSpPr/>
          <p:nvPr/>
        </p:nvSpPr>
        <p:spPr>
          <a:xfrm>
            <a:off x="125640" y="857160"/>
            <a:ext cx="7489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Использовались материалы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natomiya-atlas.r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Биология. Человек. Учебник для 8 класса. 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i="1" lang="ru-RU" sz="2400" spc="-1" strike="noStrike">
                <a:solidFill>
                  <a:srgbClr val="000000"/>
                </a:solidFill>
                <a:latin typeface="Constantia"/>
              </a:rPr>
              <a:t>Колесов Д.В. и др. 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М.: Дрофа, 200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3. Большая иллюстрированная энциклопедия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эрудита М Махаон 200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heel spokes="3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7T15:32:01Z</dcterms:created>
  <dc:creator>Admin</dc:creator>
  <dc:description/>
  <dc:language>en-US</dc:language>
  <cp:lastModifiedBy>Василий</cp:lastModifiedBy>
  <dcterms:modified xsi:type="dcterms:W3CDTF">2012-10-11T16:04:18Z</dcterms:modified>
  <cp:revision>10</cp:revision>
  <dc:subject/>
  <dc:title>Слайд 1</dc:title>
</cp:coreProperties>
</file>