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B435-C925-47BF-9B92-84F56D69FC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30E5-61FE-4796-B63D-7FB4BE2963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0BE-0649-4F68-94AA-1D3A1EBA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629-6CFA-4982-AA92-C6AF9464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6A1-FEE1-4035-B443-F7185FC2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EAD-FECC-4593-9DEF-6B70DD9E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5EF8-92D6-4B8A-A365-BF72A50C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2FC9-6004-4A79-9151-8E95B7E9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CEC9-E53D-4CCB-88ED-B53C00D8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1055-A131-4169-8A05-82857F2F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887C-F3A4-4D9F-9270-FBD607E0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B601-16C0-4EFF-9C68-80C03902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899A-FBFC-4B29-B88C-221E204B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DE4-29AA-4EFF-9588-8178A654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5955-74C8-40BB-AAD2-89556DE4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3BFD-AB77-4EB4-AFBF-44C7F3B0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A616-9605-480A-AE9E-8F4F7B2B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B2DE-2E1D-405E-8A67-F57DD063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FB31-56BB-4A3A-8F78-6841EEB0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40151-B2E4-43B9-80BE-3E98FD76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9FA36-0348-4EE8-A3EB-C373A392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F38B2-A258-474C-BD62-93C95C86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4DF5D-C23E-4CC3-ABC6-45D87D47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482B-AFF8-4342-8437-BC797DE8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6B6-13C8-4EDB-A3C9-1EF9E3D7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44B4-528F-4A79-8B2E-E7AE951C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5A40D-2120-4CE6-9D60-9A04B0F1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C2FC-6EB1-413D-BA94-5C31A6F7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18C59-35F6-4884-93CB-4A22FAD8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3069-FE88-4ADF-BAD6-EC6A536E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F702-0161-41C6-840A-B99173D0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9BA0-0816-4BA8-9E53-3F5926E0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D76-C854-4F12-A496-312C2977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9F5-5F05-4578-B471-94B7AB2F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CF0-82FE-4C85-9ECE-48A278DA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DB9-1657-4AC5-BED4-4A91EDE6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A2B-EBCC-4F23-B236-FEEA64FA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D3D-8C0A-483F-B8EA-A1461885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CF2D-B197-4646-BCE0-F768C567D6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A1C7-B603-4895-A882-607304A522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B7A1-280F-45F5-8D4C-C41EABED4AF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Горизонтальный свиток 3"/>
          <p:cNvSpPr/>
          <p:nvPr/>
        </p:nvSpPr>
        <p:spPr>
          <a:xfrm>
            <a:off x="285840" y="357120"/>
            <a:ext cx="871524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596880" y="1670040"/>
            <a:ext cx="8491680" cy="412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971640" y="928800"/>
            <a:ext cx="7143840" cy="5929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454680" y="285840"/>
            <a:ext cx="87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a839"/>
                </a:solidFill>
                <a:latin typeface="Constantia"/>
              </a:rPr>
              <a:t>Общая схема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3929040" y="117360"/>
            <a:ext cx="52149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ищеварительный аппар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— околоушная железа;     2 — зу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— полость рта;                  4 — гло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— язык;                       6 — подъязы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— поднижнечелюстная железа;  8 — пищевод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— желудок;                  10 — печен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— общий желчный проток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— сжиматель (сфинктер) привратни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— желчный пузыр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— поджелудо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— двенадцатиперст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— крутой изгиб двенадцатиперст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7 — ле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8 — пра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 — тощ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 — во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1 — ни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2 — попереч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3 — илеоцекальный клапан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4 — слепая кишка;                      25 — аппендикс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6 — подвздош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7 — сигмовид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8 — прям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9 — наружный сжиматель заднего про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0" y="2571840"/>
            <a:ext cx="5357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изистая оболочка язы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tunica mucosa linguae, гладкая в области корня, нижней поверхности тела и верхушки и шероховатая на спинке языка. Эта шероховатость обусловлена большим количеством мелких возвы­шений – сосочков языка, papillae linguales. Все сосочки языка отличаются по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4662360" y="2714760"/>
            <a:ext cx="496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ус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и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чевиц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ело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стовидные сос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http://www.anatomy.tj/images/167.jpg"/>
          <p:cNvPicPr/>
          <p:nvPr/>
        </p:nvPicPr>
        <p:blipFill>
          <a:blip r:embed="rId1"/>
          <a:stretch/>
        </p:blipFill>
        <p:spPr>
          <a:xfrm>
            <a:off x="0" y="2643120"/>
            <a:ext cx="3500280" cy="4214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2142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Constantia"/>
              </a:rPr>
              <a:t>Полость рта (cavum oris) и зев (fauc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14240" y="38664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яя зубная дуга;                          2-шов нё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нёбно-глоточная дужка;         4-нёбная миндалин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нёбно-язычная дуж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спинка язы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7-нижняя зубная дуг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8-нижняя гу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9-зев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0-спайка губ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1-язычек (нёбный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2-мягк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3-тверд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14-верхняя губа;  15-бугорок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хней губы; 16-губной желоб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50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6686d"/>
                </a:solidFill>
                <a:uFillTx/>
                <a:latin typeface="Constantia"/>
              </a:rPr>
              <a:t>Зубы (denies) верхней и нижней челюстей у взрослого человека. Правая сторо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2" descr="http://www.anatomy.tj/images/173.jpg"/>
          <p:cNvPicPr/>
          <p:nvPr/>
        </p:nvPicPr>
        <p:blipFill>
          <a:blip r:embed="rId1"/>
          <a:stretch/>
        </p:blipFill>
        <p:spPr>
          <a:xfrm>
            <a:off x="571500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1190880"/>
            <a:ext cx="7143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ие большие коренные зубы (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-верхние малые коренные зубы (пре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верхний клык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-верх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верх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ниж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-ниж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-нижний клык;  9-нижние малые коренные зубы (премоляры);  10-подбородочное отверстие;  11-нижние большие коренные зубы (моляры);  12-канал ниж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25640" y="8571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лись материа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ya-atlas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я. Человек. Учебник для 8 класса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олесов Д.В. и др.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.: Дрофа, 2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Большая иллюстрированная энциклопед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рудита М Махаон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2:01Z</dcterms:created>
  <dc:creator>Admin</dc:creator>
  <dc:description/>
  <dc:language>en-US</dc:language>
  <cp:lastModifiedBy>Василий</cp:lastModifiedBy>
  <dcterms:modified xsi:type="dcterms:W3CDTF">2012-10-11T16:04:18Z</dcterms:modified>
  <cp:revision>10</cp:revision>
  <dc:subject/>
  <dc:title>Слайд 1</dc:title>
</cp:coreProperties>
</file>