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1467A-2726-4D91-9445-529499976D6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122E1-7607-4E09-8D8E-C00ABDED990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BE125-347B-4202-BE3F-1690B442F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3FA6D-3F88-4547-8B9F-6C7B4722F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0773A-58CB-4E6A-9CC7-6EC0E8D53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26A34-AB1D-4AB2-9163-BE64B1B65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FF8A4-98E6-47DD-8F50-EF093C937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7D150-AF25-44DC-B530-4C6C4EB39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DB006-8FD5-4D36-9A82-B46061DDF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044F0-7C67-47CF-9F59-B15E64DA4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55917-0552-4EB2-AB62-4E411437D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E2346-5E11-4F56-94BC-34A58DA46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A6A52-E966-4C43-B8F9-B6EAFFCC2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06640-C696-49CB-B03E-4C12241EE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CA36D-A293-49A5-9E4A-F4ABA4A59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76273-A919-4564-8A79-2698C0FBD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AC993-4BBA-4E0D-982E-3248A7FA3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63528-1F8A-4E29-B0BF-EC9E90650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A3F83-FE96-4D64-A731-385E1D986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4F0C4E-D164-4E7B-B2C9-A51140880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1AA7ED-99B7-44E7-B4AD-D1382CE26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02424D-47BE-46D8-9EB6-C2DF3D9C4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04BA4D-54B0-4CC2-8E78-C820F2801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C1902A-1E09-47D9-BD5B-F11F3D56D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979B1-E882-4B70-B5F8-511F50E1B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8D420C-C7CF-4F5E-917E-9C3A012B4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BDB568-73F1-46C3-A722-BF70135B4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3B2497-5357-42E6-BE94-03A9C5CE3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6C0B74-2F82-4731-A4DC-00D3FD85B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44F625-6831-4C2A-AC91-AE6824941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B91B72-9628-4978-BC36-75A2BD623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390CEE-1C77-471E-B6F0-578128069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D0027-1BA5-48CA-B673-2A6546990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7A25F-758C-4F2A-B0FA-25130502A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04FE1-4FA4-4AAA-A52A-CEB74D7B7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B71D6-4D5E-4F5F-B10C-E52B3D95F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712A1-E5D8-4B22-A4A6-85EC3E655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58ED3-02C1-415B-AF53-85F8C1581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B9070-6AAD-47FF-9774-7BF128C0737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BB521-05B5-4D63-8500-69518E5E9385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49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0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2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3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Прямоугольник с одним вырезанным скругленным углом 8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Прямоугольный треугольник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Полилиния 9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Полилиния 10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8CD15-7038-4F1D-B3F4-00B1DA3B4C3A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Горизонтальный свиток 3"/>
          <p:cNvSpPr/>
          <p:nvPr/>
        </p:nvSpPr>
        <p:spPr>
          <a:xfrm>
            <a:off x="285840" y="357120"/>
            <a:ext cx="8715240" cy="6500880"/>
          </a:xfrm>
          <a:prstGeom prst="horizontalScroll">
            <a:avLst>
              <a:gd name="adj" fmla="val 12500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Прямоугольник 4" descr=""/>
          <p:cNvPicPr/>
          <p:nvPr/>
        </p:nvPicPr>
        <p:blipFill>
          <a:blip r:embed="rId1"/>
          <a:stretch/>
        </p:blipFill>
        <p:spPr>
          <a:xfrm>
            <a:off x="596880" y="1670040"/>
            <a:ext cx="8491680" cy="41212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3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Рисунок 2" descr=""/>
          <p:cNvPicPr/>
          <p:nvPr/>
        </p:nvPicPr>
        <p:blipFill>
          <a:blip r:embed="rId1"/>
          <a:stretch/>
        </p:blipFill>
        <p:spPr>
          <a:xfrm>
            <a:off x="971640" y="928800"/>
            <a:ext cx="7143840" cy="5929200"/>
          </a:xfrm>
          <a:prstGeom prst="rect">
            <a:avLst/>
          </a:prstGeom>
          <a:ln w="0">
            <a:noFill/>
          </a:ln>
        </p:spPr>
      </p:pic>
      <p:sp>
        <p:nvSpPr>
          <p:cNvPr id="146" name="TextBox 3"/>
          <p:cNvSpPr/>
          <p:nvPr/>
        </p:nvSpPr>
        <p:spPr>
          <a:xfrm>
            <a:off x="454680" y="285840"/>
            <a:ext cx="874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a839"/>
                </a:solidFill>
                <a:latin typeface="Constantia"/>
              </a:rPr>
              <a:t>Общая схема пищеварительной систем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heel spokes="3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3929040" cy="6858000"/>
          </a:xfrm>
          <a:prstGeom prst="rect">
            <a:avLst/>
          </a:prstGeom>
          <a:ln w="0">
            <a:noFill/>
          </a:ln>
        </p:spPr>
      </p:pic>
      <p:sp>
        <p:nvSpPr>
          <p:cNvPr id="148" name="Прямоугольник 2"/>
          <p:cNvSpPr/>
          <p:nvPr/>
        </p:nvSpPr>
        <p:spPr>
          <a:xfrm>
            <a:off x="3929040" y="117360"/>
            <a:ext cx="5214960" cy="80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               </a:t>
            </a:r>
            <a:r>
              <a:rPr b="1" i="1" lang="ru-RU" sz="1800" spc="-1" strike="noStrike">
                <a:solidFill>
                  <a:srgbClr val="000000"/>
                </a:solidFill>
                <a:latin typeface="Constantia"/>
              </a:rPr>
              <a:t>Пищеварительный аппарат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1 — околоушная железа;     2 — зубы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3 — полость рта;                  4 — глотка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5 — язык;                       6 — подъязычная железа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7 — поднижнечелюстная железа;  8 — пищевод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9 — желудок;                  10 — печень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11 — общий желчный проток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12 — сжиматель (сфинктер) привратника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13 — желчный пузырь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14 — поджелудочная железа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15 — двенадцатиперстная кишка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16 — крутой изгиб двенадцатиперстной кишки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17 — левый изгиб ободочной кишки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18 — правый изгиб ободочной кишки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19 — тощая кишка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20 — восходящая ободочная кишка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21 — нисходящая ободочная кишка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22 — поперечная ободочная кишка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23 — илеоцекальный клапан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24 — слепая кишка;                      25 — аппендикс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26 — подвздошная кишка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27 — сигмовидная ободочная кишка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28 — прямая кишка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29 — наружный сжиматель заднего проход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heel spokes="3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Рисунок 1" descr=""/>
          <p:cNvPicPr/>
          <p:nvPr/>
        </p:nvPicPr>
        <p:blipFill>
          <a:blip r:embed="rId1"/>
          <a:stretch/>
        </p:blipFill>
        <p:spPr>
          <a:xfrm>
            <a:off x="0" y="2571840"/>
            <a:ext cx="5357880" cy="4286160"/>
          </a:xfrm>
          <a:prstGeom prst="rect">
            <a:avLst/>
          </a:prstGeom>
          <a:ln w="0">
            <a:noFill/>
          </a:ln>
        </p:spPr>
      </p:pic>
      <p:sp>
        <p:nvSpPr>
          <p:cNvPr id="150" name="Прямоугольник 2"/>
          <p:cNvSpPr/>
          <p:nvPr/>
        </p:nvSpPr>
        <p:spPr>
          <a:xfrm>
            <a:off x="0" y="0"/>
            <a:ext cx="9144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nstantia"/>
              </a:rPr>
              <a:t>Слизистая оболочка языка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, tunica mucosa linguae, гладкая в области корня, нижней поверхности тела и верхушки и шероховатая на спинке языка. Эта шероховатость обусловлена большим количеством мелких возвы­шений – сосочков языка, papillae linguales. Все сосочки языка отличаются по форм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Прямоугольник 3"/>
          <p:cNvSpPr/>
          <p:nvPr/>
        </p:nvSpPr>
        <p:spPr>
          <a:xfrm>
            <a:off x="4662360" y="2714760"/>
            <a:ext cx="4966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Нитевидные сосочки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Конусовидные сосочки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Грибовидные сосочки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Чечевицевидные сосочки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Желобовидные сосочки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Листовидные сосочк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heel spokes="3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Рисунок 1" descr="http://www.anatomy.tj/images/167.jpg"/>
          <p:cNvPicPr/>
          <p:nvPr/>
        </p:nvPicPr>
        <p:blipFill>
          <a:blip r:embed="rId1"/>
          <a:stretch/>
        </p:blipFill>
        <p:spPr>
          <a:xfrm>
            <a:off x="0" y="2643120"/>
            <a:ext cx="3500280" cy="4214880"/>
          </a:xfrm>
          <a:prstGeom prst="rect">
            <a:avLst/>
          </a:prstGeom>
          <a:ln w="0">
            <a:noFill/>
          </a:ln>
        </p:spPr>
      </p:pic>
      <p:sp>
        <p:nvSpPr>
          <p:cNvPr id="153" name="Прямоугольник 2"/>
          <p:cNvSpPr/>
          <p:nvPr/>
        </p:nvSpPr>
        <p:spPr>
          <a:xfrm>
            <a:off x="0" y="214200"/>
            <a:ext cx="8786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7030a0"/>
                </a:solidFill>
                <a:uFillTx/>
                <a:latin typeface="Constantia"/>
              </a:rPr>
              <a:t>Полость рта (cavum oris) и зев (fauces)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Rectangle 1"/>
          <p:cNvSpPr/>
          <p:nvPr/>
        </p:nvSpPr>
        <p:spPr>
          <a:xfrm>
            <a:off x="714240" y="386640"/>
            <a:ext cx="821556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1-верхняя зубная дуга;                          2-шов нёба;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3-нёбно-глоточная дужка;         4-нёбная миндалина;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5-нёбно-язычная дужка;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6-спинка языка;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          7-нижняя зубная дуга;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          8-нижняя губа;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          9-зев;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          10-спайка губ;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          11-язычек (нёбный)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          12-мягкое нёбо;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          13-твердое нёбо;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14-верхняя губа;  15-бугорок      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верхней губы; 16-губной желобок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heel spokes="3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Прямоугольник 1"/>
          <p:cNvSpPr/>
          <p:nvPr/>
        </p:nvSpPr>
        <p:spPr>
          <a:xfrm>
            <a:off x="714240" y="500040"/>
            <a:ext cx="8001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6686d"/>
                </a:solidFill>
                <a:uFillTx/>
                <a:latin typeface="Constantia"/>
              </a:rPr>
              <a:t>Зубы (denies) верхней и нижней челюстей у взрослого человека. Правая сторона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6" name="Рисунок 2" descr="http://www.anatomy.tj/images/173.jpg"/>
          <p:cNvPicPr/>
          <p:nvPr/>
        </p:nvPicPr>
        <p:blipFill>
          <a:blip r:embed="rId1"/>
          <a:stretch/>
        </p:blipFill>
        <p:spPr>
          <a:xfrm>
            <a:off x="5715000" y="2000160"/>
            <a:ext cx="3429000" cy="2786040"/>
          </a:xfrm>
          <a:prstGeom prst="rect">
            <a:avLst/>
          </a:prstGeom>
          <a:ln w="0">
            <a:noFill/>
          </a:ln>
        </p:spPr>
      </p:pic>
      <p:sp>
        <p:nvSpPr>
          <p:cNvPr id="157" name="Rectangle 1"/>
          <p:cNvSpPr/>
          <p:nvPr/>
        </p:nvSpPr>
        <p:spPr>
          <a:xfrm>
            <a:off x="0" y="1190880"/>
            <a:ext cx="714384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1-верхние большие коренные зубы (моляры);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2-верхние малые коренные зубы (премоляры);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3-верхний клык;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4-верхний латеральный резец;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5-верхний медиальный резец;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6-нижний медиальный резец;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7-нижний латеральный резец;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8-нижний клык;  9-нижние малые коренные зубы (премоляры);  10-подбородочное отверстие;  11-нижние большие коренные зубы (моляры);  12-канал нижний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heel spokes="3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Box 1"/>
          <p:cNvSpPr/>
          <p:nvPr/>
        </p:nvSpPr>
        <p:spPr>
          <a:xfrm>
            <a:off x="125640" y="857160"/>
            <a:ext cx="7489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Использовались материалы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natomiya-atlas.r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Биология. Человек. Учебник для 8 класса. 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i="1" lang="ru-RU" sz="2400" spc="-1" strike="noStrike">
                <a:solidFill>
                  <a:srgbClr val="000000"/>
                </a:solidFill>
                <a:latin typeface="Constantia"/>
              </a:rPr>
              <a:t>Колесов Д.В. и др. 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М.: Дрофа, 200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3. Большая иллюстрированная энциклопедия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эрудита М Махаон 200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heel spokes="3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7T15:32:01Z</dcterms:created>
  <dc:creator>Admin</dc:creator>
  <dc:description/>
  <dc:language>en-US</dc:language>
  <cp:lastModifiedBy>Василий</cp:lastModifiedBy>
  <dcterms:modified xsi:type="dcterms:W3CDTF">2012-10-11T16:04:18Z</dcterms:modified>
  <cp:revision>10</cp:revision>
  <dc:subject/>
  <dc:title>Слайд 1</dc:title>
</cp:coreProperties>
</file>