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A35E-DEBB-4227-8B7D-B763B8D303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723B-AAF2-46EC-8AE2-AB2A0EFB14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1A59-B70C-4F08-8A62-79349BFB2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2C93-F2E1-41FC-9348-F38B9616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1AD5-AFDD-4BF1-B9C2-2BC11D1B4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301A-F439-44C6-91B5-A0BAC84AA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302E-E3A1-429B-AAB6-D158A021E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F590-DBCA-44DE-935D-372E9077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FBBA-6A6A-4AE5-B111-ACBC28F1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A0FA-0854-4CD6-B6A6-29857847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EAEB-7DCE-4227-A394-CA31DD12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290D-933B-474D-BFDC-4DC80125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556E-809B-4FE8-A71A-D9C54A21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AE95-B4D0-4E2F-AB08-7FF7D4F6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DD65-DB8C-4040-A847-5D3A410A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435A-BE75-4C4F-9A0F-79805F79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5D7E-0825-493F-9079-DB4DB05C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5FC6-3F55-4B45-8539-15B40B1A1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CEC8-415E-4271-8A20-5C7EB3DF9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AE2B7-2272-4B35-ACC5-54079DC25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9D156-E254-470F-8619-A003B7E3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76D50-4B26-48BD-9204-FDE65E0C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FBEA5-3583-426E-85F0-B6537DD7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8521C-8741-4ED6-ACAE-CDEC9911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C20C-71C6-4EA3-AD3A-E75E0560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51907-5871-4D2E-8AD2-1ECF4E56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582D3-33CC-41CB-8C2F-57F44F1E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A82C2-F60E-4165-87AE-14E7718F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97114-A50A-4918-A94F-26787DFA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44DFC-6821-4868-8A20-F0FD1178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F92E5-3D09-45B5-9267-3D8FF2802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04630-5EED-4AFE-9973-773AE1953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1F35-409E-4A35-A1A5-5682C7B3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CF4C-19DF-4DF2-8F36-29C559B9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546A-82A6-495E-A6D2-B3DE8163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AD9A-CA55-430E-A3B1-AEF1994E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9E54-F2E3-4C3C-BABB-4620C623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4580-C12E-4CAA-AF2B-BA9B2C15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2241-16DA-45F5-8BC0-5EC78D75C0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6707-5694-4BBE-8BB2-894B8A8EC2A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2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олилиния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олилиния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DAA5-323D-4F41-8B91-4187B575FA5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Горизонтальный свиток 3"/>
          <p:cNvSpPr/>
          <p:nvPr/>
        </p:nvSpPr>
        <p:spPr>
          <a:xfrm>
            <a:off x="285840" y="357120"/>
            <a:ext cx="8715240" cy="6500880"/>
          </a:xfrm>
          <a:prstGeom prst="horizontalScroll">
            <a:avLst>
              <a:gd name="adj" fmla="val 12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Прямоугольник 4" descr=""/>
          <p:cNvPicPr/>
          <p:nvPr/>
        </p:nvPicPr>
        <p:blipFill>
          <a:blip r:embed="rId1"/>
          <a:stretch/>
        </p:blipFill>
        <p:spPr>
          <a:xfrm>
            <a:off x="596880" y="1670040"/>
            <a:ext cx="8491680" cy="4121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2" descr=""/>
          <p:cNvPicPr/>
          <p:nvPr/>
        </p:nvPicPr>
        <p:blipFill>
          <a:blip r:embed="rId1"/>
          <a:stretch/>
        </p:blipFill>
        <p:spPr>
          <a:xfrm>
            <a:off x="971640" y="928800"/>
            <a:ext cx="7143840" cy="59292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3"/>
          <p:cNvSpPr/>
          <p:nvPr/>
        </p:nvSpPr>
        <p:spPr>
          <a:xfrm>
            <a:off x="454680" y="285840"/>
            <a:ext cx="874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a839"/>
                </a:solidFill>
                <a:latin typeface="Constantia"/>
              </a:rPr>
              <a:t>Общая схема пищеварительной сист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392904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2"/>
          <p:cNvSpPr/>
          <p:nvPr/>
        </p:nvSpPr>
        <p:spPr>
          <a:xfrm>
            <a:off x="3929040" y="117360"/>
            <a:ext cx="5214960" cy="80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Пищеварительный аппара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 — околоушная железа;     2 — зубы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3 — полость рта;                  4 — глот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5 — язык;                       6 — подъязычная желез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7 — поднижнечелюстная железа;  8 — пищевод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9 — желудок;                  10 — печень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1 — общий желчный проток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2 — сжиматель (сфинктер) привратни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3 — желчный пузыр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4 — поджелудочная желез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5 — двенадцатиперст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6 — крутой изгиб двенадцатиперстной кишк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7 — левый изгиб ободочной кишк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8 — правый изгиб ободочной кишк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9 — тощ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0 — восходящая ободоч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1 — нисходящая ободоч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2 — поперечная ободоч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3 — илеоцекальный клапан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4 — слепая кишка;                      25 — аппендикс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6 — подвздош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7 — сигмовидная ободоч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8 — прям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9 — наружный сжиматель заднего прох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1" descr=""/>
          <p:cNvPicPr/>
          <p:nvPr/>
        </p:nvPicPr>
        <p:blipFill>
          <a:blip r:embed="rId1"/>
          <a:stretch/>
        </p:blipFill>
        <p:spPr>
          <a:xfrm>
            <a:off x="0" y="2571840"/>
            <a:ext cx="5357880" cy="428616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2"/>
          <p:cNvSpPr/>
          <p:nvPr/>
        </p:nvSpPr>
        <p:spPr>
          <a:xfrm>
            <a:off x="0" y="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Слизистая оболочка языка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, tunica mucosa linguae, гладкая в области корня, нижней поверхности тела и верхушки и шероховатая на спинке языка. Эта шероховатость обусловлена большим количеством мелких возвы­шений – сосочков языка, papillae linguales. Все сосочки языка отличаются по форм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3"/>
          <p:cNvSpPr/>
          <p:nvPr/>
        </p:nvSpPr>
        <p:spPr>
          <a:xfrm>
            <a:off x="4662360" y="2714760"/>
            <a:ext cx="4966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ите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онусо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рибо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Чечевице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Желобо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Листовидные сосоч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1" descr="http://www.anatomy.tj/images/167.jpg"/>
          <p:cNvPicPr/>
          <p:nvPr/>
        </p:nvPicPr>
        <p:blipFill>
          <a:blip r:embed="rId1"/>
          <a:stretch/>
        </p:blipFill>
        <p:spPr>
          <a:xfrm>
            <a:off x="0" y="2643120"/>
            <a:ext cx="3500280" cy="421488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2"/>
          <p:cNvSpPr/>
          <p:nvPr/>
        </p:nvSpPr>
        <p:spPr>
          <a:xfrm>
            <a:off x="0" y="21420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7030a0"/>
                </a:solidFill>
                <a:uFillTx/>
                <a:latin typeface="Constantia"/>
              </a:rPr>
              <a:t>Полость рта (cavum oris) и зев (fauces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714240" y="386640"/>
            <a:ext cx="82155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-верхняя зубная дуга;                          2-шов нёб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-нёбно-глоточная дужка;         4-нёбная миндалин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-нёбно-язычная дужк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6-спинка язык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7-нижняя зубная дуг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8-нижняя губ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9-зев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10-спайка губ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11-язычек (нёбный)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12-мягкое нёбо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13-твердое нёбо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14-верхняя губа;  15-бугорок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рхней губы; 16-губной желобок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"/>
          <p:cNvSpPr/>
          <p:nvPr/>
        </p:nvSpPr>
        <p:spPr>
          <a:xfrm>
            <a:off x="714240" y="50004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6686d"/>
                </a:solidFill>
                <a:uFillTx/>
                <a:latin typeface="Constantia"/>
              </a:rPr>
              <a:t>Зубы (denies) верхней и нижней челюстей у взрослого человека. Правая сторон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Рисунок 2" descr="http://www.anatomy.tj/images/173.jpg"/>
          <p:cNvPicPr/>
          <p:nvPr/>
        </p:nvPicPr>
        <p:blipFill>
          <a:blip r:embed="rId1"/>
          <a:stretch/>
        </p:blipFill>
        <p:spPr>
          <a:xfrm>
            <a:off x="5715000" y="2000160"/>
            <a:ext cx="3429000" cy="278604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"/>
          <p:cNvSpPr/>
          <p:nvPr/>
        </p:nvSpPr>
        <p:spPr>
          <a:xfrm>
            <a:off x="0" y="1190880"/>
            <a:ext cx="71438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-верхние большие коренные зубы (моляры)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-верхние малые коренные зубы (премоляры)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-верхний клык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-верхний латеральный резец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-верхний медиальный резец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6-нижний медиальный резец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-нижний латеральный резец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8-нижний клык;  9-нижние малые коренные зубы (премоляры);  10-подбородочное отверстие;  11-нижние большие коренные зубы (моляры);  12-канал нижн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125640" y="857160"/>
            <a:ext cx="748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пользовались материал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atomiya-atlas.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иология. Человек. Учебник для 8 класса.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Колесов Д.В. и др.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.: Дрофа, 200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3. Большая иллюстрированная энциклопедия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рудита М Махаон 20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5:32:01Z</dcterms:created>
  <dc:creator>Admin</dc:creator>
  <dc:description/>
  <dc:language>en-US</dc:language>
  <cp:lastModifiedBy>Василий</cp:lastModifiedBy>
  <dcterms:modified xsi:type="dcterms:W3CDTF">2012-10-11T16:04:18Z</dcterms:modified>
  <cp:revision>10</cp:revision>
  <dc:subject/>
  <dc:title>Слайд 1</dc:title>
</cp:coreProperties>
</file>