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4D9-018E-4F35-A749-532F4AAB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6EE-24A1-459C-A0C6-D9A1D8B2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FA0-65F5-4BD0-9144-71253F27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3325-7F99-4191-B6F9-1B997F17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AC18-9E20-4F12-A4DF-0D375B42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CAD0-1545-45B3-8BCF-1A29A69F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E3C2-35DC-41BA-86F3-702CBD25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E7E2-6951-43B1-8DDD-A34038DA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6FE5-04CA-47F8-823B-AC981D40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01E8-AD6B-4D78-AE22-B1E7035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2ADF-C264-445D-ACA3-8BEA3194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280-1132-40E1-B20A-CF2DCD0B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26F7-2E8A-4607-AAB1-E4E81F19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BCB4F-9A53-4830-827C-C9DFD3C9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6533-35E9-4D38-8D6D-A608A1F9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6293-2D9D-4936-95A9-0C5A9788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0D52-8D0A-4F76-9A22-992E1257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F7F-68AC-4A42-B3B5-AABFDEA9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52F-AFF2-43F2-934B-502EF6B0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A5E-477E-4A09-8A89-C3DC634F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013-0381-4182-A4BE-4B6ACE8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37E-976C-4C47-9EAD-B954ACFF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98AE-6E99-45FF-BE97-EAA11A08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986-8E25-441B-9672-7F1814CD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5318-61A6-4A49-A603-5BCF1EB739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13CD-2835-4C76-A97D-ACE692D07C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image" Target="../media/image1.pn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image" Target="../media/image1.png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image" Target="../media/image1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image" Target="../media/image1.png"/><Relationship Id="rId14" Type="http://schemas.openxmlformats.org/officeDocument/2006/relationships/slide" Target="slide7.xml"/><Relationship Id="rId15" Type="http://schemas.openxmlformats.org/officeDocument/2006/relationships/slide" Target="slide7.xml"/><Relationship Id="rId16" Type="http://schemas.openxmlformats.org/officeDocument/2006/relationships/image" Target="../media/image1.png"/><Relationship Id="rId17" Type="http://schemas.openxmlformats.org/officeDocument/2006/relationships/slide" Target="slide17.xml"/><Relationship Id="rId18" Type="http://schemas.openxmlformats.org/officeDocument/2006/relationships/slide" Target="slide17.xml"/><Relationship Id="rId19" Type="http://schemas.openxmlformats.org/officeDocument/2006/relationships/image" Target="../media/image1.png"/><Relationship Id="rId20" Type="http://schemas.openxmlformats.org/officeDocument/2006/relationships/slide" Target="slide15.xml"/><Relationship Id="rId21" Type="http://schemas.openxmlformats.org/officeDocument/2006/relationships/slide" Target="slide15.xm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секомые. Многообразие насекомых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ла учитель химии и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онова Н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У «Лобасковская О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ЖУК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жесткокрылые) , наиболее многочисленный отряд насекомых, включающий более 180 семейств, всего около 250 тыс.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, иногда недоразв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жуков имеется две пары крыльев. Передние превращены в толстые надкрылья. Чаще всего они закрывают все брюшко, реже — только его часть. Задние крылья широкие и перепончатые. В покое они укладываются под надкрыл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6021360"/>
            <a:ext cx="1079280" cy="432000"/>
          </a:xfrm>
          <a:custGeom>
            <a:avLst/>
            <a:gdLst>
              <a:gd name="textAreaLeft" fmla="*/ 27720 w 1079280"/>
              <a:gd name="textAreaRight" fmla="*/ 1051560 w 107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3937" h="21600">
                <a:moveTo>
                  <a:pt x="0" y="0"/>
                </a:moveTo>
                <a:lnTo>
                  <a:pt x="53937" y="0"/>
                </a:lnTo>
                <a:lnTo>
                  <a:pt x="53937" y="21600"/>
                </a:lnTo>
                <a:lnTo>
                  <a:pt x="0" y="21600"/>
                </a:lnTo>
                <a:close/>
              </a:path>
              <a:path fill="lightenLess" w="53937" h="21600">
                <a:moveTo>
                  <a:pt x="0" y="0"/>
                </a:moveTo>
                <a:lnTo>
                  <a:pt x="53937" y="0"/>
                </a:lnTo>
                <a:lnTo>
                  <a:pt x="52537" y="1400"/>
                </a:lnTo>
                <a:lnTo>
                  <a:pt x="1400" y="1400"/>
                </a:lnTo>
                <a:close/>
              </a:path>
              <a:path fill="darken" w="53937" h="21600">
                <a:moveTo>
                  <a:pt x="53937" y="0"/>
                </a:moveTo>
                <a:lnTo>
                  <a:pt x="53937" y="21600"/>
                </a:lnTo>
                <a:lnTo>
                  <a:pt x="52537" y="20200"/>
                </a:lnTo>
                <a:lnTo>
                  <a:pt x="52537" y="1400"/>
                </a:lnTo>
                <a:close/>
              </a:path>
              <a:path fill="darkenLess" w="53937" h="21600">
                <a:moveTo>
                  <a:pt x="5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7" y="20200"/>
                </a:lnTo>
                <a:close/>
              </a:path>
              <a:path fill="lighten" w="5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7" h="21600">
                <a:moveTo>
                  <a:pt x="19962" y="10800"/>
                </a:moveTo>
                <a:lnTo>
                  <a:pt x="33975" y="3794"/>
                </a:lnTo>
                <a:lnTo>
                  <a:pt x="33975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клоп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клоп- ним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хищнец кольч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248000" cy="40323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3794"/>
                </a:moveTo>
                <a:lnTo>
                  <a:pt x="34020" y="10800"/>
                </a:lnTo>
                <a:lnTo>
                  <a:pt x="2000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оп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отряд насекомых, включающий более 4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ой аппарат колюще-сосущ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большинства видов имеется две пары крыльев. Передние — с плотным основанием и перепончатой вершиной. Задние — широкие и перепончатые в покое сложены под передними. Иногда крылья недоразвиты или отсутствуют. У многих клопов на заднегруди открываются пахучие железы. Они не развиты только у водных и некоторых хищных в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6021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ерепончат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35280" y="1600200"/>
            <a:ext cx="5137200" cy="2765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оносные пчё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7524720" y="6021360"/>
            <a:ext cx="1295280" cy="57636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26" h="21600">
                <a:moveTo>
                  <a:pt x="0" y="0"/>
                </a:moveTo>
                <a:lnTo>
                  <a:pt x="48526" y="0"/>
                </a:lnTo>
                <a:lnTo>
                  <a:pt x="48526" y="21600"/>
                </a:lnTo>
                <a:lnTo>
                  <a:pt x="0" y="21600"/>
                </a:lnTo>
                <a:close/>
              </a:path>
              <a:path fill="lightenLess" w="48526" h="21600">
                <a:moveTo>
                  <a:pt x="0" y="0"/>
                </a:moveTo>
                <a:lnTo>
                  <a:pt x="48526" y="0"/>
                </a:lnTo>
                <a:lnTo>
                  <a:pt x="47126" y="1400"/>
                </a:lnTo>
                <a:lnTo>
                  <a:pt x="1400" y="1400"/>
                </a:lnTo>
                <a:close/>
              </a:path>
              <a:path fill="darken" w="48526" h="21600">
                <a:moveTo>
                  <a:pt x="48526" y="0"/>
                </a:moveTo>
                <a:lnTo>
                  <a:pt x="48526" y="21600"/>
                </a:lnTo>
                <a:lnTo>
                  <a:pt x="47126" y="20200"/>
                </a:lnTo>
                <a:lnTo>
                  <a:pt x="47126" y="1400"/>
                </a:lnTo>
                <a:close/>
              </a:path>
              <a:path fill="darkenLess" w="48526" h="21600">
                <a:moveTo>
                  <a:pt x="48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26" y="20200"/>
                </a:lnTo>
                <a:close/>
              </a:path>
              <a:path fill="lighten" w="48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26" h="21600">
                <a:moveTo>
                  <a:pt x="17256" y="3794"/>
                </a:moveTo>
                <a:lnTo>
                  <a:pt x="31269" y="10800"/>
                </a:lnTo>
                <a:lnTo>
                  <a:pt x="1725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ПОНЧАТОКРЫЛЫ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пный отряд насекомых, включающий около 15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 грызущие и лижу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перепончатых крыльев с многочисленными поперечными жилками и ячей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ги ходильные с пятичлениковыми лапками и парными кого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дущих общественный образ жизни муравьев, а также некоторых пчел и ос характерна кастовая система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08720" y="6093000"/>
            <a:ext cx="1584360" cy="576000"/>
          </a:xfrm>
          <a:custGeom>
            <a:avLst/>
            <a:gdLst>
              <a:gd name="textAreaLeft" fmla="*/ 37080 w 1584360"/>
              <a:gd name="textAreaRight" fmla="*/ 1547280 w 158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59390" h="21600">
                <a:moveTo>
                  <a:pt x="0" y="0"/>
                </a:moveTo>
                <a:lnTo>
                  <a:pt x="59390" y="0"/>
                </a:lnTo>
                <a:lnTo>
                  <a:pt x="59390" y="21600"/>
                </a:lnTo>
                <a:lnTo>
                  <a:pt x="0" y="21600"/>
                </a:lnTo>
                <a:close/>
              </a:path>
              <a:path fill="lightenLess" w="59390" h="21600">
                <a:moveTo>
                  <a:pt x="0" y="0"/>
                </a:moveTo>
                <a:lnTo>
                  <a:pt x="59390" y="0"/>
                </a:lnTo>
                <a:lnTo>
                  <a:pt x="57990" y="1400"/>
                </a:lnTo>
                <a:lnTo>
                  <a:pt x="1400" y="1400"/>
                </a:lnTo>
                <a:close/>
              </a:path>
              <a:path fill="darken" w="59390" h="21600">
                <a:moveTo>
                  <a:pt x="59390" y="0"/>
                </a:moveTo>
                <a:lnTo>
                  <a:pt x="59390" y="21600"/>
                </a:lnTo>
                <a:lnTo>
                  <a:pt x="57990" y="20200"/>
                </a:lnTo>
                <a:lnTo>
                  <a:pt x="57990" y="1400"/>
                </a:lnTo>
                <a:close/>
              </a:path>
              <a:path fill="darkenLess" w="59390" h="21600">
                <a:moveTo>
                  <a:pt x="59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0" y="20200"/>
                </a:lnTo>
                <a:close/>
              </a:path>
              <a:path fill="lighten" w="59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0" h="21600">
                <a:moveTo>
                  <a:pt x="22688" y="10800"/>
                </a:moveTo>
                <a:lnTo>
                  <a:pt x="36701" y="3794"/>
                </a:lnTo>
                <a:lnTo>
                  <a:pt x="367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прям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903920" cy="302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3941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зне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51640" y="5877000"/>
            <a:ext cx="1368360" cy="647640"/>
          </a:xfrm>
          <a:custGeom>
            <a:avLst/>
            <a:gdLst>
              <a:gd name="textAreaLeft" fmla="*/ 41760 w 1368360"/>
              <a:gd name="textAreaRight" fmla="*/ 1326600 w 1368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5624" h="21600">
                <a:moveTo>
                  <a:pt x="0" y="0"/>
                </a:moveTo>
                <a:lnTo>
                  <a:pt x="45624" y="0"/>
                </a:lnTo>
                <a:lnTo>
                  <a:pt x="45624" y="21600"/>
                </a:lnTo>
                <a:lnTo>
                  <a:pt x="0" y="21600"/>
                </a:lnTo>
                <a:close/>
              </a:path>
              <a:path fill="lightenLess" w="45624" h="21600">
                <a:moveTo>
                  <a:pt x="0" y="0"/>
                </a:moveTo>
                <a:lnTo>
                  <a:pt x="45624" y="0"/>
                </a:lnTo>
                <a:lnTo>
                  <a:pt x="44224" y="1400"/>
                </a:lnTo>
                <a:lnTo>
                  <a:pt x="1400" y="1400"/>
                </a:lnTo>
                <a:close/>
              </a:path>
              <a:path fill="darken" w="45624" h="21600">
                <a:moveTo>
                  <a:pt x="45624" y="0"/>
                </a:moveTo>
                <a:lnTo>
                  <a:pt x="45624" y="21600"/>
                </a:lnTo>
                <a:lnTo>
                  <a:pt x="44224" y="20200"/>
                </a:lnTo>
                <a:lnTo>
                  <a:pt x="44224" y="1400"/>
                </a:lnTo>
                <a:close/>
              </a:path>
              <a:path fill="darkenLess" w="45624" h="21600">
                <a:moveTo>
                  <a:pt x="45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24" y="20200"/>
                </a:lnTo>
                <a:close/>
              </a:path>
              <a:path fill="lighten" w="45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24" h="21600">
                <a:moveTo>
                  <a:pt x="15806" y="3794"/>
                </a:moveTo>
                <a:lnTo>
                  <a:pt x="29818" y="10800"/>
                </a:lnTo>
                <a:lnTo>
                  <a:pt x="15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ЯМО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древний отряд насекомых. Включает не менее 20000 видов, встречающихся повсемест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ой аппарат грызу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к правило, имеется две пары крыльев. Передние — узкие и длинные, задние — широкие и перепончатые. У многих прямокрылых задние крылья ярко окрашены. Иногда крылья недоразвиты или отсутств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У большинства прямокрылых имеются органы стрекотания и слуха. Орган слуха у этих насекомых расположен на передних н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азвитие с неполным превра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йца откладываются поодиночке или группами в почву или в мягкие ткани растений. Личинки похожи на взрослых насеком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360" y="5805360"/>
            <a:ext cx="1511280" cy="576360"/>
          </a:xfrm>
          <a:custGeom>
            <a:avLst/>
            <a:gdLst>
              <a:gd name="textAreaLeft" fmla="*/ 37080 w 1511280"/>
              <a:gd name="textAreaRight" fmla="*/ 1474200 w 1511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6616" h="21600">
                <a:moveTo>
                  <a:pt x="0" y="0"/>
                </a:moveTo>
                <a:lnTo>
                  <a:pt x="56616" y="0"/>
                </a:lnTo>
                <a:lnTo>
                  <a:pt x="56616" y="21600"/>
                </a:lnTo>
                <a:lnTo>
                  <a:pt x="0" y="21600"/>
                </a:lnTo>
                <a:close/>
              </a:path>
              <a:path fill="lightenLess" w="56616" h="21600">
                <a:moveTo>
                  <a:pt x="0" y="0"/>
                </a:moveTo>
                <a:lnTo>
                  <a:pt x="56616" y="0"/>
                </a:lnTo>
                <a:lnTo>
                  <a:pt x="55216" y="1400"/>
                </a:lnTo>
                <a:lnTo>
                  <a:pt x="1400" y="1400"/>
                </a:lnTo>
                <a:close/>
              </a:path>
              <a:path fill="darken" w="56616" h="21600">
                <a:moveTo>
                  <a:pt x="56616" y="0"/>
                </a:moveTo>
                <a:lnTo>
                  <a:pt x="56616" y="21600"/>
                </a:lnTo>
                <a:lnTo>
                  <a:pt x="55216" y="20200"/>
                </a:lnTo>
                <a:lnTo>
                  <a:pt x="55216" y="1400"/>
                </a:lnTo>
                <a:close/>
              </a:path>
              <a:path fill="darkenLess" w="56616" h="21600">
                <a:moveTo>
                  <a:pt x="56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6" y="20200"/>
                </a:lnTo>
                <a:close/>
              </a:path>
              <a:path fill="lighten" w="56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616" h="21600">
                <a:moveTo>
                  <a:pt x="21301" y="10800"/>
                </a:moveTo>
                <a:lnTo>
                  <a:pt x="35314" y="3794"/>
                </a:lnTo>
                <a:lnTo>
                  <a:pt x="3531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равно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икада обыкновенная, цикада красно-пятнистая, цикада зелё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093080" y="6021360"/>
            <a:ext cx="1439640" cy="576360"/>
          </a:xfrm>
          <a:custGeom>
            <a:avLst/>
            <a:gdLst>
              <a:gd name="textAreaLeft" fmla="*/ 37080 w 1439640"/>
              <a:gd name="textAreaRight" fmla="*/ 1402560 w 1439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3933" h="21600">
                <a:moveTo>
                  <a:pt x="0" y="0"/>
                </a:moveTo>
                <a:lnTo>
                  <a:pt x="53933" y="0"/>
                </a:lnTo>
                <a:lnTo>
                  <a:pt x="53933" y="21600"/>
                </a:lnTo>
                <a:lnTo>
                  <a:pt x="0" y="21600"/>
                </a:lnTo>
                <a:close/>
              </a:path>
              <a:path fill="lightenLess" w="53933" h="21600">
                <a:moveTo>
                  <a:pt x="0" y="0"/>
                </a:moveTo>
                <a:lnTo>
                  <a:pt x="53933" y="0"/>
                </a:lnTo>
                <a:lnTo>
                  <a:pt x="52533" y="1400"/>
                </a:lnTo>
                <a:lnTo>
                  <a:pt x="1400" y="1400"/>
                </a:lnTo>
                <a:close/>
              </a:path>
              <a:path fill="darken" w="53933" h="21600">
                <a:moveTo>
                  <a:pt x="53933" y="0"/>
                </a:moveTo>
                <a:lnTo>
                  <a:pt x="53933" y="21600"/>
                </a:lnTo>
                <a:lnTo>
                  <a:pt x="52533" y="20200"/>
                </a:lnTo>
                <a:lnTo>
                  <a:pt x="52533" y="1400"/>
                </a:lnTo>
                <a:close/>
              </a:path>
              <a:path fill="darkenLess" w="53933" h="21600">
                <a:moveTo>
                  <a:pt x="5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3" y="20200"/>
                </a:lnTo>
                <a:close/>
              </a:path>
              <a:path fill="lighten" w="5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3" h="21600">
                <a:moveTo>
                  <a:pt x="19960" y="3794"/>
                </a:moveTo>
                <a:lnTo>
                  <a:pt x="33973" y="10800"/>
                </a:lnTo>
                <a:lnTo>
                  <a:pt x="1996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отряд насекомых, включающий около 30000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большинства видов имеется две пары крыльев. Иногда крылья не разв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йца откладывают в стебли или на поверхность раст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чинки разнообразны по внешнему облику. У цикадовых и тлей они похожи на взрослых насеко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5950080"/>
            <a:ext cx="1512720" cy="647640"/>
          </a:xfrm>
          <a:custGeom>
            <a:avLst/>
            <a:gdLst>
              <a:gd name="textAreaLeft" fmla="*/ 41760 w 1512720"/>
              <a:gd name="textAreaRight" fmla="*/ 1470960 w 1512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50436" h="21600">
                <a:moveTo>
                  <a:pt x="0" y="0"/>
                </a:moveTo>
                <a:lnTo>
                  <a:pt x="50436" y="0"/>
                </a:lnTo>
                <a:lnTo>
                  <a:pt x="50436" y="21600"/>
                </a:lnTo>
                <a:lnTo>
                  <a:pt x="0" y="21600"/>
                </a:lnTo>
                <a:close/>
              </a:path>
              <a:path fill="lightenLess" w="50436" h="21600">
                <a:moveTo>
                  <a:pt x="0" y="0"/>
                </a:moveTo>
                <a:lnTo>
                  <a:pt x="50436" y="0"/>
                </a:lnTo>
                <a:lnTo>
                  <a:pt x="49036" y="1400"/>
                </a:lnTo>
                <a:lnTo>
                  <a:pt x="1400" y="1400"/>
                </a:lnTo>
                <a:close/>
              </a:path>
              <a:path fill="darken" w="50436" h="21600">
                <a:moveTo>
                  <a:pt x="50436" y="0"/>
                </a:moveTo>
                <a:lnTo>
                  <a:pt x="50436" y="21600"/>
                </a:lnTo>
                <a:lnTo>
                  <a:pt x="49036" y="20200"/>
                </a:lnTo>
                <a:lnTo>
                  <a:pt x="49036" y="1400"/>
                </a:lnTo>
                <a:close/>
              </a:path>
              <a:path fill="darkenLess" w="50436" h="21600">
                <a:moveTo>
                  <a:pt x="50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36" y="20200"/>
                </a:lnTo>
                <a:close/>
              </a:path>
              <a:path fill="lighten" w="50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36" h="21600">
                <a:moveTo>
                  <a:pt x="18212" y="10800"/>
                </a:moveTo>
                <a:lnTo>
                  <a:pt x="32224" y="3794"/>
                </a:lnTo>
                <a:lnTo>
                  <a:pt x="3222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формите таблицу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14400" y="1600200"/>
          <a:ext cx="7772400" cy="449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5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комы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ели урок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ся с основными отрядами класса Насеком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мотреть характерные признаки представителей различных отрядов насеком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Выводы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ласс беспозвоночных животных типа членистоног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ло разделено на голову, грудь и брюшко. Каждый сегмент груди несет по одной паре членистых конечностей, у большинства видов развиты крыл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ышат трахе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витие, как правило, с метаморфозом: яйцо, личинка,  куколка, взрослое насеком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я многочисленная и разнообразная группа животных на Земле: известно ок. 1 млн. видов, истинное их число, вероятно, 1,5-2 млн. видов, а по некоторым оценкам еще более значительно. Число отрядов по разным оценкам составяет от 30 до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гие насекомые повреждают сельскохозяйственные, лесные и декоративные растения, зерно и другие пищевые продукты в хранилищах, переносят возбудителей болезней человека и животных. Огромное количество насекомых являются опылителями цветковых раст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которые виды (напр., наездники) использутся для биологической борьбы с вредителями сельского и лесного хозяйства. Продукты жизнедеятельности медоносной пчелы и тутового шекопряда — мед, воск и шелк издавна используются челове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исленность многих видов, особенно бабочек, сокращ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олее 200 видов насекомых охра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ука о насекомых —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нтомолог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омашнее зада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.165-168 уче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е задание №101 на стр.52 (рабочая тетрад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8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 самые многочисленные членистоногие нашей планеты. Их миллиарды миллиардов и только различных видов насчитывается более двух миллионов. После одноклеточных это наиболее многочисленная группа животны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селили все уголки Земли, они встречаются высоко в горах и в глубоких пещерах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итают за Полярным кругом и на поверхности воды, они способны годами голодать, пережить замораживание в лед  и размножаться в наперстке воды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секомы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огут уничтожить выращенный людьми урожай и заразить человека смертельными болезн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34680" y="171360"/>
            <a:ext cx="6145560" cy="6270120"/>
            <a:chOff x="1534680" y="171360"/>
            <a:chExt cx="6145560" cy="6270120"/>
          </a:xfrm>
        </p:grpSpPr>
        <p:sp>
          <p:nvSpPr>
            <p:cNvPr id="103" name="_s43046"/>
            <p:cNvSpPr/>
            <p:nvPr/>
          </p:nvSpPr>
          <p:spPr>
            <a:xfrm flipH="1" flipV="1">
              <a:off x="3383640" y="2411280"/>
              <a:ext cx="613800" cy="5112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43045"/>
            <p:cNvSpPr/>
            <p:nvPr/>
          </p:nvSpPr>
          <p:spPr>
            <a:xfrm>
              <a:off x="1986840" y="1091520"/>
              <a:ext cx="1565280" cy="162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3" action="ppaction://hlinksldjump"/>
                </a:rPr>
                <a:t>Клоп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остельны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Лесно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лоп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43044"/>
            <p:cNvSpPr/>
            <p:nvPr/>
          </p:nvSpPr>
          <p:spPr>
            <a:xfrm flipH="1">
              <a:off x="307980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3043"/>
            <p:cNvSpPr/>
            <p:nvPr/>
          </p:nvSpPr>
          <p:spPr>
            <a:xfrm>
              <a:off x="1534680" y="3157920"/>
              <a:ext cx="1565280" cy="1627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5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6" action="ppaction://hlinksldjump"/>
                </a:rPr>
                <a:t>Жу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ки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Жужел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Долгоноси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43042"/>
            <p:cNvSpPr/>
            <p:nvPr/>
          </p:nvSpPr>
          <p:spPr>
            <a:xfrm flipH="1">
              <a:off x="392760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3041"/>
            <p:cNvSpPr/>
            <p:nvPr/>
          </p:nvSpPr>
          <p:spPr>
            <a:xfrm>
              <a:off x="2805840" y="4813560"/>
              <a:ext cx="1565280" cy="16279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8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9" action="ppaction://hlinksldjump"/>
                </a:rPr>
                <a:t>Бабочки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рапивниц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раурниц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43040"/>
            <p:cNvSpPr/>
            <p:nvPr/>
          </p:nvSpPr>
          <p:spPr>
            <a:xfrm>
              <a:off x="4946040" y="4158720"/>
              <a:ext cx="340920" cy="7351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43039"/>
            <p:cNvSpPr/>
            <p:nvPr/>
          </p:nvSpPr>
          <p:spPr>
            <a:xfrm>
              <a:off x="4843800" y="4813560"/>
              <a:ext cx="1565280" cy="16279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1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2" action="ppaction://hlinksldjump"/>
                </a:rPr>
                <a:t>Перепончат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Пчёл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Ос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равь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3038"/>
            <p:cNvSpPr/>
            <p:nvPr/>
          </p:nvSpPr>
          <p:spPr>
            <a:xfrm>
              <a:off x="5367960" y="3607920"/>
              <a:ext cx="766440" cy="18072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3037"/>
            <p:cNvSpPr/>
            <p:nvPr/>
          </p:nvSpPr>
          <p:spPr>
            <a:xfrm>
              <a:off x="6114960" y="3156480"/>
              <a:ext cx="1565280" cy="16275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4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5" action="ppaction://hlinksldjump"/>
                </a:rPr>
                <a:t>Дву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ухи, комары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лепн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36"/>
            <p:cNvSpPr/>
            <p:nvPr/>
          </p:nvSpPr>
          <p:spPr>
            <a:xfrm flipV="1">
              <a:off x="5217120" y="2410920"/>
              <a:ext cx="613800" cy="509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35"/>
            <p:cNvSpPr/>
            <p:nvPr/>
          </p:nvSpPr>
          <p:spPr>
            <a:xfrm>
              <a:off x="5660640" y="1089720"/>
              <a:ext cx="1565280" cy="162756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7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18" action="ppaction://hlinksldjump"/>
                </a:rPr>
                <a:t>Равнокрылые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Тля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яницы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34"/>
            <p:cNvSpPr/>
            <p:nvPr/>
          </p:nvSpPr>
          <p:spPr>
            <a:xfrm flipV="1">
              <a:off x="4606920" y="1798920"/>
              <a:ext cx="0" cy="815400"/>
            </a:xfrm>
            <a:prstGeom prst="line">
              <a:avLst/>
            </a:prstGeom>
            <a:ln w="28440">
              <a:solidFill>
                <a:srgbClr val="33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33"/>
            <p:cNvSpPr/>
            <p:nvPr/>
          </p:nvSpPr>
          <p:spPr>
            <a:xfrm>
              <a:off x="3823920" y="171360"/>
              <a:ext cx="1565280" cy="162792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0" action="ppaction://hlinksldjump"/>
                </a:rPr>
                <a:t>Отря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 u="sng">
                  <a:solidFill>
                    <a:srgbClr val="990033"/>
                  </a:solidFill>
                  <a:uFillTx/>
                  <a:latin typeface="Arial"/>
                  <a:hlinkClick r:id="rId21" action="ppaction://hlinksldjump"/>
                </a:rPr>
                <a:t>Прямокрылые</a:t>
              </a:r>
              <a:r>
                <a:rPr b="0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Кузнечики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Саранча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Медведки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32"/>
            <p:cNvSpPr/>
            <p:nvPr/>
          </p:nvSpPr>
          <p:spPr>
            <a:xfrm>
              <a:off x="3823920" y="2615040"/>
              <a:ext cx="1565280" cy="1627560"/>
            </a:xfrm>
            <a:prstGeom prst="rect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Клас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 u="sng">
                  <a:solidFill>
                    <a:srgbClr val="000000"/>
                  </a:solidFill>
                  <a:uFillTx/>
                  <a:latin typeface="Arial"/>
                </a:rPr>
                <a:t>Насеком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(около 1 млн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идов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7596360" y="6093000"/>
            <a:ext cx="1008000" cy="504720"/>
          </a:xfrm>
          <a:custGeom>
            <a:avLst/>
            <a:gdLst>
              <a:gd name="textAreaLeft" fmla="*/ 32400 w 1008000"/>
              <a:gd name="textAreaRight" fmla="*/ 975600 w 1008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3123" h="21600">
                <a:moveTo>
                  <a:pt x="0" y="0"/>
                </a:moveTo>
                <a:lnTo>
                  <a:pt x="43123" y="0"/>
                </a:lnTo>
                <a:lnTo>
                  <a:pt x="43123" y="21600"/>
                </a:lnTo>
                <a:lnTo>
                  <a:pt x="0" y="21600"/>
                </a:lnTo>
                <a:close/>
              </a:path>
              <a:path fill="lightenLess" w="43123" h="21600">
                <a:moveTo>
                  <a:pt x="0" y="0"/>
                </a:moveTo>
                <a:lnTo>
                  <a:pt x="43123" y="0"/>
                </a:lnTo>
                <a:lnTo>
                  <a:pt x="41723" y="1400"/>
                </a:lnTo>
                <a:lnTo>
                  <a:pt x="1400" y="1400"/>
                </a:lnTo>
                <a:close/>
              </a:path>
              <a:path fill="darken" w="43123" h="21600">
                <a:moveTo>
                  <a:pt x="43123" y="0"/>
                </a:moveTo>
                <a:lnTo>
                  <a:pt x="43123" y="21600"/>
                </a:lnTo>
                <a:lnTo>
                  <a:pt x="41723" y="20200"/>
                </a:lnTo>
                <a:lnTo>
                  <a:pt x="41723" y="1400"/>
                </a:lnTo>
                <a:close/>
              </a:path>
              <a:path fill="darkenLess" w="43123" h="21600">
                <a:moveTo>
                  <a:pt x="43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3" y="20200"/>
                </a:lnTo>
                <a:close/>
              </a:path>
              <a:path fill="lighten" w="43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3" h="21600">
                <a:moveTo>
                  <a:pt x="25060" y="10800"/>
                </a:moveTo>
                <a:lnTo>
                  <a:pt x="14555" y="17806"/>
                </a:lnTo>
                <a:lnTo>
                  <a:pt x="14555" y="3794"/>
                </a:lnTo>
                <a:close/>
              </a:path>
              <a:path fill="darken" w="43123" h="21600">
                <a:moveTo>
                  <a:pt x="26906" y="3794"/>
                </a:moveTo>
                <a:lnTo>
                  <a:pt x="26906" y="17806"/>
                </a:lnTo>
                <a:lnTo>
                  <a:pt x="28568" y="17806"/>
                </a:lnTo>
                <a:lnTo>
                  <a:pt x="2856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бабочки или чешуе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21200" cy="4753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-дневной павлиний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морфо диди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-репей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тополевая стеклян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- молочайный браж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164360" y="6021360"/>
            <a:ext cx="1511280" cy="50328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31" h="21600">
                <a:moveTo>
                  <a:pt x="0" y="0"/>
                </a:moveTo>
                <a:lnTo>
                  <a:pt x="64831" y="0"/>
                </a:lnTo>
                <a:lnTo>
                  <a:pt x="64831" y="21600"/>
                </a:lnTo>
                <a:lnTo>
                  <a:pt x="0" y="21600"/>
                </a:lnTo>
                <a:close/>
              </a:path>
              <a:path fill="lightenLess" w="64831" h="21600">
                <a:moveTo>
                  <a:pt x="0" y="0"/>
                </a:moveTo>
                <a:lnTo>
                  <a:pt x="64831" y="0"/>
                </a:lnTo>
                <a:lnTo>
                  <a:pt x="63431" y="1400"/>
                </a:lnTo>
                <a:lnTo>
                  <a:pt x="1400" y="1400"/>
                </a:lnTo>
                <a:close/>
              </a:path>
              <a:path fill="darken" w="64831" h="21600">
                <a:moveTo>
                  <a:pt x="64831" y="0"/>
                </a:moveTo>
                <a:lnTo>
                  <a:pt x="64831" y="21600"/>
                </a:lnTo>
                <a:lnTo>
                  <a:pt x="63431" y="20200"/>
                </a:lnTo>
                <a:lnTo>
                  <a:pt x="63431" y="1400"/>
                </a:lnTo>
                <a:close/>
              </a:path>
              <a:path fill="darkenLess" w="64831" h="21600">
                <a:moveTo>
                  <a:pt x="64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1" y="20200"/>
                </a:lnTo>
                <a:close/>
              </a:path>
              <a:path fill="lighten" w="64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31" h="21600">
                <a:moveTo>
                  <a:pt x="25409" y="3794"/>
                </a:moveTo>
                <a:lnTo>
                  <a:pt x="39422" y="10800"/>
                </a:lnTo>
                <a:lnTo>
                  <a:pt x="25409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чешуекрылые)  один из наиболее крупных отрядов насекомых, включающий более 140 тысяч видов. Разделяется на более чем 100 семейств. Распространены всесветно, за исключением областей, занятых ледниками. Самыми мелкими бабочками являются разнообразные моли и мешочницы  (размах крыльев 1-2 см), самая крупная — южно-американская совка агриппа , с размахом крыльев в 30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подавляющего большинства видов развиты две пары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товые органы, как правило, сосущие, при этом нижние челюсти преобразованы в длинный сосательный хобо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бочки раздельнополы, часто с четким половым диморфизмом. Он выражается в различных размерах и окраске самцов и самок. Развитие с полным превращ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7812000" y="616572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27" h="21600">
                <a:moveTo>
                  <a:pt x="20007" y="10800"/>
                </a:moveTo>
                <a:lnTo>
                  <a:pt x="34020" y="3794"/>
                </a:lnTo>
                <a:lnTo>
                  <a:pt x="34020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Отряд двукрылы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вные представители: мухи и кома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795672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3794"/>
                </a:moveTo>
                <a:lnTo>
                  <a:pt x="32194" y="10800"/>
                </a:lnTo>
                <a:lnTo>
                  <a:pt x="18182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 отряд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крылы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носятся мухи, комары, слепни- имеют по одной паре перепончатых крыл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Ротовые органы колюще- сосущие (у комаров) или лижущие (у комнатной мух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Личинки безног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7885080" y="602136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Отряд жуки или жесткокрылы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жук- герку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дрово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бронзо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ус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колорадский ж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 жук- 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46800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451640" y="6165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606" h="21600">
                <a:moveTo>
                  <a:pt x="21797" y="3794"/>
                </a:moveTo>
                <a:lnTo>
                  <a:pt x="35809" y="10800"/>
                </a:lnTo>
                <a:lnTo>
                  <a:pt x="21797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6:36:16Z</dcterms:created>
  <dc:creator>ххх</dc:creator>
  <dc:description/>
  <dc:language>en-US</dc:language>
  <cp:lastModifiedBy>Мама</cp:lastModifiedBy>
  <dcterms:modified xsi:type="dcterms:W3CDTF">2012-09-08T02:52:39Z</dcterms:modified>
  <cp:revision>7</cp:revision>
  <dc:subject/>
  <dc:title>Слайд 1</dc:title>
</cp:coreProperties>
</file>