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E4F5-78F2-4B7E-808E-33D11B6E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A4F9-D737-4BC1-B292-AF62246F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3010-66EC-4FE6-B9EC-0B5F988E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D4B-5273-41D7-910C-070A3484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9D8F-DB87-4787-9BC0-6D831A79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5D54-374F-4A48-8D8D-2273937D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0BC4-6569-4435-B1DE-9E29FBF6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07D1-F08B-4603-887F-9C000087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7157-6F2F-4D0B-8406-79B451D3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0D34-9D27-44AA-956D-CC811961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CD67-E932-41DD-B3EF-36431821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A60F-37B2-4729-BC8F-DD56A0CC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7955-EEEB-4D82-91EA-F609A811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D53D-D28D-4240-8BA1-5307AA60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1E75-DBCF-4669-BC65-C8399889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C2E5-5709-432B-B5F7-B404608A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80C1-4824-49AA-863A-ACDC1DC1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46C-EFB1-40A5-8A56-C5338000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1D8-CD79-41F7-A9AE-5D9F51C1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95B6-8068-4EA8-8BC7-0F072507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55E-CB51-4D3E-9557-7E3C00E0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FFE8-A490-41B6-B6C3-AD54CF35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D42E-FE6D-46D0-B165-6F19C2A2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CD9C-062A-438E-9B06-67557A62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8191-CEE1-4C51-9395-4AC541B427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2416-87EE-4744-A98D-CDD98E6975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image" Target="../media/image1.png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image" Target="../media/image1.png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image" Target="../media/image1.png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image" Target="../media/image1.png"/><Relationship Id="rId14" Type="http://schemas.openxmlformats.org/officeDocument/2006/relationships/slide" Target="slide7.xml"/><Relationship Id="rId15" Type="http://schemas.openxmlformats.org/officeDocument/2006/relationships/slide" Target="slide7.xml"/><Relationship Id="rId16" Type="http://schemas.openxmlformats.org/officeDocument/2006/relationships/image" Target="../media/image1.png"/><Relationship Id="rId17" Type="http://schemas.openxmlformats.org/officeDocument/2006/relationships/slide" Target="slide17.xml"/><Relationship Id="rId18" Type="http://schemas.openxmlformats.org/officeDocument/2006/relationships/slide" Target="slide17.xml"/><Relationship Id="rId19" Type="http://schemas.openxmlformats.org/officeDocument/2006/relationships/image" Target="../media/image1.png"/><Relationship Id="rId20" Type="http://schemas.openxmlformats.org/officeDocument/2006/relationships/slide" Target="slide15.xml"/><Relationship Id="rId21" Type="http://schemas.openxmlformats.org/officeDocument/2006/relationships/slide" Target="slide15.xml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Насекомые. Многообразие насекомых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ла учитель химии и 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онова Н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У «Лобасковская О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ЖУК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жесткокрылые) , наиболее многочисленный отряд насекомых, включающий более 180 семейств, всего около 250 тыс.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, иногда недоразви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жуков имеется две пары крыльев. Передние превращены в толстые надкрылья. Чаще всего они закрывают все брюшко, реже — только его часть. Задние крылья широкие и перепончатые. В покое они укладываются под надкрыл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40720" y="6021360"/>
            <a:ext cx="1079280" cy="43200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37" h="21600">
                <a:moveTo>
                  <a:pt x="0" y="0"/>
                </a:moveTo>
                <a:lnTo>
                  <a:pt x="53937" y="0"/>
                </a:lnTo>
                <a:lnTo>
                  <a:pt x="53937" y="21600"/>
                </a:lnTo>
                <a:lnTo>
                  <a:pt x="0" y="21600"/>
                </a:lnTo>
                <a:close/>
              </a:path>
              <a:path fill="lightenLess" w="53937" h="21600">
                <a:moveTo>
                  <a:pt x="0" y="0"/>
                </a:moveTo>
                <a:lnTo>
                  <a:pt x="53937" y="0"/>
                </a:lnTo>
                <a:lnTo>
                  <a:pt x="52537" y="1400"/>
                </a:lnTo>
                <a:lnTo>
                  <a:pt x="1400" y="1400"/>
                </a:lnTo>
                <a:close/>
              </a:path>
              <a:path fill="darken" w="53937" h="21600">
                <a:moveTo>
                  <a:pt x="53937" y="0"/>
                </a:moveTo>
                <a:lnTo>
                  <a:pt x="53937" y="21600"/>
                </a:lnTo>
                <a:lnTo>
                  <a:pt x="52537" y="20200"/>
                </a:lnTo>
                <a:lnTo>
                  <a:pt x="52537" y="1400"/>
                </a:lnTo>
                <a:close/>
              </a:path>
              <a:path fill="darkenLess" w="53937" h="21600">
                <a:moveTo>
                  <a:pt x="5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7" y="20200"/>
                </a:lnTo>
                <a:close/>
              </a:path>
              <a:path fill="lighten" w="5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7" h="21600">
                <a:moveTo>
                  <a:pt x="19962" y="10800"/>
                </a:moveTo>
                <a:lnTo>
                  <a:pt x="33975" y="3794"/>
                </a:lnTo>
                <a:lnTo>
                  <a:pt x="3397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клоп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клоп- нимф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хищнец кольчат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оп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отряд насекомых, включающий более 4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ой аппарат колюще-сосущ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большинства видов имеется две пары крыльев. Передние — с плотным основанием и перепончатой вершиной. Задние — широкие и перепончатые в покое сложены под передними. Иногда крылья недоразвиты или отсутствуют. У многих клопов на заднегруди открываются пахучие железы. Они не развиты только у водных и некоторых хищных в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6021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ерепончат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35280" y="1600200"/>
            <a:ext cx="5137200" cy="2765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оносные пчё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524720" y="602136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ПОНЧАТОКРЫЛЫ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упный отряд насекомых, включающий около 15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 и лижущ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перепончатых крыльев с многочисленными поперечными жилками и ячей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ги ходильные с пятичлениковыми лапками и парными кого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ведущих общественный образ жизни муравьев, а также некоторых пчел и ос характерна кастовая система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08720" y="6093000"/>
            <a:ext cx="1584360" cy="576000"/>
          </a:xfrm>
          <a:custGeom>
            <a:avLst/>
            <a:gdLst>
              <a:gd name="textAreaLeft" fmla="*/ 37080 w 1584360"/>
              <a:gd name="textAreaRight" fmla="*/ 1547280 w 1584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9390" h="21600">
                <a:moveTo>
                  <a:pt x="0" y="0"/>
                </a:moveTo>
                <a:lnTo>
                  <a:pt x="59390" y="0"/>
                </a:lnTo>
                <a:lnTo>
                  <a:pt x="59390" y="21600"/>
                </a:lnTo>
                <a:lnTo>
                  <a:pt x="0" y="21600"/>
                </a:lnTo>
                <a:close/>
              </a:path>
              <a:path fill="lightenLess" w="59390" h="21600">
                <a:moveTo>
                  <a:pt x="0" y="0"/>
                </a:moveTo>
                <a:lnTo>
                  <a:pt x="59390" y="0"/>
                </a:lnTo>
                <a:lnTo>
                  <a:pt x="57990" y="1400"/>
                </a:lnTo>
                <a:lnTo>
                  <a:pt x="1400" y="1400"/>
                </a:lnTo>
                <a:close/>
              </a:path>
              <a:path fill="darken" w="59390" h="21600">
                <a:moveTo>
                  <a:pt x="59390" y="0"/>
                </a:moveTo>
                <a:lnTo>
                  <a:pt x="59390" y="21600"/>
                </a:lnTo>
                <a:lnTo>
                  <a:pt x="57990" y="20200"/>
                </a:lnTo>
                <a:lnTo>
                  <a:pt x="57990" y="1400"/>
                </a:lnTo>
                <a:close/>
              </a:path>
              <a:path fill="darkenLess" w="59390" h="21600">
                <a:moveTo>
                  <a:pt x="59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0" y="20200"/>
                </a:lnTo>
                <a:close/>
              </a:path>
              <a:path fill="lighten" w="59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90" h="21600">
                <a:moveTo>
                  <a:pt x="22688" y="10800"/>
                </a:moveTo>
                <a:lnTo>
                  <a:pt x="36701" y="3794"/>
                </a:lnTo>
                <a:lnTo>
                  <a:pt x="367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рям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4903920" cy="3024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зне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451640" y="5877000"/>
            <a:ext cx="1368360" cy="647640"/>
          </a:xfrm>
          <a:custGeom>
            <a:avLst/>
            <a:gdLst>
              <a:gd name="textAreaLeft" fmla="*/ 41760 w 1368360"/>
              <a:gd name="textAreaRight" fmla="*/ 1326600 w 1368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5624" h="21600">
                <a:moveTo>
                  <a:pt x="0" y="0"/>
                </a:moveTo>
                <a:lnTo>
                  <a:pt x="45624" y="0"/>
                </a:lnTo>
                <a:lnTo>
                  <a:pt x="45624" y="21600"/>
                </a:lnTo>
                <a:lnTo>
                  <a:pt x="0" y="21600"/>
                </a:lnTo>
                <a:close/>
              </a:path>
              <a:path fill="lightenLess" w="45624" h="21600">
                <a:moveTo>
                  <a:pt x="0" y="0"/>
                </a:moveTo>
                <a:lnTo>
                  <a:pt x="45624" y="0"/>
                </a:lnTo>
                <a:lnTo>
                  <a:pt x="44224" y="1400"/>
                </a:lnTo>
                <a:lnTo>
                  <a:pt x="1400" y="1400"/>
                </a:lnTo>
                <a:close/>
              </a:path>
              <a:path fill="darken" w="45624" h="21600">
                <a:moveTo>
                  <a:pt x="45624" y="0"/>
                </a:moveTo>
                <a:lnTo>
                  <a:pt x="45624" y="21600"/>
                </a:lnTo>
                <a:lnTo>
                  <a:pt x="44224" y="20200"/>
                </a:lnTo>
                <a:lnTo>
                  <a:pt x="44224" y="1400"/>
                </a:lnTo>
                <a:close/>
              </a:path>
              <a:path fill="darkenLess" w="45624" h="21600">
                <a:moveTo>
                  <a:pt x="45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24" y="20200"/>
                </a:lnTo>
                <a:close/>
              </a:path>
              <a:path fill="lighten" w="45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24" h="21600">
                <a:moveTo>
                  <a:pt x="15806" y="3794"/>
                </a:moveTo>
                <a:lnTo>
                  <a:pt x="29818" y="10800"/>
                </a:lnTo>
                <a:lnTo>
                  <a:pt x="15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ЯМО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древний отряд насекомых. Включает не менее 20000 видов, встречающихся повсемес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ой аппарат грызу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крыльев. Передние — узкие и длинные, задние — широкие и перепончатые. У многих прямокрылых задние крылья ярко окрашены. Иногда крылья недоразвиты или отсутству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большинства прямокрылых имеются органы стрекотания и слуха. Орган слуха у этих насекомых расположен на передних но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йца откладываются поодиночке или группами в почву или в мягкие ткани растений. Личинки похожи на взрослых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360" y="5805360"/>
            <a:ext cx="1511280" cy="576360"/>
          </a:xfrm>
          <a:custGeom>
            <a:avLst/>
            <a:gdLst>
              <a:gd name="textAreaLeft" fmla="*/ 37080 w 1511280"/>
              <a:gd name="textAreaRight" fmla="*/ 1474200 w 1511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6616" h="21600">
                <a:moveTo>
                  <a:pt x="0" y="0"/>
                </a:moveTo>
                <a:lnTo>
                  <a:pt x="56616" y="0"/>
                </a:lnTo>
                <a:lnTo>
                  <a:pt x="56616" y="21600"/>
                </a:lnTo>
                <a:lnTo>
                  <a:pt x="0" y="21600"/>
                </a:lnTo>
                <a:close/>
              </a:path>
              <a:path fill="lightenLess" w="56616" h="21600">
                <a:moveTo>
                  <a:pt x="0" y="0"/>
                </a:moveTo>
                <a:lnTo>
                  <a:pt x="56616" y="0"/>
                </a:lnTo>
                <a:lnTo>
                  <a:pt x="55216" y="1400"/>
                </a:lnTo>
                <a:lnTo>
                  <a:pt x="1400" y="1400"/>
                </a:lnTo>
                <a:close/>
              </a:path>
              <a:path fill="darken" w="56616" h="21600">
                <a:moveTo>
                  <a:pt x="56616" y="0"/>
                </a:moveTo>
                <a:lnTo>
                  <a:pt x="56616" y="21600"/>
                </a:lnTo>
                <a:lnTo>
                  <a:pt x="55216" y="20200"/>
                </a:lnTo>
                <a:lnTo>
                  <a:pt x="55216" y="1400"/>
                </a:lnTo>
                <a:close/>
              </a:path>
              <a:path fill="darkenLess" w="56616" h="21600">
                <a:moveTo>
                  <a:pt x="56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16" y="20200"/>
                </a:lnTo>
                <a:close/>
              </a:path>
              <a:path fill="lighten" w="56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16" h="21600">
                <a:moveTo>
                  <a:pt x="21301" y="10800"/>
                </a:moveTo>
                <a:lnTo>
                  <a:pt x="35314" y="3794"/>
                </a:lnTo>
                <a:lnTo>
                  <a:pt x="3531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равн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када обыкновенная, цикада красно-пятнистая, цикада зелё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809880" cy="453060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7093080" y="6021360"/>
            <a:ext cx="1439640" cy="576360"/>
          </a:xfrm>
          <a:custGeom>
            <a:avLst/>
            <a:gdLst>
              <a:gd name="textAreaLeft" fmla="*/ 37080 w 1439640"/>
              <a:gd name="textAreaRight" fmla="*/ 1402560 w 143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3933" h="21600">
                <a:moveTo>
                  <a:pt x="0" y="0"/>
                </a:moveTo>
                <a:lnTo>
                  <a:pt x="53933" y="0"/>
                </a:lnTo>
                <a:lnTo>
                  <a:pt x="53933" y="21600"/>
                </a:lnTo>
                <a:lnTo>
                  <a:pt x="0" y="21600"/>
                </a:lnTo>
                <a:close/>
              </a:path>
              <a:path fill="lightenLess" w="53933" h="21600">
                <a:moveTo>
                  <a:pt x="0" y="0"/>
                </a:moveTo>
                <a:lnTo>
                  <a:pt x="53933" y="0"/>
                </a:lnTo>
                <a:lnTo>
                  <a:pt x="52533" y="1400"/>
                </a:lnTo>
                <a:lnTo>
                  <a:pt x="1400" y="1400"/>
                </a:lnTo>
                <a:close/>
              </a:path>
              <a:path fill="darken" w="53933" h="21600">
                <a:moveTo>
                  <a:pt x="53933" y="0"/>
                </a:moveTo>
                <a:lnTo>
                  <a:pt x="53933" y="21600"/>
                </a:lnTo>
                <a:lnTo>
                  <a:pt x="52533" y="20200"/>
                </a:lnTo>
                <a:lnTo>
                  <a:pt x="52533" y="1400"/>
                </a:lnTo>
                <a:close/>
              </a:path>
              <a:path fill="darkenLess" w="53933" h="21600">
                <a:moveTo>
                  <a:pt x="53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3" y="20200"/>
                </a:lnTo>
                <a:close/>
              </a:path>
              <a:path fill="lighten" w="53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3" h="21600">
                <a:moveTo>
                  <a:pt x="19960" y="3794"/>
                </a:moveTo>
                <a:lnTo>
                  <a:pt x="33973" y="10800"/>
                </a:lnTo>
                <a:lnTo>
                  <a:pt x="1996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отряд насекомых, включающий около 3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большинства видов имеется две пары крыльев. Иногда крылья не разв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йца откладывают в стебли или на поверхность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инки разнообразны по внешнему облику. У цикадовых и тлей они похожи на взрослых насеко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5950080"/>
            <a:ext cx="1512720" cy="647640"/>
          </a:xfrm>
          <a:custGeom>
            <a:avLst/>
            <a:gdLst>
              <a:gd name="textAreaLeft" fmla="*/ 41760 w 1512720"/>
              <a:gd name="textAreaRight" fmla="*/ 1470960 w 1512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0436" h="21600">
                <a:moveTo>
                  <a:pt x="0" y="0"/>
                </a:moveTo>
                <a:lnTo>
                  <a:pt x="50436" y="0"/>
                </a:lnTo>
                <a:lnTo>
                  <a:pt x="50436" y="21600"/>
                </a:lnTo>
                <a:lnTo>
                  <a:pt x="0" y="21600"/>
                </a:lnTo>
                <a:close/>
              </a:path>
              <a:path fill="lightenLess" w="50436" h="21600">
                <a:moveTo>
                  <a:pt x="0" y="0"/>
                </a:moveTo>
                <a:lnTo>
                  <a:pt x="50436" y="0"/>
                </a:lnTo>
                <a:lnTo>
                  <a:pt x="49036" y="1400"/>
                </a:lnTo>
                <a:lnTo>
                  <a:pt x="1400" y="1400"/>
                </a:lnTo>
                <a:close/>
              </a:path>
              <a:path fill="darken" w="50436" h="21600">
                <a:moveTo>
                  <a:pt x="50436" y="0"/>
                </a:moveTo>
                <a:lnTo>
                  <a:pt x="50436" y="21600"/>
                </a:lnTo>
                <a:lnTo>
                  <a:pt x="49036" y="20200"/>
                </a:lnTo>
                <a:lnTo>
                  <a:pt x="49036" y="1400"/>
                </a:lnTo>
                <a:close/>
              </a:path>
              <a:path fill="darkenLess" w="50436" h="21600">
                <a:moveTo>
                  <a:pt x="5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36" y="20200"/>
                </a:lnTo>
                <a:close/>
              </a:path>
              <a:path fill="lighten" w="5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36" h="21600">
                <a:moveTo>
                  <a:pt x="18212" y="10800"/>
                </a:moveTo>
                <a:lnTo>
                  <a:pt x="32224" y="3794"/>
                </a:lnTo>
                <a:lnTo>
                  <a:pt x="3222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формите таблицу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14400" y="1600200"/>
          <a:ext cx="7772400" cy="44924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5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ком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и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комиться с основными отрядами класса Насеком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еть характерные признаки представителей различных отрядов насеком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класс беспозвоночных животных типа членистоног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ло разделено на голову, грудь и брюшко. Каждый сегмент груди несет по одной паре членистых конечностей, у большинства видов развиты крыль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ышат трахе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тие, как правило, с метаморфозом: яйцо, личинка,  куколка, взрослое насеком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ая многочисленная и разнообразная группа животных на Земле: известно ок. 1 млн. видов, истинное их число, вероятно, 1,5-2 млн. видов, а по некоторым оценкам еще более значительно. Число отрядов по разным оценкам составяет от 30 до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ногие насекомые повреждают сельскохозяйственные, лесные и декоративные растения, зерно и другие пищевые продукты в хранилищах, переносят возбудителей болезней человека и животных. Огромное количество насекомых являются опылителями цветковых раст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которые виды (напр., наездники) использутся для биологической борьбы с вредителями сельского и лесного хозяйства. Продукты жизнедеятельности медоносной пчелы и тутового шекопряда — мед, воск и шелк издавна используются челове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сленность многих видов, особенно бабочек, сокращ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ее 200 видов насекомых охра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ука о насекомых —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нтомолог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.165-168 учеб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е задание №101 на стр.52 (рабочая тетрад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самые многочисленные членистоногие нашей планеты. Их миллиарды миллиардов и только различных видов насчитывается более двух миллионов. После одноклеточных это наиболее многочисленная группа животны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селили все уголки Земли, они встречаются высоко в горах и в глубоких пещера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итают за Полярным кругом и на поверхности воды, они способны годами голодать, пережить замораживание в лед  и размножаться в наперстке воды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огут уничтожить выращенный людьми урожай и заразить человека смертельными болезн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34680" y="171360"/>
            <a:ext cx="6145560" cy="6270120"/>
            <a:chOff x="1534680" y="171360"/>
            <a:chExt cx="6145560" cy="6270120"/>
          </a:xfrm>
        </p:grpSpPr>
        <p:sp>
          <p:nvSpPr>
            <p:cNvPr id="103" name="_s43046"/>
            <p:cNvSpPr/>
            <p:nvPr/>
          </p:nvSpPr>
          <p:spPr>
            <a:xfrm flipH="1" flipV="1">
              <a:off x="3383640" y="2411280"/>
              <a:ext cx="613800" cy="5112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43045"/>
            <p:cNvSpPr/>
            <p:nvPr/>
          </p:nvSpPr>
          <p:spPr>
            <a:xfrm>
              <a:off x="1986840" y="1091520"/>
              <a:ext cx="1565280" cy="1627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3" action="ppaction://hlinksldjump"/>
                </a:rPr>
                <a:t>Клоп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остельны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Лесно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3044"/>
            <p:cNvSpPr/>
            <p:nvPr/>
          </p:nvSpPr>
          <p:spPr>
            <a:xfrm flipH="1">
              <a:off x="307980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3043"/>
            <p:cNvSpPr/>
            <p:nvPr/>
          </p:nvSpPr>
          <p:spPr>
            <a:xfrm>
              <a:off x="1534680" y="3157920"/>
              <a:ext cx="1565280" cy="162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5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6" action="ppaction://hlinksldjump"/>
                </a:rPr>
                <a:t>Жу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ки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жел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Долгоноси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3042"/>
            <p:cNvSpPr/>
            <p:nvPr/>
          </p:nvSpPr>
          <p:spPr>
            <a:xfrm flipH="1">
              <a:off x="392760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43041"/>
            <p:cNvSpPr/>
            <p:nvPr/>
          </p:nvSpPr>
          <p:spPr>
            <a:xfrm>
              <a:off x="2805840" y="4813560"/>
              <a:ext cx="1565280" cy="16279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8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9" action="ppaction://hlinksldjump"/>
                </a:rPr>
                <a:t>Бабочки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рапивн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раурниц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43040"/>
            <p:cNvSpPr/>
            <p:nvPr/>
          </p:nvSpPr>
          <p:spPr>
            <a:xfrm>
              <a:off x="494604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43039"/>
            <p:cNvSpPr/>
            <p:nvPr/>
          </p:nvSpPr>
          <p:spPr>
            <a:xfrm>
              <a:off x="4843800" y="4813560"/>
              <a:ext cx="1565280" cy="16279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1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2" action="ppaction://hlinksldjump"/>
                </a:rPr>
                <a:t>Перепончат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чёл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с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равь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43038"/>
            <p:cNvSpPr/>
            <p:nvPr/>
          </p:nvSpPr>
          <p:spPr>
            <a:xfrm>
              <a:off x="536796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43037"/>
            <p:cNvSpPr/>
            <p:nvPr/>
          </p:nvSpPr>
          <p:spPr>
            <a:xfrm>
              <a:off x="6114960" y="3156480"/>
              <a:ext cx="1565280" cy="162756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4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5" action="ppaction://hlinksldjump"/>
                </a:rPr>
                <a:t>Дву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хи, комар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лепн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43036"/>
            <p:cNvSpPr/>
            <p:nvPr/>
          </p:nvSpPr>
          <p:spPr>
            <a:xfrm flipV="1">
              <a:off x="5217120" y="2410920"/>
              <a:ext cx="613800" cy="509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43035"/>
            <p:cNvSpPr/>
            <p:nvPr/>
          </p:nvSpPr>
          <p:spPr>
            <a:xfrm>
              <a:off x="5660640" y="1089720"/>
              <a:ext cx="1565280" cy="162756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7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8" action="ppaction://hlinksldjump"/>
                </a:rPr>
                <a:t>Равно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ля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яниц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43034"/>
            <p:cNvSpPr/>
            <p:nvPr/>
          </p:nvSpPr>
          <p:spPr>
            <a:xfrm flipV="1">
              <a:off x="4606920" y="1798920"/>
              <a:ext cx="0" cy="815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43033"/>
            <p:cNvSpPr/>
            <p:nvPr/>
          </p:nvSpPr>
          <p:spPr>
            <a:xfrm>
              <a:off x="3823920" y="171360"/>
              <a:ext cx="1565280" cy="1627920"/>
            </a:xfrm>
            <a:prstGeom prst="rect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0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1" action="ppaction://hlinksldjump"/>
                </a:rPr>
                <a:t>Прям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узнечики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аранча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вед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43032"/>
            <p:cNvSpPr/>
            <p:nvPr/>
          </p:nvSpPr>
          <p:spPr>
            <a:xfrm>
              <a:off x="3823920" y="2615040"/>
              <a:ext cx="1565280" cy="1627560"/>
            </a:xfrm>
            <a:prstGeom prst="rect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Клас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Насеком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около 1 млн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идов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596360" y="609300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25060" y="10800"/>
                </a:moveTo>
                <a:lnTo>
                  <a:pt x="14555" y="17806"/>
                </a:lnTo>
                <a:lnTo>
                  <a:pt x="14555" y="3794"/>
                </a:lnTo>
                <a:close/>
              </a:path>
              <a:path fill="darken" w="43123" h="21600">
                <a:moveTo>
                  <a:pt x="26906" y="3794"/>
                </a:moveTo>
                <a:lnTo>
                  <a:pt x="26906" y="17806"/>
                </a:lnTo>
                <a:lnTo>
                  <a:pt x="28568" y="17806"/>
                </a:lnTo>
                <a:lnTo>
                  <a:pt x="28568" y="379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бабочки или чешуе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021200" cy="4753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дневной павлиний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морфо диди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репей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тополевая стекля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 молочайный браж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164360" y="6021360"/>
            <a:ext cx="1511280" cy="50328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4831" h="21600">
                <a:moveTo>
                  <a:pt x="0" y="0"/>
                </a:moveTo>
                <a:lnTo>
                  <a:pt x="64831" y="0"/>
                </a:lnTo>
                <a:lnTo>
                  <a:pt x="64831" y="21600"/>
                </a:lnTo>
                <a:lnTo>
                  <a:pt x="0" y="21600"/>
                </a:lnTo>
                <a:close/>
              </a:path>
              <a:path fill="lightenLess" w="64831" h="21600">
                <a:moveTo>
                  <a:pt x="0" y="0"/>
                </a:moveTo>
                <a:lnTo>
                  <a:pt x="64831" y="0"/>
                </a:lnTo>
                <a:lnTo>
                  <a:pt x="63431" y="1400"/>
                </a:lnTo>
                <a:lnTo>
                  <a:pt x="1400" y="1400"/>
                </a:lnTo>
                <a:close/>
              </a:path>
              <a:path fill="darken" w="64831" h="21600">
                <a:moveTo>
                  <a:pt x="64831" y="0"/>
                </a:moveTo>
                <a:lnTo>
                  <a:pt x="64831" y="21600"/>
                </a:lnTo>
                <a:lnTo>
                  <a:pt x="63431" y="20200"/>
                </a:lnTo>
                <a:lnTo>
                  <a:pt x="63431" y="1400"/>
                </a:lnTo>
                <a:close/>
              </a:path>
              <a:path fill="darkenLess" w="64831" h="21600">
                <a:moveTo>
                  <a:pt x="64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1" y="20200"/>
                </a:lnTo>
                <a:close/>
              </a:path>
              <a:path fill="lighten" w="64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31" h="21600">
                <a:moveTo>
                  <a:pt x="25409" y="3794"/>
                </a:moveTo>
                <a:lnTo>
                  <a:pt x="39422" y="10800"/>
                </a:lnTo>
                <a:lnTo>
                  <a:pt x="2540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БОЧ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чешуекрылые)  один из наиболее крупных отрядов насекомых, включающий более 140 тысяч видов. Разделяется на более чем 100 семейств. Распространены всесветно, за исключением областей, занятых ледниками. Самыми мелкими бабочками являются разнообразные моли и мешочницы  (размах крыльев 1-2 см), самая крупная — южно-американская совка агриппа , с размахом крыльев в 30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видов развиты две пары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, как правило, сосущие, при этом нижние челюсти преобразованы в длинный сосательный хобо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бочки раздельнополы, часто с четким половым диморфизмом. Он выражается в различных размерах и окраске самцов и самок. 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дву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ые представители: мухи и ком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321080" cy="446400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95672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3794"/>
                </a:moveTo>
                <a:lnTo>
                  <a:pt x="32194" y="10800"/>
                </a:lnTo>
                <a:lnTo>
                  <a:pt x="1818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отряд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ву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носятся мухи, комары, слепни- имеют по одной паре перепончатых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колюще- сосущие (у комаров) или лижущие (у комнатной мух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чинки безног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788508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жуки или жестко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жук- геркул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дровос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бронз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 ус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колорадский ж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 жук- ол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21200" cy="468000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7451640" y="6165720"/>
            <a:ext cx="1152720" cy="43200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606" h="21600">
                <a:moveTo>
                  <a:pt x="0" y="0"/>
                </a:moveTo>
                <a:lnTo>
                  <a:pt x="57606" y="0"/>
                </a:lnTo>
                <a:lnTo>
                  <a:pt x="57606" y="21600"/>
                </a:lnTo>
                <a:lnTo>
                  <a:pt x="0" y="21600"/>
                </a:lnTo>
                <a:close/>
              </a:path>
              <a:path fill="lightenLess" w="57606" h="21600">
                <a:moveTo>
                  <a:pt x="0" y="0"/>
                </a:moveTo>
                <a:lnTo>
                  <a:pt x="57606" y="0"/>
                </a:lnTo>
                <a:lnTo>
                  <a:pt x="56206" y="1400"/>
                </a:lnTo>
                <a:lnTo>
                  <a:pt x="1400" y="1400"/>
                </a:lnTo>
                <a:close/>
              </a:path>
              <a:path fill="darken" w="57606" h="21600">
                <a:moveTo>
                  <a:pt x="57606" y="0"/>
                </a:moveTo>
                <a:lnTo>
                  <a:pt x="57606" y="21600"/>
                </a:lnTo>
                <a:lnTo>
                  <a:pt x="56206" y="20200"/>
                </a:lnTo>
                <a:lnTo>
                  <a:pt x="56206" y="1400"/>
                </a:lnTo>
                <a:close/>
              </a:path>
              <a:path fill="darkenLess" w="57606" h="21600">
                <a:moveTo>
                  <a:pt x="57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6" y="20200"/>
                </a:lnTo>
                <a:close/>
              </a:path>
              <a:path fill="lighten" w="57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06" h="21600">
                <a:moveTo>
                  <a:pt x="21797" y="3794"/>
                </a:moveTo>
                <a:lnTo>
                  <a:pt x="35809" y="10800"/>
                </a:lnTo>
                <a:lnTo>
                  <a:pt x="2179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6:36:16Z</dcterms:created>
  <dc:creator>ххх</dc:creator>
  <dc:description/>
  <dc:language>en-US</dc:language>
  <cp:lastModifiedBy>Мама</cp:lastModifiedBy>
  <dcterms:modified xsi:type="dcterms:W3CDTF">2012-09-08T02:52:39Z</dcterms:modified>
  <cp:revision>7</cp:revision>
  <dc:subject/>
  <dc:title>Слайд 1</dc:title>
</cp:coreProperties>
</file>