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4B8F-6B73-4676-8CC2-1148AC604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EFDE-3688-4FDE-BE76-FAC7AAA77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AF36-F36F-4EB0-B92E-A8CDFCB21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9A53-F8C7-429A-9C60-6D79A4028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8E0CD-A91A-4AE0-8332-B01347324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FC18E-F08B-474D-B5A8-6CE4FEF07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65815-9943-4A96-BB7B-22E85BF95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D5964-E31F-4905-ADC4-29E06AC2E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9741F-9F1D-4596-99AE-5BF0ECD8B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72809-43C6-4378-A5A1-1EF898BAD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01104-9084-4884-B8E0-D813AEA4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53F9-BC52-44BB-981B-1341BDF95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5A97D-6E60-47C9-8C80-64C451FC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69FE7-D242-4168-B03A-C455FAE0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9DA81-B176-4C67-8C99-2BE3C2285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E9697-71A5-46B5-8CCB-F4F2C4BEF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B1B9C-1F21-4077-9612-64D486D13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6C5B-33B9-4CEF-A11C-15BD7A4B8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5962-6021-4CEC-8879-6BC9710E2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1FBA-A2D3-4536-85C3-34B867BA7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6AC7-E36B-49F8-8836-AB286C138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5D7F-2C0F-4EAC-9C42-595EBBDF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FCCE-26E1-4D8D-95B5-6633AB19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EA85-632C-41B7-9F0A-5C705B66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2730D-EB63-4DD0-883F-AA8F3BFE609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A68C9-43B9-4F6A-B871-BED867694FE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image" Target="../media/image1.png"/><Relationship Id="rId5" Type="http://schemas.openxmlformats.org/officeDocument/2006/relationships/slide" Target="slide9.xml"/><Relationship Id="rId6" Type="http://schemas.openxmlformats.org/officeDocument/2006/relationships/slide" Target="slide9.xml"/><Relationship Id="rId7" Type="http://schemas.openxmlformats.org/officeDocument/2006/relationships/image" Target="../media/image1.png"/><Relationship Id="rId8" Type="http://schemas.openxmlformats.org/officeDocument/2006/relationships/slide" Target="slide5.xml"/><Relationship Id="rId9" Type="http://schemas.openxmlformats.org/officeDocument/2006/relationships/slide" Target="slide5.xml"/><Relationship Id="rId10" Type="http://schemas.openxmlformats.org/officeDocument/2006/relationships/image" Target="../media/image1.png"/><Relationship Id="rId11" Type="http://schemas.openxmlformats.org/officeDocument/2006/relationships/slide" Target="slide13.xml"/><Relationship Id="rId12" Type="http://schemas.openxmlformats.org/officeDocument/2006/relationships/slide" Target="slide13.xml"/><Relationship Id="rId13" Type="http://schemas.openxmlformats.org/officeDocument/2006/relationships/image" Target="../media/image1.png"/><Relationship Id="rId14" Type="http://schemas.openxmlformats.org/officeDocument/2006/relationships/slide" Target="slide7.xml"/><Relationship Id="rId15" Type="http://schemas.openxmlformats.org/officeDocument/2006/relationships/slide" Target="slide7.xml"/><Relationship Id="rId16" Type="http://schemas.openxmlformats.org/officeDocument/2006/relationships/image" Target="../media/image1.png"/><Relationship Id="rId17" Type="http://schemas.openxmlformats.org/officeDocument/2006/relationships/slide" Target="slide17.xml"/><Relationship Id="rId18" Type="http://schemas.openxmlformats.org/officeDocument/2006/relationships/slide" Target="slide17.xml"/><Relationship Id="rId19" Type="http://schemas.openxmlformats.org/officeDocument/2006/relationships/image" Target="../media/image1.png"/><Relationship Id="rId20" Type="http://schemas.openxmlformats.org/officeDocument/2006/relationships/slide" Target="slide15.xml"/><Relationship Id="rId21" Type="http://schemas.openxmlformats.org/officeDocument/2006/relationships/slide" Target="slide15.xml"/><Relationship Id="rId22" Type="http://schemas.openxmlformats.org/officeDocument/2006/relationships/image" Target="../media/image1.png"/><Relationship Id="rId2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Насекомые. Многообразие насекомых.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готовила учитель химии и би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дионова Н.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БУ «Лобасковская ООШ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ЖУК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жесткокрылые) , наиболее многочисленный отряд насекомых, включающий более 180 семейств, всего около 250 тыс. в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отовые органы грызущие, иногда недоразви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 подавляющего большинства жуков имеется две пары крыльев. Передние превращены в толстые надкрылья. Чаще всего они закрывают все брюшко, реже — только его часть. Задние крылья широкие и перепончатые. В покое они укладываются под надкрылья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азвитие с полным превращ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740720" y="6021360"/>
            <a:ext cx="1079280" cy="432000"/>
          </a:xfrm>
          <a:custGeom>
            <a:avLst/>
            <a:gdLst>
              <a:gd name="textAreaLeft" fmla="*/ 27720 w 1079280"/>
              <a:gd name="textAreaRight" fmla="*/ 1051560 w 1079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3937" h="21600">
                <a:moveTo>
                  <a:pt x="0" y="0"/>
                </a:moveTo>
                <a:lnTo>
                  <a:pt x="53937" y="0"/>
                </a:lnTo>
                <a:lnTo>
                  <a:pt x="53937" y="21600"/>
                </a:lnTo>
                <a:lnTo>
                  <a:pt x="0" y="21600"/>
                </a:lnTo>
                <a:close/>
              </a:path>
              <a:path fill="lightenLess" w="53937" h="21600">
                <a:moveTo>
                  <a:pt x="0" y="0"/>
                </a:moveTo>
                <a:lnTo>
                  <a:pt x="53937" y="0"/>
                </a:lnTo>
                <a:lnTo>
                  <a:pt x="52537" y="1400"/>
                </a:lnTo>
                <a:lnTo>
                  <a:pt x="1400" y="1400"/>
                </a:lnTo>
                <a:close/>
              </a:path>
              <a:path fill="darken" w="53937" h="21600">
                <a:moveTo>
                  <a:pt x="53937" y="0"/>
                </a:moveTo>
                <a:lnTo>
                  <a:pt x="53937" y="21600"/>
                </a:lnTo>
                <a:lnTo>
                  <a:pt x="52537" y="20200"/>
                </a:lnTo>
                <a:lnTo>
                  <a:pt x="52537" y="1400"/>
                </a:lnTo>
                <a:close/>
              </a:path>
              <a:path fill="darkenLess" w="53937" h="21600">
                <a:moveTo>
                  <a:pt x="5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7" y="20200"/>
                </a:lnTo>
                <a:close/>
              </a:path>
              <a:path fill="lighten" w="5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7" h="21600">
                <a:moveTo>
                  <a:pt x="19962" y="10800"/>
                </a:moveTo>
                <a:lnTo>
                  <a:pt x="33975" y="3794"/>
                </a:lnTo>
                <a:lnTo>
                  <a:pt x="33975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Отряд клопы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- клоп- нимф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хищнец кольчат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4248000" cy="4032360"/>
          </a:xfrm>
          <a:prstGeom prst="rect">
            <a:avLst/>
          </a:prstGeom>
          <a:ln w="0">
            <a:noFill/>
          </a:ln>
        </p:spPr>
      </p:pic>
      <p:sp>
        <p:nvSpPr>
          <p:cNvPr id="143" name="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43200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4027" h="21600">
                <a:moveTo>
                  <a:pt x="0" y="0"/>
                </a:moveTo>
                <a:lnTo>
                  <a:pt x="54027" y="0"/>
                </a:lnTo>
                <a:lnTo>
                  <a:pt x="54027" y="21600"/>
                </a:lnTo>
                <a:lnTo>
                  <a:pt x="0" y="21600"/>
                </a:lnTo>
                <a:close/>
              </a:path>
              <a:path fill="lightenLess" w="54027" h="21600">
                <a:moveTo>
                  <a:pt x="0" y="0"/>
                </a:moveTo>
                <a:lnTo>
                  <a:pt x="54027" y="0"/>
                </a:lnTo>
                <a:lnTo>
                  <a:pt x="52627" y="1400"/>
                </a:lnTo>
                <a:lnTo>
                  <a:pt x="1400" y="1400"/>
                </a:lnTo>
                <a:close/>
              </a:path>
              <a:path fill="darken" w="54027" h="21600">
                <a:moveTo>
                  <a:pt x="54027" y="0"/>
                </a:moveTo>
                <a:lnTo>
                  <a:pt x="54027" y="21600"/>
                </a:lnTo>
                <a:lnTo>
                  <a:pt x="52627" y="20200"/>
                </a:lnTo>
                <a:lnTo>
                  <a:pt x="52627" y="1400"/>
                </a:lnTo>
                <a:close/>
              </a:path>
              <a:path fill="darkenLess" w="54027" h="21600">
                <a:moveTo>
                  <a:pt x="54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27" y="20200"/>
                </a:lnTo>
                <a:close/>
              </a:path>
              <a:path fill="lighten" w="54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27" h="21600">
                <a:moveTo>
                  <a:pt x="20007" y="3794"/>
                </a:moveTo>
                <a:lnTo>
                  <a:pt x="34020" y="10800"/>
                </a:lnTo>
                <a:lnTo>
                  <a:pt x="20007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лоп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отряд насекомых, включающий более 40000 в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товой аппарат колюще-сосущ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 большинства видов имеется две пары крыльев. Передние — с плотным основанием и перепончатой вершиной. Задние — широкие и перепончатые в покое сложены под передними. Иногда крылья недоразвиты или отсутствуют. У многих клопов на заднегруди открываются пахучие железы. Они не развиты только у водных и некоторых хищных вид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витие с неполным превращ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812000" y="6021360"/>
            <a:ext cx="1081080" cy="43200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4027" h="21600">
                <a:moveTo>
                  <a:pt x="0" y="0"/>
                </a:moveTo>
                <a:lnTo>
                  <a:pt x="54027" y="0"/>
                </a:lnTo>
                <a:lnTo>
                  <a:pt x="54027" y="21600"/>
                </a:lnTo>
                <a:lnTo>
                  <a:pt x="0" y="21600"/>
                </a:lnTo>
                <a:close/>
              </a:path>
              <a:path fill="lightenLess" w="54027" h="21600">
                <a:moveTo>
                  <a:pt x="0" y="0"/>
                </a:moveTo>
                <a:lnTo>
                  <a:pt x="54027" y="0"/>
                </a:lnTo>
                <a:lnTo>
                  <a:pt x="52627" y="1400"/>
                </a:lnTo>
                <a:lnTo>
                  <a:pt x="1400" y="1400"/>
                </a:lnTo>
                <a:close/>
              </a:path>
              <a:path fill="darken" w="54027" h="21600">
                <a:moveTo>
                  <a:pt x="54027" y="0"/>
                </a:moveTo>
                <a:lnTo>
                  <a:pt x="54027" y="21600"/>
                </a:lnTo>
                <a:lnTo>
                  <a:pt x="52627" y="20200"/>
                </a:lnTo>
                <a:lnTo>
                  <a:pt x="52627" y="1400"/>
                </a:lnTo>
                <a:close/>
              </a:path>
              <a:path fill="darkenLess" w="54027" h="21600">
                <a:moveTo>
                  <a:pt x="54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27" y="20200"/>
                </a:lnTo>
                <a:close/>
              </a:path>
              <a:path fill="lighten" w="54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27" h="21600">
                <a:moveTo>
                  <a:pt x="20007" y="10800"/>
                </a:moveTo>
                <a:lnTo>
                  <a:pt x="34020" y="3794"/>
                </a:lnTo>
                <a:lnTo>
                  <a:pt x="34020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Отряд перепончатокрылы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835280" y="1600200"/>
            <a:ext cx="5137200" cy="27655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394128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доносные пчё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" action="ppaction://hlinkshowjump?jump=nextslide"/>
          </p:cNvPr>
          <p:cNvSpPr/>
          <p:nvPr/>
        </p:nvSpPr>
        <p:spPr>
          <a:xfrm>
            <a:off x="7524720" y="6021360"/>
            <a:ext cx="1295280" cy="576360"/>
          </a:xfrm>
          <a:custGeom>
            <a:avLst/>
            <a:gdLst>
              <a:gd name="textAreaLeft" fmla="*/ 37080 w 1295280"/>
              <a:gd name="textAreaRight" fmla="*/ 1258200 w 1295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6" y="3794"/>
                </a:moveTo>
                <a:lnTo>
                  <a:pt x="31269" y="10800"/>
                </a:lnTo>
                <a:lnTo>
                  <a:pt x="17256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ЕРЕПОНЧАТОКРЫЛЫЕ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рупный отряд насекомых, включающий около 150000 в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товые органы грызущие и лижущ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 правило, имеется две пары перепончатых крыльев с многочисленными поперечными жилками и ячейк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ги ходильные с пятичлениковыми лапками и парными когот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витие с полным превращ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ведущих общественный образ жизни муравьев, а также некоторых пчел и ос характерна кастовая система семь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308720" y="6093000"/>
            <a:ext cx="1584360" cy="576000"/>
          </a:xfrm>
          <a:custGeom>
            <a:avLst/>
            <a:gdLst>
              <a:gd name="textAreaLeft" fmla="*/ 37080 w 1584360"/>
              <a:gd name="textAreaRight" fmla="*/ 1547280 w 1584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59390" h="21600">
                <a:moveTo>
                  <a:pt x="0" y="0"/>
                </a:moveTo>
                <a:lnTo>
                  <a:pt x="59390" y="0"/>
                </a:lnTo>
                <a:lnTo>
                  <a:pt x="59390" y="21600"/>
                </a:lnTo>
                <a:lnTo>
                  <a:pt x="0" y="21600"/>
                </a:lnTo>
                <a:close/>
              </a:path>
              <a:path fill="lightenLess" w="59390" h="21600">
                <a:moveTo>
                  <a:pt x="0" y="0"/>
                </a:moveTo>
                <a:lnTo>
                  <a:pt x="59390" y="0"/>
                </a:lnTo>
                <a:lnTo>
                  <a:pt x="57990" y="1400"/>
                </a:lnTo>
                <a:lnTo>
                  <a:pt x="1400" y="1400"/>
                </a:lnTo>
                <a:close/>
              </a:path>
              <a:path fill="darken" w="59390" h="21600">
                <a:moveTo>
                  <a:pt x="59390" y="0"/>
                </a:moveTo>
                <a:lnTo>
                  <a:pt x="59390" y="21600"/>
                </a:lnTo>
                <a:lnTo>
                  <a:pt x="57990" y="20200"/>
                </a:lnTo>
                <a:lnTo>
                  <a:pt x="57990" y="1400"/>
                </a:lnTo>
                <a:close/>
              </a:path>
              <a:path fill="darkenLess" w="59390" h="21600">
                <a:moveTo>
                  <a:pt x="59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90" y="20200"/>
                </a:lnTo>
                <a:close/>
              </a:path>
              <a:path fill="lighten" w="59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390" h="21600">
                <a:moveTo>
                  <a:pt x="22688" y="10800"/>
                </a:moveTo>
                <a:lnTo>
                  <a:pt x="36701" y="3794"/>
                </a:lnTo>
                <a:lnTo>
                  <a:pt x="367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Отряд прямокрылы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4903920" cy="30243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394128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узнеч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7451640" y="5877000"/>
            <a:ext cx="1368360" cy="647640"/>
          </a:xfrm>
          <a:custGeom>
            <a:avLst/>
            <a:gdLst>
              <a:gd name="textAreaLeft" fmla="*/ 41760 w 1368360"/>
              <a:gd name="textAreaRight" fmla="*/ 1326600 w 1368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45624" h="21600">
                <a:moveTo>
                  <a:pt x="0" y="0"/>
                </a:moveTo>
                <a:lnTo>
                  <a:pt x="45624" y="0"/>
                </a:lnTo>
                <a:lnTo>
                  <a:pt x="45624" y="21600"/>
                </a:lnTo>
                <a:lnTo>
                  <a:pt x="0" y="21600"/>
                </a:lnTo>
                <a:close/>
              </a:path>
              <a:path fill="lightenLess" w="45624" h="21600">
                <a:moveTo>
                  <a:pt x="0" y="0"/>
                </a:moveTo>
                <a:lnTo>
                  <a:pt x="45624" y="0"/>
                </a:lnTo>
                <a:lnTo>
                  <a:pt x="44224" y="1400"/>
                </a:lnTo>
                <a:lnTo>
                  <a:pt x="1400" y="1400"/>
                </a:lnTo>
                <a:close/>
              </a:path>
              <a:path fill="darken" w="45624" h="21600">
                <a:moveTo>
                  <a:pt x="45624" y="0"/>
                </a:moveTo>
                <a:lnTo>
                  <a:pt x="45624" y="21600"/>
                </a:lnTo>
                <a:lnTo>
                  <a:pt x="44224" y="20200"/>
                </a:lnTo>
                <a:lnTo>
                  <a:pt x="44224" y="1400"/>
                </a:lnTo>
                <a:close/>
              </a:path>
              <a:path fill="darkenLess" w="45624" h="21600">
                <a:moveTo>
                  <a:pt x="456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224" y="20200"/>
                </a:lnTo>
                <a:close/>
              </a:path>
              <a:path fill="lighten" w="456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624" h="21600">
                <a:moveTo>
                  <a:pt x="15806" y="3794"/>
                </a:moveTo>
                <a:lnTo>
                  <a:pt x="29818" y="10800"/>
                </a:lnTo>
                <a:lnTo>
                  <a:pt x="15806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ЯМОКРЫЛЫ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древний отряд насекомых. Включает не менее 20000 видов, встречающихся повсемест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отовой аппарат грызущ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ак правило, имеется две пары крыльев. Передние — узкие и длинные, задние — широкие и перепончатые. У многих прямокрылых задние крылья ярко окрашены. Иногда крылья недоразвиты или отсутству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 большинства прямокрылых имеются органы стрекотания и слуха. Орган слуха у этих насекомых расположен на передних ног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азвитие с неполным превращ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Яйца откладываются поодиночке или группами в почву или в мягкие ткани растений. Личинки похожи на взрослых насеком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164360" y="5805360"/>
            <a:ext cx="1511280" cy="576360"/>
          </a:xfrm>
          <a:custGeom>
            <a:avLst/>
            <a:gdLst>
              <a:gd name="textAreaLeft" fmla="*/ 37080 w 1511280"/>
              <a:gd name="textAreaRight" fmla="*/ 1474200 w 1511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56616" h="21600">
                <a:moveTo>
                  <a:pt x="0" y="0"/>
                </a:moveTo>
                <a:lnTo>
                  <a:pt x="56616" y="0"/>
                </a:lnTo>
                <a:lnTo>
                  <a:pt x="56616" y="21600"/>
                </a:lnTo>
                <a:lnTo>
                  <a:pt x="0" y="21600"/>
                </a:lnTo>
                <a:close/>
              </a:path>
              <a:path fill="lightenLess" w="56616" h="21600">
                <a:moveTo>
                  <a:pt x="0" y="0"/>
                </a:moveTo>
                <a:lnTo>
                  <a:pt x="56616" y="0"/>
                </a:lnTo>
                <a:lnTo>
                  <a:pt x="55216" y="1400"/>
                </a:lnTo>
                <a:lnTo>
                  <a:pt x="1400" y="1400"/>
                </a:lnTo>
                <a:close/>
              </a:path>
              <a:path fill="darken" w="56616" h="21600">
                <a:moveTo>
                  <a:pt x="56616" y="0"/>
                </a:moveTo>
                <a:lnTo>
                  <a:pt x="56616" y="21600"/>
                </a:lnTo>
                <a:lnTo>
                  <a:pt x="55216" y="20200"/>
                </a:lnTo>
                <a:lnTo>
                  <a:pt x="55216" y="1400"/>
                </a:lnTo>
                <a:close/>
              </a:path>
              <a:path fill="darkenLess" w="56616" h="21600">
                <a:moveTo>
                  <a:pt x="566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16" y="20200"/>
                </a:lnTo>
                <a:close/>
              </a:path>
              <a:path fill="lighten" w="566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616" h="21600">
                <a:moveTo>
                  <a:pt x="21301" y="10800"/>
                </a:moveTo>
                <a:lnTo>
                  <a:pt x="35314" y="3794"/>
                </a:lnTo>
                <a:lnTo>
                  <a:pt x="3531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Отряд равнокрылы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икада обыкновенная, цикада красно-пятнистая, цикада зелё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3809880" cy="4530600"/>
          </a:xfrm>
          <a:prstGeom prst="rect">
            <a:avLst/>
          </a:prstGeom>
          <a:ln w="0">
            <a:noFill/>
          </a:ln>
        </p:spPr>
      </p:pic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7093080" y="6021360"/>
            <a:ext cx="1439640" cy="576360"/>
          </a:xfrm>
          <a:custGeom>
            <a:avLst/>
            <a:gdLst>
              <a:gd name="textAreaLeft" fmla="*/ 37080 w 1439640"/>
              <a:gd name="textAreaRight" fmla="*/ 1402560 w 1439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53933" h="21600">
                <a:moveTo>
                  <a:pt x="0" y="0"/>
                </a:moveTo>
                <a:lnTo>
                  <a:pt x="53933" y="0"/>
                </a:lnTo>
                <a:lnTo>
                  <a:pt x="53933" y="21600"/>
                </a:lnTo>
                <a:lnTo>
                  <a:pt x="0" y="21600"/>
                </a:lnTo>
                <a:close/>
              </a:path>
              <a:path fill="lightenLess" w="53933" h="21600">
                <a:moveTo>
                  <a:pt x="0" y="0"/>
                </a:moveTo>
                <a:lnTo>
                  <a:pt x="53933" y="0"/>
                </a:lnTo>
                <a:lnTo>
                  <a:pt x="52533" y="1400"/>
                </a:lnTo>
                <a:lnTo>
                  <a:pt x="1400" y="1400"/>
                </a:lnTo>
                <a:close/>
              </a:path>
              <a:path fill="darken" w="53933" h="21600">
                <a:moveTo>
                  <a:pt x="53933" y="0"/>
                </a:moveTo>
                <a:lnTo>
                  <a:pt x="53933" y="21600"/>
                </a:lnTo>
                <a:lnTo>
                  <a:pt x="52533" y="20200"/>
                </a:lnTo>
                <a:lnTo>
                  <a:pt x="52533" y="1400"/>
                </a:lnTo>
                <a:close/>
              </a:path>
              <a:path fill="darkenLess" w="53933" h="21600">
                <a:moveTo>
                  <a:pt x="53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3" y="20200"/>
                </a:lnTo>
                <a:close/>
              </a:path>
              <a:path fill="lighten" w="53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3" h="21600">
                <a:moveTo>
                  <a:pt x="19960" y="3794"/>
                </a:moveTo>
                <a:lnTo>
                  <a:pt x="33973" y="10800"/>
                </a:lnTo>
                <a:lnTo>
                  <a:pt x="19960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ВНОКРЫЛЫ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отряд насекомых, включающий около 30000 в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отовой аппарат колюще-сосущ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большинства видов имеется две пары крыльев. Иногда крылья не разви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тие с неполным превращ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йца откладывают в стебли или на поверхность раст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чинки разнообразны по внешнему облику. У цикадовых и тлей они похожи на взрослых насеком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36000" y="5950080"/>
            <a:ext cx="1512720" cy="647640"/>
          </a:xfrm>
          <a:custGeom>
            <a:avLst/>
            <a:gdLst>
              <a:gd name="textAreaLeft" fmla="*/ 41760 w 1512720"/>
              <a:gd name="textAreaRight" fmla="*/ 1470960 w 1512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0436" h="21600">
                <a:moveTo>
                  <a:pt x="0" y="0"/>
                </a:moveTo>
                <a:lnTo>
                  <a:pt x="50436" y="0"/>
                </a:lnTo>
                <a:lnTo>
                  <a:pt x="50436" y="21600"/>
                </a:lnTo>
                <a:lnTo>
                  <a:pt x="0" y="21600"/>
                </a:lnTo>
                <a:close/>
              </a:path>
              <a:path fill="lightenLess" w="50436" h="21600">
                <a:moveTo>
                  <a:pt x="0" y="0"/>
                </a:moveTo>
                <a:lnTo>
                  <a:pt x="50436" y="0"/>
                </a:lnTo>
                <a:lnTo>
                  <a:pt x="49036" y="1400"/>
                </a:lnTo>
                <a:lnTo>
                  <a:pt x="1400" y="1400"/>
                </a:lnTo>
                <a:close/>
              </a:path>
              <a:path fill="darken" w="50436" h="21600">
                <a:moveTo>
                  <a:pt x="50436" y="0"/>
                </a:moveTo>
                <a:lnTo>
                  <a:pt x="50436" y="21600"/>
                </a:lnTo>
                <a:lnTo>
                  <a:pt x="49036" y="20200"/>
                </a:lnTo>
                <a:lnTo>
                  <a:pt x="49036" y="1400"/>
                </a:lnTo>
                <a:close/>
              </a:path>
              <a:path fill="darkenLess" w="50436" h="21600">
                <a:moveTo>
                  <a:pt x="50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36" y="20200"/>
                </a:lnTo>
                <a:close/>
              </a:path>
              <a:path fill="lighten" w="50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36" h="21600">
                <a:moveTo>
                  <a:pt x="18212" y="10800"/>
                </a:moveTo>
                <a:lnTo>
                  <a:pt x="32224" y="3794"/>
                </a:lnTo>
                <a:lnTo>
                  <a:pt x="3222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Оформите таблицу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14400" y="1600200"/>
          <a:ext cx="7772400" cy="449244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59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я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еком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ите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на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я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Цели урока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знакомиться с основными отрядами класса Насеком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смотреть характерные признаки представителей различных отрядов насеком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Выводы: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СЕКОМЫ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- класс беспозвоночных животных типа членистоноги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ело разделено на голову, грудь и брюшко. Каждый сегмент груди несет по одной паре членистых конечностей, у большинства видов развиты крыль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ышат трахе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витие, как правило, с метаморфозом: яйцо, личинка,  куколка, взрослое насекомо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амая многочисленная и разнообразная группа животных на Земле: известно ок. 1 млн. видов, истинное их число, вероятно, 1,5-2 млн. видов, а по некоторым оценкам еще более значительно. Число отрядов по разным оценкам составяет от 30 до 4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ногие насекомые повреждают сельскохозяйственные, лесные и декоративные растения, зерно и другие пищевые продукты в хранилищах, переносят возбудителей болезней человека и животных. Огромное количество насекомых являются опылителями цветковых раст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которые виды (напр., наездники) использутся для биологической борьбы с вредителями сельского и лесного хозяйства. Продукты жизнедеятельности медоносной пчелы и тутового шекопряда — мед, воск и шелк издавна используются человек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исленность многих видов, особенно бабочек, сокращае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олее 200 видов насекомых охраняют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ука о насекомых —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энтомолог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Домашнее задани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р.165-168 учеб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полните задание №101 на стр.52 (рабочая тетрад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9640" y="1628280"/>
            <a:ext cx="7345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секомы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— самые многочисленные членистоногие нашей планеты. Их миллиарды миллиардов и только различных видов насчитывается более двух миллионов. После одноклеточных это наиболее многочисленная группа животных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секомы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аселили все уголки Земли, они встречаются высоко в горах и в глубоких пещерах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секомы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битают за Полярным кругом и на поверхности воды, они способны годами голодать, пережить замораживание в лед  и размножаться в наперстке воды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секомы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могут уничтожить выращенный людьми урожай и заразить человека смертельными болезн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1534680" y="171360"/>
            <a:ext cx="6145560" cy="6270120"/>
            <a:chOff x="1534680" y="171360"/>
            <a:chExt cx="6145560" cy="6270120"/>
          </a:xfrm>
        </p:grpSpPr>
        <p:sp>
          <p:nvSpPr>
            <p:cNvPr id="103" name="_s43046"/>
            <p:cNvSpPr/>
            <p:nvPr/>
          </p:nvSpPr>
          <p:spPr>
            <a:xfrm flipH="1" flipV="1">
              <a:off x="3383640" y="2411280"/>
              <a:ext cx="613800" cy="51120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43045"/>
            <p:cNvSpPr/>
            <p:nvPr/>
          </p:nvSpPr>
          <p:spPr>
            <a:xfrm>
              <a:off x="1986840" y="1091520"/>
              <a:ext cx="1565280" cy="1627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2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3" action="ppaction://hlinksldjump"/>
                </a:rPr>
                <a:t>Клопы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Постельный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клоп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Лесной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клоп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43044"/>
            <p:cNvSpPr/>
            <p:nvPr/>
          </p:nvSpPr>
          <p:spPr>
            <a:xfrm flipH="1">
              <a:off x="3079800" y="3607920"/>
              <a:ext cx="766440" cy="18072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43043"/>
            <p:cNvSpPr/>
            <p:nvPr/>
          </p:nvSpPr>
          <p:spPr>
            <a:xfrm>
              <a:off x="1534680" y="3157920"/>
              <a:ext cx="1565280" cy="16275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5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6" action="ppaction://hlinksldjump"/>
                </a:rPr>
                <a:t>Жуки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Жуки,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Жужелицы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Долгоносики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43042"/>
            <p:cNvSpPr/>
            <p:nvPr/>
          </p:nvSpPr>
          <p:spPr>
            <a:xfrm flipH="1">
              <a:off x="3927600" y="4158720"/>
              <a:ext cx="340920" cy="73512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43041"/>
            <p:cNvSpPr/>
            <p:nvPr/>
          </p:nvSpPr>
          <p:spPr>
            <a:xfrm>
              <a:off x="2805840" y="4813560"/>
              <a:ext cx="1565280" cy="162792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8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9" action="ppaction://hlinksldjump"/>
                </a:rPr>
                <a:t>Бабочки</a:t>
              </a: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Крапивницы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траурница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43040"/>
            <p:cNvSpPr/>
            <p:nvPr/>
          </p:nvSpPr>
          <p:spPr>
            <a:xfrm>
              <a:off x="4946040" y="4158720"/>
              <a:ext cx="340920" cy="73512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43039"/>
            <p:cNvSpPr/>
            <p:nvPr/>
          </p:nvSpPr>
          <p:spPr>
            <a:xfrm>
              <a:off x="4843800" y="4813560"/>
              <a:ext cx="1565280" cy="162792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11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12" action="ppaction://hlinksldjump"/>
                </a:rPr>
                <a:t>Перепончатокрылые</a:t>
              </a: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Пчёлы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Осы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Муравьи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43038"/>
            <p:cNvSpPr/>
            <p:nvPr/>
          </p:nvSpPr>
          <p:spPr>
            <a:xfrm>
              <a:off x="5367960" y="3607920"/>
              <a:ext cx="766440" cy="18072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43037"/>
            <p:cNvSpPr/>
            <p:nvPr/>
          </p:nvSpPr>
          <p:spPr>
            <a:xfrm>
              <a:off x="6114960" y="3156480"/>
              <a:ext cx="1565280" cy="1627560"/>
            </a:xfrm>
            <a:prstGeom prst="rect">
              <a:avLst/>
            </a:prstGeom>
            <a:blipFill rotWithShape="0">
              <a:blip r:embed="rId1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14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15" action="ppaction://hlinksldjump"/>
                </a:rPr>
                <a:t>Двукрылые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Мухи, комары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Слепни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43036"/>
            <p:cNvSpPr/>
            <p:nvPr/>
          </p:nvSpPr>
          <p:spPr>
            <a:xfrm flipV="1">
              <a:off x="5217120" y="2410920"/>
              <a:ext cx="613800" cy="50940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43035"/>
            <p:cNvSpPr/>
            <p:nvPr/>
          </p:nvSpPr>
          <p:spPr>
            <a:xfrm>
              <a:off x="5660640" y="1089720"/>
              <a:ext cx="1565280" cy="1627560"/>
            </a:xfrm>
            <a:prstGeom prst="rect">
              <a:avLst/>
            </a:prstGeom>
            <a:blipFill rotWithShape="0">
              <a:blip r:embed="rId1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17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18" action="ppaction://hlinksldjump"/>
                </a:rPr>
                <a:t>Равнокрылые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Тля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Медяницы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43034"/>
            <p:cNvSpPr/>
            <p:nvPr/>
          </p:nvSpPr>
          <p:spPr>
            <a:xfrm flipV="1">
              <a:off x="4606920" y="1798920"/>
              <a:ext cx="0" cy="81540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43033"/>
            <p:cNvSpPr/>
            <p:nvPr/>
          </p:nvSpPr>
          <p:spPr>
            <a:xfrm>
              <a:off x="3823920" y="171360"/>
              <a:ext cx="1565280" cy="1627920"/>
            </a:xfrm>
            <a:prstGeom prst="rect">
              <a:avLst/>
            </a:prstGeom>
            <a:blipFill rotWithShape="0">
              <a:blip r:embed="rId1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20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21" action="ppaction://hlinksldjump"/>
                </a:rPr>
                <a:t>Прямокрылые</a:t>
              </a: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Кузнечики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Саранча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Медведки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43032"/>
            <p:cNvSpPr/>
            <p:nvPr/>
          </p:nvSpPr>
          <p:spPr>
            <a:xfrm>
              <a:off x="3823920" y="2615040"/>
              <a:ext cx="1565280" cy="1627560"/>
            </a:xfrm>
            <a:prstGeom prst="rect">
              <a:avLst/>
            </a:prstGeom>
            <a:blipFill rotWithShape="0">
              <a:blip r:embed="rId2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 u="sng">
                  <a:solidFill>
                    <a:srgbClr val="000000"/>
                  </a:solidFill>
                  <a:uFillTx/>
                  <a:latin typeface="Arial"/>
                </a:rPr>
                <a:t>Класс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 u="sng">
                  <a:solidFill>
                    <a:srgbClr val="000000"/>
                  </a:solidFill>
                  <a:uFillTx/>
                  <a:latin typeface="Arial"/>
                </a:rPr>
                <a:t>Насекомы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(около 1 млн.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видов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7596360" y="6093000"/>
            <a:ext cx="1008000" cy="504720"/>
          </a:xfrm>
          <a:custGeom>
            <a:avLst/>
            <a:gdLst>
              <a:gd name="textAreaLeft" fmla="*/ 32400 w 1008000"/>
              <a:gd name="textAreaRight" fmla="*/ 975600 w 1008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3123" h="21600">
                <a:moveTo>
                  <a:pt x="0" y="0"/>
                </a:moveTo>
                <a:lnTo>
                  <a:pt x="43123" y="0"/>
                </a:lnTo>
                <a:lnTo>
                  <a:pt x="43123" y="21600"/>
                </a:lnTo>
                <a:lnTo>
                  <a:pt x="0" y="21600"/>
                </a:lnTo>
                <a:close/>
              </a:path>
              <a:path fill="lightenLess" w="43123" h="21600">
                <a:moveTo>
                  <a:pt x="0" y="0"/>
                </a:moveTo>
                <a:lnTo>
                  <a:pt x="43123" y="0"/>
                </a:lnTo>
                <a:lnTo>
                  <a:pt x="41723" y="1400"/>
                </a:lnTo>
                <a:lnTo>
                  <a:pt x="1400" y="1400"/>
                </a:lnTo>
                <a:close/>
              </a:path>
              <a:path fill="darken" w="43123" h="21600">
                <a:moveTo>
                  <a:pt x="43123" y="0"/>
                </a:moveTo>
                <a:lnTo>
                  <a:pt x="43123" y="21600"/>
                </a:lnTo>
                <a:lnTo>
                  <a:pt x="41723" y="20200"/>
                </a:lnTo>
                <a:lnTo>
                  <a:pt x="41723" y="1400"/>
                </a:lnTo>
                <a:close/>
              </a:path>
              <a:path fill="darkenLess" w="43123" h="21600">
                <a:moveTo>
                  <a:pt x="431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3" y="20200"/>
                </a:lnTo>
                <a:close/>
              </a:path>
              <a:path fill="lighten" w="431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3" h="21600">
                <a:moveTo>
                  <a:pt x="25060" y="10800"/>
                </a:moveTo>
                <a:lnTo>
                  <a:pt x="14555" y="17806"/>
                </a:lnTo>
                <a:lnTo>
                  <a:pt x="14555" y="3794"/>
                </a:lnTo>
                <a:close/>
              </a:path>
              <a:path fill="darken" w="43123" h="21600">
                <a:moveTo>
                  <a:pt x="26906" y="3794"/>
                </a:moveTo>
                <a:lnTo>
                  <a:pt x="26906" y="17806"/>
                </a:lnTo>
                <a:lnTo>
                  <a:pt x="28568" y="17806"/>
                </a:lnTo>
                <a:lnTo>
                  <a:pt x="28568" y="3794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Отряд бабочки или чешуекрылые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4021200" cy="47530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-дневной павлиний гл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-морфо дидиу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-репейн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-тополевая стеклянн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- молочайный браж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" action="ppaction://hlinkshowjump?jump=nextslide"/>
          </p:cNvPr>
          <p:cNvSpPr/>
          <p:nvPr/>
        </p:nvSpPr>
        <p:spPr>
          <a:xfrm>
            <a:off x="7164360" y="6021360"/>
            <a:ext cx="1511280" cy="503280"/>
          </a:xfrm>
          <a:custGeom>
            <a:avLst/>
            <a:gdLst>
              <a:gd name="textAreaLeft" fmla="*/ 32400 w 1511280"/>
              <a:gd name="textAreaRight" fmla="*/ 1478880 w 1511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64831" h="21600">
                <a:moveTo>
                  <a:pt x="0" y="0"/>
                </a:moveTo>
                <a:lnTo>
                  <a:pt x="64831" y="0"/>
                </a:lnTo>
                <a:lnTo>
                  <a:pt x="64831" y="21600"/>
                </a:lnTo>
                <a:lnTo>
                  <a:pt x="0" y="21600"/>
                </a:lnTo>
                <a:close/>
              </a:path>
              <a:path fill="lightenLess" w="64831" h="21600">
                <a:moveTo>
                  <a:pt x="0" y="0"/>
                </a:moveTo>
                <a:lnTo>
                  <a:pt x="64831" y="0"/>
                </a:lnTo>
                <a:lnTo>
                  <a:pt x="63431" y="1400"/>
                </a:lnTo>
                <a:lnTo>
                  <a:pt x="1400" y="1400"/>
                </a:lnTo>
                <a:close/>
              </a:path>
              <a:path fill="darken" w="64831" h="21600">
                <a:moveTo>
                  <a:pt x="64831" y="0"/>
                </a:moveTo>
                <a:lnTo>
                  <a:pt x="64831" y="21600"/>
                </a:lnTo>
                <a:lnTo>
                  <a:pt x="63431" y="20200"/>
                </a:lnTo>
                <a:lnTo>
                  <a:pt x="63431" y="1400"/>
                </a:lnTo>
                <a:close/>
              </a:path>
              <a:path fill="darkenLess" w="64831" h="21600">
                <a:moveTo>
                  <a:pt x="64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1" y="20200"/>
                </a:lnTo>
                <a:close/>
              </a:path>
              <a:path fill="lighten" w="64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831" h="21600">
                <a:moveTo>
                  <a:pt x="25409" y="3794"/>
                </a:moveTo>
                <a:lnTo>
                  <a:pt x="39422" y="10800"/>
                </a:lnTo>
                <a:lnTo>
                  <a:pt x="25409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АБОЧК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чешуекрылые)  один из наиболее крупных отрядов насекомых, включающий более 140 тысяч видов. Разделяется на более чем 100 семейств. Распространены всесветно, за исключением областей, занятых ледниками. Самыми мелкими бабочками являются разнообразные моли и мешочницы  (размах крыльев 1-2 см), самая крупная — южно-американская совка агриппа , с размахом крыльев в 30 с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 подавляющего большинства видов развиты две пары крылье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товые органы, как правило, сосущие, при этом нижние челюсти преобразованы в длинный сосательный хобот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абочки раздельнополы, часто с четким половым диморфизмом. Он выражается в различных размерах и окраске самцов и самок. Развитие с полным превращ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rId1" action="ppaction://hlinksldjump"/>
          </p:cNvPr>
          <p:cNvSpPr/>
          <p:nvPr/>
        </p:nvSpPr>
        <p:spPr>
          <a:xfrm>
            <a:off x="7812000" y="6165720"/>
            <a:ext cx="1081080" cy="43200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4027" h="21600">
                <a:moveTo>
                  <a:pt x="0" y="0"/>
                </a:moveTo>
                <a:lnTo>
                  <a:pt x="54027" y="0"/>
                </a:lnTo>
                <a:lnTo>
                  <a:pt x="54027" y="21600"/>
                </a:lnTo>
                <a:lnTo>
                  <a:pt x="0" y="21600"/>
                </a:lnTo>
                <a:close/>
              </a:path>
              <a:path fill="lightenLess" w="54027" h="21600">
                <a:moveTo>
                  <a:pt x="0" y="0"/>
                </a:moveTo>
                <a:lnTo>
                  <a:pt x="54027" y="0"/>
                </a:lnTo>
                <a:lnTo>
                  <a:pt x="52627" y="1400"/>
                </a:lnTo>
                <a:lnTo>
                  <a:pt x="1400" y="1400"/>
                </a:lnTo>
                <a:close/>
              </a:path>
              <a:path fill="darken" w="54027" h="21600">
                <a:moveTo>
                  <a:pt x="54027" y="0"/>
                </a:moveTo>
                <a:lnTo>
                  <a:pt x="54027" y="21600"/>
                </a:lnTo>
                <a:lnTo>
                  <a:pt x="52627" y="20200"/>
                </a:lnTo>
                <a:lnTo>
                  <a:pt x="52627" y="1400"/>
                </a:lnTo>
                <a:close/>
              </a:path>
              <a:path fill="darkenLess" w="54027" h="21600">
                <a:moveTo>
                  <a:pt x="54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27" y="20200"/>
                </a:lnTo>
                <a:close/>
              </a:path>
              <a:path fill="lighten" w="54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27" h="21600">
                <a:moveTo>
                  <a:pt x="20007" y="10800"/>
                </a:moveTo>
                <a:lnTo>
                  <a:pt x="34020" y="3794"/>
                </a:lnTo>
                <a:lnTo>
                  <a:pt x="34020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Отряд двукрылы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лавные представители: мухи и кома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4321080" cy="4464000"/>
          </a:xfrm>
          <a:prstGeom prst="rect">
            <a:avLst/>
          </a:prstGeom>
          <a:ln w="0">
            <a:noFill/>
          </a:ln>
        </p:spPr>
      </p:pic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7956720" y="6021360"/>
            <a:ext cx="1008000" cy="43200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0376" h="21600">
                <a:moveTo>
                  <a:pt x="0" y="0"/>
                </a:moveTo>
                <a:lnTo>
                  <a:pt x="50376" y="0"/>
                </a:lnTo>
                <a:lnTo>
                  <a:pt x="50376" y="21600"/>
                </a:lnTo>
                <a:lnTo>
                  <a:pt x="0" y="21600"/>
                </a:lnTo>
                <a:close/>
              </a:path>
              <a:path fill="lightenLess" w="50376" h="21600">
                <a:moveTo>
                  <a:pt x="0" y="0"/>
                </a:moveTo>
                <a:lnTo>
                  <a:pt x="50376" y="0"/>
                </a:lnTo>
                <a:lnTo>
                  <a:pt x="48976" y="1400"/>
                </a:lnTo>
                <a:lnTo>
                  <a:pt x="1400" y="1400"/>
                </a:lnTo>
                <a:close/>
              </a:path>
              <a:path fill="darken" w="50376" h="21600">
                <a:moveTo>
                  <a:pt x="50376" y="0"/>
                </a:moveTo>
                <a:lnTo>
                  <a:pt x="50376" y="21600"/>
                </a:lnTo>
                <a:lnTo>
                  <a:pt x="48976" y="20200"/>
                </a:lnTo>
                <a:lnTo>
                  <a:pt x="48976" y="1400"/>
                </a:lnTo>
                <a:close/>
              </a:path>
              <a:path fill="darkenLess" w="50376" h="21600">
                <a:moveTo>
                  <a:pt x="50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6" y="20200"/>
                </a:lnTo>
                <a:close/>
              </a:path>
              <a:path fill="lighten" w="50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76" h="21600">
                <a:moveTo>
                  <a:pt x="18182" y="3794"/>
                </a:moveTo>
                <a:lnTo>
                  <a:pt x="32194" y="10800"/>
                </a:lnTo>
                <a:lnTo>
                  <a:pt x="18182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 отряду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вукрылы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тносятся мухи, комары, слепни- имеют по одной паре перепончатых крылье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отовые органы колюще- сосущие (у комаров) или лижущие (у комнатной мух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Личинки безног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7885080" y="6021360"/>
            <a:ext cx="1008000" cy="43200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0376" h="21600">
                <a:moveTo>
                  <a:pt x="0" y="0"/>
                </a:moveTo>
                <a:lnTo>
                  <a:pt x="50376" y="0"/>
                </a:lnTo>
                <a:lnTo>
                  <a:pt x="50376" y="21600"/>
                </a:lnTo>
                <a:lnTo>
                  <a:pt x="0" y="21600"/>
                </a:lnTo>
                <a:close/>
              </a:path>
              <a:path fill="lightenLess" w="50376" h="21600">
                <a:moveTo>
                  <a:pt x="0" y="0"/>
                </a:moveTo>
                <a:lnTo>
                  <a:pt x="50376" y="0"/>
                </a:lnTo>
                <a:lnTo>
                  <a:pt x="48976" y="1400"/>
                </a:lnTo>
                <a:lnTo>
                  <a:pt x="1400" y="1400"/>
                </a:lnTo>
                <a:close/>
              </a:path>
              <a:path fill="darken" w="50376" h="21600">
                <a:moveTo>
                  <a:pt x="50376" y="0"/>
                </a:moveTo>
                <a:lnTo>
                  <a:pt x="50376" y="21600"/>
                </a:lnTo>
                <a:lnTo>
                  <a:pt x="48976" y="20200"/>
                </a:lnTo>
                <a:lnTo>
                  <a:pt x="48976" y="1400"/>
                </a:lnTo>
                <a:close/>
              </a:path>
              <a:path fill="darkenLess" w="50376" h="21600">
                <a:moveTo>
                  <a:pt x="50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6" y="20200"/>
                </a:lnTo>
                <a:close/>
              </a:path>
              <a:path fill="lighten" w="50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76" h="21600">
                <a:moveTo>
                  <a:pt x="18182" y="10800"/>
                </a:moveTo>
                <a:lnTo>
                  <a:pt x="32194" y="3794"/>
                </a:lnTo>
                <a:lnTo>
                  <a:pt x="321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Отряд жуки или жесткокрылые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-жук- геркуле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 дровос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-бронзов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- уса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-колорадский жу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- жук- ол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4021200" cy="4680000"/>
          </a:xfrm>
          <a:prstGeom prst="rect">
            <a:avLst/>
          </a:prstGeom>
          <a:ln w="0">
            <a:noFill/>
          </a:ln>
        </p:spPr>
      </p:pic>
      <p:sp>
        <p:nvSpPr>
          <p:cNvPr id="136" name="">
            <a:hlinkClick r:id="" action="ppaction://hlinkshowjump?jump=nextslide"/>
          </p:cNvPr>
          <p:cNvSpPr/>
          <p:nvPr/>
        </p:nvSpPr>
        <p:spPr>
          <a:xfrm>
            <a:off x="7451640" y="6165720"/>
            <a:ext cx="1152720" cy="432000"/>
          </a:xfrm>
          <a:custGeom>
            <a:avLst/>
            <a:gdLst>
              <a:gd name="textAreaLeft" fmla="*/ 27720 w 1152720"/>
              <a:gd name="textAreaRight" fmla="*/ 1125000 w 1152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7606" h="21600">
                <a:moveTo>
                  <a:pt x="0" y="0"/>
                </a:moveTo>
                <a:lnTo>
                  <a:pt x="57606" y="0"/>
                </a:lnTo>
                <a:lnTo>
                  <a:pt x="57606" y="21600"/>
                </a:lnTo>
                <a:lnTo>
                  <a:pt x="0" y="21600"/>
                </a:lnTo>
                <a:close/>
              </a:path>
              <a:path fill="lightenLess" w="57606" h="21600">
                <a:moveTo>
                  <a:pt x="0" y="0"/>
                </a:moveTo>
                <a:lnTo>
                  <a:pt x="57606" y="0"/>
                </a:lnTo>
                <a:lnTo>
                  <a:pt x="56206" y="1400"/>
                </a:lnTo>
                <a:lnTo>
                  <a:pt x="1400" y="1400"/>
                </a:lnTo>
                <a:close/>
              </a:path>
              <a:path fill="darken" w="57606" h="21600">
                <a:moveTo>
                  <a:pt x="57606" y="0"/>
                </a:moveTo>
                <a:lnTo>
                  <a:pt x="57606" y="21600"/>
                </a:lnTo>
                <a:lnTo>
                  <a:pt x="56206" y="20200"/>
                </a:lnTo>
                <a:lnTo>
                  <a:pt x="56206" y="1400"/>
                </a:lnTo>
                <a:close/>
              </a:path>
              <a:path fill="darkenLess" w="57606" h="21600">
                <a:moveTo>
                  <a:pt x="576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06" y="20200"/>
                </a:lnTo>
                <a:close/>
              </a:path>
              <a:path fill="lighten" w="576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606" h="21600">
                <a:moveTo>
                  <a:pt x="21797" y="3794"/>
                </a:moveTo>
                <a:lnTo>
                  <a:pt x="35809" y="10800"/>
                </a:lnTo>
                <a:lnTo>
                  <a:pt x="21797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3T16:36:16Z</dcterms:created>
  <dc:creator>ххх</dc:creator>
  <dc:description/>
  <dc:language>en-US</dc:language>
  <cp:lastModifiedBy>Мама</cp:lastModifiedBy>
  <dcterms:modified xsi:type="dcterms:W3CDTF">2012-09-08T02:52:39Z</dcterms:modified>
  <cp:revision>7</cp:revision>
  <dc:subject/>
  <dc:title>Слайд 1</dc:title>
</cp:coreProperties>
</file>