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F01-5664-4BB5-A0BD-4552186A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A5C-B578-4DBA-9B37-D71699B9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9E1-8BBE-4A73-A37A-42B35576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658-3FC6-42D1-A122-2E7DAA09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F4F8-EA32-49C9-922E-D937D3DB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DF85-DD92-4B5A-BC03-23C70934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F710-42C4-42F0-AB7C-D1690709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79B0-531A-48CA-A83D-AB78A405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15B0-E8FF-4273-AF53-EEB739F1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A0D1-0F94-4AD5-8A7B-089C406B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E0FF-4BFB-4565-8DB5-6A222753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CD1-7012-4353-BE63-5D8B859A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15CD-ECF3-45A0-ADCB-CF4BB91A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937C-C59C-466F-8541-332B54A6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7D91-DAC1-4C5B-B4FE-59A7F948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DAA3-B887-41EC-9F36-E9430314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A6D8-161A-45F8-8E13-7D2555D7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7BA-A7B9-47B1-A3B5-44B19C84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184-6DF5-46FA-9208-081A5A71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FEE-C272-4BB9-BE4C-A5709FAF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85F-9C86-47F3-9154-1CB50FCC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78A-4C92-4AF8-8BD3-57AF7E3E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DFC-EE36-4DE0-911E-705FF566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311-90E4-491C-AACD-CBE94733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4AE1-1CCE-40E1-9808-F028F79358C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517E-0151-4188-98BA-772D612E7B7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pic.com/coments.php?id=196" TargetMode="External"/><Relationship Id="rId2" Type="http://schemas.openxmlformats.org/officeDocument/2006/relationships/hyperlink" Target="http://imgpic.com/coments.php?id=196" TargetMode="External"/><Relationship Id="rId3" Type="http://schemas.openxmlformats.org/officeDocument/2006/relationships/hyperlink" Target="http://imgpic.com/coments.php?id=196" TargetMode="External"/><Relationship Id="rId4" Type="http://schemas.openxmlformats.org/officeDocument/2006/relationships/hyperlink" Target="http://myflowerz.ru/?page_id=161" TargetMode="External"/><Relationship Id="rId5" Type="http://schemas.openxmlformats.org/officeDocument/2006/relationships/hyperlink" Target="http://myflowerz.ru/?page_id=161" TargetMode="External"/><Relationship Id="rId6" Type="http://schemas.openxmlformats.org/officeDocument/2006/relationships/hyperlink" Target="http://myflowerz.ru/?page_id=161" TargetMode="External"/><Relationship Id="rId7" Type="http://schemas.openxmlformats.org/officeDocument/2006/relationships/hyperlink" Target="http://www.savaserlin.ru/View_full_story.php?foto_cat=%20Polypodiophyta&amp;Story_ID=774&amp;from_fc=0" TargetMode="External"/><Relationship Id="rId8" Type="http://schemas.openxmlformats.org/officeDocument/2006/relationships/hyperlink" Target="http://www.savaserlin.ru/View_full_story.php?foto_cat=%20Polypodiophyta&amp;Story_ID=774&amp;from_fc=0" TargetMode="External"/><Relationship Id="rId9" Type="http://schemas.openxmlformats.org/officeDocument/2006/relationships/hyperlink" Target="http://www.savaserlin.ru/View_full_story.php?foto_cat=%20Polypodiophyta&amp;Story_ID=774&amp;from_fc=0" TargetMode="External"/><Relationship Id="rId10" Type="http://schemas.openxmlformats.org/officeDocument/2006/relationships/hyperlink" Target="http://clubs.ya.ru/4611686018427419742/replies.xml?item_no=7671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ЗНООБРАЗИЕ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СТЕНИЙ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особенности внешнего строения растени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88000" y="5303880"/>
            <a:ext cx="4356000" cy="1557000"/>
          </a:xfrm>
          <a:prstGeom prst="rect">
            <a:avLst/>
          </a:prstGeom>
          <a:solidFill>
            <a:srgbClr val="7ac9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БОУ ЦО №1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пья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Картинка 6 из 957"/>
          <p:cNvPicPr/>
          <p:nvPr/>
        </p:nvPicPr>
        <p:blipFill>
          <a:blip r:embed="rId1"/>
          <a:stretch/>
        </p:blipFill>
        <p:spPr>
          <a:xfrm>
            <a:off x="539640" y="1484280"/>
            <a:ext cx="4724640" cy="34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Picture 4" descr="Картинка 3 из 20375"/>
          <p:cNvPicPr/>
          <p:nvPr/>
        </p:nvPicPr>
        <p:blipFill>
          <a:blip r:embed="rId2"/>
          <a:stretch/>
        </p:blipFill>
        <p:spPr>
          <a:xfrm>
            <a:off x="5724360" y="1557360"/>
            <a:ext cx="30481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6" descr="http://www.murman.ru/flora/pictures/p200112.jpg"/>
          <p:cNvPicPr/>
          <p:nvPr/>
        </p:nvPicPr>
        <p:blipFill>
          <a:blip r:embed="rId3"/>
          <a:stretch/>
        </p:blipFill>
        <p:spPr>
          <a:xfrm>
            <a:off x="2700360" y="3808440"/>
            <a:ext cx="4475160" cy="30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2" descr="http://www.savaserlin.ru/resize_image.php?sw=700&amp;sh=550&amp;image=pictures/774_1.jpg"/>
          <p:cNvPicPr/>
          <p:nvPr/>
        </p:nvPicPr>
        <p:blipFill>
          <a:blip r:embed="rId1"/>
          <a:stretch/>
        </p:blipFill>
        <p:spPr>
          <a:xfrm>
            <a:off x="969840" y="1268280"/>
            <a:ext cx="7272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, вопросы на с. 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imgpic.com/coments.php?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=1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myflowerz.ru/?page_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=1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www.savaserlin.ru/View_full_story.php?foto_cat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=%20Polypodiophyta&amp;Story_ID=774&amp;from_fc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clubs.ya.ru/4611686018427419742/replies.xml?item_no=76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kiev-forum.com.ua/entries/532-%D0%9B%D0%B5%D0%BA%D0%B0%D1%80%D1%81%D1%82%D0%B2%D0%B5%D0%BD%D0%BD%D1%8B%D0%B5-%D1%82%D1%80%D0%B0%D0%B2%D1%8B-%D0%A5%D0%B2%D0%BE%D1%89-%D0%BF%D0%BE%D0%BB%D0%B5%D0%B2%D0%BE%D0%B9?s=bec6c876f2649a998c1098f410b5991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urman.ru/flora/data/1200112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amonitore.ru/wallpapers/big/shishka_1_160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463680" y="334800"/>
            <a:ext cx="8242200" cy="359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180x120"/>
          <p:cNvPicPr/>
          <p:nvPr/>
        </p:nvPicPr>
        <p:blipFill>
          <a:blip r:embed="rId2"/>
          <a:stretch/>
        </p:blipFill>
        <p:spPr>
          <a:xfrm>
            <a:off x="1023840" y="3932280"/>
            <a:ext cx="2773440" cy="412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можжев"/>
          <p:cNvPicPr/>
          <p:nvPr/>
        </p:nvPicPr>
        <p:blipFill>
          <a:blip r:embed="rId3"/>
          <a:stretch/>
        </p:blipFill>
        <p:spPr>
          <a:xfrm>
            <a:off x="5419800" y="3932280"/>
            <a:ext cx="2773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33"/>
                </a:solidFill>
                <a:latin typeface="Garamond"/>
              </a:rPr>
              <a:t>ОРГАН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 часть организма растения, выполняющая в нем определенную функцию и имеющая особое 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Органы растений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8" name="Группа 8"/>
          <p:cNvGrpSpPr/>
          <p:nvPr/>
        </p:nvGrpSpPr>
        <p:grpSpPr>
          <a:xfrm>
            <a:off x="2411280" y="1278000"/>
            <a:ext cx="4321440" cy="5580000"/>
            <a:chOff x="2411280" y="1278000"/>
            <a:chExt cx="4321440" cy="5580000"/>
          </a:xfrm>
        </p:grpSpPr>
        <p:pic>
          <p:nvPicPr>
            <p:cNvPr id="99" name="Picture 2" descr="http://plantsblog.ru/wp-content/uploads/2012/05/organy-rastenij_5.jpg"/>
            <p:cNvPicPr/>
            <p:nvPr/>
          </p:nvPicPr>
          <p:blipFill>
            <a:blip r:embed="rId1"/>
            <a:stretch/>
          </p:blipFill>
          <p:spPr>
            <a:xfrm>
              <a:off x="2411280" y="1278000"/>
              <a:ext cx="4321440" cy="55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Прямоугольник 5"/>
            <p:cNvSpPr/>
            <p:nvPr/>
          </p:nvSpPr>
          <p:spPr>
            <a:xfrm>
              <a:off x="2555640" y="5805720"/>
              <a:ext cx="107964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7"/>
            <p:cNvSpPr/>
            <p:nvPr/>
          </p:nvSpPr>
          <p:spPr>
            <a:xfrm>
              <a:off x="3635280" y="5950080"/>
              <a:ext cx="865080" cy="71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Прямая соединительная линия 10"/>
          <p:cNvSpPr/>
          <p:nvPr/>
        </p:nvSpPr>
        <p:spPr>
          <a:xfrm>
            <a:off x="755640" y="4581360"/>
            <a:ext cx="748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Левая фигурная скобка 13"/>
          <p:cNvSpPr/>
          <p:nvPr/>
        </p:nvSpPr>
        <p:spPr>
          <a:xfrm>
            <a:off x="611280" y="1268280"/>
            <a:ext cx="647640" cy="3240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3240360"/>
              <a:gd name="textAreaBottom" fmla="*/ 322380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Левая фигурная скобка 14"/>
          <p:cNvSpPr/>
          <p:nvPr/>
        </p:nvSpPr>
        <p:spPr>
          <a:xfrm>
            <a:off x="684360" y="4581360"/>
            <a:ext cx="574560" cy="2276640"/>
          </a:xfrm>
          <a:custGeom>
            <a:avLst/>
            <a:gdLst>
              <a:gd name="textAreaLeft" fmla="*/ 367200 w 574560"/>
              <a:gd name="textAreaRight" fmla="*/ 574920 w 574560"/>
              <a:gd name="textAreaTop" fmla="*/ 14760 h 2276640"/>
              <a:gd name="textAreaBottom" fmla="*/ 2261880 h 22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7"/>
                  <a:pt x="10800" y="454"/>
                </a:cubicBezTo>
                <a:lnTo>
                  <a:pt x="10800" y="10346"/>
                </a:lnTo>
                <a:cubicBezTo>
                  <a:pt x="10800" y="10573"/>
                  <a:pt x="5400" y="10800"/>
                  <a:pt x="0" y="10800"/>
                </a:cubicBezTo>
                <a:cubicBezTo>
                  <a:pt x="5400" y="10800"/>
                  <a:pt x="10800" y="11027"/>
                  <a:pt x="10800" y="11254"/>
                </a:cubicBezTo>
                <a:lnTo>
                  <a:pt x="10800" y="21146"/>
                </a:lnTo>
                <a:cubicBezTo>
                  <a:pt x="10800" y="21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 flipH="1" rot="16200000">
            <a:off x="-819000" y="223128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бе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 rot="16200000">
            <a:off x="-728280" y="54259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е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38"/>
          <p:cNvGrpSpPr/>
          <p:nvPr/>
        </p:nvGrpSpPr>
        <p:grpSpPr>
          <a:xfrm>
            <a:off x="4500720" y="1125360"/>
            <a:ext cx="4174920" cy="2447640"/>
            <a:chOff x="4500720" y="1125360"/>
            <a:chExt cx="4174920" cy="2447640"/>
          </a:xfrm>
        </p:grpSpPr>
        <p:grpSp>
          <p:nvGrpSpPr>
            <p:cNvPr id="108" name="Группа 23"/>
            <p:cNvGrpSpPr/>
            <p:nvPr/>
          </p:nvGrpSpPr>
          <p:grpSpPr>
            <a:xfrm>
              <a:off x="4500720" y="1413360"/>
              <a:ext cx="2159280" cy="2159640"/>
              <a:chOff x="4500720" y="1413360"/>
              <a:chExt cx="2159280" cy="2159640"/>
            </a:xfrm>
          </p:grpSpPr>
          <p:sp>
            <p:nvSpPr>
              <p:cNvPr id="109" name="Прямая соединительная линия 20"/>
              <p:cNvSpPr/>
              <p:nvPr/>
            </p:nvSpPr>
            <p:spPr>
              <a:xfrm>
                <a:off x="4500720" y="1413360"/>
                <a:ext cx="215928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ая соединительная линия 22"/>
              <p:cNvSpPr/>
              <p:nvPr/>
            </p:nvSpPr>
            <p:spPr>
              <a:xfrm flipV="1">
                <a:off x="4716360" y="1557360"/>
                <a:ext cx="1872000" cy="20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3"/>
            <p:cNvSpPr/>
            <p:nvPr/>
          </p:nvSpPr>
          <p:spPr>
            <a:xfrm>
              <a:off x="6732000" y="1125360"/>
              <a:ext cx="19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поч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39"/>
          <p:cNvGrpSpPr/>
          <p:nvPr/>
        </p:nvGrpSpPr>
        <p:grpSpPr>
          <a:xfrm>
            <a:off x="5580000" y="2421000"/>
            <a:ext cx="3240000" cy="1368360"/>
            <a:chOff x="5580000" y="2421000"/>
            <a:chExt cx="3240000" cy="1368360"/>
          </a:xfrm>
        </p:grpSpPr>
        <p:grpSp>
          <p:nvGrpSpPr>
            <p:cNvPr id="113" name="Группа 28"/>
            <p:cNvGrpSpPr/>
            <p:nvPr/>
          </p:nvGrpSpPr>
          <p:grpSpPr>
            <a:xfrm>
              <a:off x="5580000" y="2421000"/>
              <a:ext cx="1440000" cy="1368360"/>
              <a:chOff x="5580000" y="2421000"/>
              <a:chExt cx="1440000" cy="1368360"/>
            </a:xfrm>
          </p:grpSpPr>
          <p:sp>
            <p:nvSpPr>
              <p:cNvPr id="114" name="Прямая соединительная линия 25"/>
              <p:cNvSpPr/>
              <p:nvPr/>
            </p:nvSpPr>
            <p:spPr>
              <a:xfrm>
                <a:off x="5651280" y="2421000"/>
                <a:ext cx="129708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Прямая соединительная линия 27"/>
              <p:cNvSpPr/>
              <p:nvPr/>
            </p:nvSpPr>
            <p:spPr>
              <a:xfrm flipV="1">
                <a:off x="5580000" y="3502080"/>
                <a:ext cx="144000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34"/>
            <p:cNvSpPr/>
            <p:nvPr/>
          </p:nvSpPr>
          <p:spPr>
            <a:xfrm>
              <a:off x="7092000" y="3141360"/>
              <a:ext cx="17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исть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0"/>
          <p:cNvGrpSpPr/>
          <p:nvPr/>
        </p:nvGrpSpPr>
        <p:grpSpPr>
          <a:xfrm>
            <a:off x="1042920" y="1268280"/>
            <a:ext cx="2952360" cy="1152720"/>
            <a:chOff x="1042920" y="1268280"/>
            <a:chExt cx="2952360" cy="1152720"/>
          </a:xfrm>
        </p:grpSpPr>
        <p:sp>
          <p:nvSpPr>
            <p:cNvPr id="118" name="Прямая соединительная линия 30"/>
            <p:cNvSpPr/>
            <p:nvPr/>
          </p:nvSpPr>
          <p:spPr>
            <a:xfrm flipH="1" flipV="1">
              <a:off x="2842920" y="1700280"/>
              <a:ext cx="115236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1042920" y="126828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цвет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41"/>
          <p:cNvGrpSpPr/>
          <p:nvPr/>
        </p:nvGrpSpPr>
        <p:grpSpPr>
          <a:xfrm>
            <a:off x="1116000" y="3645000"/>
            <a:ext cx="3527280" cy="581400"/>
            <a:chOff x="1116000" y="3645000"/>
            <a:chExt cx="3527280" cy="581400"/>
          </a:xfrm>
        </p:grpSpPr>
        <p:sp>
          <p:nvSpPr>
            <p:cNvPr id="121" name="Прямая соединительная линия 32"/>
            <p:cNvSpPr/>
            <p:nvPr/>
          </p:nvSpPr>
          <p:spPr>
            <a:xfrm flipH="1">
              <a:off x="3132000" y="4005360"/>
              <a:ext cx="151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7"/>
            <p:cNvSpPr/>
            <p:nvPr/>
          </p:nvSpPr>
          <p:spPr>
            <a:xfrm>
              <a:off x="1116000" y="3645000"/>
              <a:ext cx="20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теб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Корень и побег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лавные вегетативные органы 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Вегетативное размножение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2" descr="http://s40.radikal.ru/i088/0812/7f/b67bc75fca89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4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58120" cy="395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199_paporotnik1"/>
          <p:cNvPicPr/>
          <p:nvPr/>
        </p:nvPicPr>
        <p:blipFill>
          <a:blip r:embed="rId2"/>
          <a:stretch/>
        </p:blipFill>
        <p:spPr>
          <a:xfrm>
            <a:off x="5492880" y="4218120"/>
            <a:ext cx="276696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uddleja"/>
          <p:cNvPicPr/>
          <p:nvPr/>
        </p:nvPicPr>
        <p:blipFill>
          <a:blip r:embed="rId3"/>
          <a:stretch/>
        </p:blipFill>
        <p:spPr>
          <a:xfrm>
            <a:off x="1170000" y="4218120"/>
            <a:ext cx="28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Содержимое 3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32560" cy="33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1178999859_f"/>
          <p:cNvPicPr/>
          <p:nvPr/>
        </p:nvPicPr>
        <p:blipFill>
          <a:blip r:embed="rId2"/>
          <a:stretch/>
        </p:blipFill>
        <p:spPr>
          <a:xfrm>
            <a:off x="5126040" y="3790800"/>
            <a:ext cx="3206880" cy="476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ampsis_radicans"/>
          <p:cNvPicPr/>
          <p:nvPr/>
        </p:nvPicPr>
        <p:blipFill>
          <a:blip r:embed="rId3"/>
          <a:stretch/>
        </p:blipFill>
        <p:spPr>
          <a:xfrm>
            <a:off x="811080" y="3790800"/>
            <a:ext cx="32068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равните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Картинка 12 из 212956"/>
          <p:cNvPicPr/>
          <p:nvPr/>
        </p:nvPicPr>
        <p:blipFill>
          <a:blip r:embed="rId1"/>
          <a:stretch/>
        </p:blipFill>
        <p:spPr>
          <a:xfrm>
            <a:off x="469800" y="1487520"/>
            <a:ext cx="4314960" cy="4919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Картинка 7 из 159123"/>
          <p:cNvPicPr/>
          <p:nvPr/>
        </p:nvPicPr>
        <p:blipFill>
          <a:blip r:embed="rId2"/>
          <a:stretch/>
        </p:blipFill>
        <p:spPr>
          <a:xfrm>
            <a:off x="4932360" y="1487520"/>
            <a:ext cx="3887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2:49:26Z</dcterms:created>
  <dc:creator>Лариса</dc:creator>
  <dc:description/>
  <dc:language>en-US</dc:language>
  <cp:lastModifiedBy>Мама</cp:lastModifiedBy>
  <dcterms:modified xsi:type="dcterms:W3CDTF">2012-09-14T19:31:42Z</dcterms:modified>
  <cp:revision>53</cp:revision>
  <dc:subject/>
  <dc:title>Как разрушаются камни.</dc:title>
</cp:coreProperties>
</file>