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image7.jpeg" ContentType="image/jpeg"/>
  <Override PartName="/ppt/media/image4.jpeg" ContentType="image/jpeg"/>
  <Override PartName="/ppt/media/image5.gif" ContentType="image/gif"/>
  <Override PartName="/ppt/media/image6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95BE-9EB9-4579-A1CA-B77401012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1565-8836-4AA7-93E7-5EB0BD2A4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FD2D-4B85-4BAD-ABC2-2E4B0AF97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E648-A8AA-429A-AC60-63FDFC30F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216B-077C-404B-955B-43B8974D5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76A6-B587-4D7C-BFD7-DB15E9017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AD91-288A-4BA7-AACD-A4E0B1F75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CBE5-732C-4FF6-B46F-AAA4BE73B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D4EE-9BB5-4A85-B60D-BCEFB1F84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7976-6A4C-473B-B53E-18627E4E9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2F45-B1D8-4DAF-9C01-40E01E6E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FB01-FE53-4F3F-A472-8841B316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0DFEC-DB8E-40DA-8310-B3E1A646DA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class-fizika-narod.ru/7_class/7_stroenie/p1.jpg" TargetMode="External"/><Relationship Id="rId2" Type="http://schemas.openxmlformats.org/officeDocument/2006/relationships/hyperlink" Target="http://class-fizika-narod.ru/7_class/7_stroenie/p4.jpg" TargetMode="External"/><Relationship Id="rId3" Type="http://schemas.openxmlformats.org/officeDocument/2006/relationships/hyperlink" Target="http://class-fizika-narod.ru/7_class/7_stroenie/p2.jpg" TargetMode="External"/><Relationship Id="rId4" Type="http://schemas.openxmlformats.org/officeDocument/2006/relationships/hyperlink" Target="http://class-fizika-narod.ru/7_class/7_stroenie/p3.jpg" TargetMode="External"/><Relationship Id="rId5" Type="http://schemas.openxmlformats.org/officeDocument/2006/relationships/hyperlink" Target="http://persona.rin.ru/images/31492.jpg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3838680"/>
            <a:ext cx="3166920" cy="3019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Comic Sans MS"/>
              </a:rPr>
              <a:t>7 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11280" y="1125360"/>
            <a:ext cx="820728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Строение вещества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4" name=""/>
          <p:cNvSpPr/>
          <p:nvPr/>
        </p:nvSpPr>
        <p:spPr>
          <a:xfrm>
            <a:off x="3805200" y="4594320"/>
            <a:ext cx="5338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99"/>
                </a:solidFill>
                <a:latin typeface="Comic Sans MS"/>
              </a:rPr>
              <a:t>Климова Лариса Викто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99"/>
                </a:solidFill>
                <a:latin typeface="Comic Sans MS"/>
              </a:rPr>
              <a:t>учитель</a:t>
            </a:r>
            <a:r>
              <a:rPr b="1" i="1" lang="ru-RU" sz="2000" spc="-1" strike="noStrike">
                <a:solidFill>
                  <a:srgbClr val="990099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990099"/>
                </a:solidFill>
                <a:latin typeface="Comic Sans MS"/>
              </a:rPr>
              <a:t>физ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99"/>
                </a:solidFill>
                <a:latin typeface="Comic Sans MS"/>
              </a:rPr>
              <a:t>МОУ Аладьинская СО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7704000" cy="56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316720" cy="584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Comic Sans MS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99"/>
                </a:solidFill>
                <a:latin typeface="Comic Sans MS"/>
              </a:rPr>
              <a:t>Из чего состоят все вещест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66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Comic Sans MS"/>
              </a:rPr>
              <a:t>Какие факты подтверждают молекулярное строение вещест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99"/>
                </a:solidFill>
                <a:latin typeface="Comic Sans MS"/>
              </a:rPr>
              <a:t>Из чего состоят молекул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66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Comic Sans MS"/>
              </a:rPr>
              <a:t>Каковы размеры атомов и молекул? Можно ли их увидеть в обычный микроскоп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99"/>
                </a:solidFill>
                <a:latin typeface="Comic Sans MS"/>
              </a:rPr>
              <a:t>Из каких атомов состоит молекула вод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66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Comic Sans MS"/>
              </a:rPr>
              <a:t>Одинаковы ли молекулы льда, воды и её пара? Почему? А молекулы воды и спир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99"/>
                </a:solidFill>
                <a:latin typeface="Comic Sans MS"/>
              </a:rPr>
              <a:t>Как, зная молекулярное строение вещества, можно объяснить изменение размеров тел при нагревании и охлажден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9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9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9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9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9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9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9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528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9900"/>
                </a:solidFill>
                <a:uFillTx/>
                <a:latin typeface="Arial"/>
              </a:rPr>
              <a:t>Домашнее задание: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§§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7,8, ответить на вопросы, изготовить из пластилина две молекулы воды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№44, 48,50, 52(письменно в тетради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cc"/>
                </a:solidFill>
                <a:latin typeface="Comic Sans MS"/>
              </a:rPr>
              <a:t>Ссылки на изображ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75960" y="3141720"/>
            <a:ext cx="721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class-fizika-narod.ru/7_class/7_stroenie/p1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75960" y="5445000"/>
            <a:ext cx="721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lass-fizika-narod.ru/7_class/7_stroenie/p4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04680" y="3860640"/>
            <a:ext cx="721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class-fizika-narod.ru/7_class/7_stroenie/p2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04680" y="4724280"/>
            <a:ext cx="721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class-fizika-narod.ru/7_class/7_stroenie/p3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695240" y="2349360"/>
            <a:ext cx="531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persona.rin.ru/images/31492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68000" y="162864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Узнать из чего состоят веще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Выяснить каковы размеры частиц веще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Познакомиться с опытными доказательствами строения вещ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09900"/>
                </a:solidFill>
                <a:latin typeface="Comic Sans MS"/>
              </a:rPr>
              <a:t>Можно ли яблоко делить до бесконеч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09900"/>
                </a:solidFill>
                <a:latin typeface="Comic Sans MS"/>
              </a:rPr>
              <a:t>Почему испаряется в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09900"/>
                </a:solidFill>
                <a:latin typeface="Comic Sans MS"/>
              </a:rPr>
              <a:t>Почему при длительной работе стачиваются лезвия ножа или плу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09900"/>
                </a:solidFill>
                <a:latin typeface="Comic Sans MS"/>
              </a:rPr>
              <a:t>Почему краска растворяется в в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908000" y="5805360"/>
            <a:ext cx="420840" cy="503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124000" y="4149720"/>
            <a:ext cx="420840" cy="504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300720" y="1844640"/>
            <a:ext cx="480960" cy="576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4140360" y="836640"/>
            <a:ext cx="42048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3600" spc="-1" strike="noStrike">
                <a:solidFill>
                  <a:srgbClr val="009900"/>
                </a:solidFill>
                <a:latin typeface="Comic Sans MS"/>
              </a:rPr>
              <a:t>Сплошные тела или состоят из отдельных частиц?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3076560" cy="3527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84360" y="501336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Демокр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67120" y="5594400"/>
            <a:ext cx="198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Др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Грец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609300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60-370г.г.до н.э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427640" y="2086920"/>
            <a:ext cx="4032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Все тела состоят из бесчисленного количества сверхмалых, невидимых глазу, неделимых частиц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1844640"/>
            <a:ext cx="4464000" cy="4175280"/>
          </a:xfrm>
          <a:prstGeom prst="wedgeRoundRectCallout">
            <a:avLst>
              <a:gd name="adj1" fmla="val -78236"/>
              <a:gd name="adj2" fmla="val 13537"/>
              <a:gd name="adj3" fmla="val 16667"/>
            </a:avLst>
          </a:pr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532908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ff0000"/>
                </a:solidFill>
                <a:uFillTx/>
                <a:latin typeface="Comic Sans MS"/>
              </a:rPr>
              <a:t>Молекул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560" y="475920"/>
            <a:ext cx="57610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685800"/>
            <a:ext cx="378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мельчайш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- частица 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  вещ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87480" y="1996920"/>
            <a:ext cx="43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(Греч.</a:t>
            </a: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 -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маленькая масс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00000" y="3284640"/>
            <a:ext cx="295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ff0000"/>
                </a:solidFill>
                <a:uFillTx/>
                <a:latin typeface="Comic Sans MS"/>
              </a:rPr>
              <a:t>Атом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72000" y="4589640"/>
            <a:ext cx="337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(Греч. -</a:t>
            </a:r>
            <a:r>
              <a:rPr b="0" i="1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неделимый</a:t>
            </a:r>
            <a:r>
              <a:rPr b="0" i="1" lang="en-US" sz="1800" spc="-1" strike="noStrike">
                <a:solidFill>
                  <a:srgbClr val="0099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43280" y="3213000"/>
            <a:ext cx="381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состав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- час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молеку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350"/>
                            </p:stCondLst>
                            <p:childTnLst>
                              <p:par>
                                <p:cTn id="10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400"/>
                            </p:stCondLst>
                            <p:childTnLst>
                              <p:par>
                                <p:cTn id="1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150"/>
                            </p:stCondLst>
                            <p:childTnLst>
                              <p:par>
                                <p:cTn id="12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950"/>
                            </p:stCondLst>
                            <p:childTnLst>
                              <p:par>
                                <p:cTn id="1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395280" y="1557720"/>
            <a:ext cx="8305920" cy="4171680"/>
            <a:chOff x="395280" y="1557720"/>
            <a:chExt cx="8305920" cy="4171680"/>
          </a:xfrm>
        </p:grpSpPr>
        <p:cxnSp>
          <p:nvCxnSpPr>
            <p:cNvPr id="66" name="_s17437"/>
            <p:cNvCxnSpPr/>
            <p:nvPr/>
          </p:nvCxnSpPr>
          <p:spPr>
            <a:xfrm flipV="1" rot="16200000">
              <a:off x="3507840" y="2931480"/>
              <a:ext cx="50760" cy="3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7" name="_s17426"/>
            <p:cNvCxnSpPr/>
            <p:nvPr/>
          </p:nvCxnSpPr>
          <p:spPr>
            <a:xfrm rot="5400000">
              <a:off x="5914800" y="3003840"/>
              <a:ext cx="56520" cy="42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8" name="_s17420"/>
            <p:cNvCxnSpPr/>
            <p:nvPr/>
          </p:nvCxnSpPr>
          <p:spPr>
            <a:xfrm flipV="1">
              <a:off x="2809080" y="3217680"/>
              <a:ext cx="74520" cy="31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9" name="_s17416"/>
            <p:cNvSpPr/>
            <p:nvPr/>
          </p:nvSpPr>
          <p:spPr>
            <a:xfrm>
              <a:off x="395280" y="1557720"/>
              <a:ext cx="8305920" cy="675360"/>
            </a:xfrm>
            <a:prstGeom prst="roundRect">
              <a:avLst>
                <a:gd name="adj" fmla="val 19505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9900"/>
                  </a:solidFill>
                  <a:latin typeface="Comic Sans MS"/>
                </a:rPr>
                <a:t>Веществ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17417"/>
            <p:cNvSpPr/>
            <p:nvPr/>
          </p:nvSpPr>
          <p:spPr>
            <a:xfrm>
              <a:off x="1188720" y="2706840"/>
              <a:ext cx="6851160" cy="7383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00"/>
                  </a:solidFill>
                  <a:latin typeface="Comic Sans MS"/>
                </a:rPr>
                <a:t>Молекул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7425"/>
            <p:cNvSpPr/>
            <p:nvPr/>
          </p:nvSpPr>
          <p:spPr>
            <a:xfrm>
              <a:off x="1834560" y="3862080"/>
              <a:ext cx="5430960" cy="72540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00"/>
                  </a:solidFill>
                  <a:latin typeface="Comic Sans MS"/>
                </a:rPr>
                <a:t>Атом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17436"/>
            <p:cNvSpPr/>
            <p:nvPr/>
          </p:nvSpPr>
          <p:spPr>
            <a:xfrm>
              <a:off x="2375640" y="5004000"/>
              <a:ext cx="4489200" cy="72540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00"/>
                  </a:solidFill>
                  <a:latin typeface="Comic Sans MS"/>
                </a:rPr>
                <a:t>Элементарные частиц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3708360" y="836640"/>
            <a:ext cx="187164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24360" y="9810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500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18900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Демокр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43280" y="220500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43280" y="342900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43280" y="458136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26920" y="5950080"/>
            <a:ext cx="716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XX</a:t>
            </a: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 век        Доказано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68360" y="2708280"/>
            <a:ext cx="790920" cy="5047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55640" y="2637000"/>
            <a:ext cx="792000" cy="6476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00"/>
                </a:solidFill>
                <a:uFillTx/>
                <a:latin typeface="Comic Sans MS"/>
              </a:rPr>
              <a:t>Опытные обоснования молекулярного строения вещ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55640" y="2349360"/>
            <a:ext cx="0" cy="9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1547640" y="2276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5640" y="2205000"/>
            <a:ext cx="792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5640" y="2565360"/>
            <a:ext cx="792000" cy="2160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3141720"/>
            <a:ext cx="792000" cy="2160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7732800">
            <a:off x="945000" y="-267120"/>
            <a:ext cx="222120" cy="312840"/>
          </a:xfrm>
          <a:prstGeom prst="wedgeEllipseCallout">
            <a:avLst>
              <a:gd name="adj1" fmla="val -84541"/>
              <a:gd name="adj2" fmla="val 71851"/>
            </a:avLst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55640" y="2708280"/>
            <a:ext cx="792000" cy="57636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50000">
                <a:srgbClr val="cc0000"/>
              </a:gs>
              <a:gs pos="100000">
                <a:srgbClr val="99003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5640" y="2565360"/>
            <a:ext cx="792000" cy="217440"/>
          </a:xfrm>
          <a:prstGeom prst="ellipse">
            <a:avLst/>
          </a:prstGeom>
          <a:gradFill rotWithShape="0">
            <a:gsLst>
              <a:gs pos="0">
                <a:srgbClr val="990033"/>
              </a:gs>
              <a:gs pos="50000">
                <a:srgbClr val="cc0000"/>
              </a:gs>
              <a:gs pos="100000">
                <a:srgbClr val="99003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5640" y="3141720"/>
            <a:ext cx="792000" cy="217440"/>
          </a:xfrm>
          <a:prstGeom prst="ellipse">
            <a:avLst/>
          </a:prstGeom>
          <a:gradFill rotWithShape="0">
            <a:gsLst>
              <a:gs pos="0">
                <a:srgbClr val="990033"/>
              </a:gs>
              <a:gs pos="50000">
                <a:srgbClr val="cc0000"/>
              </a:gs>
              <a:gs pos="100000">
                <a:srgbClr val="99003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628640"/>
            <a:ext cx="1368360" cy="360360"/>
          </a:xfrm>
          <a:custGeom>
            <a:avLst/>
            <a:gdLst>
              <a:gd name="textAreaLeft" fmla="*/ 239400 w 1368360"/>
              <a:gd name="textAreaRight" fmla="*/ 992160 w 136836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990033"/>
              </a:gs>
              <a:gs pos="50000">
                <a:srgbClr val="cc0000"/>
              </a:gs>
              <a:gs pos="100000">
                <a:srgbClr val="990033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234936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68360" y="2205000"/>
            <a:ext cx="79236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68360" y="3141720"/>
            <a:ext cx="792360" cy="2160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059280" y="2349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68360" y="2565360"/>
            <a:ext cx="792360" cy="2160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68360" y="2708280"/>
            <a:ext cx="790920" cy="50472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50000">
                <a:srgbClr val="ffcc99"/>
              </a:gs>
              <a:gs pos="100000">
                <a:srgbClr val="ff505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3141720"/>
            <a:ext cx="792360" cy="216000"/>
          </a:xfrm>
          <a:prstGeom prst="ellipse">
            <a:avLst/>
          </a:prstGeom>
          <a:gradFill rotWithShape="0">
            <a:gsLst>
              <a:gs pos="0">
                <a:srgbClr val="ff5050"/>
              </a:gs>
              <a:gs pos="50000">
                <a:srgbClr val="ffcc99"/>
              </a:gs>
              <a:gs pos="100000">
                <a:srgbClr val="ff505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3635280" y="2276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5280" y="2205000"/>
            <a:ext cx="79236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2276280"/>
            <a:ext cx="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635280" y="2708280"/>
            <a:ext cx="792360" cy="5047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3141720"/>
            <a:ext cx="792360" cy="2160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35280" y="2565360"/>
            <a:ext cx="792360" cy="2160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916360" y="1628640"/>
            <a:ext cx="1368360" cy="360360"/>
          </a:xfrm>
          <a:custGeom>
            <a:avLst/>
            <a:gdLst>
              <a:gd name="textAreaLeft" fmla="*/ 239400 w 1368360"/>
              <a:gd name="textAreaRight" fmla="*/ 992160 w 136836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cc0000"/>
              </a:gs>
              <a:gs pos="50000">
                <a:srgbClr val="ff5050"/>
              </a:gs>
              <a:gs pos="100000">
                <a:srgbClr val="cc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35280" y="2708280"/>
            <a:ext cx="792360" cy="504720"/>
          </a:xfrm>
          <a:prstGeom prst="rect">
            <a:avLst/>
          </a:prstGeom>
          <a:gradFill rotWithShape="0">
            <a:gsLst>
              <a:gs pos="0">
                <a:srgbClr val="ff8f8f"/>
              </a:gs>
              <a:gs pos="50000">
                <a:srgbClr val="ffe4c9"/>
              </a:gs>
              <a:gs pos="100000">
                <a:srgbClr val="ff8f8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35280" y="3141720"/>
            <a:ext cx="792360" cy="216000"/>
          </a:xfrm>
          <a:prstGeom prst="ellipse">
            <a:avLst/>
          </a:prstGeom>
          <a:gradFill rotWithShape="0">
            <a:gsLst>
              <a:gs pos="0">
                <a:srgbClr val="ff8f8f"/>
              </a:gs>
              <a:gs pos="50000">
                <a:srgbClr val="ffe4c9"/>
              </a:gs>
              <a:gs pos="100000">
                <a:srgbClr val="ff8f8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2565360"/>
            <a:ext cx="792360" cy="216000"/>
          </a:xfrm>
          <a:prstGeom prst="ellipse">
            <a:avLst/>
          </a:prstGeom>
          <a:gradFill rotWithShape="0">
            <a:gsLst>
              <a:gs pos="0">
                <a:srgbClr val="ff5050"/>
              </a:gs>
              <a:gs pos="50000">
                <a:srgbClr val="ffcc99"/>
              </a:gs>
              <a:gs pos="100000">
                <a:srgbClr val="ff505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35280" y="2565360"/>
            <a:ext cx="792360" cy="216000"/>
          </a:xfrm>
          <a:prstGeom prst="ellipse">
            <a:avLst/>
          </a:prstGeom>
          <a:gradFill rotWithShape="0">
            <a:gsLst>
              <a:gs pos="0">
                <a:srgbClr val="ff8f8f"/>
              </a:gs>
              <a:gs pos="50000">
                <a:srgbClr val="ffe4c9"/>
              </a:gs>
              <a:gs pos="100000">
                <a:srgbClr val="ff8f8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64000" y="5373720"/>
            <a:ext cx="0" cy="122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64000" y="659772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56360" y="537372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64000" y="537372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516720" y="6021360"/>
            <a:ext cx="1079640" cy="503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bbe0e3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10800000">
            <a:off x="6516360" y="5589360"/>
            <a:ext cx="1079640" cy="431640"/>
          </a:xfrm>
          <a:custGeom>
            <a:avLst/>
            <a:gdLst>
              <a:gd name="textAreaLeft" fmla="*/ 237240 w 1079640"/>
              <a:gd name="textAreaRight" fmla="*/ 842400 w 1079640"/>
              <a:gd name="textAreaTop" fmla="*/ 94680 h 431640"/>
              <a:gd name="textAreaBottom" fmla="*/ 33696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50000">
                <a:srgbClr val="bbe0e3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588000" y="4797360"/>
            <a:ext cx="935280" cy="9352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564000" y="5877000"/>
            <a:ext cx="2592360" cy="72072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50000">
                <a:srgbClr val="ccffff"/>
              </a:gs>
              <a:gs pos="100000">
                <a:srgbClr val="66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7957200">
            <a:off x="4606920" y="5264640"/>
            <a:ext cx="2016360" cy="3603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54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940360" y="3573360"/>
            <a:ext cx="1511280" cy="136692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788000" y="6165720"/>
            <a:ext cx="21564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88000" y="6237360"/>
            <a:ext cx="21564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59280" y="623736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43280" y="623736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788000" y="6165720"/>
            <a:ext cx="21564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2601600">
            <a:off x="4716360" y="6165360"/>
            <a:ext cx="43200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2623800">
            <a:off x="5119200" y="5315040"/>
            <a:ext cx="309600" cy="9968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66ffff"/>
              </a:gs>
              <a:gs pos="100000">
                <a:srgbClr val="ccffff"/>
              </a:gs>
            </a:gsLst>
            <a:lin ang="10878000"/>
          </a:gradFill>
          <a:ln w="936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76040" y="1563840"/>
            <a:ext cx="456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Растворение краски в в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0920" y="4797360"/>
            <a:ext cx="36003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Расширение воздух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при нагрева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и сжат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при охлажд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0 L 0.00781 0.43673 E">
                                      <p:cBhvr>
                                        <p:cTn id="158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125 0.02429 C -0.03959 -0.00763 -0.04792 -0.03956 -0.05122 -0.05251 E">
                                      <p:cBhvr>
                                        <p:cTn id="258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40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64 0.01388 C -0.01598 -0.01804 -0.02431 -0.04997 -0.02761 -0.06292 E">
                                      <p:cBhvr>
                                        <p:cTn id="268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6000"/>
                            </p:stCondLst>
                            <p:childTnLst>
                              <p:par>
                                <p:cTn id="2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108 0.01388 C -0.03941 -0.01804 -0.04774 -0.04997 -0.05104 -0.06292 E">
                                      <p:cBhvr>
                                        <p:cTn id="277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000"/>
                            </p:stCondLst>
                            <p:childTnLst>
                              <p:par>
                                <p:cTn id="2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2.82905E-006 C -0.00834 -0.03193 -0.01667 -0.06385 -0.01997 -0.0768 E">
                                      <p:cBhvr>
                                        <p:cTn id="286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1041 C -0.01702 -0.02013 -0.03021 -0.05066 -0.03542 -0.06292 E">
                                      <p:cBhvr>
                                        <p:cTn id="295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Comic Sans MS"/>
              </a:rPr>
              <a:t>Опыты показывают что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2491920"/>
            <a:ext cx="8229600" cy="24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cc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Молекулы разделены промежутк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cc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Размеры молекул очень ма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0"/>
                            </p:stCondLst>
                            <p:childTnLst>
                              <p:par>
                                <p:cTn id="3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9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6000"/>
                            </p:stCondLst>
                            <p:childTnLst>
                              <p:par>
                                <p:cTn id="3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9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Comic Sans MS"/>
              </a:rPr>
              <a:t>Размеры молекул и атомов очень ма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500720" y="3173400"/>
            <a:ext cx="4464000" cy="34574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79280" y="1341360"/>
            <a:ext cx="468000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5T15:51:32Z</dcterms:created>
  <dc:creator>Климовы</dc:creator>
  <dc:description/>
  <dc:language>en-US</dc:language>
  <cp:lastModifiedBy>Мама</cp:lastModifiedBy>
  <dcterms:modified xsi:type="dcterms:W3CDTF">2013-01-23T09:55:27Z</dcterms:modified>
  <cp:revision>15</cp:revision>
  <dc:subject/>
  <dc:title>Строение вещества</dc:title>
</cp:coreProperties>
</file>