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35F-6F2A-451B-A278-D3F77F66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0F0-3DE5-4FAA-8431-1A34BEA8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22C-E2DF-4A2D-970D-9E02C6C6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41A-D088-49FA-B55C-5FE5C3C2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918-681E-4A81-81E7-F316E086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0D7-FA01-4D56-8338-4F60A056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65A-22E1-4A6F-8E3A-5E6153E0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739-02DF-43BB-BECF-0DFB77DF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BF9-F27F-43FD-9F6C-00792307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DF0-EF60-41EF-8450-71957086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9BF-9944-4222-A4C7-6AAB00AB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205-7817-4A15-B418-475D275B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8950-0414-48F6-B58E-FDEFFE019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-fizika-narod.ru/7_class/7_stroenie/p1.jpg" TargetMode="External"/><Relationship Id="rId2" Type="http://schemas.openxmlformats.org/officeDocument/2006/relationships/hyperlink" Target="http://class-fizika-narod.ru/7_class/7_stroenie/p4.jpg" TargetMode="External"/><Relationship Id="rId3" Type="http://schemas.openxmlformats.org/officeDocument/2006/relationships/hyperlink" Target="http://class-fizika-narod.ru/7_class/7_stroenie/p2.jpg" TargetMode="External"/><Relationship Id="rId4" Type="http://schemas.openxmlformats.org/officeDocument/2006/relationships/hyperlink" Target="http://class-fizika-narod.ru/7_class/7_stroenie/p3.jpg" TargetMode="External"/><Relationship Id="rId5" Type="http://schemas.openxmlformats.org/officeDocument/2006/relationships/hyperlink" Target="http://persona.rin.ru/images/31492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38680"/>
            <a:ext cx="3166920" cy="30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125360"/>
            <a:ext cx="820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троение вещест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805200" y="4594320"/>
            <a:ext cx="53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Климова Ларис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учитель</a:t>
            </a:r>
            <a:r>
              <a:rPr b="1" i="1" lang="ru-RU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МОУ Аладьи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1672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вс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ие факты подтверждают молекулярное строени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молеку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овы размеры атомов и молекул? Можно ли их увидеть в обычный микроск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каких атомов состоит молекула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Одинаковы ли молекулы льда, воды и её пара? Почему? А молекулы воды и спи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Как, зная молекулярное строение вещества, можно объяснить изменение размеров тел при нагревании и охла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8, ответить на вопросы, изготовить из пластилина две молекулы вод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№44, 48,50, 52(письменно в тетрад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Ссылки на изоб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5960" y="31417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-fizika-narod.ru/7_class/7_stroenie/p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5960" y="544500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ass-fizika-narod.ru/7_class/7_stroenie/p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4680" y="386064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lass-fizika-narod.ru/7_class/7_stroenie/p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4680" y="472428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lass-fizika-narod.ru/7_class/7_stroenie/p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5240" y="2349360"/>
            <a:ext cx="53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ersona.rin.ru/images/3149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Узнать из чего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Выяснить каковы размеры частиц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Познакомиться с опытными доказательствами строения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Можно ли яблоко делить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испаряетс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при длительной работе стачиваются лезвия ножа или п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краска растворяе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5805360"/>
            <a:ext cx="42084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48096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420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Сплошные тела или состоят из отдельных частиц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7656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501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7120" y="5594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Д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-370г.г.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086920"/>
            <a:ext cx="403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се тела состоят из бесчисленного количества сверхмалых, невидимых глазу, неделимых части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44640"/>
            <a:ext cx="4464000" cy="4175280"/>
          </a:xfrm>
          <a:prstGeom prst="wedgeRoundRectCallout">
            <a:avLst>
              <a:gd name="adj1" fmla="val -78236"/>
              <a:gd name="adj2" fmla="val 13537"/>
              <a:gd name="adj3" fmla="val 16667"/>
            </a:avLst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3290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Молек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57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68580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льчай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ица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19969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маленькая м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284640"/>
            <a:ext cx="29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Ат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458964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 -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еделимый</a:t>
            </a:r>
            <a:r>
              <a:rPr b="0" i="1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21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ост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5280" y="1557720"/>
            <a:ext cx="8305920" cy="4171680"/>
            <a:chOff x="395280" y="1557720"/>
            <a:chExt cx="8305920" cy="4171680"/>
          </a:xfrm>
        </p:grpSpPr>
        <p:cxnSp>
          <p:nvCxnSpPr>
            <p:cNvPr id="66" name="_s17437"/>
            <p:cNvCxnSpPr/>
            <p:nvPr/>
          </p:nvCxnSpPr>
          <p:spPr>
            <a:xfrm flipV="1" rot="16200000">
              <a:off x="3507840" y="2931480"/>
              <a:ext cx="50760" cy="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7426"/>
            <p:cNvCxnSpPr/>
            <p:nvPr/>
          </p:nvCxnSpPr>
          <p:spPr>
            <a:xfrm rot="5400000">
              <a:off x="5914800" y="3003840"/>
              <a:ext cx="56520" cy="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7420"/>
            <p:cNvCxnSpPr/>
            <p:nvPr/>
          </p:nvCxnSpPr>
          <p:spPr>
            <a:xfrm flipV="1">
              <a:off x="2809080" y="3217680"/>
              <a:ext cx="74520" cy="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7416"/>
            <p:cNvSpPr/>
            <p:nvPr/>
          </p:nvSpPr>
          <p:spPr>
            <a:xfrm>
              <a:off x="395280" y="1557720"/>
              <a:ext cx="8305920" cy="675360"/>
            </a:xfrm>
            <a:prstGeom prst="roundRect">
              <a:avLst>
                <a:gd name="adj" fmla="val 1950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Вещ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7"/>
            <p:cNvSpPr/>
            <p:nvPr/>
          </p:nvSpPr>
          <p:spPr>
            <a:xfrm>
              <a:off x="1188720" y="2706840"/>
              <a:ext cx="6851160" cy="738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Молеку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25"/>
            <p:cNvSpPr/>
            <p:nvPr/>
          </p:nvSpPr>
          <p:spPr>
            <a:xfrm>
              <a:off x="1834560" y="3862080"/>
              <a:ext cx="543096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Ато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36"/>
            <p:cNvSpPr/>
            <p:nvPr/>
          </p:nvSpPr>
          <p:spPr>
            <a:xfrm>
              <a:off x="2375640" y="5004000"/>
              <a:ext cx="448920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Элементарные част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08360" y="83664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98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00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20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42900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95008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век        Доказа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637000"/>
            <a:ext cx="79200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Опытные обоснования молекулярного строения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349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547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205000"/>
            <a:ext cx="792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56536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4172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732800">
            <a:off x="945000" y="-267120"/>
            <a:ext cx="222120" cy="312840"/>
          </a:xfrm>
          <a:prstGeom prst="wedgeEllipseCallout">
            <a:avLst>
              <a:gd name="adj1" fmla="val -84541"/>
              <a:gd name="adj2" fmla="val 7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08280"/>
            <a:ext cx="792000" cy="576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56536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59280" y="234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505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53737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37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537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6021360"/>
            <a:ext cx="107964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516360" y="5589360"/>
            <a:ext cx="1079640" cy="43164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4000" y="5877000"/>
            <a:ext cx="2592360" cy="72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957200">
            <a:off x="4606920" y="5264640"/>
            <a:ext cx="201636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5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573360"/>
            <a:ext cx="1511280" cy="1366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623736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601600">
            <a:off x="4716360" y="6165360"/>
            <a:ext cx="43200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623800">
            <a:off x="5119200" y="5315040"/>
            <a:ext cx="309600" cy="996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ffff"/>
              </a:gs>
              <a:gs pos="100000">
                <a:srgbClr val="ccffff"/>
              </a:gs>
            </a:gsLst>
            <a:lin ang="10878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6040" y="156384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творение краски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797360"/>
            <a:ext cx="36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 сжа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охла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00781 0.43673 E">
                                      <p:cBhvr>
                                        <p:cTn id="15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0.02429 C -0.03959 -0.00763 -0.04792 -0.03956 -0.05122 -0.05251 E">
                                      <p:cBhvr>
                                        <p:cTn id="2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388 C -0.01598 -0.01804 -0.02431 -0.04997 -0.02761 -0.06292 E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0.01388 C -0.03941 -0.01804 -0.04774 -0.04997 -0.05104 -0.06292 E">
                                      <p:cBhvr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2905E-006 C -0.00834 -0.03193 -0.01667 -0.06385 -0.01997 -0.0768 E">
                                      <p:cBhvr>
                                        <p:cTn id="28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41 C -0.01702 -0.02013 -0.03021 -0.05066 -0.03542 -0.06292 E">
                                      <p:cBhvr>
                                        <p:cTn id="2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Опыты показывают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 разделены промеж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еры молекул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Размеры молекул и атомов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173400"/>
            <a:ext cx="44640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8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51:32Z</dcterms:created>
  <dc:creator>Климовы</dc:creator>
  <dc:description/>
  <dc:language>en-US</dc:language>
  <cp:lastModifiedBy>Мама</cp:lastModifiedBy>
  <dcterms:modified xsi:type="dcterms:W3CDTF">2013-01-23T09:55:27Z</dcterms:modified>
  <cp:revision>15</cp:revision>
  <dc:subject/>
  <dc:title>Строение вещества</dc:title>
</cp:coreProperties>
</file>