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7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79BF-6869-4B0B-966B-5ECD06314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366E-84CE-445B-ADFE-E751DAD9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F555-D7CC-4709-B9F3-1D8D7E188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D635-4D79-4AF5-888B-EA9076780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ECC9-0AB6-4DD4-8AD5-0E39F763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8AE8-C87C-4E97-982C-B68AC153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8BD2-F4EA-4CD9-99AF-CBEA0362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D43C-A3F0-4F21-93B6-C7EAF947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2BF1-BE62-474F-AC76-92902C87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AAA1-1E4E-4975-B107-3F97D98D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8E50-6040-4F4B-821F-69EEB3AD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E14A-6688-49D0-B94F-7C149069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9940-94F8-4416-B5B6-4C46D6BDC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lass-fizika-narod.ru/7_class/7_stroenie/p1.jpg" TargetMode="External"/><Relationship Id="rId2" Type="http://schemas.openxmlformats.org/officeDocument/2006/relationships/hyperlink" Target="http://class-fizika-narod.ru/7_class/7_stroenie/p4.jpg" TargetMode="External"/><Relationship Id="rId3" Type="http://schemas.openxmlformats.org/officeDocument/2006/relationships/hyperlink" Target="http://class-fizika-narod.ru/7_class/7_stroenie/p2.jpg" TargetMode="External"/><Relationship Id="rId4" Type="http://schemas.openxmlformats.org/officeDocument/2006/relationships/hyperlink" Target="http://class-fizika-narod.ru/7_class/7_stroenie/p3.jpg" TargetMode="External"/><Relationship Id="rId5" Type="http://schemas.openxmlformats.org/officeDocument/2006/relationships/hyperlink" Target="http://persona.rin.ru/images/31492.jpg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838680"/>
            <a:ext cx="3166920" cy="3019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Comic Sans MS"/>
              </a:rPr>
              <a:t>7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11280" y="1125360"/>
            <a:ext cx="82072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Строение вещества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3805200" y="4594320"/>
            <a:ext cx="5338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Comic Sans MS"/>
              </a:rPr>
              <a:t>Климова Ларис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Comic Sans MS"/>
              </a:rPr>
              <a:t>учитель</a:t>
            </a:r>
            <a:r>
              <a:rPr b="1" i="1" lang="ru-RU" sz="20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990099"/>
                </a:solidFill>
                <a:latin typeface="Comic Sans MS"/>
              </a:rPr>
              <a:t>физ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Comic Sans MS"/>
              </a:rPr>
              <a:t>МОУ Аладьинская СО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70400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316720" cy="584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Comic Sans MS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Comic Sans MS"/>
              </a:rPr>
              <a:t>Из чего состоят все вещ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Comic Sans MS"/>
              </a:rPr>
              <a:t>Какие факты подтверждают молекулярное строение вещ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Comic Sans MS"/>
              </a:rPr>
              <a:t>Из чего состоят молекул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Comic Sans MS"/>
              </a:rPr>
              <a:t>Каковы размеры атомов и молекул? Можно ли их увидеть в обычный микроскоп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Comic Sans MS"/>
              </a:rPr>
              <a:t>Из каких атомов состоит молекула во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Comic Sans MS"/>
              </a:rPr>
              <a:t>Одинаковы ли молекулы льда, воды и её пара? Почему? А молекулы воды и спир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Comic Sans MS"/>
              </a:rPr>
              <a:t>Как, зная молекулярное строение вещества, можно объяснить изменение размеров тел при нагревании и охлажд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9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9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9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9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9900"/>
                </a:solidFill>
                <a:uFillTx/>
                <a:latin typeface="Arial"/>
              </a:rPr>
              <a:t>Домашнее задание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§§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7,8, ответить на вопросы, изготовить из пластилина две молекулы воды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№44, 48,50, 52(письменно в тетрад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Comic Sans MS"/>
              </a:rPr>
              <a:t>Ссылки на изоб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5960" y="3141720"/>
            <a:ext cx="72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lass-fizika-narod.ru/7_class/7_stroenie/p1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5960" y="5445000"/>
            <a:ext cx="72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lass-fizika-narod.ru/7_class/7_stroenie/p4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04680" y="3860640"/>
            <a:ext cx="72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class-fizika-narod.ru/7_class/7_stroenie/p2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4680" y="4724280"/>
            <a:ext cx="72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class-fizika-narod.ru/7_class/7_stroenie/p3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95240" y="2349360"/>
            <a:ext cx="53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persona.rin.ru/images/31492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Узнать из чего состоят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Выяснить каковы размеры частиц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Познакомиться с опытными доказательствами строения 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Можно ли яблоко делить до бесконе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Почему испаряется 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Почему при длительной работе стачиваются лезвия ножа или пл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Почему краска растворяется в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08000" y="5805360"/>
            <a:ext cx="420840" cy="503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124000" y="4149720"/>
            <a:ext cx="420840" cy="504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300720" y="1844640"/>
            <a:ext cx="480960" cy="576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140360" y="836640"/>
            <a:ext cx="4204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3600" spc="-1" strike="noStrike">
                <a:solidFill>
                  <a:srgbClr val="009900"/>
                </a:solidFill>
                <a:latin typeface="Comic Sans MS"/>
              </a:rPr>
              <a:t>Сплошные тела или состоят из отдельных частиц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076560" cy="3527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4360" y="5013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Демокр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67120" y="559440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Др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ре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609300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0-370г.г.до н.э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27640" y="2086920"/>
            <a:ext cx="403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Все тела состоят из бесчисленного количества сверхмалых, невидимых глазу, неделимых частиц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1844640"/>
            <a:ext cx="4464000" cy="4175280"/>
          </a:xfrm>
          <a:prstGeom prst="wedgeRoundRectCallout">
            <a:avLst>
              <a:gd name="adj1" fmla="val -78236"/>
              <a:gd name="adj2" fmla="val 13537"/>
              <a:gd name="adj3" fmla="val 16667"/>
            </a:avLst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532908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0000"/>
                </a:solidFill>
                <a:uFillTx/>
                <a:latin typeface="Comic Sans MS"/>
              </a:rPr>
              <a:t>Молекул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475920"/>
            <a:ext cx="5761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685800"/>
            <a:ext cx="37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мельчайш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- частица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 ве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7480" y="19969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(Греч.</a:t>
            </a: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 -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маленькая мас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3284640"/>
            <a:ext cx="295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0000"/>
                </a:solidFill>
                <a:uFillTx/>
                <a:latin typeface="Comic Sans MS"/>
              </a:rPr>
              <a:t>Ато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72000" y="4589640"/>
            <a:ext cx="33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(Греч. -</a:t>
            </a: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неделимый</a:t>
            </a:r>
            <a:r>
              <a:rPr b="0" i="1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43280" y="321300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состав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- ча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молеку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50"/>
                            </p:stCondLst>
                            <p:childTnLst>
                              <p:par>
                                <p:cTn id="1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40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150"/>
                            </p:stCondLst>
                            <p:childTnLst>
                              <p:par>
                                <p:cTn id="1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95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395280" y="1557720"/>
            <a:ext cx="8305920" cy="4171680"/>
            <a:chOff x="395280" y="1557720"/>
            <a:chExt cx="8305920" cy="4171680"/>
          </a:xfrm>
        </p:grpSpPr>
        <p:cxnSp>
          <p:nvCxnSpPr>
            <p:cNvPr id="66" name="_s17437"/>
            <p:cNvCxnSpPr/>
            <p:nvPr/>
          </p:nvCxnSpPr>
          <p:spPr>
            <a:xfrm flipV="1" rot="16200000">
              <a:off x="3507840" y="2931480"/>
              <a:ext cx="50760" cy="3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7426"/>
            <p:cNvCxnSpPr/>
            <p:nvPr/>
          </p:nvCxnSpPr>
          <p:spPr>
            <a:xfrm rot="5400000">
              <a:off x="5914800" y="3003840"/>
              <a:ext cx="56520" cy="42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7420"/>
            <p:cNvCxnSpPr/>
            <p:nvPr/>
          </p:nvCxnSpPr>
          <p:spPr>
            <a:xfrm flipV="1">
              <a:off x="2809080" y="3217680"/>
              <a:ext cx="74520" cy="31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9" name="_s17416"/>
            <p:cNvSpPr/>
            <p:nvPr/>
          </p:nvSpPr>
          <p:spPr>
            <a:xfrm>
              <a:off x="395280" y="1557720"/>
              <a:ext cx="8305920" cy="675360"/>
            </a:xfrm>
            <a:prstGeom prst="roundRect">
              <a:avLst>
                <a:gd name="adj" fmla="val 1950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00"/>
                  </a:solidFill>
                  <a:latin typeface="Comic Sans MS"/>
                </a:rPr>
                <a:t>Веществ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7417"/>
            <p:cNvSpPr/>
            <p:nvPr/>
          </p:nvSpPr>
          <p:spPr>
            <a:xfrm>
              <a:off x="1188720" y="2706840"/>
              <a:ext cx="6851160" cy="7383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Comic Sans MS"/>
                </a:rPr>
                <a:t>Молекул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7425"/>
            <p:cNvSpPr/>
            <p:nvPr/>
          </p:nvSpPr>
          <p:spPr>
            <a:xfrm>
              <a:off x="1834560" y="3862080"/>
              <a:ext cx="5430960" cy="7254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Comic Sans MS"/>
                </a:rPr>
                <a:t>Атом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7436"/>
            <p:cNvSpPr/>
            <p:nvPr/>
          </p:nvSpPr>
          <p:spPr>
            <a:xfrm>
              <a:off x="2375640" y="5004000"/>
              <a:ext cx="4489200" cy="72540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Comic Sans MS"/>
                </a:rPr>
                <a:t>Элементарные частиц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3708360" y="836640"/>
            <a:ext cx="18716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24360" y="981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500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189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емокр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3280" y="220500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3280" y="342900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3280" y="45813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5950080"/>
            <a:ext cx="71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XX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век        Доказа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68360" y="2708280"/>
            <a:ext cx="790920" cy="504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2637000"/>
            <a:ext cx="792000" cy="647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00"/>
                </a:solidFill>
                <a:uFillTx/>
                <a:latin typeface="Comic Sans MS"/>
              </a:rPr>
              <a:t>Опытные обоснования молекулярного строения ве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234936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547640" y="2276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2205000"/>
            <a:ext cx="792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2565360"/>
            <a:ext cx="79200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3141720"/>
            <a:ext cx="79200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7732800">
            <a:off x="945000" y="-267120"/>
            <a:ext cx="222120" cy="312840"/>
          </a:xfrm>
          <a:prstGeom prst="wedgeEllipseCallout">
            <a:avLst>
              <a:gd name="adj1" fmla="val -84541"/>
              <a:gd name="adj2" fmla="val 71851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2708280"/>
            <a:ext cx="792000" cy="57636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2565360"/>
            <a:ext cx="792000" cy="217440"/>
          </a:xfrm>
          <a:prstGeom prst="ellipse">
            <a:avLst/>
          </a:pr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3141720"/>
            <a:ext cx="792000" cy="217440"/>
          </a:xfrm>
          <a:prstGeom prst="ellipse">
            <a:avLst/>
          </a:pr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628640"/>
            <a:ext cx="1368360" cy="36036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2349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68360" y="2205000"/>
            <a:ext cx="79236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68360" y="3141720"/>
            <a:ext cx="79236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059280" y="2349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68360" y="2565360"/>
            <a:ext cx="79236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68360" y="2708280"/>
            <a:ext cx="790920" cy="504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50000">
                <a:srgbClr val="ffcc99"/>
              </a:gs>
              <a:gs pos="100000">
                <a:srgbClr val="ff505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3141720"/>
            <a:ext cx="792360" cy="21600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50000">
                <a:srgbClr val="ffcc99"/>
              </a:gs>
              <a:gs pos="100000">
                <a:srgbClr val="ff505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635280" y="2276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5280" y="2205000"/>
            <a:ext cx="79236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227628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35280" y="2708280"/>
            <a:ext cx="792360" cy="504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3141720"/>
            <a:ext cx="79236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35280" y="2565360"/>
            <a:ext cx="79236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16360" y="1628640"/>
            <a:ext cx="1368360" cy="36036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cc0000"/>
              </a:gs>
              <a:gs pos="50000">
                <a:srgbClr val="ff5050"/>
              </a:gs>
              <a:gs pos="100000">
                <a:srgbClr val="cc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35280" y="2708280"/>
            <a:ext cx="792360" cy="504720"/>
          </a:xfrm>
          <a:prstGeom prst="rect">
            <a:avLst/>
          </a:prstGeom>
          <a:gradFill rotWithShape="0">
            <a:gsLst>
              <a:gs pos="0">
                <a:srgbClr val="ff8f8f"/>
              </a:gs>
              <a:gs pos="50000">
                <a:srgbClr val="ffe4c9"/>
              </a:gs>
              <a:gs pos="100000">
                <a:srgbClr val="ff8f8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35280" y="3141720"/>
            <a:ext cx="792360" cy="216000"/>
          </a:xfrm>
          <a:prstGeom prst="ellipse">
            <a:avLst/>
          </a:prstGeom>
          <a:gradFill rotWithShape="0">
            <a:gsLst>
              <a:gs pos="0">
                <a:srgbClr val="ff8f8f"/>
              </a:gs>
              <a:gs pos="50000">
                <a:srgbClr val="ffe4c9"/>
              </a:gs>
              <a:gs pos="100000">
                <a:srgbClr val="ff8f8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2565360"/>
            <a:ext cx="792360" cy="21600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50000">
                <a:srgbClr val="ffcc99"/>
              </a:gs>
              <a:gs pos="100000">
                <a:srgbClr val="ff505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5280" y="2565360"/>
            <a:ext cx="792360" cy="216000"/>
          </a:xfrm>
          <a:prstGeom prst="ellipse">
            <a:avLst/>
          </a:prstGeom>
          <a:gradFill rotWithShape="0">
            <a:gsLst>
              <a:gs pos="0">
                <a:srgbClr val="ff8f8f"/>
              </a:gs>
              <a:gs pos="50000">
                <a:srgbClr val="ffe4c9"/>
              </a:gs>
              <a:gs pos="100000">
                <a:srgbClr val="ff8f8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5373720"/>
            <a:ext cx="0" cy="122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4000" y="65977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5373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4000" y="53737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16720" y="6021360"/>
            <a:ext cx="1079640" cy="503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bbe0e3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516360" y="5589360"/>
            <a:ext cx="1079640" cy="431640"/>
          </a:xfrm>
          <a:custGeom>
            <a:avLst/>
            <a:gdLst>
              <a:gd name="textAreaLeft" fmla="*/ 237240 w 1079640"/>
              <a:gd name="textAreaRight" fmla="*/ 842400 w 1079640"/>
              <a:gd name="textAreaTop" fmla="*/ 94680 h 431640"/>
              <a:gd name="textAreaBottom" fmla="*/ 33696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50000">
                <a:srgbClr val="bbe0e3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588000" y="4797360"/>
            <a:ext cx="935280" cy="935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564000" y="5877000"/>
            <a:ext cx="2592360" cy="7207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ccffff"/>
              </a:gs>
              <a:gs pos="100000">
                <a:srgbClr val="66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7957200">
            <a:off x="4606920" y="5264640"/>
            <a:ext cx="2016360" cy="3603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5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3573360"/>
            <a:ext cx="1511280" cy="13669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88000" y="616572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623736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623736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3280" y="623736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616572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601600">
            <a:off x="4716360" y="6165360"/>
            <a:ext cx="43200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2623800">
            <a:off x="5119200" y="5315040"/>
            <a:ext cx="309600" cy="996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66ffff"/>
              </a:gs>
              <a:gs pos="100000">
                <a:srgbClr val="ccffff"/>
              </a:gs>
            </a:gsLst>
            <a:lin ang="10878000"/>
          </a:gra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76040" y="1563840"/>
            <a:ext cx="45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Растворение краски в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4797360"/>
            <a:ext cx="36003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Расширение воздух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при нагрев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и сжат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при охлажд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0 L 0.00781 0.43673 E">
                                      <p:cBhvr>
                                        <p:cTn id="158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25 0.02429 C -0.03959 -0.00763 -0.04792 -0.03956 -0.05122 -0.05251 E">
                                      <p:cBhvr>
                                        <p:cTn id="258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64 0.01388 C -0.01598 -0.01804 -0.02431 -0.04997 -0.02761 -0.06292 E">
                                      <p:cBhvr>
                                        <p:cTn id="268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0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08 0.01388 C -0.03941 -0.01804 -0.04774 -0.04997 -0.05104 -0.06292 E">
                                      <p:cBhvr>
                                        <p:cTn id="277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0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82905E-006 C -0.00834 -0.03193 -0.01667 -0.06385 -0.01997 -0.0768 E">
                                      <p:cBhvr>
                                        <p:cTn id="286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1041 C -0.01702 -0.02013 -0.03021 -0.05066 -0.03542 -0.06292 E">
                                      <p:cBhvr>
                                        <p:cTn id="295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omic Sans MS"/>
              </a:rPr>
              <a:t>Опыты показывают чт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24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cc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Молекулы разделены промежут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cc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Размеры молекул очень ма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9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Размеры молекул и атомов очень ма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00720" y="3173400"/>
            <a:ext cx="4464000" cy="3457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46800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15:51:32Z</dcterms:created>
  <dc:creator>Климовы</dc:creator>
  <dc:description/>
  <dc:language>en-US</dc:language>
  <cp:lastModifiedBy>Мама</cp:lastModifiedBy>
  <dcterms:modified xsi:type="dcterms:W3CDTF">2013-01-23T09:55:27Z</dcterms:modified>
  <cp:revision>15</cp:revision>
  <dc:subject/>
  <dc:title>Строение вещества</dc:title>
</cp:coreProperties>
</file>