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F78-A6B0-40DC-B6BA-569B2F83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674-4537-4E5E-AD27-7D4CFC02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5B48-58FA-4ED3-BB83-C6A9A629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FE7B-5C77-4866-9306-CB62A7A6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1F5-DC99-42BA-BDD5-C9C6AE22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4C8D-86CB-41AF-8396-4B789B8B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25F-43D0-4705-BADB-9D8D524C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68A-5186-4B9F-A2FC-047B6820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BB9A-D9F7-494F-8D5F-4F938104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16AA-4FF3-4C64-9686-C8F3388B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860-A438-44EF-AB75-C90B3E5C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E74-35A9-46FB-A630-080B304B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800F-E971-4A9B-A7FF-44D2EE8CF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ass-fizika-narod.ru/7_class/7_stroenie/p1.jpg" TargetMode="External"/><Relationship Id="rId2" Type="http://schemas.openxmlformats.org/officeDocument/2006/relationships/hyperlink" Target="http://class-fizika-narod.ru/7_class/7_stroenie/p4.jpg" TargetMode="External"/><Relationship Id="rId3" Type="http://schemas.openxmlformats.org/officeDocument/2006/relationships/hyperlink" Target="http://class-fizika-narod.ru/7_class/7_stroenie/p2.jpg" TargetMode="External"/><Relationship Id="rId4" Type="http://schemas.openxmlformats.org/officeDocument/2006/relationships/hyperlink" Target="http://class-fizika-narod.ru/7_class/7_stroenie/p3.jpg" TargetMode="External"/><Relationship Id="rId5" Type="http://schemas.openxmlformats.org/officeDocument/2006/relationships/hyperlink" Target="http://persona.rin.ru/images/31492.jpg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838680"/>
            <a:ext cx="3166920" cy="3019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Comic Sans MS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1125360"/>
            <a:ext cx="82072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Строение веществ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3805200" y="4594320"/>
            <a:ext cx="533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Климова Ларис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учитель</a:t>
            </a:r>
            <a:r>
              <a:rPr b="1" i="1" lang="ru-RU" sz="20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физ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МОУ Аладьинская С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16720" cy="58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вс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ие факты подтверждают молекулярное строени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молеку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овы размеры атомов и молекул? Можно ли их увидеть в обычный микроско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каких атомов состоит молекула во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Одинаковы ли молекулы льда, воды и её пара? Почему? А молекулы воды и спи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Как, зная молекулярное строение вещества, можно объяснить изменение размеров тел при нагревании и охлажд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9900"/>
                </a:solidFill>
                <a:uFillTx/>
                <a:latin typeface="Arial"/>
              </a:rPr>
              <a:t>Домашнее задание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§§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,8, ответить на вопросы, изготовить из пластилина две молекулы воды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№44, 48,50, 52(письменно в тетрад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Comic Sans MS"/>
              </a:rPr>
              <a:t>Ссылки на изоб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5960" y="314172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lass-fizika-narod.ru/7_class/7_stroenie/p1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5960" y="544500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lass-fizika-narod.ru/7_class/7_stroenie/p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4680" y="386064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lass-fizika-narod.ru/7_class/7_stroenie/p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4680" y="472428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lass-fizika-narod.ru/7_class/7_stroenie/p3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5240" y="2349360"/>
            <a:ext cx="53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persona.rin.ru/images/3149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Узнать из чего состоят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Выяснить каковы размеры частиц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Познакомиться с опытными доказательствами строения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Можно ли яблоко делить до бес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испаряетс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при длительной работе стачиваются лезвия ножа или пл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краска растворяется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5805360"/>
            <a:ext cx="420840" cy="50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420840" cy="50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00720" y="1844640"/>
            <a:ext cx="480960" cy="5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140360" y="836640"/>
            <a:ext cx="4204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3600" spc="-1" strike="noStrike">
                <a:solidFill>
                  <a:srgbClr val="009900"/>
                </a:solidFill>
                <a:latin typeface="Comic Sans MS"/>
              </a:rPr>
              <a:t>Сплошные тела или состоят из отдельных частиц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76560" cy="352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5013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7120" y="55944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Др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ре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093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0-370г.г.до н.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2086920"/>
            <a:ext cx="403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Все тела состоят из бесчисленного количества сверхмалых, невидимых глазу, неделимых частиц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1844640"/>
            <a:ext cx="4464000" cy="4175280"/>
          </a:xfrm>
          <a:prstGeom prst="wedgeRoundRectCallout">
            <a:avLst>
              <a:gd name="adj1" fmla="val -78236"/>
              <a:gd name="adj2" fmla="val 13537"/>
              <a:gd name="adj3" fmla="val 16667"/>
            </a:avLst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3290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Молеку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576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68580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ельчай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ица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7480" y="19969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-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маленькая мас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284640"/>
            <a:ext cx="295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Ато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2000" y="458964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 -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еделимый</a:t>
            </a:r>
            <a:r>
              <a:rPr b="0" i="1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321300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соста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5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4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95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95280" y="1557720"/>
            <a:ext cx="8305920" cy="4171680"/>
            <a:chOff x="395280" y="1557720"/>
            <a:chExt cx="8305920" cy="4171680"/>
          </a:xfrm>
        </p:grpSpPr>
        <p:cxnSp>
          <p:nvCxnSpPr>
            <p:cNvPr id="66" name="_s17437"/>
            <p:cNvCxnSpPr/>
            <p:nvPr/>
          </p:nvCxnSpPr>
          <p:spPr>
            <a:xfrm flipV="1" rot="16200000">
              <a:off x="3507840" y="2931480"/>
              <a:ext cx="50760" cy="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7426"/>
            <p:cNvCxnSpPr/>
            <p:nvPr/>
          </p:nvCxnSpPr>
          <p:spPr>
            <a:xfrm rot="5400000">
              <a:off x="5914800" y="3003840"/>
              <a:ext cx="56520" cy="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7420"/>
            <p:cNvCxnSpPr/>
            <p:nvPr/>
          </p:nvCxnSpPr>
          <p:spPr>
            <a:xfrm flipV="1">
              <a:off x="2809080" y="3217680"/>
              <a:ext cx="74520" cy="31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7416"/>
            <p:cNvSpPr/>
            <p:nvPr/>
          </p:nvSpPr>
          <p:spPr>
            <a:xfrm>
              <a:off x="395280" y="1557720"/>
              <a:ext cx="8305920" cy="675360"/>
            </a:xfrm>
            <a:prstGeom prst="roundRect">
              <a:avLst>
                <a:gd name="adj" fmla="val 1950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Comic Sans MS"/>
                </a:rPr>
                <a:t>Веще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7417"/>
            <p:cNvSpPr/>
            <p:nvPr/>
          </p:nvSpPr>
          <p:spPr>
            <a:xfrm>
              <a:off x="1188720" y="2706840"/>
              <a:ext cx="6851160" cy="7383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Молекул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7425"/>
            <p:cNvSpPr/>
            <p:nvPr/>
          </p:nvSpPr>
          <p:spPr>
            <a:xfrm>
              <a:off x="1834560" y="3862080"/>
              <a:ext cx="543096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Ато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7436"/>
            <p:cNvSpPr/>
            <p:nvPr/>
          </p:nvSpPr>
          <p:spPr>
            <a:xfrm>
              <a:off x="2375640" y="5004000"/>
              <a:ext cx="448920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Comic Sans MS"/>
                </a:rPr>
                <a:t>Элементарные части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708360" y="83664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24360" y="981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500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189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2205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342900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458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5950080"/>
            <a:ext cx="71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X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век        Доказа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2637000"/>
            <a:ext cx="792000" cy="647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00"/>
                </a:solidFill>
                <a:uFillTx/>
                <a:latin typeface="Comic Sans MS"/>
              </a:rPr>
              <a:t>Опытные обоснования молекулярного строения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234936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54764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205000"/>
            <a:ext cx="792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56536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314172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7732800">
            <a:off x="945000" y="-267120"/>
            <a:ext cx="222120" cy="312840"/>
          </a:xfrm>
          <a:prstGeom prst="wedgeEllipseCallout">
            <a:avLst>
              <a:gd name="adj1" fmla="val -84541"/>
              <a:gd name="adj2" fmla="val 71851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708280"/>
            <a:ext cx="792000" cy="57636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56536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14172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234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059280" y="234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63528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227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ff5050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537372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659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37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5373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6021360"/>
            <a:ext cx="1079640" cy="503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516360" y="5589360"/>
            <a:ext cx="1079640" cy="431640"/>
          </a:xfrm>
          <a:custGeom>
            <a:avLst/>
            <a:gdLst>
              <a:gd name="textAreaLeft" fmla="*/ 237240 w 1079640"/>
              <a:gd name="textAreaRight" fmla="*/ 842400 w 107964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88000" y="4797360"/>
            <a:ext cx="935280" cy="935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64000" y="5877000"/>
            <a:ext cx="2592360" cy="720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ccffff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957200">
            <a:off x="4606920" y="5264640"/>
            <a:ext cx="2016360" cy="360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5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3573360"/>
            <a:ext cx="1511280" cy="13669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623736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601600">
            <a:off x="4716360" y="6165360"/>
            <a:ext cx="43200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623800">
            <a:off x="5119200" y="5315040"/>
            <a:ext cx="309600" cy="996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66ffff"/>
              </a:gs>
              <a:gs pos="100000">
                <a:srgbClr val="ccffff"/>
              </a:gs>
            </a:gsLst>
            <a:lin ang="10878000"/>
          </a:gra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76040" y="1563840"/>
            <a:ext cx="45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творение краски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4797360"/>
            <a:ext cx="3600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ширение возду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нагре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и сжа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охлаж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L 0.00781 0.43673 E">
                                      <p:cBhvr>
                                        <p:cTn id="15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25 0.02429 C -0.03959 -0.00763 -0.04792 -0.03956 -0.05122 -0.05251 E">
                                      <p:cBhvr>
                                        <p:cTn id="25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0.01388 C -0.01598 -0.01804 -0.02431 -0.04997 -0.02761 -0.06292 E">
                                      <p:cBhvr>
                                        <p:cTn id="26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08 0.01388 C -0.03941 -0.01804 -0.04774 -0.04997 -0.05104 -0.06292 E">
                                      <p:cBhvr>
                                        <p:cTn id="27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82905E-006 C -0.00834 -0.03193 -0.01667 -0.06385 -0.01997 -0.0768 E">
                                      <p:cBhvr>
                                        <p:cTn id="28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1041 C -0.01702 -0.02013 -0.03021 -0.05066 -0.03542 -0.06292 E">
                                      <p:cBhvr>
                                        <p:cTn id="29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Опыты показывают ч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 разделены промежут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Размеры молекул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Размеры молекул и атомов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00720" y="3173400"/>
            <a:ext cx="4464000" cy="34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680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5:51:32Z</dcterms:created>
  <dc:creator>Климовы</dc:creator>
  <dc:description/>
  <dc:language>en-US</dc:language>
  <cp:lastModifiedBy>Мама</cp:lastModifiedBy>
  <dcterms:modified xsi:type="dcterms:W3CDTF">2013-01-23T09:55:27Z</dcterms:modified>
  <cp:revision>15</cp:revision>
  <dc:subject/>
  <dc:title>Строение вещества</dc:title>
</cp:coreProperties>
</file>