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gif" ContentType="image/gif"/>
  <Override PartName="/ppt/media/image7.jpeg" ContentType="image/jpeg"/>
  <Override PartName="/ppt/media/image4.jpeg" ContentType="image/jpeg"/>
  <Override PartName="/ppt/media/image5.gif" ContentType="image/gif"/>
  <Override PartName="/ppt/media/image6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C3A1-1314-45CB-B883-5D3139167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52F5-E60D-4833-8086-303F6184E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8DFB-CDBA-4DEA-B4B9-82B126459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6754-440B-49A3-A8BE-A0D327917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AED3-63FC-4A08-81A1-7CAC530E3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6C09-AA0B-48F8-908D-DB6FFB948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1F1C-5645-4660-B091-CA80C3DBA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8E91-AA33-477B-98F3-63B77E667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731F-0DB7-49BD-B2B3-EBEB8E38B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AA1D-B8EC-45AB-A438-D5588F9BB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554D-41EC-4089-81B2-F8750B1DD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8208-D71B-496F-8784-0096C84AE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1"/>
            </a:gs>
            <a:gs pos="100000">
              <a:srgbClr val="ceff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A1AAC-090E-4EF2-BF19-7543902B73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class-fizika-narod.ru/7_class/7_stroenie/p1.jpg" TargetMode="External"/><Relationship Id="rId2" Type="http://schemas.openxmlformats.org/officeDocument/2006/relationships/hyperlink" Target="http://class-fizika-narod.ru/7_class/7_stroenie/p4.jpg" TargetMode="External"/><Relationship Id="rId3" Type="http://schemas.openxmlformats.org/officeDocument/2006/relationships/hyperlink" Target="http://class-fizika-narod.ru/7_class/7_stroenie/p2.jpg" TargetMode="External"/><Relationship Id="rId4" Type="http://schemas.openxmlformats.org/officeDocument/2006/relationships/hyperlink" Target="http://class-fizika-narod.ru/7_class/7_stroenie/p3.jpg" TargetMode="External"/><Relationship Id="rId5" Type="http://schemas.openxmlformats.org/officeDocument/2006/relationships/hyperlink" Target="http://persona.rin.ru/images/31492.jpg" TargetMode="Externa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1"/>
            </a:gs>
            <a:gs pos="100000">
              <a:srgbClr val="ceff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3838680"/>
            <a:ext cx="3166920" cy="30193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99"/>
                </a:solidFill>
                <a:latin typeface="Comic Sans MS"/>
              </a:rPr>
              <a:t>7 клас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611280" y="1125360"/>
            <a:ext cx="820728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Строение вещества.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4" name=""/>
          <p:cNvSpPr/>
          <p:nvPr/>
        </p:nvSpPr>
        <p:spPr>
          <a:xfrm>
            <a:off x="3805200" y="4594320"/>
            <a:ext cx="5338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99"/>
                </a:solidFill>
                <a:latin typeface="Comic Sans MS"/>
              </a:rPr>
              <a:t>Климова Лариса Виктор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99"/>
                </a:solidFill>
                <a:latin typeface="Comic Sans MS"/>
              </a:rPr>
              <a:t>учитель</a:t>
            </a:r>
            <a:r>
              <a:rPr b="1" i="1" lang="ru-RU" sz="2000" spc="-1" strike="noStrike">
                <a:solidFill>
                  <a:srgbClr val="990099"/>
                </a:solidFill>
                <a:latin typeface="Comic Sans MS"/>
              </a:rPr>
              <a:t> </a:t>
            </a:r>
            <a:r>
              <a:rPr b="1" i="1" lang="ru-RU" sz="2400" spc="-1" strike="noStrike">
                <a:solidFill>
                  <a:srgbClr val="990099"/>
                </a:solidFill>
                <a:latin typeface="Comic Sans MS"/>
              </a:rPr>
              <a:t>физ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99"/>
                </a:solidFill>
                <a:latin typeface="Comic Sans MS"/>
              </a:rPr>
              <a:t>МОУ Аладьинская СОШ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1"/>
            </a:gs>
            <a:gs pos="100000">
              <a:srgbClr val="ceff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684360" y="620640"/>
            <a:ext cx="7704000" cy="56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1"/>
            </a:gs>
            <a:gs pos="100000">
              <a:srgbClr val="ceff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8316720" cy="584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1"/>
            </a:gs>
            <a:gs pos="100000">
              <a:srgbClr val="ceff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00"/>
                </a:solidFill>
                <a:latin typeface="Comic Sans MS"/>
              </a:rPr>
              <a:t>Проверь себя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99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99"/>
                </a:solidFill>
                <a:latin typeface="Comic Sans MS"/>
              </a:rPr>
              <a:t>Из чего состоят все веществ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6600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cc"/>
                </a:solidFill>
                <a:latin typeface="Comic Sans MS"/>
              </a:rPr>
              <a:t>Какие факты подтверждают молекулярное строение веществ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99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99"/>
                </a:solidFill>
                <a:latin typeface="Comic Sans MS"/>
              </a:rPr>
              <a:t>Из чего состоят молекул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6600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cc"/>
                </a:solidFill>
                <a:latin typeface="Comic Sans MS"/>
              </a:rPr>
              <a:t>Каковы размеры атомов и молекул? Можно ли их увидеть в обычный микроскоп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99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99"/>
                </a:solidFill>
                <a:latin typeface="Comic Sans MS"/>
              </a:rPr>
              <a:t>Из каких атомов состоит молекула вод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6600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cc"/>
                </a:solidFill>
                <a:latin typeface="Comic Sans MS"/>
              </a:rPr>
              <a:t>Одинаковы ли молекулы льда, воды и её пара? Почему? А молекулы воды и спирт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99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99"/>
                </a:solidFill>
                <a:latin typeface="Comic Sans MS"/>
              </a:rPr>
              <a:t>Как, зная молекулярное строение вещества, можно объяснить изменение размеров тел при нагревании и охлаждени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9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9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9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9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9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9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9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1"/>
            </a:gs>
            <a:gs pos="100000">
              <a:srgbClr val="ceff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9528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9900"/>
                </a:solidFill>
                <a:uFillTx/>
                <a:latin typeface="Arial"/>
              </a:rPr>
              <a:t>Домашнее задание: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§§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7,8, ответить на вопросы, изготовить из пластилина две молекулы воды,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Л№44, 48,50, 52(письменно в тетради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1"/>
            </a:gs>
            <a:gs pos="100000">
              <a:srgbClr val="ceff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68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cc"/>
                </a:solidFill>
                <a:latin typeface="Comic Sans MS"/>
              </a:rPr>
              <a:t>Ссылки на изображ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975960" y="3141720"/>
            <a:ext cx="721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class-fizika-narod.ru/7_class/7_stroenie/p1.j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975960" y="5445000"/>
            <a:ext cx="721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class-fizika-narod.ru/7_class/7_stroenie/p4.j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904680" y="3860640"/>
            <a:ext cx="721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class-fizika-narod.ru/7_class/7_stroenie/p2.j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904680" y="4724280"/>
            <a:ext cx="721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class-fizika-narod.ru/7_class/7_stroenie/p3.j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695240" y="2349360"/>
            <a:ext cx="531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persona.rin.ru/images/31492.j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1"/>
            </a:gs>
            <a:gs pos="100000">
              <a:srgbClr val="ceff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68000" y="162864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100000"/>
              </a:lnSpc>
              <a:spcBef>
                <a:spcPts val="799"/>
              </a:spcBef>
              <a:buClr>
                <a:srgbClr val="9900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Узнать из чего состоят веще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799"/>
              </a:spcBef>
              <a:buClr>
                <a:srgbClr val="9900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Выяснить каковы размеры частиц веще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799"/>
              </a:spcBef>
              <a:buClr>
                <a:srgbClr val="9900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Познакомиться с опытными доказательствами строения вещ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1"/>
            </a:gs>
            <a:gs pos="100000">
              <a:srgbClr val="ceff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9528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1" i="1" lang="en-US" sz="3200" spc="-1" strike="noStrike">
                <a:solidFill>
                  <a:srgbClr val="009900"/>
                </a:solidFill>
                <a:latin typeface="Comic Sans MS"/>
              </a:rPr>
              <a:t>Можно ли яблоко делить до бесконеч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1" i="1" lang="en-US" sz="3200" spc="-1" strike="noStrike">
                <a:solidFill>
                  <a:srgbClr val="009900"/>
                </a:solidFill>
                <a:latin typeface="Comic Sans MS"/>
              </a:rPr>
              <a:t>Почему испаряется в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1" i="1" lang="en-US" sz="3200" spc="-1" strike="noStrike">
                <a:solidFill>
                  <a:srgbClr val="009900"/>
                </a:solidFill>
                <a:latin typeface="Comic Sans MS"/>
              </a:rPr>
              <a:t>Почему при длительной работе стачиваются лезвия ножа или плу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1" i="1" lang="en-US" sz="3200" spc="-1" strike="noStrike">
                <a:solidFill>
                  <a:srgbClr val="009900"/>
                </a:solidFill>
                <a:latin typeface="Comic Sans MS"/>
              </a:rPr>
              <a:t>Почему краска растворяется в во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908000" y="5805360"/>
            <a:ext cx="420840" cy="5032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124000" y="4149720"/>
            <a:ext cx="420840" cy="5047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6300720" y="1844640"/>
            <a:ext cx="480960" cy="5763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4140360" y="836640"/>
            <a:ext cx="42048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5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3000"/>
                            </p:stCondLst>
                            <p:childTnLst>
                              <p:par>
                                <p:cTn id="41" nodeType="afterEffect" fill="hold" presetClass="entr" presetID="5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5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0"/>
                            </p:stCondLst>
                            <p:childTnLst>
                              <p:par>
                                <p:cTn id="52" nodeType="afterEffect" fill="hold" presetClass="entr" presetID="5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1"/>
            </a:gs>
            <a:gs pos="100000">
              <a:srgbClr val="ceff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en-US" sz="3600" spc="-1" strike="noStrike">
                <a:solidFill>
                  <a:srgbClr val="009900"/>
                </a:solidFill>
                <a:latin typeface="Comic Sans MS"/>
              </a:rPr>
              <a:t>Сплошные тела или состоят из отдельных частиц??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3076560" cy="35276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84360" y="5013360"/>
            <a:ext cx="259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Демокри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67120" y="5594400"/>
            <a:ext cx="198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Др.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Греци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6093000"/>
            <a:ext cx="36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60-370г.г.до н.э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427640" y="2086920"/>
            <a:ext cx="4032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Все тела состоят из бесчисленного количества сверхмалых, невидимых глазу, неделимых частиц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067280" y="1844640"/>
            <a:ext cx="4464000" cy="4175280"/>
          </a:xfrm>
          <a:prstGeom prst="wedgeRoundRectCallout">
            <a:avLst>
              <a:gd name="adj1" fmla="val -78236"/>
              <a:gd name="adj2" fmla="val 13537"/>
              <a:gd name="adj3" fmla="val 16667"/>
            </a:avLst>
          </a:prstGeom>
          <a:noFill/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3000"/>
                            </p:stCondLst>
                            <p:childTnLst>
                              <p:par>
                                <p:cTn id="78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5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8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1"/>
            </a:gs>
            <a:gs pos="100000">
              <a:srgbClr val="ceff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4920" y="189000"/>
            <a:ext cx="5329080" cy="20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 u="sng">
                <a:solidFill>
                  <a:srgbClr val="ff0000"/>
                </a:solidFill>
                <a:uFillTx/>
                <a:latin typeface="Comic Sans MS"/>
              </a:rPr>
              <a:t>Молекул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50560" y="475920"/>
            <a:ext cx="57610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64000" y="685800"/>
            <a:ext cx="378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мельчайш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- частица </a:t>
            </a:r>
            <a:br>
              <a:rPr sz="3600"/>
            </a:b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  веще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87480" y="1996920"/>
            <a:ext cx="437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Comic Sans MS"/>
              </a:rPr>
              <a:t>(Греч.</a:t>
            </a:r>
            <a:r>
              <a:rPr b="0" lang="en-US" sz="2800" spc="-1" strike="noStrike">
                <a:solidFill>
                  <a:srgbClr val="009900"/>
                </a:solidFill>
                <a:latin typeface="Comic Sans MS"/>
              </a:rPr>
              <a:t> -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i="1" lang="en-US" sz="2800" spc="-1" strike="noStrike">
                <a:solidFill>
                  <a:srgbClr val="009900"/>
                </a:solidFill>
                <a:latin typeface="Comic Sans MS"/>
              </a:rPr>
              <a:t>маленькая масс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00000" y="3284640"/>
            <a:ext cx="295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 u="sng">
                <a:solidFill>
                  <a:srgbClr val="ff0000"/>
                </a:solidFill>
                <a:uFillTx/>
                <a:latin typeface="Comic Sans MS"/>
              </a:rPr>
              <a:t>Атом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72000" y="4589640"/>
            <a:ext cx="337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Comic Sans MS"/>
              </a:rPr>
              <a:t>(Греч. -</a:t>
            </a:r>
            <a:r>
              <a:rPr b="0" i="1" lang="en-U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i="1" lang="en-US" sz="2800" spc="-1" strike="noStrike">
                <a:solidFill>
                  <a:srgbClr val="009900"/>
                </a:solidFill>
                <a:latin typeface="Comic Sans MS"/>
              </a:rPr>
              <a:t>неделимый</a:t>
            </a:r>
            <a:r>
              <a:rPr b="0" i="1" lang="en-US" sz="1800" spc="-1" strike="noStrike">
                <a:solidFill>
                  <a:srgbClr val="0099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43280" y="3213000"/>
            <a:ext cx="381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составн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- част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молекул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350"/>
                            </p:stCondLst>
                            <p:childTnLst>
                              <p:par>
                                <p:cTn id="10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3400"/>
                            </p:stCondLst>
                            <p:childTnLst>
                              <p:par>
                                <p:cTn id="10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150"/>
                            </p:stCondLst>
                            <p:childTnLst>
                              <p:par>
                                <p:cTn id="12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950"/>
                            </p:stCondLst>
                            <p:childTnLst>
                              <p:par>
                                <p:cTn id="13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1"/>
            </a:gs>
            <a:gs pos="100000">
              <a:srgbClr val="ceff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"/>
          <p:cNvGrpSpPr/>
          <p:nvPr/>
        </p:nvGrpSpPr>
        <p:grpSpPr>
          <a:xfrm>
            <a:off x="395280" y="1557720"/>
            <a:ext cx="8305920" cy="4171680"/>
            <a:chOff x="395280" y="1557720"/>
            <a:chExt cx="8305920" cy="4171680"/>
          </a:xfrm>
        </p:grpSpPr>
        <p:cxnSp>
          <p:nvCxnSpPr>
            <p:cNvPr id="66" name="_s17437"/>
            <p:cNvCxnSpPr/>
            <p:nvPr/>
          </p:nvCxnSpPr>
          <p:spPr>
            <a:xfrm flipV="1" rot="16200000">
              <a:off x="3507840" y="2931480"/>
              <a:ext cx="50760" cy="3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7" name="_s17426"/>
            <p:cNvCxnSpPr/>
            <p:nvPr/>
          </p:nvCxnSpPr>
          <p:spPr>
            <a:xfrm rot="5400000">
              <a:off x="5914800" y="3003840"/>
              <a:ext cx="56520" cy="428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8" name="_s17420"/>
            <p:cNvCxnSpPr/>
            <p:nvPr/>
          </p:nvCxnSpPr>
          <p:spPr>
            <a:xfrm flipV="1">
              <a:off x="2809080" y="3217680"/>
              <a:ext cx="74520" cy="31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69" name="_s17416"/>
            <p:cNvSpPr/>
            <p:nvPr/>
          </p:nvSpPr>
          <p:spPr>
            <a:xfrm>
              <a:off x="395280" y="1557720"/>
              <a:ext cx="8305920" cy="675360"/>
            </a:xfrm>
            <a:prstGeom prst="roundRect">
              <a:avLst>
                <a:gd name="adj" fmla="val 19505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9900"/>
                  </a:solidFill>
                  <a:latin typeface="Comic Sans MS"/>
                </a:rPr>
                <a:t>Веществ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_s17417"/>
            <p:cNvSpPr/>
            <p:nvPr/>
          </p:nvSpPr>
          <p:spPr>
            <a:xfrm>
              <a:off x="1188720" y="2706840"/>
              <a:ext cx="6851160" cy="73836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9900"/>
                  </a:solidFill>
                  <a:latin typeface="Comic Sans MS"/>
                </a:rPr>
                <a:t>Молекулы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_s17425"/>
            <p:cNvSpPr/>
            <p:nvPr/>
          </p:nvSpPr>
          <p:spPr>
            <a:xfrm>
              <a:off x="1834560" y="3862080"/>
              <a:ext cx="5430960" cy="72540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9900"/>
                  </a:solidFill>
                  <a:latin typeface="Comic Sans MS"/>
                </a:rPr>
                <a:t>Атомы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_s17436"/>
            <p:cNvSpPr/>
            <p:nvPr/>
          </p:nvSpPr>
          <p:spPr>
            <a:xfrm>
              <a:off x="2375640" y="5004000"/>
              <a:ext cx="4489200" cy="725400"/>
            </a:xfrm>
            <a:prstGeom prst="roundRect">
              <a:avLst>
                <a:gd name="adj" fmla="val 16667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00"/>
                  </a:solidFill>
                  <a:latin typeface="Comic Sans MS"/>
                </a:rPr>
                <a:t>Элементарные частиц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3708360" y="836640"/>
            <a:ext cx="187164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24360" y="98100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2500л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851280" y="18900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Демокр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43280" y="2205000"/>
            <a:ext cx="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643280" y="3429000"/>
            <a:ext cx="0" cy="433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43280" y="4581360"/>
            <a:ext cx="0" cy="43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26920" y="5950080"/>
            <a:ext cx="716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XX</a:t>
            </a: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 век        Доказано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1"/>
            </a:gs>
            <a:gs pos="100000">
              <a:srgbClr val="ceff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68360" y="2708280"/>
            <a:ext cx="790920" cy="5047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55640" y="2637000"/>
            <a:ext cx="792000" cy="64764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00"/>
                </a:solidFill>
                <a:uFillTx/>
                <a:latin typeface="Comic Sans MS"/>
              </a:rPr>
              <a:t>Опытные обоснования молекулярного строения веще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55640" y="2349360"/>
            <a:ext cx="0" cy="93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1547640" y="227664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5640" y="2205000"/>
            <a:ext cx="79200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5640" y="2565360"/>
            <a:ext cx="792000" cy="21600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55640" y="3141720"/>
            <a:ext cx="792000" cy="21600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rot="7732800">
            <a:off x="945000" y="-267120"/>
            <a:ext cx="222120" cy="312840"/>
          </a:xfrm>
          <a:prstGeom prst="wedgeEllipseCallout">
            <a:avLst>
              <a:gd name="adj1" fmla="val -84541"/>
              <a:gd name="adj2" fmla="val 71851"/>
            </a:avLst>
          </a:pr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55640" y="2708280"/>
            <a:ext cx="792000" cy="576360"/>
          </a:xfrm>
          <a:prstGeom prst="rect">
            <a:avLst/>
          </a:prstGeom>
          <a:gradFill rotWithShape="0">
            <a:gsLst>
              <a:gs pos="0">
                <a:srgbClr val="990033"/>
              </a:gs>
              <a:gs pos="50000">
                <a:srgbClr val="cc0000"/>
              </a:gs>
              <a:gs pos="100000">
                <a:srgbClr val="990033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55640" y="2565360"/>
            <a:ext cx="792000" cy="217440"/>
          </a:xfrm>
          <a:prstGeom prst="ellipse">
            <a:avLst/>
          </a:prstGeom>
          <a:gradFill rotWithShape="0">
            <a:gsLst>
              <a:gs pos="0">
                <a:srgbClr val="990033"/>
              </a:gs>
              <a:gs pos="50000">
                <a:srgbClr val="cc0000"/>
              </a:gs>
              <a:gs pos="100000">
                <a:srgbClr val="990033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5640" y="3141720"/>
            <a:ext cx="792000" cy="217440"/>
          </a:xfrm>
          <a:prstGeom prst="ellipse">
            <a:avLst/>
          </a:prstGeom>
          <a:gradFill rotWithShape="0">
            <a:gsLst>
              <a:gs pos="0">
                <a:srgbClr val="990033"/>
              </a:gs>
              <a:gs pos="50000">
                <a:srgbClr val="cc0000"/>
              </a:gs>
              <a:gs pos="100000">
                <a:srgbClr val="990033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628640"/>
            <a:ext cx="1368360" cy="360360"/>
          </a:xfrm>
          <a:custGeom>
            <a:avLst/>
            <a:gdLst>
              <a:gd name="textAreaLeft" fmla="*/ 239400 w 1368360"/>
              <a:gd name="textAreaRight" fmla="*/ 992160 w 1368360"/>
              <a:gd name="textAreaTop" fmla="*/ 48240 h 360360"/>
              <a:gd name="textAreaBottom" fmla="*/ 3121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990033"/>
              </a:gs>
              <a:gs pos="50000">
                <a:srgbClr val="cc0000"/>
              </a:gs>
              <a:gs pos="100000">
                <a:srgbClr val="990033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68360" y="234936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68360" y="2205000"/>
            <a:ext cx="79236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68360" y="3141720"/>
            <a:ext cx="792360" cy="21600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3059280" y="234900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68360" y="2565360"/>
            <a:ext cx="792360" cy="21600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268360" y="2708280"/>
            <a:ext cx="790920" cy="504720"/>
          </a:xfrm>
          <a:prstGeom prst="rect">
            <a:avLst/>
          </a:prstGeom>
          <a:gradFill rotWithShape="0">
            <a:gsLst>
              <a:gs pos="0">
                <a:srgbClr val="ff5050"/>
              </a:gs>
              <a:gs pos="50000">
                <a:srgbClr val="ffcc99"/>
              </a:gs>
              <a:gs pos="100000">
                <a:srgbClr val="ff505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268360" y="3141720"/>
            <a:ext cx="792360" cy="216000"/>
          </a:xfrm>
          <a:prstGeom prst="ellipse">
            <a:avLst/>
          </a:prstGeom>
          <a:gradFill rotWithShape="0">
            <a:gsLst>
              <a:gs pos="0">
                <a:srgbClr val="ff5050"/>
              </a:gs>
              <a:gs pos="50000">
                <a:srgbClr val="ffcc99"/>
              </a:gs>
              <a:gs pos="100000">
                <a:srgbClr val="ff505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3635280" y="227664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5280" y="2205000"/>
            <a:ext cx="79236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2276280"/>
            <a:ext cx="0" cy="93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635280" y="2708280"/>
            <a:ext cx="792360" cy="5047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635280" y="3141720"/>
            <a:ext cx="792360" cy="21600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635280" y="2565360"/>
            <a:ext cx="792360" cy="21600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916360" y="1628640"/>
            <a:ext cx="1368360" cy="360360"/>
          </a:xfrm>
          <a:custGeom>
            <a:avLst/>
            <a:gdLst>
              <a:gd name="textAreaLeft" fmla="*/ 239400 w 1368360"/>
              <a:gd name="textAreaRight" fmla="*/ 992160 w 1368360"/>
              <a:gd name="textAreaTop" fmla="*/ 48240 h 360360"/>
              <a:gd name="textAreaBottom" fmla="*/ 3121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cc0000"/>
              </a:gs>
              <a:gs pos="50000">
                <a:srgbClr val="ff5050"/>
              </a:gs>
              <a:gs pos="100000">
                <a:srgbClr val="cc00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35280" y="2708280"/>
            <a:ext cx="792360" cy="504720"/>
          </a:xfrm>
          <a:prstGeom prst="rect">
            <a:avLst/>
          </a:prstGeom>
          <a:gradFill rotWithShape="0">
            <a:gsLst>
              <a:gs pos="0">
                <a:srgbClr val="ff8f8f"/>
              </a:gs>
              <a:gs pos="50000">
                <a:srgbClr val="ffe4c9"/>
              </a:gs>
              <a:gs pos="100000">
                <a:srgbClr val="ff8f8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35280" y="3141720"/>
            <a:ext cx="792360" cy="216000"/>
          </a:xfrm>
          <a:prstGeom prst="ellipse">
            <a:avLst/>
          </a:prstGeom>
          <a:gradFill rotWithShape="0">
            <a:gsLst>
              <a:gs pos="0">
                <a:srgbClr val="ff8f8f"/>
              </a:gs>
              <a:gs pos="50000">
                <a:srgbClr val="ffe4c9"/>
              </a:gs>
              <a:gs pos="100000">
                <a:srgbClr val="ff8f8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68360" y="2565360"/>
            <a:ext cx="792360" cy="216000"/>
          </a:xfrm>
          <a:prstGeom prst="ellipse">
            <a:avLst/>
          </a:prstGeom>
          <a:gradFill rotWithShape="0">
            <a:gsLst>
              <a:gs pos="0">
                <a:srgbClr val="ff5050"/>
              </a:gs>
              <a:gs pos="50000">
                <a:srgbClr val="ffcc99"/>
              </a:gs>
              <a:gs pos="100000">
                <a:srgbClr val="ff505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35280" y="2565360"/>
            <a:ext cx="792360" cy="216000"/>
          </a:xfrm>
          <a:prstGeom prst="ellipse">
            <a:avLst/>
          </a:prstGeom>
          <a:gradFill rotWithShape="0">
            <a:gsLst>
              <a:gs pos="0">
                <a:srgbClr val="ff8f8f"/>
              </a:gs>
              <a:gs pos="50000">
                <a:srgbClr val="ffe4c9"/>
              </a:gs>
              <a:gs pos="100000">
                <a:srgbClr val="ff8f8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564000" y="5373720"/>
            <a:ext cx="0" cy="122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564000" y="6597720"/>
            <a:ext cx="25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156360" y="537372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564000" y="5373720"/>
            <a:ext cx="25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516720" y="6021360"/>
            <a:ext cx="1079640" cy="503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bbe0e3"/>
              </a:gs>
              <a:gs pos="100000">
                <a:srgbClr val="ddddd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rot="10800000">
            <a:off x="6516360" y="5589360"/>
            <a:ext cx="1079640" cy="431640"/>
          </a:xfrm>
          <a:custGeom>
            <a:avLst/>
            <a:gdLst>
              <a:gd name="textAreaLeft" fmla="*/ 237240 w 1079640"/>
              <a:gd name="textAreaRight" fmla="*/ 842400 w 1079640"/>
              <a:gd name="textAreaTop" fmla="*/ 94680 h 431640"/>
              <a:gd name="textAreaBottom" fmla="*/ 33696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50000">
                <a:srgbClr val="bbe0e3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588000" y="4797360"/>
            <a:ext cx="935280" cy="9352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3564000" y="5877000"/>
            <a:ext cx="2592360" cy="72072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50000">
                <a:srgbClr val="ccffff"/>
              </a:gs>
              <a:gs pos="100000">
                <a:srgbClr val="66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rot="7957200">
            <a:off x="4606920" y="5264640"/>
            <a:ext cx="2016360" cy="36036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544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940360" y="3573360"/>
            <a:ext cx="1511280" cy="136692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788000" y="6165720"/>
            <a:ext cx="21564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788000" y="6237360"/>
            <a:ext cx="21564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859280" y="6237360"/>
            <a:ext cx="21600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643280" y="6237360"/>
            <a:ext cx="21600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788000" y="6165720"/>
            <a:ext cx="21564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rot="2601600">
            <a:off x="4716360" y="6165360"/>
            <a:ext cx="43200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rot="2623800">
            <a:off x="5119200" y="5315040"/>
            <a:ext cx="309600" cy="99684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66ffff"/>
              </a:gs>
              <a:gs pos="100000">
                <a:srgbClr val="ccffff"/>
              </a:gs>
            </a:gsLst>
            <a:lin ang="10878000"/>
          </a:gradFill>
          <a:ln w="9360">
            <a:solidFill>
              <a:srgbClr val="99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676040" y="1563840"/>
            <a:ext cx="456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Растворение краски в во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50920" y="4797360"/>
            <a:ext cx="360036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Расширение воздух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при нагреван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и сжат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при охлажде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0 L 0.00781 0.43673 E">
                                      <p:cBhvr>
                                        <p:cTn id="158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125 0.02429 C -0.03959 -0.00763 -0.04792 -0.03956 -0.05122 -0.05251 E">
                                      <p:cBhvr>
                                        <p:cTn id="258" dur="2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000"/>
                            </p:stCondLst>
                            <p:childTnLst>
                              <p:par>
                                <p:cTn id="26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1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4000"/>
                            </p:stCondLst>
                            <p:childTnLst>
                              <p:par>
                                <p:cTn id="2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64 0.01388 C -0.01598 -0.01804 -0.02431 -0.04997 -0.02761 -0.06292 E">
                                      <p:cBhvr>
                                        <p:cTn id="268" dur="2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0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6000"/>
                            </p:stCondLst>
                            <p:childTnLst>
                              <p:par>
                                <p:cTn id="2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108 0.01388 C -0.03941 -0.01804 -0.04774 -0.04997 -0.05104 -0.06292 E">
                                      <p:cBhvr>
                                        <p:cTn id="277" dur="2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9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000"/>
                            </p:stCondLst>
                            <p:childTnLst>
                              <p:par>
                                <p:cTn id="2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2.82905E-006 C -0.00834 -0.03193 -0.01667 -0.06385 -0.01997 -0.0768 E">
                                      <p:cBhvr>
                                        <p:cTn id="286" dur="2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8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000"/>
                            </p:stCondLst>
                            <p:childTnLst>
                              <p:par>
                                <p:cTn id="2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0.01041 C -0.01702 -0.02013 -0.03021 -0.05066 -0.03542 -0.06292 E">
                                      <p:cBhvr>
                                        <p:cTn id="295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7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1"/>
            </a:gs>
            <a:gs pos="100000">
              <a:srgbClr val="ceff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Comic Sans MS"/>
              </a:rPr>
              <a:t>Опыты показывают что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360" y="2491920"/>
            <a:ext cx="8229600" cy="24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cc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Молекулы разделены промежутка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cc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Размеры молекул очень мал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5000"/>
                            </p:stCondLst>
                            <p:childTnLst>
                              <p:par>
                                <p:cTn id="31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9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6000"/>
                            </p:stCondLst>
                            <p:childTnLst>
                              <p:par>
                                <p:cTn id="32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9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1"/>
            </a:gs>
            <a:gs pos="100000">
              <a:srgbClr val="ceff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Comic Sans MS"/>
              </a:rPr>
              <a:t>Размеры молекул и атомов очень мал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500720" y="3173400"/>
            <a:ext cx="4464000" cy="34574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179280" y="1341360"/>
            <a:ext cx="468000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5T15:51:32Z</dcterms:created>
  <dc:creator>Климовы</dc:creator>
  <dc:description/>
  <dc:language>en-US</dc:language>
  <cp:lastModifiedBy>Мама</cp:lastModifiedBy>
  <dcterms:modified xsi:type="dcterms:W3CDTF">2013-01-23T09:55:27Z</dcterms:modified>
  <cp:revision>15</cp:revision>
  <dc:subject/>
  <dc:title>Строение вещества</dc:title>
</cp:coreProperties>
</file>