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32.gif" ContentType="image/gif"/>
  <Override PartName="/ppt/media/image24.png" ContentType="image/png"/>
  <Override PartName="/ppt/media/image11.jpeg" ContentType="image/jpeg"/>
  <Override PartName="/ppt/media/image23.png" ContentType="image/png"/>
  <Override PartName="/ppt/media/image20.jpeg" ContentType="image/jpe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31.jpeg" ContentType="image/jpeg"/>
  <Override PartName="/ppt/media/image33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41.jpeg" ContentType="image/jpeg"/>
  <Override PartName="/ppt/media/image45.jpeg" ContentType="image/jpeg"/>
  <Override PartName="/ppt/media/image30.jpeg" ContentType="image/jpeg"/>
  <Override PartName="/ppt/media/image3.jpeg" ContentType="image/jpeg"/>
  <Override PartName="/ppt/media/image43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39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12.jpeg" ContentType="image/jpeg"/>
  <Override PartName="/ppt/media/image4.png" ContentType="image/png"/>
  <Override PartName="/ppt/media/image2.jpeg" ContentType="image/jpeg"/>
  <Override PartName="/ppt/media/image36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2C72-E041-4E5B-9425-EF8415CB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02C8-297F-4BFE-B68A-D0E7315F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874B-ACE3-4044-ADC5-731F718F4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21FD-2902-4FAB-AAC8-FF5458446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52D8-3FF5-4016-9C04-5848BCCB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4455-CE29-4E19-9F23-30DD6A04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46E3-6B97-4628-AB4B-7369CC0E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E8A2-4461-4124-9435-734CC75F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9CA5-A853-4273-8455-AE79E28A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0B5F-63A2-43A8-86F0-0228124E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AB81-ED61-473F-954A-95063C72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850D-C012-4032-A654-BB2B2704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C47B-D9A7-48EE-853F-B2A80E443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00"/>
                </a:solidFill>
                <a:latin typeface="Arial"/>
              </a:rPr>
              <a:t>Кровь – как показатель здоровья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55640" y="4000680"/>
            <a:ext cx="377676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Автор:учитель биологии МБОУ СОШ № 33 Дождикова Гали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Г. Нижний Таг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61730"/>
          <p:cNvPicPr/>
          <p:nvPr/>
        </p:nvPicPr>
        <p:blipFill>
          <a:blip r:embed="rId1"/>
          <a:stretch/>
        </p:blipFill>
        <p:spPr>
          <a:xfrm rot="20889600">
            <a:off x="539280" y="3644640"/>
            <a:ext cx="2737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ГЕМОЛИМФ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т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емо..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лимфа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жидкость, циркулирующая в сосудах и межклеточных полостях многих беспозвоночных животных (членистоногие, онихофоры, моллюски) с незамкнутой системой кровообращения. Выполняет те же функции, что кровь и лим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0257"/>
          <p:cNvPicPr/>
          <p:nvPr/>
        </p:nvPicPr>
        <p:blipFill>
          <a:blip r:embed="rId1"/>
          <a:stretch/>
        </p:blipFill>
        <p:spPr>
          <a:xfrm>
            <a:off x="5940360" y="2565360"/>
            <a:ext cx="2673360" cy="2121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0379"/>
          <p:cNvPicPr/>
          <p:nvPr/>
        </p:nvPicPr>
        <p:blipFill>
          <a:blip r:embed="rId2"/>
          <a:stretch/>
        </p:blipFill>
        <p:spPr>
          <a:xfrm>
            <a:off x="3419640" y="2492280"/>
            <a:ext cx="2266920" cy="3124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0246"/>
          <p:cNvPicPr/>
          <p:nvPr/>
        </p:nvPicPr>
        <p:blipFill>
          <a:blip r:embed="rId3"/>
          <a:stretch/>
        </p:blipFill>
        <p:spPr>
          <a:xfrm>
            <a:off x="179280" y="4437000"/>
            <a:ext cx="3095640" cy="207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4259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У человека в среднем                                                5,2 л крови (у мужчин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и 3,9 л (у женщин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4"/>
          <p:cNvPicPr/>
          <p:nvPr/>
        </p:nvPicPr>
        <p:blipFill>
          <a:blip r:embed="rId1"/>
          <a:stretch/>
        </p:blipFill>
        <p:spPr>
          <a:xfrm>
            <a:off x="5292720" y="333360"/>
            <a:ext cx="3311640" cy="2735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Безымянный2"/>
          <p:cNvPicPr/>
          <p:nvPr/>
        </p:nvPicPr>
        <p:blipFill>
          <a:blip r:embed="rId2"/>
          <a:stretch/>
        </p:blipFill>
        <p:spPr>
          <a:xfrm>
            <a:off x="5219640" y="3573360"/>
            <a:ext cx="3456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42591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ЭРИТРОЦИТЫ 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(красные кровяные клетки; от греч. erythros — красный и...цит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6600"/>
                </a:solidFill>
                <a:latin typeface="Arial"/>
              </a:rPr>
              <a:t>высокоспецифичные клетки крови животных и человека, содержащие гемоглобин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66ff"/>
                </a:solidFill>
                <a:latin typeface="Arial"/>
              </a:rPr>
              <a:t>Переносят кислород от легких к тканям и двуокись углерода от тканей к органам дых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8д6е"/>
          <p:cNvPicPr/>
          <p:nvPr/>
        </p:nvPicPr>
        <p:blipFill>
          <a:blip r:embed="rId1"/>
          <a:stretch/>
        </p:blipFill>
        <p:spPr>
          <a:xfrm>
            <a:off x="4716360" y="333360"/>
            <a:ext cx="4103640" cy="424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2-6"/>
          <p:cNvPicPr/>
          <p:nvPr/>
        </p:nvPicPr>
        <p:blipFill>
          <a:blip r:embed="rId2"/>
          <a:stretch/>
        </p:blipFill>
        <p:spPr>
          <a:xfrm>
            <a:off x="971640" y="4653000"/>
            <a:ext cx="2952720" cy="1873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0334"/>
          <p:cNvPicPr/>
          <p:nvPr/>
        </p:nvPicPr>
        <p:blipFill>
          <a:blip r:embed="rId1"/>
          <a:stretch/>
        </p:blipFill>
        <p:spPr>
          <a:xfrm>
            <a:off x="4284720" y="2708280"/>
            <a:ext cx="4680000" cy="3529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ЛЕЙКОЦИТЫ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белые кровяные клетки; от лейко... и...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ци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, бесцветные клетки </a:t>
            </a: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крови человека и животных. Функция лейкоцитов - защита от микроорганиз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0601"/>
          <p:cNvPicPr/>
          <p:nvPr/>
        </p:nvPicPr>
        <p:blipFill>
          <a:blip r:embed="rId2"/>
          <a:stretch/>
        </p:blipFill>
        <p:spPr>
          <a:xfrm>
            <a:off x="1476360" y="2276640"/>
            <a:ext cx="4726080" cy="4321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3754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ТРОМБОЦИ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(от тром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...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цит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клетки крови позвоночных животных, содержащие ядро (кроме млекопитающих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Участвуют в свертывании кро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1"/>
          <p:cNvPicPr/>
          <p:nvPr/>
        </p:nvPicPr>
        <p:blipFill>
          <a:blip r:embed="rId1"/>
          <a:stretch/>
        </p:blipFill>
        <p:spPr>
          <a:xfrm>
            <a:off x="5148360" y="4292640"/>
            <a:ext cx="2448000" cy="2298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0336"/>
          <p:cNvPicPr/>
          <p:nvPr/>
        </p:nvPicPr>
        <p:blipFill>
          <a:blip r:embed="rId2"/>
          <a:stretch/>
        </p:blipFill>
        <p:spPr>
          <a:xfrm>
            <a:off x="4284720" y="476280"/>
            <a:ext cx="434484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Анализ крови -показатель работы организ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бщеклиническое исследование крови- один из важнейших диагностических методов, так как кроветворные органы быстро реагируют на любые воздействия на организм, что находит отражение в изменении картины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graf_25"/>
          <p:cNvPicPr/>
          <p:nvPr/>
        </p:nvPicPr>
        <p:blipFill>
          <a:blip r:embed="rId1"/>
          <a:stretch/>
        </p:blipFill>
        <p:spPr>
          <a:xfrm>
            <a:off x="755640" y="1773360"/>
            <a:ext cx="3456000" cy="424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Herz"/>
          <p:cNvPicPr/>
          <p:nvPr/>
        </p:nvPicPr>
        <p:blipFill>
          <a:blip r:embed="rId2"/>
          <a:stretch/>
        </p:blipFill>
        <p:spPr>
          <a:xfrm>
            <a:off x="971640" y="1844640"/>
            <a:ext cx="1512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3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Что определяет анализ кров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Общеклинический анализ крови обычно включает в себя опреде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гемоглобина, количества эритроцитов, подсчет лейкоцитарной формулы, определение РОЭ , количество тромбоцитов и другие показа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ANTN032"/>
          <p:cNvPicPr/>
          <p:nvPr/>
        </p:nvPicPr>
        <p:blipFill>
          <a:blip r:embed="rId1"/>
          <a:stretch/>
        </p:blipFill>
        <p:spPr>
          <a:xfrm>
            <a:off x="5508720" y="1268280"/>
            <a:ext cx="316692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Большинство показателей определяется при микроскопическом исследовании мазка крови, окрашенного специальными красител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0029"/>
          <p:cNvPicPr/>
          <p:nvPr/>
        </p:nvPicPr>
        <p:blipFill>
          <a:blip r:embed="rId1"/>
          <a:stretch/>
        </p:blipFill>
        <p:spPr>
          <a:xfrm>
            <a:off x="5067360" y="260280"/>
            <a:ext cx="3465360" cy="3529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0028"/>
          <p:cNvPicPr/>
          <p:nvPr/>
        </p:nvPicPr>
        <p:blipFill>
          <a:blip r:embed="rId2"/>
          <a:stretch/>
        </p:blipFill>
        <p:spPr>
          <a:xfrm>
            <a:off x="3419640" y="4005360"/>
            <a:ext cx="2952720" cy="2590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В норме в крови должны быт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Organization Chart 6"/>
          <p:cNvGrpSpPr/>
          <p:nvPr/>
        </p:nvGrpSpPr>
        <p:grpSpPr>
          <a:xfrm>
            <a:off x="431640" y="1585800"/>
            <a:ext cx="8208360" cy="4462920"/>
            <a:chOff x="431640" y="1585800"/>
            <a:chExt cx="8208360" cy="4462920"/>
          </a:xfrm>
        </p:grpSpPr>
        <p:cxnSp>
          <p:nvCxnSpPr>
            <p:cNvPr id="99" name="_s1028"/>
            <p:cNvCxnSpPr>
              <a:stCxn id="100" idx="0"/>
              <a:endCxn id="101" idx="2"/>
            </p:cNvCxnSpPr>
            <p:nvPr/>
          </p:nvCxnSpPr>
          <p:spPr>
            <a:xfrm flipV="1">
              <a:off x="1662840" y="4374720"/>
              <a:ext cx="3600" cy="55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1029"/>
            <p:cNvCxnSpPr>
              <a:stCxn id="103" idx="0"/>
              <a:endCxn id="104" idx="2"/>
            </p:cNvCxnSpPr>
            <p:nvPr/>
          </p:nvCxnSpPr>
          <p:spPr>
            <a:xfrm flipV="1" rot="16200000">
              <a:off x="5693040" y="1542960"/>
              <a:ext cx="558360" cy="287352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30"/>
            <p:cNvCxnSpPr>
              <a:stCxn id="106" idx="0"/>
              <a:endCxn id="104" idx="2"/>
            </p:cNvCxnSpPr>
            <p:nvPr/>
          </p:nvCxnSpPr>
          <p:spPr>
            <a:xfrm flipV="1">
              <a:off x="4536000" y="2700720"/>
              <a:ext cx="3600" cy="55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1031"/>
            <p:cNvCxnSpPr>
              <a:stCxn id="101" idx="0"/>
              <a:endCxn id="104" idx="2"/>
            </p:cNvCxnSpPr>
            <p:nvPr/>
          </p:nvCxnSpPr>
          <p:spPr>
            <a:xfrm flipH="1" flipV="1" rot="5400000">
              <a:off x="2820240" y="1543320"/>
              <a:ext cx="558360" cy="287352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4" name="_s1032"/>
            <p:cNvSpPr/>
            <p:nvPr/>
          </p:nvSpPr>
          <p:spPr>
            <a:xfrm>
              <a:off x="3304440" y="158580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99"/>
                  </a:solidFill>
                  <a:latin typeface="Arial"/>
                </a:rPr>
                <a:t>Клетки кров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в мм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3"/>
            <p:cNvSpPr/>
            <p:nvPr/>
          </p:nvSpPr>
          <p:spPr>
            <a:xfrm>
              <a:off x="431640" y="32594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Arial"/>
                </a:rPr>
                <a:t>Эритроци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.9-4.7 млн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4"/>
            <p:cNvSpPr/>
            <p:nvPr/>
          </p:nvSpPr>
          <p:spPr>
            <a:xfrm>
              <a:off x="3304440" y="32594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Лейкоци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.9-9.0 тыс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35"/>
            <p:cNvSpPr/>
            <p:nvPr/>
          </p:nvSpPr>
          <p:spPr>
            <a:xfrm>
              <a:off x="6177600" y="32594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99"/>
                  </a:solidFill>
                  <a:latin typeface="Arial"/>
                </a:rPr>
                <a:t>Тромбоци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80-380 тыс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>
              <a:off x="431640" y="493308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Arial"/>
                </a:rPr>
                <a:t>Гемоглоби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20-140 г/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"/>
              </a:rPr>
              <a:t>Отклонение от нормы может стать причиной заболеван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83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АНЕМИЯ (малокровие)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группа заболеваний, при которых в крови уменьшается содержание эритроцитов и/или гемоглобина, что приводит к гипоксии. Анемия может возникать в результате кровотечения (постгеморрагическая анемия), нарушения крово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0003"/>
          <p:cNvPicPr/>
          <p:nvPr/>
        </p:nvPicPr>
        <p:blipFill>
          <a:blip r:embed="rId1"/>
          <a:stretch/>
        </p:blipFill>
        <p:spPr>
          <a:xfrm>
            <a:off x="5076720" y="1700280"/>
            <a:ext cx="3598920" cy="487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Цель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5400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1. Рассмотреть эволюцию кровеносной системы, значение крови и ее компонентов и их роль в диагностике заболе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2. Доказать, что кровь является одним из важнейших показателей работы орга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0602"/>
          <p:cNvPicPr/>
          <p:nvPr/>
        </p:nvPicPr>
        <p:blipFill>
          <a:blip r:embed="rId1"/>
          <a:stretch/>
        </p:blipFill>
        <p:spPr>
          <a:xfrm>
            <a:off x="5580000" y="1341360"/>
            <a:ext cx="3276720" cy="245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0346"/>
          <p:cNvPicPr/>
          <p:nvPr/>
        </p:nvPicPr>
        <p:blipFill>
          <a:blip r:embed="rId2"/>
          <a:stretch/>
        </p:blipFill>
        <p:spPr>
          <a:xfrm>
            <a:off x="5580000" y="4149720"/>
            <a:ext cx="3167280" cy="244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5483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ЛЕЙКОЗ (лейкемия, белокровие)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опухолевые заболевания кроветворной ткани с поражением костного мозга и вытеснением нормальных ростков кроветворения, увеличением лимфатических узлов и селезенки, изменениями в картине крови и другими проявлениям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Количество лейкоцитов может быть изменено и быть симптомами ОРВИ, пневмонии, тонзиллита, инфаркта, аллергии и других заболе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beachball2"/>
          <p:cNvPicPr/>
          <p:nvPr/>
        </p:nvPicPr>
        <p:blipFill>
          <a:blip r:embed="rId1"/>
          <a:stretch/>
        </p:blipFill>
        <p:spPr>
          <a:xfrm>
            <a:off x="6227640" y="620640"/>
            <a:ext cx="2665440" cy="3164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0166"/>
          <p:cNvPicPr/>
          <p:nvPr/>
        </p:nvPicPr>
        <p:blipFill>
          <a:blip r:embed="rId2"/>
          <a:stretch/>
        </p:blipFill>
        <p:spPr>
          <a:xfrm>
            <a:off x="6227640" y="4221000"/>
            <a:ext cx="2592360" cy="208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ГЕМОФИЛИЯ (от гемо... и ...филия)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наследственное заболевание, обусловленное недостаточностью системы свертывания крови и проявляющееся кровоточивость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С100"/>
          <p:cNvPicPr/>
          <p:nvPr/>
        </p:nvPicPr>
        <p:blipFill>
          <a:blip r:embed="rId1"/>
          <a:stretch/>
        </p:blipFill>
        <p:spPr>
          <a:xfrm>
            <a:off x="539640" y="3213000"/>
            <a:ext cx="2160720" cy="309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0335"/>
          <p:cNvPicPr/>
          <p:nvPr/>
        </p:nvPicPr>
        <p:blipFill>
          <a:blip r:embed="rId2"/>
          <a:stretch/>
        </p:blipFill>
        <p:spPr>
          <a:xfrm>
            <a:off x="3276720" y="3213000"/>
            <a:ext cx="5249880" cy="3130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98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Кровь является не только сигналом болезни, но и средством спасения боль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11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ЕРЕЛИВАНИЕ  КРОВИ (гемотрансфузия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лечебный метод, заключающийся во введении в кровеносное русло больного (реципиента) цельной крови или ее компонентов, заготовленных от донора или от самого реципиента (аутогемотрансфузия), а также крови, излившейся в полости тела при травмах и операц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385"/>
          <p:cNvPicPr/>
          <p:nvPr/>
        </p:nvPicPr>
        <p:blipFill>
          <a:blip r:embed="rId1"/>
          <a:stretch/>
        </p:blipFill>
        <p:spPr>
          <a:xfrm>
            <a:off x="4716360" y="3213000"/>
            <a:ext cx="4175280" cy="3452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Мишка"/>
          <p:cNvPicPr/>
          <p:nvPr/>
        </p:nvPicPr>
        <p:blipFill>
          <a:blip r:embed="rId2"/>
          <a:stretch/>
        </p:blipFill>
        <p:spPr>
          <a:xfrm>
            <a:off x="6012000" y="1268280"/>
            <a:ext cx="18000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Контроль за состоянием показателей крови и своевременная помощь при отклонениях от нормы, помогут вам сохранять свое здоровье, быть жизнерадостными и оптимистич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4"/>
          <p:cNvSpPr txBox="1"/>
          <p:nvPr/>
        </p:nvSpPr>
        <p:spPr>
          <a:xfrm rot="5400000">
            <a:off x="-1627200" y="4011480"/>
            <a:ext cx="42796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Будьте здоровы!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3" name="Picture 5" descr="jazz"/>
          <p:cNvPicPr/>
          <p:nvPr/>
        </p:nvPicPr>
        <p:blipFill>
          <a:blip r:embed="rId1"/>
          <a:stretch/>
        </p:blipFill>
        <p:spPr>
          <a:xfrm>
            <a:off x="1116000" y="2349360"/>
            <a:ext cx="1986120" cy="1584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61727"/>
          <p:cNvPicPr/>
          <p:nvPr/>
        </p:nvPicPr>
        <p:blipFill>
          <a:blip r:embed="rId2"/>
          <a:stretch/>
        </p:blipFill>
        <p:spPr>
          <a:xfrm>
            <a:off x="6300720" y="3213000"/>
            <a:ext cx="2592360" cy="302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lotus"/>
          <p:cNvPicPr/>
          <p:nvPr/>
        </p:nvPicPr>
        <p:blipFill>
          <a:blip r:embed="rId3"/>
          <a:stretch/>
        </p:blipFill>
        <p:spPr>
          <a:xfrm>
            <a:off x="3203640" y="3860640"/>
            <a:ext cx="259236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1403280" y="1628640"/>
            <a:ext cx="684072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нимани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d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еуу"/>
          <p:cNvPicPr/>
          <p:nvPr/>
        </p:nvPicPr>
        <p:blipFill>
          <a:blip r:embed="rId1"/>
          <a:stretch/>
        </p:blipFill>
        <p:spPr>
          <a:xfrm>
            <a:off x="4859280" y="333360"/>
            <a:ext cx="4033800" cy="6264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РОВЕНОСНАЯ СИСТЕМА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совокупность сосудов и полостей, по которым циркулирует кровь и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емолимф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27664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У большинства беспозвоночных животных незамкнутый круг кровообращения (гемолимфа движется благодаря сокращениям мышц тела и сосуд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У этих животных  незамкнутая кровеносная система (сосуды прерываются щелевидными пространства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0051"/>
          <p:cNvPicPr/>
          <p:nvPr/>
        </p:nvPicPr>
        <p:blipFill>
          <a:blip r:embed="rId1"/>
          <a:stretch/>
        </p:blipFill>
        <p:spPr>
          <a:xfrm>
            <a:off x="5796000" y="4365720"/>
            <a:ext cx="3024000" cy="2187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0054"/>
          <p:cNvPicPr/>
          <p:nvPr/>
        </p:nvPicPr>
        <p:blipFill>
          <a:blip r:embed="rId2"/>
          <a:stretch/>
        </p:blipFill>
        <p:spPr>
          <a:xfrm rot="21274800">
            <a:off x="250560" y="189000"/>
            <a:ext cx="2975040" cy="1990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0090"/>
          <p:cNvPicPr/>
          <p:nvPr/>
        </p:nvPicPr>
        <p:blipFill>
          <a:blip r:embed="rId3"/>
          <a:stretch/>
        </p:blipFill>
        <p:spPr>
          <a:xfrm>
            <a:off x="684360" y="4365720"/>
            <a:ext cx="2663640" cy="2087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0249"/>
          <p:cNvPicPr/>
          <p:nvPr/>
        </p:nvPicPr>
        <p:blipFill>
          <a:blip r:embed="rId4"/>
          <a:stretch/>
        </p:blipFill>
        <p:spPr>
          <a:xfrm rot="544200">
            <a:off x="5363640" y="333360"/>
            <a:ext cx="2873520" cy="177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-360"/>
            <a:ext cx="4032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Arial"/>
              </a:rPr>
              <a:t>У некоторых высших беспозвоночных, всех позвоночных животных и человека замкнутая кровеносная система (кровь движется только по сосуда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земноводных, пресмыкающихся, млекопитающих и птиц два круга кровообращения. У млекопитающих (в т. ч. человека) и птиц схема кровообращения в принципе одинако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енг"/>
          <p:cNvPicPr/>
          <p:nvPr/>
        </p:nvPicPr>
        <p:blipFill>
          <a:blip r:embed="rId1"/>
          <a:stretch/>
        </p:blipFill>
        <p:spPr>
          <a:xfrm>
            <a:off x="5651640" y="189000"/>
            <a:ext cx="2952720" cy="25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0221"/>
          <p:cNvPicPr/>
          <p:nvPr/>
        </p:nvPicPr>
        <p:blipFill>
          <a:blip r:embed="rId2"/>
          <a:stretch/>
        </p:blipFill>
        <p:spPr>
          <a:xfrm rot="21370800">
            <a:off x="4284720" y="4076640"/>
            <a:ext cx="2012760" cy="2401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0185"/>
          <p:cNvPicPr/>
          <p:nvPr/>
        </p:nvPicPr>
        <p:blipFill>
          <a:blip r:embed="rId3"/>
          <a:stretch/>
        </p:blipFill>
        <p:spPr>
          <a:xfrm>
            <a:off x="2843280" y="1773360"/>
            <a:ext cx="2520720" cy="1871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0278"/>
          <p:cNvPicPr/>
          <p:nvPr/>
        </p:nvPicPr>
        <p:blipFill>
          <a:blip r:embed="rId4"/>
          <a:stretch/>
        </p:blipFill>
        <p:spPr>
          <a:xfrm>
            <a:off x="6659640" y="3716280"/>
            <a:ext cx="248436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3961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КРОВООБРАЩЕНИЕ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движение крови в кровеносной системе, обусловливаемое главным образом сокращениями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не8ш"/>
          <p:cNvPicPr/>
          <p:nvPr/>
        </p:nvPicPr>
        <p:blipFill>
          <a:blip r:embed="rId1"/>
          <a:stretch/>
        </p:blipFill>
        <p:spPr>
          <a:xfrm>
            <a:off x="4716360" y="0"/>
            <a:ext cx="3961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565000"/>
            <a:ext cx="2602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Сердце некоторых пресмыкающихся (крокодилы), птиц, млекопитающих и человека — полый мышечный орган, разделенный на 4 камеры: правое и левое предсердия, правый и левый</a:t>
            </a: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желуд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4932360" y="404640"/>
            <a:ext cx="3384720" cy="3124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0349"/>
          <p:cNvPicPr/>
          <p:nvPr/>
        </p:nvPicPr>
        <p:blipFill>
          <a:blip r:embed="rId2"/>
          <a:stretch/>
        </p:blipFill>
        <p:spPr>
          <a:xfrm>
            <a:off x="3059280" y="3716280"/>
            <a:ext cx="1982520" cy="2498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0339"/>
          <p:cNvPicPr/>
          <p:nvPr/>
        </p:nvPicPr>
        <p:blipFill>
          <a:blip r:embed="rId3"/>
          <a:stretch/>
        </p:blipFill>
        <p:spPr>
          <a:xfrm>
            <a:off x="5508720" y="4365720"/>
            <a:ext cx="3378240" cy="2271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1258920" y="260280"/>
            <a:ext cx="26654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У человека сердце заключено в околосердечную сумку (перикард) и расположено в средостении грудной пол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57кл"/>
          <p:cNvPicPr/>
          <p:nvPr/>
        </p:nvPicPr>
        <p:blipFill>
          <a:blip r:embed="rId1"/>
          <a:stretch/>
        </p:blipFill>
        <p:spPr>
          <a:xfrm>
            <a:off x="3564000" y="620640"/>
            <a:ext cx="532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447516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ОВ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жидкая ткань, циркулирующая в кровеносной системе позвоночных животных и человека. Состоит из плазмы и форменных элементов (эритроциты, лейкоциты, тромбоциты и др.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асный цвет крови придает гемоглобин, содержащийся в эритроцит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1 мм3 крови 3,9-5,0 млн. эритроцитов, 4-9 тыс. лейкоцитов, 180-320 тыс. тромбоцитов; гемоглобина</a:t>
            </a: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к. 13-16 г в 100 м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й2345ц"/>
          <p:cNvPicPr/>
          <p:nvPr/>
        </p:nvPicPr>
        <p:blipFill>
          <a:blip r:embed="rId1"/>
          <a:stretch/>
        </p:blipFill>
        <p:spPr>
          <a:xfrm>
            <a:off x="4859280" y="549360"/>
            <a:ext cx="428472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7:13:13Z</dcterms:created>
  <dc:creator>Admin</dc:creator>
  <dc:description/>
  <dc:language>en-US</dc:language>
  <cp:lastModifiedBy>КарМаН</cp:lastModifiedBy>
  <dcterms:modified xsi:type="dcterms:W3CDTF">2012-07-19T21:11:51Z</dcterms:modified>
  <cp:revision>8</cp:revision>
  <dc:subject/>
  <dc:title>Кровь</dc:title>
</cp:coreProperties>
</file>