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32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3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3.jpeg" ContentType="image/jpeg"/>
  <Override PartName="/ppt/media/image43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9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36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0DB-2E54-410A-964A-6C6A96EB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867-367B-4F3A-A4D2-BFE89692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F36-6254-41BA-9F09-3141564B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D57-899A-4189-9CBA-E88BF5E8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4EA-9E0B-4411-8DEB-CD6EB5CA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374-B7DA-4531-A446-22931D01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249-D74C-4DB9-8DFB-F22D3141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C9A-1431-4297-B49B-E2FADB67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54D-E253-4DD2-B081-0EA2BB4C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0B0-57CE-4B98-9FAC-0D207046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372-3C34-4DD0-9765-D1ECC147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BD7-D32E-48C1-B17A-6DDD6BC2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AE2F-41F0-4E23-9869-5B3D6BF9B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Arial"/>
              </a:rPr>
              <a:t>Кровь – как показатель здоровь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000680"/>
            <a:ext cx="377676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Автор:учитель биологии МБОУ СОШ № 33 Дождикова Гал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Г. Нижний Таг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61730"/>
          <p:cNvPicPr/>
          <p:nvPr/>
        </p:nvPicPr>
        <p:blipFill>
          <a:blip r:embed="rId1"/>
          <a:stretch/>
        </p:blipFill>
        <p:spPr>
          <a:xfrm rot="20889600">
            <a:off x="539280" y="3644640"/>
            <a:ext cx="273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ГЕМОЛИМФ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емо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лимфа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жидкость, циркулирующая в сосудах и межклеточных полостях многих беспозвоночных животных (членистоногие, онихофоры, моллюски) с незамкнутой системой кровообращения. Выполняет те же функции, что кровь и лим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257"/>
          <p:cNvPicPr/>
          <p:nvPr/>
        </p:nvPicPr>
        <p:blipFill>
          <a:blip r:embed="rId1"/>
          <a:stretch/>
        </p:blipFill>
        <p:spPr>
          <a:xfrm>
            <a:off x="5940360" y="2565360"/>
            <a:ext cx="2673360" cy="212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0379"/>
          <p:cNvPicPr/>
          <p:nvPr/>
        </p:nvPicPr>
        <p:blipFill>
          <a:blip r:embed="rId2"/>
          <a:stretch/>
        </p:blipFill>
        <p:spPr>
          <a:xfrm>
            <a:off x="3419640" y="2492280"/>
            <a:ext cx="2266920" cy="312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0246"/>
          <p:cNvPicPr/>
          <p:nvPr/>
        </p:nvPicPr>
        <p:blipFill>
          <a:blip r:embed="rId3"/>
          <a:stretch/>
        </p:blipFill>
        <p:spPr>
          <a:xfrm>
            <a:off x="179280" y="4437000"/>
            <a:ext cx="3095640" cy="207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 человека в среднем                                                5,2 л крови (у мужчи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и 3,9 л (у женщи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4"/>
          <p:cNvPicPr/>
          <p:nvPr/>
        </p:nvPicPr>
        <p:blipFill>
          <a:blip r:embed="rId1"/>
          <a:stretch/>
        </p:blipFill>
        <p:spPr>
          <a:xfrm>
            <a:off x="5292720" y="333360"/>
            <a:ext cx="3311640" cy="27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2"/>
          <p:cNvPicPr/>
          <p:nvPr/>
        </p:nvPicPr>
        <p:blipFill>
          <a:blip r:embed="rId2"/>
          <a:stretch/>
        </p:blipFill>
        <p:spPr>
          <a:xfrm>
            <a:off x="5219640" y="357336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259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РИТРОЦИТЫ 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(красные кровяные клетки; от греч. erythros — красный и...цит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высокоспецифичные клетки крови животных и человека, содержащие гемоглоби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66ff"/>
                </a:solidFill>
                <a:latin typeface="Arial"/>
              </a:rPr>
              <a:t>Переносят кислород от легких к тканям и двуокись углерода от тканей к органам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8д6е"/>
          <p:cNvPicPr/>
          <p:nvPr/>
        </p:nvPicPr>
        <p:blipFill>
          <a:blip r:embed="rId1"/>
          <a:stretch/>
        </p:blipFill>
        <p:spPr>
          <a:xfrm>
            <a:off x="4716360" y="333360"/>
            <a:ext cx="4103640" cy="424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-6"/>
          <p:cNvPicPr/>
          <p:nvPr/>
        </p:nvPicPr>
        <p:blipFill>
          <a:blip r:embed="rId2"/>
          <a:stretch/>
        </p:blipFill>
        <p:spPr>
          <a:xfrm>
            <a:off x="971640" y="4653000"/>
            <a:ext cx="2952720" cy="187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0334"/>
          <p:cNvPicPr/>
          <p:nvPr/>
        </p:nvPicPr>
        <p:blipFill>
          <a:blip r:embed="rId1"/>
          <a:stretch/>
        </p:blipFill>
        <p:spPr>
          <a:xfrm>
            <a:off x="4284720" y="2708280"/>
            <a:ext cx="4680000" cy="352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ЙКОЦИТ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елые кровяные клетки; от лейко... и..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бесцветные клетки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крови человека и животных. Функция лейкоцитов - защита от микро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0601"/>
          <p:cNvPicPr/>
          <p:nvPr/>
        </p:nvPicPr>
        <p:blipFill>
          <a:blip r:embed="rId2"/>
          <a:stretch/>
        </p:blipFill>
        <p:spPr>
          <a:xfrm>
            <a:off x="1476360" y="2276640"/>
            <a:ext cx="4726080" cy="43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3754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ТРОМБОЦ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(от тром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...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цит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клетки крови позвоночных животных, содержащие ядро (кроме млекопитающих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Участвуют в свертывании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5148360" y="4292640"/>
            <a:ext cx="2448000" cy="229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336"/>
          <p:cNvPicPr/>
          <p:nvPr/>
        </p:nvPicPr>
        <p:blipFill>
          <a:blip r:embed="rId2"/>
          <a:stretch/>
        </p:blipFill>
        <p:spPr>
          <a:xfrm>
            <a:off x="4284720" y="476280"/>
            <a:ext cx="434484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Анализ крови -показатель работы орган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щеклиническое исследование крови- один из важнейших диагностических методов, так как кроветворные органы быстро реагируют на любые воздействия на организм, что находит отражение в изменении картины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graf_25"/>
          <p:cNvPicPr/>
          <p:nvPr/>
        </p:nvPicPr>
        <p:blipFill>
          <a:blip r:embed="rId1"/>
          <a:stretch/>
        </p:blipFill>
        <p:spPr>
          <a:xfrm>
            <a:off x="755640" y="177336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erz"/>
          <p:cNvPicPr/>
          <p:nvPr/>
        </p:nvPicPr>
        <p:blipFill>
          <a:blip r:embed="rId2"/>
          <a:stretch/>
        </p:blipFill>
        <p:spPr>
          <a:xfrm>
            <a:off x="971640" y="1844640"/>
            <a:ext cx="1512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Что определяет анализ кров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бщеклинический анализ крови обычно включает в себя 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гемоглобина, количества эритроцитов, подсчет лейкоцитарной формулы, определение РОЭ , количество тромбоцитов и другие показ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TN032"/>
          <p:cNvPicPr/>
          <p:nvPr/>
        </p:nvPicPr>
        <p:blipFill>
          <a:blip r:embed="rId1"/>
          <a:stretch/>
        </p:blipFill>
        <p:spPr>
          <a:xfrm>
            <a:off x="5508720" y="1268280"/>
            <a:ext cx="31669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Большинство показателей определяется при микроскопическом исследовании мазка крови, окрашенного специальными крас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29"/>
          <p:cNvPicPr/>
          <p:nvPr/>
        </p:nvPicPr>
        <p:blipFill>
          <a:blip r:embed="rId1"/>
          <a:stretch/>
        </p:blipFill>
        <p:spPr>
          <a:xfrm>
            <a:off x="5067360" y="260280"/>
            <a:ext cx="3465360" cy="35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0028"/>
          <p:cNvPicPr/>
          <p:nvPr/>
        </p:nvPicPr>
        <p:blipFill>
          <a:blip r:embed="rId2"/>
          <a:stretch/>
        </p:blipFill>
        <p:spPr>
          <a:xfrm>
            <a:off x="3419640" y="4005360"/>
            <a:ext cx="295272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 норме в крови должны бы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Organization Chart 6"/>
          <p:cNvGrpSpPr/>
          <p:nvPr/>
        </p:nvGrpSpPr>
        <p:grpSpPr>
          <a:xfrm>
            <a:off x="431640" y="1585800"/>
            <a:ext cx="8208360" cy="4462920"/>
            <a:chOff x="431640" y="1585800"/>
            <a:chExt cx="8208360" cy="446292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>
              <a:off x="1662840" y="4374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693040" y="154296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4" idx="2"/>
            </p:cNvCxnSpPr>
            <p:nvPr/>
          </p:nvCxnSpPr>
          <p:spPr>
            <a:xfrm flipV="1">
              <a:off x="4536000" y="2700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1" idx="0"/>
              <a:endCxn id="104" idx="2"/>
            </p:cNvCxnSpPr>
            <p:nvPr/>
          </p:nvCxnSpPr>
          <p:spPr>
            <a:xfrm flipH="1" flipV="1" rot="5400000">
              <a:off x="2820240" y="154332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2"/>
            <p:cNvSpPr/>
            <p:nvPr/>
          </p:nvSpPr>
          <p:spPr>
            <a:xfrm>
              <a:off x="3304440" y="158580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Arial"/>
                </a:rPr>
                <a:t>Клетки кров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 мм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4316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Arial"/>
                </a:rPr>
                <a:t>Эритр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9-4.7 млн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3044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Лейк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9-9.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5"/>
            <p:cNvSpPr/>
            <p:nvPr/>
          </p:nvSpPr>
          <p:spPr>
            <a:xfrm>
              <a:off x="617760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Тромб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0-38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31640" y="493308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Гемоглоб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0-140 г/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Отклонение от нормы может стать причиной заболева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АНЕМИЯ (малокровие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группа заболеваний, при которых в крови уменьшается содержание эритроцитов и/или гемоглобина, что приводит к гипоксии. Анемия может возникать в результате кровотечения (постгеморрагическая анемия), нарушения крово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003"/>
          <p:cNvPicPr/>
          <p:nvPr/>
        </p:nvPicPr>
        <p:blipFill>
          <a:blip r:embed="rId1"/>
          <a:stretch/>
        </p:blipFill>
        <p:spPr>
          <a:xfrm>
            <a:off x="5076720" y="1700280"/>
            <a:ext cx="359892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400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1. Рассмотреть эволюцию кровеносной системы, значение крови и ее компонентов и их роль в диагностике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 Доказать, что кровь является одним из важнейших показателей работы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602"/>
          <p:cNvPicPr/>
          <p:nvPr/>
        </p:nvPicPr>
        <p:blipFill>
          <a:blip r:embed="rId1"/>
          <a:stretch/>
        </p:blipFill>
        <p:spPr>
          <a:xfrm>
            <a:off x="5580000" y="134136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0346"/>
          <p:cNvPicPr/>
          <p:nvPr/>
        </p:nvPicPr>
        <p:blipFill>
          <a:blip r:embed="rId2"/>
          <a:stretch/>
        </p:blipFill>
        <p:spPr>
          <a:xfrm>
            <a:off x="5580000" y="4149720"/>
            <a:ext cx="3167280" cy="244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5483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ЛЕЙКОЗ (лейкемия, белокровие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пухолевые заболевания кроветворной ткани с поражением костного мозга и вытеснением нормальных ростков кроветворения, увеличением лимфатических узлов и селезенки, изменениями в картине крови и другими проявления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Количество лейкоцитов может быть изменено и быть симптомами ОРВИ, пневмонии, тонзиллита, инфаркта, аллергии и други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eachball2"/>
          <p:cNvPicPr/>
          <p:nvPr/>
        </p:nvPicPr>
        <p:blipFill>
          <a:blip r:embed="rId1"/>
          <a:stretch/>
        </p:blipFill>
        <p:spPr>
          <a:xfrm>
            <a:off x="6227640" y="620640"/>
            <a:ext cx="2665440" cy="316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0166"/>
          <p:cNvPicPr/>
          <p:nvPr/>
        </p:nvPicPr>
        <p:blipFill>
          <a:blip r:embed="rId2"/>
          <a:stretch/>
        </p:blipFill>
        <p:spPr>
          <a:xfrm>
            <a:off x="6227640" y="4221000"/>
            <a:ext cx="2592360" cy="20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ГЕМОФИЛИЯ (от гемо... и ...филия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наследственное заболевание, обусловленное недостаточностью системы свертывания крови и проявляющееся кровоточив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С100"/>
          <p:cNvPicPr/>
          <p:nvPr/>
        </p:nvPicPr>
        <p:blipFill>
          <a:blip r:embed="rId1"/>
          <a:stretch/>
        </p:blipFill>
        <p:spPr>
          <a:xfrm>
            <a:off x="539640" y="3213000"/>
            <a:ext cx="216072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335"/>
          <p:cNvPicPr/>
          <p:nvPr/>
        </p:nvPicPr>
        <p:blipFill>
          <a:blip r:embed="rId2"/>
          <a:stretch/>
        </p:blipFill>
        <p:spPr>
          <a:xfrm>
            <a:off x="3276720" y="3213000"/>
            <a:ext cx="5249880" cy="313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Кровь является не только сигналом болезни, но и средством спасения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11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ЕЛИВАНИЕ  КРОВИ (гемотрансфузия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лечебный метод, заключающийся во введении в кровеносное русло больного (реципиента) цельной крови или ее компонентов, заготовленных от донора или от самого реципиента (аутогемотрансфузия), а также крови, излившейся в полости тела при травмах и опер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385"/>
          <p:cNvPicPr/>
          <p:nvPr/>
        </p:nvPicPr>
        <p:blipFill>
          <a:blip r:embed="rId1"/>
          <a:stretch/>
        </p:blipFill>
        <p:spPr>
          <a:xfrm>
            <a:off x="4716360" y="3213000"/>
            <a:ext cx="4175280" cy="3452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Мишка"/>
          <p:cNvPicPr/>
          <p:nvPr/>
        </p:nvPicPr>
        <p:blipFill>
          <a:blip r:embed="rId2"/>
          <a:stretch/>
        </p:blipFill>
        <p:spPr>
          <a:xfrm>
            <a:off x="6012000" y="1268280"/>
            <a:ext cx="1800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Контроль за состоянием показателей крови и своевременная помощь при отклонениях от нормы, помогут вам сохранять свое здоровье, быть жизнерадостными и оптимисти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 rot="5400000">
            <a:off x="-1627200" y="4011480"/>
            <a:ext cx="4279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Будьте здоровы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5" descr="jazz"/>
          <p:cNvPicPr/>
          <p:nvPr/>
        </p:nvPicPr>
        <p:blipFill>
          <a:blip r:embed="rId1"/>
          <a:stretch/>
        </p:blipFill>
        <p:spPr>
          <a:xfrm>
            <a:off x="1116000" y="2349360"/>
            <a:ext cx="198612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1727"/>
          <p:cNvPicPr/>
          <p:nvPr/>
        </p:nvPicPr>
        <p:blipFill>
          <a:blip r:embed="rId2"/>
          <a:stretch/>
        </p:blipFill>
        <p:spPr>
          <a:xfrm>
            <a:off x="6300720" y="321300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otus"/>
          <p:cNvPicPr/>
          <p:nvPr/>
        </p:nvPicPr>
        <p:blipFill>
          <a:blip r:embed="rId3"/>
          <a:stretch/>
        </p:blipFill>
        <p:spPr>
          <a:xfrm>
            <a:off x="3203640" y="3860640"/>
            <a:ext cx="25923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403280" y="1628640"/>
            <a:ext cx="6840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еуу"/>
          <p:cNvPicPr/>
          <p:nvPr/>
        </p:nvPicPr>
        <p:blipFill>
          <a:blip r:embed="rId1"/>
          <a:stretch/>
        </p:blipFill>
        <p:spPr>
          <a:xfrm>
            <a:off x="4859280" y="333360"/>
            <a:ext cx="403380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ОВЕНОСНАЯ СИСТЕМ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совокупность сосудов и полостей, по которым циркулирует кровь 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емолим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большинства беспозвоночных животных незамкнутый круг кровообращения (гемолимфа движется благодаря сокращениям мышц тела и сосуд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этих животных  незамкнутая кровеносная система (сосуды прерываются щелевидными простран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0051"/>
          <p:cNvPicPr/>
          <p:nvPr/>
        </p:nvPicPr>
        <p:blipFill>
          <a:blip r:embed="rId1"/>
          <a:stretch/>
        </p:blipFill>
        <p:spPr>
          <a:xfrm>
            <a:off x="5796000" y="4365720"/>
            <a:ext cx="302400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0054"/>
          <p:cNvPicPr/>
          <p:nvPr/>
        </p:nvPicPr>
        <p:blipFill>
          <a:blip r:embed="rId2"/>
          <a:stretch/>
        </p:blipFill>
        <p:spPr>
          <a:xfrm rot="21274800">
            <a:off x="250560" y="189000"/>
            <a:ext cx="2975040" cy="199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0090"/>
          <p:cNvPicPr/>
          <p:nvPr/>
        </p:nvPicPr>
        <p:blipFill>
          <a:blip r:embed="rId3"/>
          <a:stretch/>
        </p:blipFill>
        <p:spPr>
          <a:xfrm>
            <a:off x="684360" y="4365720"/>
            <a:ext cx="26636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0249"/>
          <p:cNvPicPr/>
          <p:nvPr/>
        </p:nvPicPr>
        <p:blipFill>
          <a:blip r:embed="rId4"/>
          <a:stretch/>
        </p:blipFill>
        <p:spPr>
          <a:xfrm rot="544200">
            <a:off x="5363640" y="333360"/>
            <a:ext cx="2873520" cy="177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4032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У некоторых высших беспозвоночных, всех позвоночных животных и человека замкнутая кровеносная система (кровь движется только по сосуд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земноводных, пресмыкающихся, млекопитающих и птиц два круга кровообращения. У млекопитающих (в т. ч. человека) и птиц схема кровообращения в принципе одинак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енг"/>
          <p:cNvPicPr/>
          <p:nvPr/>
        </p:nvPicPr>
        <p:blipFill>
          <a:blip r:embed="rId1"/>
          <a:stretch/>
        </p:blipFill>
        <p:spPr>
          <a:xfrm>
            <a:off x="5651640" y="18900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221"/>
          <p:cNvPicPr/>
          <p:nvPr/>
        </p:nvPicPr>
        <p:blipFill>
          <a:blip r:embed="rId2"/>
          <a:stretch/>
        </p:blipFill>
        <p:spPr>
          <a:xfrm rot="21370800">
            <a:off x="4284720" y="4076640"/>
            <a:ext cx="2012760" cy="240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185"/>
          <p:cNvPicPr/>
          <p:nvPr/>
        </p:nvPicPr>
        <p:blipFill>
          <a:blip r:embed="rId3"/>
          <a:stretch/>
        </p:blipFill>
        <p:spPr>
          <a:xfrm>
            <a:off x="2843280" y="1773360"/>
            <a:ext cx="252072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278"/>
          <p:cNvPicPr/>
          <p:nvPr/>
        </p:nvPicPr>
        <p:blipFill>
          <a:blip r:embed="rId4"/>
          <a:stretch/>
        </p:blipFill>
        <p:spPr>
          <a:xfrm>
            <a:off x="6659640" y="3716280"/>
            <a:ext cx="2484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39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ОВООБРАЩЕНИ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движение крови в кровеносной системе, обусловливаемое главным образом сокращениями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не8ш"/>
          <p:cNvPicPr/>
          <p:nvPr/>
        </p:nvPicPr>
        <p:blipFill>
          <a:blip r:embed="rId1"/>
          <a:stretch/>
        </p:blipFill>
        <p:spPr>
          <a:xfrm>
            <a:off x="4716360" y="0"/>
            <a:ext cx="3961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2602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Сердце некоторых пресмыкающихся (крокодилы), птиц, млекопитающих и человека — полый мышечный орган, разделенный на 4 камеры: правое и левое предсердия, правый и левый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желуд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384720" cy="3124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0349"/>
          <p:cNvPicPr/>
          <p:nvPr/>
        </p:nvPicPr>
        <p:blipFill>
          <a:blip r:embed="rId2"/>
          <a:stretch/>
        </p:blipFill>
        <p:spPr>
          <a:xfrm>
            <a:off x="3059280" y="3716280"/>
            <a:ext cx="1982520" cy="249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0339"/>
          <p:cNvPicPr/>
          <p:nvPr/>
        </p:nvPicPr>
        <p:blipFill>
          <a:blip r:embed="rId3"/>
          <a:stretch/>
        </p:blipFill>
        <p:spPr>
          <a:xfrm>
            <a:off x="5508720" y="4365720"/>
            <a:ext cx="3378240" cy="22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258920" y="260280"/>
            <a:ext cx="2665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У человека сердце заключено в околосердечную сумку (перикард) и расположено в средостении грудной пол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57кл"/>
          <p:cNvPicPr/>
          <p:nvPr/>
        </p:nvPicPr>
        <p:blipFill>
          <a:blip r:embed="rId1"/>
          <a:stretch/>
        </p:blipFill>
        <p:spPr>
          <a:xfrm>
            <a:off x="3564000" y="62064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4475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жидкая ткань, циркулирующая в кровеносной системе позвоночных животных и человека. Состоит из плазмы и форменных элементов (эритроциты, лейкоциты, тромбоциты и др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 цвет крови придает гемоглобин, содержащийся в эритроцит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1 мм3 крови 3,9-5,0 млн. эритроцитов, 4-9 тыс. лейкоцитов, 180-320 тыс. тромбоцитов; гемоглобина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к. 13-16 г в 100 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й2345ц"/>
          <p:cNvPicPr/>
          <p:nvPr/>
        </p:nvPicPr>
        <p:blipFill>
          <a:blip r:embed="rId1"/>
          <a:stretch/>
        </p:blipFill>
        <p:spPr>
          <a:xfrm>
            <a:off x="4859280" y="549360"/>
            <a:ext cx="428472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7:13:13Z</dcterms:created>
  <dc:creator>Admin</dc:creator>
  <dc:description/>
  <dc:language>en-US</dc:language>
  <cp:lastModifiedBy>КарМаН</cp:lastModifiedBy>
  <dcterms:modified xsi:type="dcterms:W3CDTF">2012-07-19T21:11:51Z</dcterms:modified>
  <cp:revision>8</cp:revision>
  <dc:subject/>
  <dc:title>Кровь</dc:title>
</cp:coreProperties>
</file>