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7086-538B-4FD7-BBC2-3CF6E80F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610A-C052-456C-B8A2-DB704207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CEB-90CB-40C8-A29B-D0A8199A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EE2-3AAB-4E22-A8A1-E9C58C57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176-AC1E-4790-A3AD-BBA87388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661-E8F8-4165-A5E2-6E44C7B9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2F7-93C7-4B8B-AC54-92527E78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9B4-C66B-47EF-9D5B-B36AC9AF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B8C-FF16-430B-AC7F-FA5BCD50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635-B599-495D-8227-28A095AB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5A9-ABBC-41BC-9687-D53172B4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723-C700-469D-998E-87394FD2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5CB0-C966-4011-B94A-50362FB52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87280" y="5057280"/>
            <a:ext cx="61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высшей категории Севостьянова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СОШ № 1 им. Б.Н.Кули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емикарак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Изображение 007"/>
          <p:cNvPicPr/>
          <p:nvPr/>
        </p:nvPicPr>
        <p:blipFill>
          <a:blip r:embed="rId1"/>
          <a:stretch/>
        </p:blipFill>
        <p:spPr>
          <a:xfrm>
            <a:off x="0" y="1341360"/>
            <a:ext cx="2425680" cy="5516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692360" y="260280"/>
            <a:ext cx="7451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Условия 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растания 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семян</a:t>
            </a:r>
            <a:endParaRPr b="0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ыт №1. Влияние воды на прорастание семя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364000" y="242100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sfd"/>
          <p:cNvPicPr/>
          <p:nvPr/>
        </p:nvPicPr>
        <p:blipFill>
          <a:blip r:embed="rId1"/>
          <a:stretch/>
        </p:blipFill>
        <p:spPr>
          <a:xfrm>
            <a:off x="2771640" y="5300640"/>
            <a:ext cx="43524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sfd"/>
          <p:cNvPicPr/>
          <p:nvPr/>
        </p:nvPicPr>
        <p:blipFill>
          <a:blip r:embed="rId2"/>
          <a:stretch/>
        </p:blipFill>
        <p:spPr>
          <a:xfrm>
            <a:off x="2195640" y="573408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fd"/>
          <p:cNvPicPr/>
          <p:nvPr/>
        </p:nvPicPr>
        <p:blipFill>
          <a:blip r:embed="rId3"/>
          <a:stretch/>
        </p:blipFill>
        <p:spPr>
          <a:xfrm>
            <a:off x="1619280" y="537372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Изображение 00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084720" y="5300640"/>
            <a:ext cx="93348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3112200">
            <a:off x="6692400" y="490824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8219000">
            <a:off x="5396040" y="4836600"/>
            <a:ext cx="861840" cy="493920"/>
          </a:xfrm>
          <a:prstGeom prst="rect">
            <a:avLst/>
          </a:prstGeom>
          <a:ln w="0">
            <a:noFill/>
          </a:ln>
        </p:spPr>
      </p:pic>
      <p:sp>
        <p:nvSpPr>
          <p:cNvPr id="89" name="Freeform 20"/>
          <p:cNvSpPr/>
          <p:nvPr/>
        </p:nvSpPr>
        <p:spPr>
          <a:xfrm>
            <a:off x="5364000" y="5589720"/>
            <a:ext cx="2232360" cy="21564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406" h="136">
                <a:moveTo>
                  <a:pt x="0" y="0"/>
                </a:moveTo>
                <a:cubicBezTo>
                  <a:pt x="223" y="68"/>
                  <a:pt x="446" y="136"/>
                  <a:pt x="680" y="136"/>
                </a:cubicBezTo>
                <a:cubicBezTo>
                  <a:pt x="914" y="136"/>
                  <a:pt x="1285" y="23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51280" y="5805000"/>
            <a:ext cx="1616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воздуха на прорас-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2268360" y="472428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Изображение 002"/>
          <p:cNvPicPr/>
          <p:nvPr/>
        </p:nvPicPr>
        <p:blipFill>
          <a:blip r:embed="rId2"/>
          <a:stretch/>
        </p:blipFill>
        <p:spPr>
          <a:xfrm>
            <a:off x="1403280" y="51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Изображение 002"/>
          <p:cNvPicPr/>
          <p:nvPr/>
        </p:nvPicPr>
        <p:blipFill>
          <a:blip r:embed="rId3"/>
          <a:stretch/>
        </p:blipFill>
        <p:spPr>
          <a:xfrm>
            <a:off x="197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Изображение 002"/>
          <p:cNvPicPr/>
          <p:nvPr/>
        </p:nvPicPr>
        <p:blipFill>
          <a:blip r:embed="rId4"/>
          <a:stretch/>
        </p:blipFill>
        <p:spPr>
          <a:xfrm>
            <a:off x="2843280" y="5300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9"/>
          <p:cNvSpPr/>
          <p:nvPr/>
        </p:nvSpPr>
        <p:spPr>
          <a:xfrm>
            <a:off x="5508720" y="234936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1" descr="Изображение 002"/>
          <p:cNvPicPr/>
          <p:nvPr/>
        </p:nvPicPr>
        <p:blipFill>
          <a:blip r:embed="rId5"/>
          <a:stretch/>
        </p:blipFill>
        <p:spPr>
          <a:xfrm>
            <a:off x="5580000" y="4653000"/>
            <a:ext cx="2016360" cy="1147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4220640"/>
            <a:ext cx="15444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5940360" y="5734080"/>
            <a:ext cx="1544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1332000" y="3860640"/>
            <a:ext cx="2232000" cy="36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406" h="227">
                <a:moveTo>
                  <a:pt x="0" y="0"/>
                </a:moveTo>
                <a:cubicBezTo>
                  <a:pt x="223" y="113"/>
                  <a:pt x="446" y="227"/>
                  <a:pt x="680" y="227"/>
                </a:cubicBezTo>
                <a:cubicBezTo>
                  <a:pt x="914" y="227"/>
                  <a:pt x="1285" y="38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5508720" y="5373720"/>
            <a:ext cx="2232000" cy="442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406" h="279">
                <a:moveTo>
                  <a:pt x="0" y="45"/>
                </a:moveTo>
                <a:cubicBezTo>
                  <a:pt x="223" y="162"/>
                  <a:pt x="446" y="279"/>
                  <a:pt x="680" y="272"/>
                </a:cubicBezTo>
                <a:cubicBezTo>
                  <a:pt x="914" y="265"/>
                  <a:pt x="1160" y="132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тепла на 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364000" y="249228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fd"/>
          <p:cNvPicPr/>
          <p:nvPr/>
        </p:nvPicPr>
        <p:blipFill>
          <a:blip r:embed="rId1"/>
          <a:stretch/>
        </p:blipFill>
        <p:spPr>
          <a:xfrm>
            <a:off x="5724360" y="558972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fd"/>
          <p:cNvPicPr/>
          <p:nvPr/>
        </p:nvPicPr>
        <p:blipFill>
          <a:blip r:embed="rId2"/>
          <a:stretch/>
        </p:blipFill>
        <p:spPr>
          <a:xfrm>
            <a:off x="6372360" y="5661000"/>
            <a:ext cx="363240" cy="37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fd"/>
          <p:cNvPicPr/>
          <p:nvPr/>
        </p:nvPicPr>
        <p:blipFill>
          <a:blip r:embed="rId3"/>
          <a:stretch/>
        </p:blipFill>
        <p:spPr>
          <a:xfrm>
            <a:off x="6877080" y="544500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Изображение 001"/>
          <p:cNvPicPr/>
          <p:nvPr/>
        </p:nvPicPr>
        <p:blipFill>
          <a:blip r:embed="rId4">
            <a:lum contrast="18000"/>
          </a:blip>
          <a:stretch/>
        </p:blipFill>
        <p:spPr>
          <a:xfrm rot="18219000">
            <a:off x="1434960" y="5197320"/>
            <a:ext cx="861840" cy="493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550200">
            <a:off x="2123640" y="537372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1143800">
            <a:off x="2410920" y="4941360"/>
            <a:ext cx="862200" cy="493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76000" y="3860280"/>
            <a:ext cx="1832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508720" y="4005360"/>
            <a:ext cx="1832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1332000" y="5589720"/>
            <a:ext cx="2232000" cy="3729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7"/>
          <p:cNvSpPr/>
          <p:nvPr/>
        </p:nvSpPr>
        <p:spPr>
          <a:xfrm>
            <a:off x="5364000" y="5661000"/>
            <a:ext cx="2232360" cy="37296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74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ператур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Изображение 00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76360" y="907920"/>
            <a:ext cx="629928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ловия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r6"/>
          <p:cNvPicPr/>
          <p:nvPr/>
        </p:nvPicPr>
        <p:blipFill>
          <a:blip r:embed="rId1"/>
          <a:stretch/>
        </p:blipFill>
        <p:spPr>
          <a:xfrm>
            <a:off x="1692360" y="1341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этап – Поглощени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этап – Набухание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этап – Увеличение размеров. Делени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этап – Появление кор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этап – Появление зародышевого поб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фасоли от семени до взрослого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1384200"/>
            <a:ext cx="537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1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Изображение 00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1484280"/>
            <a:ext cx="88585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90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тройство современного элев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Изображение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907920"/>
            <a:ext cx="712944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бораторная работа № 17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учиться проращивать семена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сти дневник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оросшие семена пшеницы, ячменя, фасоли, гороха, ты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69192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роль семени в индивидуальном развитии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понятие об условиях прорастания семян, росте и развитии про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обсуждать проблемные вопросы, анализировать, работать с различными источниками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 при выполнении лаборатор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ть за столом следует аккур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орожно пользоваться стеклянной посу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чее место держать в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боте строго выполнять указан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ыполнения работы привести в порядок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дсчитайте число проросших семян в каждой пробе (1 –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проба – посеяно 100 шт., проросло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проба – посеяно 100 шт., проросло 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считайте средний процент всхожести семян, приняв 100 посеянных семян за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+95+93+94):4=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гротехнические знания необходимы для подготов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Для этого необходимо знать…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6836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ю-не вер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2" name="Picture 8" descr="Изображение 00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052640"/>
            <a:ext cx="914400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95280" y="5589720"/>
          <a:ext cx="8381880" cy="10969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бяз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§21 прочитать, пересказать, выучить основные понятия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ознав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полнить рабочие тетради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ворческ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готовить коллекцию семян культур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900000" y="981000"/>
            <a:ext cx="42004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онятия о значении зародыша с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по проведению наблюдений за опытами и объяснению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признаки жив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" y="1628640"/>
            <a:ext cx="8209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 обмен веществ, питание, дыхание, выделение, раздражимость, подвижность, размножение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68360" y="1484280"/>
            <a:ext cx="820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йное оплодотворение у покрытосемен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лоды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1280" y="1103400"/>
            <a:ext cx="7848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онтогене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6400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одотворение яйце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зиг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кратное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зарод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с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500720" y="1628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450072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00720" y="414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ласс Двудо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Изображение"/>
          <p:cNvPicPr/>
          <p:nvPr/>
        </p:nvPicPr>
        <p:blipFill>
          <a:blip r:embed="rId1"/>
          <a:stretch/>
        </p:blipFill>
        <p:spPr>
          <a:xfrm>
            <a:off x="755640" y="1700280"/>
            <a:ext cx="4106880" cy="4402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500720" y="4149720"/>
            <a:ext cx="25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500720" y="5157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ура с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500720" y="3141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572000" y="1989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500720" y="2421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4360" y="6165720"/>
            <a:ext cx="50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семени фа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"/>
          <p:cNvPicPr/>
          <p:nvPr/>
        </p:nvPicPr>
        <p:blipFill>
          <a:blip r:embed="rId1"/>
          <a:stretch/>
        </p:blipFill>
        <p:spPr>
          <a:xfrm>
            <a:off x="3419640" y="1557360"/>
            <a:ext cx="2263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836640"/>
            <a:ext cx="8218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 Однод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826920" y="2421000"/>
            <a:ext cx="273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плодник, сросшийся с семенной к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о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580000" y="2276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спе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580000" y="4292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580000" y="486900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5580000" y="537372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80000" y="573408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979640" y="6354720"/>
            <a:ext cx="504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зерновки пше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плоды2"/>
          <p:cNvPicPr/>
          <p:nvPr/>
        </p:nvPicPr>
        <p:blipFill>
          <a:blip r:embed="rId1"/>
          <a:stretch/>
        </p:blipFill>
        <p:spPr>
          <a:xfrm>
            <a:off x="468360" y="1117440"/>
            <a:ext cx="8316720" cy="574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пособления к распространению плодов 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8:13:47Z</dcterms:created>
  <dc:creator>Олег</dc:creator>
  <dc:description/>
  <dc:language>en-US</dc:language>
  <cp:lastModifiedBy>Мама</cp:lastModifiedBy>
  <dcterms:modified xsi:type="dcterms:W3CDTF">2012-07-28T16:35:21Z</dcterms:modified>
  <cp:revision>20</cp:revision>
  <dc:subject/>
  <dc:title>Тема:Условия прорастания семян</dc:title>
</cp:coreProperties>
</file>