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E331-D2BB-4038-8310-58DA9DC9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05FA-87F7-4145-B91A-18709ACB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ECA9-E8AC-49F6-A7BC-3086D12A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4599-FCAB-4DBD-BF81-088E30CD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0B98-552F-4D13-B466-94E566FC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2E14-E381-40EB-8184-D20C6AAC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8976-02EE-4816-820A-D2770DAA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226A-7CBE-4794-8825-0A9642FB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8B90-D863-494C-906A-E4D93AFE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9361-8C17-4701-A599-400F6DFC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323D-F281-4E60-8792-A90578EC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F069-2297-4CA2-904E-C84D1EE1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D5CD-7926-4A08-9D97-C48B7ED2E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987280" y="5057280"/>
            <a:ext cx="6156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выполнила учитель высшей категории Севостьянова Г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«СОШ № 1 им. Б.Н.Кулико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Семикарако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Изображение 007"/>
          <p:cNvPicPr/>
          <p:nvPr/>
        </p:nvPicPr>
        <p:blipFill>
          <a:blip r:embed="rId1"/>
          <a:stretch/>
        </p:blipFill>
        <p:spPr>
          <a:xfrm>
            <a:off x="0" y="1341360"/>
            <a:ext cx="2425680" cy="551664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1692360" y="260280"/>
            <a:ext cx="74516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Условия 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рорастания </a:t>
            </a:r>
            <a:endParaRPr b="0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семян</a:t>
            </a:r>
            <a:endParaRPr b="0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пыт №1. Влияние воды на прорастание семя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5364000" y="2421000"/>
            <a:ext cx="223236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sfd"/>
          <p:cNvPicPr/>
          <p:nvPr/>
        </p:nvPicPr>
        <p:blipFill>
          <a:blip r:embed="rId1"/>
          <a:stretch/>
        </p:blipFill>
        <p:spPr>
          <a:xfrm>
            <a:off x="2771640" y="5300640"/>
            <a:ext cx="435240" cy="44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sfd"/>
          <p:cNvPicPr/>
          <p:nvPr/>
        </p:nvPicPr>
        <p:blipFill>
          <a:blip r:embed="rId2"/>
          <a:stretch/>
        </p:blipFill>
        <p:spPr>
          <a:xfrm>
            <a:off x="2195640" y="5734080"/>
            <a:ext cx="433440" cy="447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sfd"/>
          <p:cNvPicPr/>
          <p:nvPr/>
        </p:nvPicPr>
        <p:blipFill>
          <a:blip r:embed="rId3"/>
          <a:stretch/>
        </p:blipFill>
        <p:spPr>
          <a:xfrm>
            <a:off x="1619280" y="5373720"/>
            <a:ext cx="433440" cy="447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Изображение 001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6084720" y="5300640"/>
            <a:ext cx="933480" cy="53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Изображение 001"/>
          <p:cNvPicPr/>
          <p:nvPr/>
        </p:nvPicPr>
        <p:blipFill>
          <a:blip r:embed="rId5">
            <a:lum contrast="18000"/>
          </a:blip>
          <a:stretch/>
        </p:blipFill>
        <p:spPr>
          <a:xfrm rot="3112200">
            <a:off x="6692400" y="4908240"/>
            <a:ext cx="862200" cy="493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Изображение 001"/>
          <p:cNvPicPr/>
          <p:nvPr/>
        </p:nvPicPr>
        <p:blipFill>
          <a:blip r:embed="rId6">
            <a:lum contrast="18000"/>
          </a:blip>
          <a:stretch/>
        </p:blipFill>
        <p:spPr>
          <a:xfrm rot="18219000">
            <a:off x="5396040" y="4836600"/>
            <a:ext cx="861840" cy="493920"/>
          </a:xfrm>
          <a:prstGeom prst="rect">
            <a:avLst/>
          </a:prstGeom>
          <a:ln w="0">
            <a:noFill/>
          </a:ln>
        </p:spPr>
      </p:pic>
      <p:sp>
        <p:nvSpPr>
          <p:cNvPr id="89" name="Freeform 20"/>
          <p:cNvSpPr/>
          <p:nvPr/>
        </p:nvSpPr>
        <p:spPr>
          <a:xfrm>
            <a:off x="5364000" y="5589720"/>
            <a:ext cx="2232360" cy="215640"/>
          </a:xfrm>
          <a:custGeom>
            <a:avLst/>
            <a:gdLst>
              <a:gd name="textAreaLeft" fmla="*/ 0 w 2232360"/>
              <a:gd name="textAreaRight" fmla="*/ 2232360 w 2232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406" h="136">
                <a:moveTo>
                  <a:pt x="0" y="0"/>
                </a:moveTo>
                <a:cubicBezTo>
                  <a:pt x="223" y="68"/>
                  <a:pt x="446" y="136"/>
                  <a:pt x="680" y="136"/>
                </a:cubicBezTo>
                <a:cubicBezTo>
                  <a:pt x="914" y="136"/>
                  <a:pt x="1285" y="23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51280" y="5805000"/>
            <a:ext cx="161604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Влияние воздуха на прорас-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Изображение 002"/>
          <p:cNvPicPr/>
          <p:nvPr/>
        </p:nvPicPr>
        <p:blipFill>
          <a:blip r:embed="rId1"/>
          <a:stretch/>
        </p:blipFill>
        <p:spPr>
          <a:xfrm>
            <a:off x="2268360" y="4724280"/>
            <a:ext cx="725760" cy="725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Изображение 002"/>
          <p:cNvPicPr/>
          <p:nvPr/>
        </p:nvPicPr>
        <p:blipFill>
          <a:blip r:embed="rId2"/>
          <a:stretch/>
        </p:blipFill>
        <p:spPr>
          <a:xfrm>
            <a:off x="1403280" y="5157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Изображение 002"/>
          <p:cNvPicPr/>
          <p:nvPr/>
        </p:nvPicPr>
        <p:blipFill>
          <a:blip r:embed="rId3"/>
          <a:stretch/>
        </p:blipFill>
        <p:spPr>
          <a:xfrm>
            <a:off x="1979640" y="5445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Изображение 002"/>
          <p:cNvPicPr/>
          <p:nvPr/>
        </p:nvPicPr>
        <p:blipFill>
          <a:blip r:embed="rId4"/>
          <a:stretch/>
        </p:blipFill>
        <p:spPr>
          <a:xfrm>
            <a:off x="2843280" y="53006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9"/>
          <p:cNvSpPr/>
          <p:nvPr/>
        </p:nvSpPr>
        <p:spPr>
          <a:xfrm>
            <a:off x="5508720" y="234936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1" descr="Изображение 002"/>
          <p:cNvPicPr/>
          <p:nvPr/>
        </p:nvPicPr>
        <p:blipFill>
          <a:blip r:embed="rId5"/>
          <a:stretch/>
        </p:blipFill>
        <p:spPr>
          <a:xfrm>
            <a:off x="5580000" y="4653000"/>
            <a:ext cx="2016360" cy="11476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4220640"/>
            <a:ext cx="15444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5940360" y="5734080"/>
            <a:ext cx="1544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1"/>
          <p:cNvSpPr/>
          <p:nvPr/>
        </p:nvSpPr>
        <p:spPr>
          <a:xfrm>
            <a:off x="1332000" y="3860640"/>
            <a:ext cx="2232000" cy="3603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406" h="227">
                <a:moveTo>
                  <a:pt x="0" y="0"/>
                </a:moveTo>
                <a:cubicBezTo>
                  <a:pt x="223" y="113"/>
                  <a:pt x="446" y="227"/>
                  <a:pt x="680" y="227"/>
                </a:cubicBezTo>
                <a:cubicBezTo>
                  <a:pt x="914" y="227"/>
                  <a:pt x="1285" y="38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2"/>
          <p:cNvSpPr/>
          <p:nvPr/>
        </p:nvSpPr>
        <p:spPr>
          <a:xfrm>
            <a:off x="5508720" y="5373720"/>
            <a:ext cx="2232000" cy="442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1406" h="279">
                <a:moveTo>
                  <a:pt x="0" y="45"/>
                </a:moveTo>
                <a:cubicBezTo>
                  <a:pt x="223" y="162"/>
                  <a:pt x="446" y="279"/>
                  <a:pt x="680" y="272"/>
                </a:cubicBezTo>
                <a:cubicBezTo>
                  <a:pt x="914" y="265"/>
                  <a:pt x="1160" y="132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Влияние тепла на прорас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5364000" y="2492280"/>
            <a:ext cx="223236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sfd"/>
          <p:cNvPicPr/>
          <p:nvPr/>
        </p:nvPicPr>
        <p:blipFill>
          <a:blip r:embed="rId1"/>
          <a:stretch/>
        </p:blipFill>
        <p:spPr>
          <a:xfrm>
            <a:off x="5724360" y="5589720"/>
            <a:ext cx="363600" cy="376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sfd"/>
          <p:cNvPicPr/>
          <p:nvPr/>
        </p:nvPicPr>
        <p:blipFill>
          <a:blip r:embed="rId2"/>
          <a:stretch/>
        </p:blipFill>
        <p:spPr>
          <a:xfrm>
            <a:off x="6372360" y="5661000"/>
            <a:ext cx="363240" cy="376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sfd"/>
          <p:cNvPicPr/>
          <p:nvPr/>
        </p:nvPicPr>
        <p:blipFill>
          <a:blip r:embed="rId3"/>
          <a:stretch/>
        </p:blipFill>
        <p:spPr>
          <a:xfrm>
            <a:off x="6877080" y="5445000"/>
            <a:ext cx="363600" cy="376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Изображение 001"/>
          <p:cNvPicPr/>
          <p:nvPr/>
        </p:nvPicPr>
        <p:blipFill>
          <a:blip r:embed="rId4">
            <a:lum contrast="18000"/>
          </a:blip>
          <a:stretch/>
        </p:blipFill>
        <p:spPr>
          <a:xfrm rot="18219000">
            <a:off x="1434960" y="5197320"/>
            <a:ext cx="861840" cy="493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Изображение 001"/>
          <p:cNvPicPr/>
          <p:nvPr/>
        </p:nvPicPr>
        <p:blipFill>
          <a:blip r:embed="rId5">
            <a:lum contrast="18000"/>
          </a:blip>
          <a:stretch/>
        </p:blipFill>
        <p:spPr>
          <a:xfrm rot="550200">
            <a:off x="2123640" y="5373720"/>
            <a:ext cx="862200" cy="493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Изображение 001"/>
          <p:cNvPicPr/>
          <p:nvPr/>
        </p:nvPicPr>
        <p:blipFill>
          <a:blip r:embed="rId6">
            <a:lum contrast="18000"/>
          </a:blip>
          <a:stretch/>
        </p:blipFill>
        <p:spPr>
          <a:xfrm rot="11143800">
            <a:off x="2410920" y="4941360"/>
            <a:ext cx="862200" cy="493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76000" y="3860280"/>
            <a:ext cx="183204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п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5508720" y="4005360"/>
            <a:ext cx="1832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л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5"/>
          <p:cNvSpPr/>
          <p:nvPr/>
        </p:nvSpPr>
        <p:spPr>
          <a:xfrm>
            <a:off x="1332000" y="5589720"/>
            <a:ext cx="2232000" cy="3729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406" h="235">
                <a:moveTo>
                  <a:pt x="0" y="46"/>
                </a:moveTo>
                <a:cubicBezTo>
                  <a:pt x="246" y="140"/>
                  <a:pt x="492" y="235"/>
                  <a:pt x="726" y="227"/>
                </a:cubicBezTo>
                <a:cubicBezTo>
                  <a:pt x="960" y="219"/>
                  <a:pt x="1183" y="109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7"/>
          <p:cNvSpPr/>
          <p:nvPr/>
        </p:nvSpPr>
        <p:spPr>
          <a:xfrm>
            <a:off x="5364000" y="5661000"/>
            <a:ext cx="2232360" cy="372960"/>
          </a:xfrm>
          <a:custGeom>
            <a:avLst/>
            <a:gdLst>
              <a:gd name="textAreaLeft" fmla="*/ 0 w 2232360"/>
              <a:gd name="textAreaRight" fmla="*/ 2232360 w 22323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406" h="235">
                <a:moveTo>
                  <a:pt x="0" y="46"/>
                </a:moveTo>
                <a:cubicBezTo>
                  <a:pt x="246" y="140"/>
                  <a:pt x="492" y="235"/>
                  <a:pt x="726" y="227"/>
                </a:cubicBezTo>
                <a:cubicBezTo>
                  <a:pt x="960" y="219"/>
                  <a:pt x="1183" y="109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74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мператур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Изображение 005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476360" y="907920"/>
            <a:ext cx="629928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словия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r6"/>
          <p:cNvPicPr/>
          <p:nvPr/>
        </p:nvPicPr>
        <p:blipFill>
          <a:blip r:embed="rId1"/>
          <a:stretch/>
        </p:blipFill>
        <p:spPr>
          <a:xfrm>
            <a:off x="1692360" y="134136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ап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24000" y="1484280"/>
            <a:ext cx="88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этап – Поглощение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этап – Набухание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этап – Увеличение размеров. Деление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е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этап – Появление коре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этап – Появление зародышевого побе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9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1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звитие фасоли от семени до взрослого раст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835280" y="1384200"/>
            <a:ext cx="5376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ип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Изображение 006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79280" y="1484280"/>
            <a:ext cx="885852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560" y="-27360"/>
            <a:ext cx="9001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стройство современного элеват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Изображение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71640" y="907920"/>
            <a:ext cx="712944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абораторная работа № 17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рас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Научиться проращивать семена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Вести дневник наблю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Определять процент всхожест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роросшие семена пшеницы, ячменя, фасоли, гороха, тык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6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108000" y="691920"/>
            <a:ext cx="8686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зать роль семени в индивидуальном развитии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ь понятие об условиях прорастания семян, росте и развитии пророс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олжить формирование умений обсуждать проблемные вопросы, анализировать, работать с различными источниками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 при выполнении лабораторн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ть за столом следует аккура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делать резких дви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орожно пользоваться стеклянной посу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чее место держать в поряд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работе строго выполнять указания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выполнения работы привести в порядок рабочее м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д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Подсчитайте число проросших семян в каждой пробе (1 – 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шени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проба – посеяно 100 шт., проросло 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проба – посеяно 100 шт., проросло 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проба – посеяно 100 шт., проросло 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проба – посеяно 100 шт., проросло 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одсчитайте средний процент всхожести семян, приняв 100 посеянных семян за 10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4+95+93+94):4=9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Агротехнические знания необходимы для подготов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Для этого необходимо знать…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468360" y="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ерю-не верю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99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2" name="Picture 8" descr="Изображение 008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1052640"/>
            <a:ext cx="9144000" cy="41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395280" y="5589720"/>
          <a:ext cx="8381880" cy="109692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обязательн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§21 прочитать, пересказать, выучить основные понятия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ознавательн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аполнить рабочие тетради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творческ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иготовить коллекцию семян культурных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900000" y="981000"/>
            <a:ext cx="42004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Домашнее задание: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понятия о значении зародыша с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рабатывать умения по проведению наблюдений за опытами и объяснению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иться определять процент всхожест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новные признаки жив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18440" cy="45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т, развити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000" y="1628640"/>
            <a:ext cx="82090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т, развитие, обмен веществ, питание, дыхание, выделение, раздражимость, подвижность, размножение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68360" y="1484280"/>
            <a:ext cx="8209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ойное оплодотворение у покрытосеменных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плоды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11280" y="1103400"/>
            <a:ext cx="78483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апы онтогене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1125360"/>
            <a:ext cx="6400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лодотворение яйцек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зиг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гократное 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зароды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с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4500720" y="162864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4500720" y="2421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4500720" y="3284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500720" y="4149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Класс Двудо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Изображение"/>
          <p:cNvPicPr/>
          <p:nvPr/>
        </p:nvPicPr>
        <p:blipFill>
          <a:blip r:embed="rId1"/>
          <a:stretch/>
        </p:blipFill>
        <p:spPr>
          <a:xfrm>
            <a:off x="755640" y="1700280"/>
            <a:ext cx="4106880" cy="4402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Цветко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4500720" y="4149720"/>
            <a:ext cx="252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яд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4500720" y="515772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жура с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4500720" y="314172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572000" y="198900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бел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4500720" y="242100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684360" y="6165720"/>
            <a:ext cx="50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е семени фас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ветко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Изображение"/>
          <p:cNvPicPr/>
          <p:nvPr/>
        </p:nvPicPr>
        <p:blipFill>
          <a:blip r:embed="rId1"/>
          <a:stretch/>
        </p:blipFill>
        <p:spPr>
          <a:xfrm>
            <a:off x="3419640" y="1557360"/>
            <a:ext cx="2263680" cy="4751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95280" y="836640"/>
            <a:ext cx="8218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 Однодо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826920" y="2421000"/>
            <a:ext cx="2737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олоплодник, сросшийся с семенной ко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уро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5580000" y="227664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доспер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5580000" y="429264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яд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5580000" y="486900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5580000" y="537372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бел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5580000" y="573408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1979640" y="6354720"/>
            <a:ext cx="504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е зерновки пше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плоды2"/>
          <p:cNvPicPr/>
          <p:nvPr/>
        </p:nvPicPr>
        <p:blipFill>
          <a:blip r:embed="rId1"/>
          <a:stretch/>
        </p:blipFill>
        <p:spPr>
          <a:xfrm>
            <a:off x="468360" y="1117440"/>
            <a:ext cx="8316720" cy="574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способления к распространению плодов 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8:13:47Z</dcterms:created>
  <dc:creator>Олег</dc:creator>
  <dc:description/>
  <dc:language>en-US</dc:language>
  <cp:lastModifiedBy>Мама</cp:lastModifiedBy>
  <dcterms:modified xsi:type="dcterms:W3CDTF">2012-07-28T16:35:21Z</dcterms:modified>
  <cp:revision>20</cp:revision>
  <dc:subject/>
  <dc:title>Тема:Условия прорастания семян</dc:title>
</cp:coreProperties>
</file>