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146-0E0D-4C3D-8A89-7D5638BE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A31-0D92-4E1C-8B98-4EA9504A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EA4-A7A5-4168-A80D-9A7C4F3E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774-C924-4A3B-957F-80CD40D2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1C5-3067-41D7-A50D-AD97DE73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F24-FD89-435B-A230-7666921E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1F5-AEC7-4E62-A00E-891ED8F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B7C9-CD10-4197-B57A-B323927A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94D-B191-4B52-80CB-79754643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84C-EC7B-4487-8040-1A83D15C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7F7-2F95-4794-BA57-03E36DBE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FC1-EEFC-4649-B296-0FA969B1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3A43-8380-47B9-B694-B2D670D2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987280" y="5057280"/>
            <a:ext cx="6156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выполнила учитель высшей категории Севостьянова Г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СОШ № 1 им. Б.Н.Кулико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Семикарако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Изображение 007"/>
          <p:cNvPicPr/>
          <p:nvPr/>
        </p:nvPicPr>
        <p:blipFill>
          <a:blip r:embed="rId1"/>
          <a:stretch/>
        </p:blipFill>
        <p:spPr>
          <a:xfrm>
            <a:off x="0" y="1341360"/>
            <a:ext cx="2425680" cy="551664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692360" y="260280"/>
            <a:ext cx="7451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Условия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растания 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семян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ыт №1. Влияние воды на прорастание семя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5364000" y="242100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sfd"/>
          <p:cNvPicPr/>
          <p:nvPr/>
        </p:nvPicPr>
        <p:blipFill>
          <a:blip r:embed="rId1"/>
          <a:stretch/>
        </p:blipFill>
        <p:spPr>
          <a:xfrm>
            <a:off x="2771640" y="5300640"/>
            <a:ext cx="435240" cy="449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sfd"/>
          <p:cNvPicPr/>
          <p:nvPr/>
        </p:nvPicPr>
        <p:blipFill>
          <a:blip r:embed="rId2"/>
          <a:stretch/>
        </p:blipFill>
        <p:spPr>
          <a:xfrm>
            <a:off x="2195640" y="573408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sfd"/>
          <p:cNvPicPr/>
          <p:nvPr/>
        </p:nvPicPr>
        <p:blipFill>
          <a:blip r:embed="rId3"/>
          <a:stretch/>
        </p:blipFill>
        <p:spPr>
          <a:xfrm>
            <a:off x="1619280" y="5373720"/>
            <a:ext cx="433440" cy="44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Изображение 00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084720" y="5300640"/>
            <a:ext cx="93348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3112200">
            <a:off x="6692400" y="490824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8219000">
            <a:off x="5396040" y="4836600"/>
            <a:ext cx="861840" cy="493920"/>
          </a:xfrm>
          <a:prstGeom prst="rect">
            <a:avLst/>
          </a:prstGeom>
          <a:ln w="0">
            <a:noFill/>
          </a:ln>
        </p:spPr>
      </p:pic>
      <p:sp>
        <p:nvSpPr>
          <p:cNvPr id="89" name="Freeform 20"/>
          <p:cNvSpPr/>
          <p:nvPr/>
        </p:nvSpPr>
        <p:spPr>
          <a:xfrm>
            <a:off x="5364000" y="5589720"/>
            <a:ext cx="2232360" cy="21564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406" h="136">
                <a:moveTo>
                  <a:pt x="0" y="0"/>
                </a:moveTo>
                <a:cubicBezTo>
                  <a:pt x="223" y="68"/>
                  <a:pt x="446" y="136"/>
                  <a:pt x="680" y="136"/>
                </a:cubicBezTo>
                <a:cubicBezTo>
                  <a:pt x="914" y="136"/>
                  <a:pt x="1285" y="23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651280" y="5805000"/>
            <a:ext cx="1616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воздуха на прорас-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Изображение 002"/>
          <p:cNvPicPr/>
          <p:nvPr/>
        </p:nvPicPr>
        <p:blipFill>
          <a:blip r:embed="rId1"/>
          <a:stretch/>
        </p:blipFill>
        <p:spPr>
          <a:xfrm>
            <a:off x="2268360" y="472428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Изображение 002"/>
          <p:cNvPicPr/>
          <p:nvPr/>
        </p:nvPicPr>
        <p:blipFill>
          <a:blip r:embed="rId2"/>
          <a:stretch/>
        </p:blipFill>
        <p:spPr>
          <a:xfrm>
            <a:off x="1403280" y="51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Изображение 002"/>
          <p:cNvPicPr/>
          <p:nvPr/>
        </p:nvPicPr>
        <p:blipFill>
          <a:blip r:embed="rId3"/>
          <a:stretch/>
        </p:blipFill>
        <p:spPr>
          <a:xfrm>
            <a:off x="197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Изображение 002"/>
          <p:cNvPicPr/>
          <p:nvPr/>
        </p:nvPicPr>
        <p:blipFill>
          <a:blip r:embed="rId4"/>
          <a:stretch/>
        </p:blipFill>
        <p:spPr>
          <a:xfrm>
            <a:off x="2843280" y="530064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9"/>
          <p:cNvSpPr/>
          <p:nvPr/>
        </p:nvSpPr>
        <p:spPr>
          <a:xfrm>
            <a:off x="5508720" y="234936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1" descr="Изображение 002"/>
          <p:cNvPicPr/>
          <p:nvPr/>
        </p:nvPicPr>
        <p:blipFill>
          <a:blip r:embed="rId5"/>
          <a:stretch/>
        </p:blipFill>
        <p:spPr>
          <a:xfrm>
            <a:off x="5580000" y="4653000"/>
            <a:ext cx="2016360" cy="1147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4220640"/>
            <a:ext cx="15444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0"/>
          <p:cNvSpPr/>
          <p:nvPr/>
        </p:nvSpPr>
        <p:spPr>
          <a:xfrm>
            <a:off x="5940360" y="5734080"/>
            <a:ext cx="1544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1332000" y="3860640"/>
            <a:ext cx="2232000" cy="3603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406" h="227">
                <a:moveTo>
                  <a:pt x="0" y="0"/>
                </a:moveTo>
                <a:cubicBezTo>
                  <a:pt x="223" y="113"/>
                  <a:pt x="446" y="227"/>
                  <a:pt x="680" y="227"/>
                </a:cubicBezTo>
                <a:cubicBezTo>
                  <a:pt x="914" y="227"/>
                  <a:pt x="1285" y="38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5508720" y="5373720"/>
            <a:ext cx="2232000" cy="442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406" h="279">
                <a:moveTo>
                  <a:pt x="0" y="45"/>
                </a:moveTo>
                <a:cubicBezTo>
                  <a:pt x="223" y="162"/>
                  <a:pt x="446" y="279"/>
                  <a:pt x="680" y="272"/>
                </a:cubicBezTo>
                <a:cubicBezTo>
                  <a:pt x="914" y="265"/>
                  <a:pt x="1160" y="132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ыт 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Влияние тепла на 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332000" y="2421000"/>
            <a:ext cx="223200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5364000" y="2492280"/>
            <a:ext cx="2232360" cy="38592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sfd"/>
          <p:cNvPicPr/>
          <p:nvPr/>
        </p:nvPicPr>
        <p:blipFill>
          <a:blip r:embed="rId1"/>
          <a:stretch/>
        </p:blipFill>
        <p:spPr>
          <a:xfrm>
            <a:off x="5724360" y="558972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sfd"/>
          <p:cNvPicPr/>
          <p:nvPr/>
        </p:nvPicPr>
        <p:blipFill>
          <a:blip r:embed="rId2"/>
          <a:stretch/>
        </p:blipFill>
        <p:spPr>
          <a:xfrm>
            <a:off x="6372360" y="5661000"/>
            <a:ext cx="363240" cy="376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sfd"/>
          <p:cNvPicPr/>
          <p:nvPr/>
        </p:nvPicPr>
        <p:blipFill>
          <a:blip r:embed="rId3"/>
          <a:stretch/>
        </p:blipFill>
        <p:spPr>
          <a:xfrm>
            <a:off x="6877080" y="5445000"/>
            <a:ext cx="363600" cy="376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Изображение 001"/>
          <p:cNvPicPr/>
          <p:nvPr/>
        </p:nvPicPr>
        <p:blipFill>
          <a:blip r:embed="rId4">
            <a:lum contrast="18000"/>
          </a:blip>
          <a:stretch/>
        </p:blipFill>
        <p:spPr>
          <a:xfrm rot="18219000">
            <a:off x="1434960" y="5197320"/>
            <a:ext cx="861840" cy="493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Изображение 001"/>
          <p:cNvPicPr/>
          <p:nvPr/>
        </p:nvPicPr>
        <p:blipFill>
          <a:blip r:embed="rId5">
            <a:lum contrast="18000"/>
          </a:blip>
          <a:stretch/>
        </p:blipFill>
        <p:spPr>
          <a:xfrm rot="550200">
            <a:off x="2123640" y="5373720"/>
            <a:ext cx="862200" cy="493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Изображение 001"/>
          <p:cNvPicPr/>
          <p:nvPr/>
        </p:nvPicPr>
        <p:blipFill>
          <a:blip r:embed="rId6">
            <a:lum contrast="18000"/>
          </a:blip>
          <a:stretch/>
        </p:blipFill>
        <p:spPr>
          <a:xfrm rot="11143800">
            <a:off x="2410920" y="4941360"/>
            <a:ext cx="862200" cy="493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76000" y="3860280"/>
            <a:ext cx="183204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п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5508720" y="4005360"/>
            <a:ext cx="1832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5"/>
          <p:cNvSpPr/>
          <p:nvPr/>
        </p:nvSpPr>
        <p:spPr>
          <a:xfrm>
            <a:off x="1332000" y="5589720"/>
            <a:ext cx="2232000" cy="3729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17"/>
          <p:cNvSpPr/>
          <p:nvPr/>
        </p:nvSpPr>
        <p:spPr>
          <a:xfrm>
            <a:off x="5364000" y="5661000"/>
            <a:ext cx="2232360" cy="372960"/>
          </a:xfrm>
          <a:custGeom>
            <a:avLst/>
            <a:gdLst>
              <a:gd name="textAreaLeft" fmla="*/ 0 w 2232360"/>
              <a:gd name="textAreaRight" fmla="*/ 2232360 w 22323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1406" h="235">
                <a:moveTo>
                  <a:pt x="0" y="46"/>
                </a:moveTo>
                <a:cubicBezTo>
                  <a:pt x="246" y="140"/>
                  <a:pt x="492" y="235"/>
                  <a:pt x="726" y="227"/>
                </a:cubicBezTo>
                <a:cubicBezTo>
                  <a:pt x="960" y="219"/>
                  <a:pt x="1183" y="109"/>
                  <a:pt x="140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74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ператур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Изображение 00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76360" y="907920"/>
            <a:ext cx="629928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ловия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r6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4280"/>
            <a:ext cx="8820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этап – Поглощение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этап – Набухание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этап – Увеличение размеров. Деление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этап – Появление коре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этап – Появление зародышевого побе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8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фасоли от семени до взрослого раст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835280" y="1384200"/>
            <a:ext cx="5376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ипы прорастания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Изображение 006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79280" y="1484280"/>
            <a:ext cx="885852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" y="-27360"/>
            <a:ext cx="900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стройство современного элев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Изображение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907920"/>
            <a:ext cx="71294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абораторная работа № 17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растание сем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Научиться проращивать семена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ести дневник наблю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рудовани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оросшие семена пшеницы, ячменя, фасоли, гороха, тыкв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108000" y="691920"/>
            <a:ext cx="8686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казать роль семени в индивидуальном развитии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ь понятие об условиях прорастания семян, росте и развитии пророс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обсуждать проблемные вопросы, анализировать, работать с различными источниками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струкция по технике безопасности при выполнении лаборатор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ть за столом следует аккур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делать резких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орожно пользоваться стеклянной посу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чее место держать в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работе строго выполнять указания уч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работы привести в порядок рабочее мес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0" y="126828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одсчитайте число проросших семян в каждой пробе (1 –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шениц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проба – посеяно 100 шт., проросло 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проба – посеяно 100 шт., проросло 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проба – посеяно 100 шт., проросло 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считайте средний процент всхожести семян, приняв 100 посеянных семян за 10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94+95+93+94):4=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Агротехнические знания необходимы для подготов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Для этого необходимо знать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6"/>
          <p:cNvSpPr txBox="1"/>
          <p:nvPr/>
        </p:nvSpPr>
        <p:spPr>
          <a:xfrm>
            <a:off x="468360" y="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ерю-не верю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0099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Picture 8" descr="Изображение 008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1052640"/>
            <a:ext cx="9144000" cy="41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395280" y="5589720"/>
          <a:ext cx="8381880" cy="109692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обяз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§21 прочитать, пересказать, выучить основные понятия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ознавательн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аполнить рабочие тетради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творческое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иготовить коллекцию семян культур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900000" y="981000"/>
            <a:ext cx="42004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Домашнее задание: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вать понятия о значении зародыша с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атывать умения по проведению наблюдений за опытами и объяснению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иться определять процент всхожест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ые признаки ж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844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8000" y="1628640"/>
            <a:ext cx="8209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ост, развитие, обмен веществ, питание, дыхание, выделение, раздражимость, подвижность, размножение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68360" y="1484280"/>
            <a:ext cx="8209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ойное оплодотворение у покрытосемен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плоды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11280" y="1103400"/>
            <a:ext cx="78483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апы онтогене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лодотворение яйце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зиго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кратное 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зароды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с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500720" y="1628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00720" y="2421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4500720" y="3284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00720" y="4149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Класс Двудо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Изображение"/>
          <p:cNvPicPr/>
          <p:nvPr/>
        </p:nvPicPr>
        <p:blipFill>
          <a:blip r:embed="rId1"/>
          <a:stretch/>
        </p:blipFill>
        <p:spPr>
          <a:xfrm>
            <a:off x="755640" y="1700280"/>
            <a:ext cx="4106880" cy="440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500720" y="4149720"/>
            <a:ext cx="25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4500720" y="5157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жура с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4500720" y="314172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572000" y="1989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500720" y="2421000"/>
            <a:ext cx="34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4360" y="6165720"/>
            <a:ext cx="50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семени фа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11592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ветков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Изображение"/>
          <p:cNvPicPr/>
          <p:nvPr/>
        </p:nvPicPr>
        <p:blipFill>
          <a:blip r:embed="rId1"/>
          <a:stretch/>
        </p:blipFill>
        <p:spPr>
          <a:xfrm>
            <a:off x="3419640" y="1557360"/>
            <a:ext cx="2263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395280" y="836640"/>
            <a:ext cx="8218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 Однод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826920" y="2421000"/>
            <a:ext cx="2737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олоплодник, сросшийся с семенной ко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уро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5580000" y="2276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ндоспе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5580000" y="4292640"/>
            <a:ext cx="216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яд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580000" y="486900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5580000" y="537372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бел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80000" y="5734080"/>
            <a:ext cx="2232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1979640" y="6354720"/>
            <a:ext cx="504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оение зерновки пше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плоды2"/>
          <p:cNvPicPr/>
          <p:nvPr/>
        </p:nvPicPr>
        <p:blipFill>
          <a:blip r:embed="rId1"/>
          <a:stretch/>
        </p:blipFill>
        <p:spPr>
          <a:xfrm>
            <a:off x="468360" y="1117440"/>
            <a:ext cx="8316720" cy="574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способления к распространению плодов и сем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8:13:47Z</dcterms:created>
  <dc:creator>Олег</dc:creator>
  <dc:description/>
  <dc:language>en-US</dc:language>
  <cp:lastModifiedBy>Мама</cp:lastModifiedBy>
  <dcterms:modified xsi:type="dcterms:W3CDTF">2012-07-28T16:35:21Z</dcterms:modified>
  <cp:revision>20</cp:revision>
  <dc:subject/>
  <dc:title>Тема:Условия прорастания семян</dc:title>
</cp:coreProperties>
</file>