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2700E-BE38-44D7-93C8-10FFB1A5C6A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A4A8-BBE8-4831-984F-95E06C62D8A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79532-0EFF-42EF-AEDB-B4C12D5FE19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0C16-4DC7-4629-BC79-A0696B82FA2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E138-B6E5-4F31-96DF-B9C009D46AE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A94E-A46D-4E0D-A3C5-73D0E6E8214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97179-5802-408C-87E3-D0266FFCBE8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30D6D-9B6D-41A7-B498-3933F14E864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89986-7B49-4050-9065-9266FE5AACA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3B734-AA62-42F3-97DD-9C1E894FA7B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8272-B5B5-4ED9-AC2B-B83A1745D48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0FDC6-2C43-4AF7-A46C-7C6D99CD654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DE825-B154-4C05-A946-08A7C9A77D4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464D-9224-4871-94EA-9189E1D32F8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F9B0C-C1E0-4E31-ABA2-0CC4567C6EE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5A20-3ADC-45CB-9D2F-839455E4553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7DE5-A67B-4C44-A34F-5925FD2283C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AC4A-EFD3-4E96-91C8-ACA1CA52D45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B7F80-FA17-41C8-AF55-CD255B6D3A5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41760-97C4-4F1A-B4EF-B49839D1410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AC315-12AC-4EC4-84EB-539F4EDB002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4EE4B-C9EE-492A-B738-3E0019E5977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1D7B3-059C-4283-A7D4-F01EB51D372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2802-6721-45A6-9422-761D5069F812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5C447-E610-4167-91B4-35AB0F8E94E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CED6A-7162-49DA-830E-90F3C95F6E80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9265-8EA5-4F49-89B0-71676507C2C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EFBC-FA50-4042-B7D0-833B5258DBF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B466-FE16-402B-AE23-6451CCC8A7B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724A-0917-43F2-B138-3E36A9F778C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71EBA-09C1-4032-95F6-E4DB34AC7147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6821-D500-4822-AD07-60C7B07CD54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98D9-9A67-4772-978A-72E21F6B9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D2B-576F-469D-A29E-597ACE13C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732B-4C54-42C8-8D0B-EEFDA8113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253D-419E-4661-A8A1-83E07C26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4243CA-2A74-4BF4-977D-19DFEDD26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591465-68BE-429E-B6F8-5E24663AC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A6E541-A2B4-4CB5-B6F9-EC0BC8BC7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D6EA8C-9F4A-4023-84BC-D59FB1925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729C85-E77D-414E-83E5-DE6422BAF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08A991-A185-494F-83BE-8EC210467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F356E8-571B-4E3A-96A7-D20382C0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0AFE-5FA3-4BA3-A306-A21A936E7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1C4421-33CF-4AAA-BEC4-A1307C932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C021BE-5F7D-4BD2-A079-F425735D5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31E647-88AF-4A4D-80EF-757DF8D5A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8F546A-E203-4B09-8E00-AF8E5D746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7013FB-2B99-4923-B135-7E82CEAB5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F52C-26CC-47D8-8A98-D724E665A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E5DF-71E8-48F6-8B0B-34A7C6CBE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8F4C-14B2-453B-8887-38A69B88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8651C-D3C0-424A-A6AE-1F2A448E3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C658-3D46-4E50-BD54-C7C90707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BB34-5B6D-4811-9113-18D25761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40E3-12D6-44CB-B61A-A8C4F8992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80947-56A0-4987-B0FC-78CB9EEF8FB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prstGeom prst="pie">
            <a:avLst/>
          </a:pr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82920-B63E-464D-9AA5-72751EAFA19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34.jpeg"/><Relationship Id="rId6" Type="http://schemas.openxmlformats.org/officeDocument/2006/relationships/image" Target="../media/image3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599840"/>
            <a:ext cx="4800600" cy="685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6699ff"/>
                </a:solidFill>
                <a:latin typeface="Tahoma"/>
              </a:rPr>
              <a:t>Немного про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1" name="Picture 8" descr="C:\Documents and Settings\Archie\Рабочий стол\Окулы\epaulette_shark.jpg"/>
          <p:cNvPicPr/>
          <p:nvPr/>
        </p:nvPicPr>
        <p:blipFill>
          <a:blip r:embed="rId2"/>
          <a:stretch/>
        </p:blipFill>
        <p:spPr>
          <a:xfrm>
            <a:off x="1600200" y="2286000"/>
            <a:ext cx="5715000" cy="3657600"/>
          </a:xfrm>
          <a:prstGeom prst="rect">
            <a:avLst/>
          </a:prstGeom>
          <a:ln w="0">
            <a:noFill/>
          </a:ln>
        </p:spPr>
      </p:pic>
      <p:sp>
        <p:nvSpPr>
          <p:cNvPr id="92" name="TextBox 8"/>
          <p:cNvSpPr/>
          <p:nvPr/>
        </p:nvSpPr>
        <p:spPr>
          <a:xfrm>
            <a:off x="0" y="6248520"/>
            <a:ext cx="708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ельмухаметова Л.И., МАОУ СОШ №11, г. Калинингра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5" descr="C:\Documents and Settings\Archie\Рабочий стол\Окулы\1030_58627.jpg"/>
          <p:cNvPicPr/>
          <p:nvPr/>
        </p:nvPicPr>
        <p:blipFill>
          <a:blip r:embed="rId2"/>
          <a:stretch/>
        </p:blipFill>
        <p:spPr>
          <a:xfrm>
            <a:off x="-609480" y="0"/>
            <a:ext cx="1057428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ы нет плавательного пузыр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Держаться на плаву акула может только  безостановочно двигаясь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перемещается не только с помощью своего  хвоста: у них замечен еще один двигатель – «реактивный». С силой выталкивая воду из жаберных щелей, они передвигаются впере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53452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ши акул находятся внутри головы, скрываемые за целым лабиринтом, что дает акулам чувствительный механизм, позволяющий улавливать и интерпретировать любые звуки под водой. А поскольку звук под водой распространяется гораздо дальше и быстрее, акулы способны улавливать звуки на расстоянии пары километров. 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течение многих лет существовала теория, будто у акул очень слабое з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Акула выслеживает добычу при помощи обонятельных органов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римерно в 30 метрах от добычи, акула руководствуется одним только зрение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C:\Documents and Settings\Archie\Рабочий стол\Окулы\1275469441_0013_exebit.net_shark_jaws.jpg"/>
          <p:cNvPicPr/>
          <p:nvPr/>
        </p:nvPicPr>
        <p:blipFill>
          <a:blip r:embed="rId2"/>
          <a:stretch/>
        </p:blipFill>
        <p:spPr>
          <a:xfrm>
            <a:off x="4114800" y="2682720"/>
            <a:ext cx="4929120" cy="4023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3" descr="C:\Documents and Settings\Archie\Рабочий стол\Окулы\great-white-shark-leaping-in-the-air-eating-a-seal1.jpg"/>
          <p:cNvPicPr/>
          <p:nvPr/>
        </p:nvPicPr>
        <p:blipFill>
          <a:blip r:embed="rId3"/>
          <a:stretch/>
        </p:blipFill>
        <p:spPr>
          <a:xfrm>
            <a:off x="152280" y="228600"/>
            <a:ext cx="5181840" cy="29066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C:\Documents and Settings\Archie\Рабочий стол\Окулы\f688a65aa7.jpg"/>
          <p:cNvPicPr/>
          <p:nvPr/>
        </p:nvPicPr>
        <p:blipFill>
          <a:blip r:embed="rId4"/>
          <a:stretch/>
        </p:blipFill>
        <p:spPr>
          <a:xfrm>
            <a:off x="304920" y="3200400"/>
            <a:ext cx="3514680" cy="35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Органы чувст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последнее время популярны теории, согласно которым акулы имеют высоко развитое чувство вкуса. По ним, акулы уже с первого укуса определяют, насколько калорийна пойманная добыча, сколько энергии они получат после ее поглощения, и т.д. 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3059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"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о обоняния у акул в 1000 раз более острое , чем у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ковая линия позволяет акуле реагировать на любые движения вод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 на голове есть особые поры , которые ведут в органы, названные «ампулы Лоренцини». Ампулы реагируют на изменение давления и температур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04560" y="19051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се акулы плотоядны. Их желудок может переварить все, что удалось проглотить. Желудок может сильно растягиваться и даже выворачиваться наизнанку. В желудке у акул пища может сохраняться «про запас» больше месяц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C:\Documents and Settings\Archie\Рабочий стол\Окулы\kak-ucelet-sredi-akul.jpg"/>
          <p:cNvPicPr/>
          <p:nvPr/>
        </p:nvPicPr>
        <p:blipFill>
          <a:blip r:embed="rId2"/>
          <a:stretch/>
        </p:blipFill>
        <p:spPr>
          <a:xfrm>
            <a:off x="762120" y="6094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609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ервые следы акул находят в девонском периоде (320-265 млн. лет назад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В настоящее время известно более 250 видов акул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C:\Documents and Settings\Archie\Рабочий стол\Окулы\557.jpg"/>
          <p:cNvPicPr/>
          <p:nvPr/>
        </p:nvPicPr>
        <p:blipFill>
          <a:blip r:embed="rId2"/>
          <a:stretch/>
        </p:blipFill>
        <p:spPr>
          <a:xfrm>
            <a:off x="4000680" y="3429000"/>
            <a:ext cx="5143320" cy="3429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C:\Documents and Settings\Archie\Рабочий стол\Окулы\55.jpg"/>
          <p:cNvPicPr/>
          <p:nvPr/>
        </p:nvPicPr>
        <p:blipFill>
          <a:blip r:embed="rId3"/>
          <a:stretch/>
        </p:blipFill>
        <p:spPr>
          <a:xfrm>
            <a:off x="152280" y="3124080"/>
            <a:ext cx="3733920" cy="37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Дыхание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огда акула открывает рот, чтобы втянуть воду, жаберные щели закрываются. Вода омывает жаберные нити, углекислый газ выпускается из крови, а кислород поглощается ею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Живучесть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«Мертвая» акула часто ведет себя совсем как живая, один рыбак, например, лишился руки, которую откусила выпотрошенная акул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вестен случай, когда рыбак поймал акулу, распорол ей брюхо , выпустил кишки и кинул ее обратно в море. Когда он снова забросил крючок с насаженными на него внутренностями акулы, он поймал на него… ту же самую акулу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Picture 2" descr="C:\Documents and Settings\Archie\Рабочий стол\Окулы\1216896767.jpg"/>
          <p:cNvPicPr/>
          <p:nvPr/>
        </p:nvPicPr>
        <p:blipFill>
          <a:blip r:embed="rId2"/>
          <a:stretch/>
        </p:blipFill>
        <p:spPr>
          <a:xfrm>
            <a:off x="0" y="762120"/>
            <a:ext cx="9144000" cy="533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5" descr="big_330790"/>
          <p:cNvPicPr/>
          <p:nvPr/>
        </p:nvPicPr>
        <p:blipFill>
          <a:blip r:embed="rId2"/>
          <a:stretch/>
        </p:blipFill>
        <p:spPr>
          <a:xfrm>
            <a:off x="0" y="0"/>
            <a:ext cx="3200400" cy="28195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1008163_normal"/>
          <p:cNvPicPr/>
          <p:nvPr/>
        </p:nvPicPr>
        <p:blipFill>
          <a:blip r:embed="rId3"/>
          <a:stretch/>
        </p:blipFill>
        <p:spPr>
          <a:xfrm>
            <a:off x="0" y="2743200"/>
            <a:ext cx="5029200" cy="41148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Акула(Shark)(3)"/>
          <p:cNvPicPr/>
          <p:nvPr/>
        </p:nvPicPr>
        <p:blipFill>
          <a:blip r:embed="rId4"/>
          <a:stretch/>
        </p:blipFill>
        <p:spPr>
          <a:xfrm>
            <a:off x="3505320" y="-152280"/>
            <a:ext cx="5486400" cy="29718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C:\Documents and Settings\Archie\Рабочий стол\Окулы\0002-002-Kto-takie-akuly-klass-ryby-tip-khordovye-nadotrjad-akuly.jpg"/>
          <p:cNvPicPr/>
          <p:nvPr/>
        </p:nvPicPr>
        <p:blipFill>
          <a:blip r:embed="rId5"/>
          <a:stretch/>
        </p:blipFill>
        <p:spPr>
          <a:xfrm>
            <a:off x="5105520" y="3429000"/>
            <a:ext cx="4006800" cy="28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45720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оленое, копченое мясо  многих видов акул очень вкусн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ечень богата витамином 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Из хрящей и кожи производят клей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Мясо акул не употребляемых в пищу человеком, перерабатывается на корм скот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Кожа идет на производство различных издели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Шагрень - акулья кожа. Боразо - самая дорогая кожа. 1 кв. см. этой кожи стоит 1 доллар.  При обработке этой кожи сохраняют плакоидные чешу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C:\Documents and Settings\Archie\Рабочий стол\Окулы\_430_350_95_18774250481532257632.jpg"/>
          <p:cNvPicPr/>
          <p:nvPr/>
        </p:nvPicPr>
        <p:blipFill>
          <a:blip r:embed="rId2"/>
          <a:stretch/>
        </p:blipFill>
        <p:spPr>
          <a:xfrm>
            <a:off x="152280" y="152280"/>
            <a:ext cx="4419720" cy="40179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" descr="C:\Documents and Settings\Archie\Рабочий стол\Окулы\Shark Grey.jpg"/>
          <p:cNvPicPr/>
          <p:nvPr/>
        </p:nvPicPr>
        <p:blipFill>
          <a:blip r:embed="rId3"/>
          <a:stretch/>
        </p:blipFill>
        <p:spPr>
          <a:xfrm>
            <a:off x="3809880" y="3124080"/>
            <a:ext cx="5220000" cy="3478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4" descr="C:\Documents and Settings\Archie\Рабочий стол\Окулы\Zub-drevney-akulyi-Megalodon-na-kozhanom-shnure-BONE-VALLEY-2.JPG"/>
          <p:cNvPicPr/>
          <p:nvPr/>
        </p:nvPicPr>
        <p:blipFill>
          <a:blip r:embed="rId4"/>
          <a:stretch/>
        </p:blipFill>
        <p:spPr>
          <a:xfrm>
            <a:off x="762120" y="4343400"/>
            <a:ext cx="2501640" cy="21258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C:\Documents and Settings\Archie\Рабочий стол\Окулы\megalodonWC1.jpg"/>
          <p:cNvPicPr/>
          <p:nvPr/>
        </p:nvPicPr>
        <p:blipFill>
          <a:blip r:embed="rId5"/>
          <a:stretch/>
        </p:blipFill>
        <p:spPr>
          <a:xfrm>
            <a:off x="5029200" y="380880"/>
            <a:ext cx="3403440" cy="255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Жир используют при изготовлении косметик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Челюсти и зубы идут на сувенир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з поджелудочной железы получают панкреати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ПРОМЫСЕЛ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 НАСТОЯЩЕЕ ВРЕМЯ ПРОМЫСЕЛ АКУЛ УПАЛ, ХОТЯ И НЕ УГАС СОВСЕМ. В БУДУЩЕМ ОН МОЖЕТ ВОЗОБНОВИТЬСЯ С НОВОЙ СИЛОЙ, В ОСНОВНОМ РАДИ МЯСА АКУ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7920" indent="53352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ольшая белая акула, китовая и гигантская акулы занесена в Красную книгу  Международного союза охраны природы (МСОП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2" descr="C:\Documents and Settings\Archie\Рабочий стол\Окулы\810267_503429.jpg"/>
          <p:cNvPicPr/>
          <p:nvPr/>
        </p:nvPicPr>
        <p:blipFill>
          <a:blip r:embed="rId2"/>
          <a:stretch/>
        </p:blipFill>
        <p:spPr>
          <a:xfrm>
            <a:off x="152280" y="152280"/>
            <a:ext cx="5133960" cy="3448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C:\Documents and Settings\Archie\Рабочий стол\Окулы\shark_20.jpg"/>
          <p:cNvPicPr/>
          <p:nvPr/>
        </p:nvPicPr>
        <p:blipFill>
          <a:blip r:embed="rId3"/>
          <a:stretch/>
        </p:blipFill>
        <p:spPr>
          <a:xfrm>
            <a:off x="4419720" y="1676520"/>
            <a:ext cx="4616280" cy="34621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C:\Documents and Settings\Archie\Рабочий стол\Окулы\white.jpg"/>
          <p:cNvPicPr/>
          <p:nvPr/>
        </p:nvPicPr>
        <p:blipFill>
          <a:blip r:embed="rId4"/>
          <a:stretch/>
        </p:blipFill>
        <p:spPr>
          <a:xfrm>
            <a:off x="762120" y="37339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Это интересно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 островах с незапамятных времен существовал акулий цирк. Гавайские «гладиаторы» вступали в противоборство с акулам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На Гавайских, Маршалловых, Саламоновых островах акулам приносились человеческие жертв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291960"/>
            <a:ext cx="56386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Размеры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итовая акула достигает в длину 14 м. и весит около 13 тонн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Карликовая светящаяся акула- 7,5 см. длины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4" descr="C:\Documents and Settings\Archie\Рабочий стол\Окулы\Megalodon_scale1.png"/>
          <p:cNvPicPr/>
          <p:nvPr/>
        </p:nvPicPr>
        <p:blipFill>
          <a:blip r:embed="rId2"/>
          <a:stretch/>
        </p:blipFill>
        <p:spPr>
          <a:xfrm>
            <a:off x="2106720" y="3094200"/>
            <a:ext cx="7037280" cy="37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C:\Documents and Settings\Archie\Рабочий стол\Окулы\jaws.jpg"/>
          <p:cNvPicPr/>
          <p:nvPr/>
        </p:nvPicPr>
        <p:blipFill>
          <a:blip r:embed="rId2"/>
          <a:stretch/>
        </p:blipFill>
        <p:spPr>
          <a:xfrm>
            <a:off x="1066680" y="-1523880"/>
            <a:ext cx="7162920" cy="9550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Скаты – родственники акул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2" descr="C:\Documents and Settings\Archie\Рабочий стол\Окулы\1202923470_mobula_450.jpg"/>
          <p:cNvPicPr/>
          <p:nvPr/>
        </p:nvPicPr>
        <p:blipFill>
          <a:blip r:embed="rId2"/>
          <a:stretch/>
        </p:blipFill>
        <p:spPr>
          <a:xfrm>
            <a:off x="304920" y="1523880"/>
            <a:ext cx="3352680" cy="3248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3" descr="C:\Documents and Settings\Archie\Рабочий стол\Окулы\906d03b59c5eecddba38ba8cf5893a9853952c49897845.jpg"/>
          <p:cNvPicPr/>
          <p:nvPr/>
        </p:nvPicPr>
        <p:blipFill>
          <a:blip r:embed="rId3"/>
          <a:stretch/>
        </p:blipFill>
        <p:spPr>
          <a:xfrm>
            <a:off x="3733920" y="1523880"/>
            <a:ext cx="5292720" cy="32767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" descr="C:\Documents and Settings\Archie\Рабочий стол\Окулы\115530197.jpg"/>
          <p:cNvPicPr/>
          <p:nvPr/>
        </p:nvPicPr>
        <p:blipFill>
          <a:blip r:embed="rId4"/>
          <a:stretch/>
        </p:blipFill>
        <p:spPr>
          <a:xfrm>
            <a:off x="228600" y="4303800"/>
            <a:ext cx="3505320" cy="25542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C:\Documents and Settings\Archie\Рабочий стол\Окулы\img.jpeg"/>
          <p:cNvPicPr/>
          <p:nvPr/>
        </p:nvPicPr>
        <p:blipFill>
          <a:blip r:embed="rId5"/>
          <a:stretch/>
        </p:blipFill>
        <p:spPr>
          <a:xfrm>
            <a:off x="6781680" y="3505320"/>
            <a:ext cx="2233800" cy="33526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C:\Documents and Settings\Archie\Рабочий стол\Окулы\1000-01.jpg"/>
          <p:cNvPicPr/>
          <p:nvPr/>
        </p:nvPicPr>
        <p:blipFill>
          <a:blip r:embed="rId6"/>
          <a:stretch/>
        </p:blipFill>
        <p:spPr>
          <a:xfrm>
            <a:off x="4191120" y="4876920"/>
            <a:ext cx="222408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Хрящевые ры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У акул нет настоящих костей, только хрящи. У некоторых видов акул в хрящах откладывается так много кальция, что они становятся почти такими же жесткими как к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91960"/>
            <a:ext cx="86868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Акулья кожа            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Жесткая кожа акулы покрыта рядами плакоидной чешуи. Плакоидная чешуя - это кожные зубы. Направлены все зубы назад. Кожа напоминает наждачную бумаг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 акулы- няньки кожные зубы большие и растут так часто, что в акулу трудно всадить гарпун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ел прочности  кожи акулы на разрыв равен 500 кг. на квадратный сантимет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C:\Documents and Settings\Archie\Рабочий стол\Окулы\world-through-a-microscope-31.jpg"/>
          <p:cNvPicPr/>
          <p:nvPr/>
        </p:nvPicPr>
        <p:blipFill>
          <a:blip r:embed="rId2"/>
          <a:stretch/>
        </p:blipFill>
        <p:spPr>
          <a:xfrm>
            <a:off x="4267080" y="1371600"/>
            <a:ext cx="4648320" cy="4648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Archie\Рабочий стол\Окулы\img14.jpg"/>
          <p:cNvPicPr/>
          <p:nvPr/>
        </p:nvPicPr>
        <p:blipFill>
          <a:blip r:embed="rId3"/>
          <a:stretch/>
        </p:blipFill>
        <p:spPr>
          <a:xfrm>
            <a:off x="152280" y="1371600"/>
            <a:ext cx="3962520" cy="463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уб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Зубы акул расположены в пасти ровными рядами, иногда по 1000 и более зубов в ряду. Самые распространенные –треугольные зуб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Позади каждого зуба имеется еще несколько зубов, лежащих в глубоких ямках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0" y="-360"/>
            <a:ext cx="822960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Огромное количество мощных острых зубов в пасти акулы помогает им хватать и рвать свою добычу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У крупных акул (тигровая) огромные челюст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Акула без труда     может проглотить взрослого человека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4" descr="4"/>
          <p:cNvPicPr/>
          <p:nvPr/>
        </p:nvPicPr>
        <p:blipFill>
          <a:blip r:embed="rId2"/>
          <a:stretch/>
        </p:blipFill>
        <p:spPr>
          <a:xfrm>
            <a:off x="4724280" y="4114800"/>
            <a:ext cx="4191120" cy="261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C:\Documents and Settings\Archie\Рабочий стол\Окулы\326342.jpg"/>
          <p:cNvPicPr/>
          <p:nvPr/>
        </p:nvPicPr>
        <p:blipFill>
          <a:blip r:embed="rId2"/>
          <a:stretch/>
        </p:blipFill>
        <p:spPr>
          <a:xfrm>
            <a:off x="304920" y="3424320"/>
            <a:ext cx="3962160" cy="2976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3" descr="C:\Documents and Settings\Archie\Рабочий стол\Окулы\10_02_08_17_19_33_borneo_shark_4.jpg"/>
          <p:cNvPicPr/>
          <p:nvPr/>
        </p:nvPicPr>
        <p:blipFill>
          <a:blip r:embed="rId3"/>
          <a:stretch/>
        </p:blipFill>
        <p:spPr>
          <a:xfrm>
            <a:off x="380880" y="152280"/>
            <a:ext cx="3886200" cy="31086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C:\Documents and Settings\Archie\Рабочий стол\Окулы\c-megalodon-teeth-thumb-399x500-48745.jpg"/>
          <p:cNvPicPr/>
          <p:nvPr/>
        </p:nvPicPr>
        <p:blipFill>
          <a:blip r:embed="rId4"/>
          <a:stretch/>
        </p:blipFill>
        <p:spPr>
          <a:xfrm>
            <a:off x="4800600" y="152280"/>
            <a:ext cx="2743200" cy="34369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:\Documents and Settings\Archie\Рабочий стол\Окулы\12495-174850-945f4304f1db9f28f1c8cd97d135e0e2.jpg"/>
          <p:cNvPicPr/>
          <p:nvPr/>
        </p:nvPicPr>
        <p:blipFill>
          <a:blip r:embed="rId5"/>
          <a:stretch/>
        </p:blipFill>
        <p:spPr>
          <a:xfrm>
            <a:off x="4800600" y="3657600"/>
            <a:ext cx="3483000" cy="291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арМаН</cp:lastModifiedBy>
  <dcterms:modified xsi:type="dcterms:W3CDTF">2012-04-27T12:58:09Z</dcterms:modified>
  <cp:revision>4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