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999C-B2FF-4AFB-A88B-F9B702B4C4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7A4B-624D-4808-BCD2-0E9E5DE40BB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B8F7-E23B-4F50-963D-30D5D86AE65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AC9D-4134-430F-B619-E284E9F6488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BA93-9322-43EB-BAA6-ED4A9BDF9D5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E79D-A62B-43E2-91F2-30BCE6800EB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1257-7A26-4305-BB80-84FB3576A03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0CA2-12DA-40C9-BB2E-00AFD19DC16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0977-456E-4BCF-BB26-BF8B8E889BF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BD3A-31E7-4781-848B-EB06B169C8D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FDD5-ACD7-4773-BB70-87437EC9AF5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E2BB-6529-4D50-ADFF-2059A9D2C26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FE80-CF05-4FA8-9400-8EB3A0D7FFD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D3E0-AC0A-48F2-8DEF-9C379082D7B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343D-6E84-499E-8F55-CA44854EDDB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4CDA-4AE1-4F0D-AA28-B9D37529EF8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40DB-3D15-4699-86DE-E2AAD7714AB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C6E9-41A0-4907-A07C-E517DB8E20C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AECA-C99A-4D9A-823A-9D1D8210EBD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D021-DDF6-4E25-A562-3E405F2F39A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C41E-B724-462A-B8A8-66F389553BB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6FEC-D562-4F33-BD7D-E264F951847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31F8-4708-44C7-845A-AF0ACA9C52A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1C32-0A9A-4962-9326-EDF10EF0B0B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4006-88AC-49E1-9B19-6E50A8F0B20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0D42-1DD0-47BC-82AB-422D732E31C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A9DB-3BB5-4054-B502-2C560DB7C9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B113-33EE-44DB-8769-250F2121133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7174-05D9-49C5-86FF-BE4D26B1C07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A0B0-E8D3-4A13-9C94-61096338E6B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1B16-0C41-4F13-9B1B-96045F9D72E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D645-3667-4963-A456-B7957265A62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28F-2CEE-45E1-8889-3E2CB2F0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249-6C45-4235-A973-D0022D86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246-4190-421A-9790-9542DAEE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E65-AAE0-4D7B-9BCD-77FC723B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F7252-B30B-4EF6-8369-781DA799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A2F8D-6AB7-4905-B89C-17714CE7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90210-663C-4845-9209-69C19FF9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5C998-26D1-48C3-8934-8BB7D119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1B9A5-1492-402F-A755-F04B6326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1C488-8E84-4A5B-AFB7-570D3360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6DF61-EE4E-4DC3-9DAD-2EEA65EE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154-D2F9-41B7-B4B4-3711A8F9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6CF20-3459-4AC1-850B-F45B3AAF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A7927-52CF-4983-A55B-78C96BA7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C3D32-0F72-454A-9550-C44268FA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17E4E-B1C4-40D3-A285-8A797ADE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9B1BA-B463-4215-AC05-02042D34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A00-95A6-4AFC-99DA-BCCE1140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FD6-F5FD-4EB1-A837-D7C7440C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8A1-DF39-476F-A7D1-1E630806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910-F6C7-471D-AE8D-0410AE54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0F51-273D-4B9C-9650-C277BEAE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B91-67F5-4AAD-A146-60AC1F5D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FA6-E0FD-40E7-A393-9A67B04F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99BC-5901-4916-B6E7-50A537939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1273-557D-46EB-B691-DA1BA363F39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Tahoma"/>
              </a:rPr>
              <a:t>Немного про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C:\Documents and Settings\Archie\Рабочий стол\Окулы\epaulette_shark.jpg"/>
          <p:cNvPicPr/>
          <p:nvPr/>
        </p:nvPicPr>
        <p:blipFill>
          <a:blip r:embed="rId2"/>
          <a:stretch/>
        </p:blipFill>
        <p:spPr>
          <a:xfrm>
            <a:off x="1600200" y="228600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ьмухаметова Л.И., МАОУ СОШ №11, г. Калинин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Documents and Settings\Archie\Рабочий стол\Окулы\1030_58627.jpg"/>
          <p:cNvPicPr/>
          <p:nvPr/>
        </p:nvPicPr>
        <p:blipFill>
          <a:blip r:embed="rId2"/>
          <a:stretch/>
        </p:blipFill>
        <p:spPr>
          <a:xfrm>
            <a:off x="-609480" y="0"/>
            <a:ext cx="1057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ы нет плавате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ржаться на плаву акула может только  безостановочно двигая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перемещается не только с помощью своего  хвоста: у них замечен еще один двигатель – «реактивный». С силой выталкивая воду из жаберных щелей, они передвигаются впе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ши акул находятся внутри головы, скрываемые за целым лабиринтом, что дает акулам чувствительный механизм, позволяющий улавливать и интерпретировать любые звуки под водой. А поскольку звук под водой распространяется гораздо дальше и быстрее, акулы способны улавливать звуки на расстоянии пары километров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течение многих лет существовала теория, будто у акул очень слабое з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выслеживает добычу при помощи обонятельных орг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но в 30 метрах от добычи, акула руководствуется одним только зр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rchie\Рабочий стол\Окулы\1275469441_0013_exebit.net_shark_jaws.jpg"/>
          <p:cNvPicPr/>
          <p:nvPr/>
        </p:nvPicPr>
        <p:blipFill>
          <a:blip r:embed="rId2"/>
          <a:stretch/>
        </p:blipFill>
        <p:spPr>
          <a:xfrm>
            <a:off x="4114800" y="2682720"/>
            <a:ext cx="4929120" cy="402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rchie\Рабочий стол\Окулы\great-white-shark-leaping-in-the-air-eating-a-seal1.jpg"/>
          <p:cNvPicPr/>
          <p:nvPr/>
        </p:nvPicPr>
        <p:blipFill>
          <a:blip r:embed="rId3"/>
          <a:stretch/>
        </p:blipFill>
        <p:spPr>
          <a:xfrm>
            <a:off x="152280" y="228600"/>
            <a:ext cx="5181840" cy="290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Archie\Рабочий стол\Окулы\f688a65aa7.jpg"/>
          <p:cNvPicPr/>
          <p:nvPr/>
        </p:nvPicPr>
        <p:blipFill>
          <a:blip r:embed="rId4"/>
          <a:stretch/>
        </p:blipFill>
        <p:spPr>
          <a:xfrm>
            <a:off x="304920" y="3200400"/>
            <a:ext cx="35146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оследнее время популярны теории, согласно которым акулы имеют высоко развитое чувство вкуса. По ним, акулы уже с первого укуса определяют, насколько калорийна пойманная добыча, сколько энергии они получат после ее поглощения, и т.д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о обоняния у акул в 1000 раз более острое , чем у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ковая линия позволяет акуле реагировать на любые движения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 на голове есть особые поры , которые ведут в органы, названные «ампулы Лоренцини». Ампулы реагируют на изменение давления и темп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акулы плотоядны. Их желудок может переварить все, что удалось проглотить. Желудок может сильно растягиваться и даже выворачиваться наизнанку. В желудке у акул пища может сохраняться «про запас» больше меся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rchie\Рабочий стол\Окулы\kak-ucelet-sredi-akul.jpg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следы акул находят в девонском периоде (320-265 млн. лет наз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стоящее время известно более 250 видов аку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C:\Documents and Settings\Archie\Рабочий стол\Окулы\557.jpg"/>
          <p:cNvPicPr/>
          <p:nvPr/>
        </p:nvPicPr>
        <p:blipFill>
          <a:blip r:embed="rId2"/>
          <a:stretch/>
        </p:blipFill>
        <p:spPr>
          <a:xfrm>
            <a:off x="4000680" y="342900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Archie\Рабочий стол\Окулы\55.jpg"/>
          <p:cNvPicPr/>
          <p:nvPr/>
        </p:nvPicPr>
        <p:blipFill>
          <a:blip r:embed="rId3"/>
          <a:stretch/>
        </p:blipFill>
        <p:spPr>
          <a:xfrm>
            <a:off x="152280" y="3124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ых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акула открывает рот, чтобы втянуть воду, жаберные щели закрываются. Вода омывает жаберные нити, углекислый газ выпускается из крови, а кислород поглощается е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Живучесть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ертвая» акула часто ведет себя совсем как живая, один рыбак, например, лишился руки, которую откусила выпотрошенная ак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вестен случай, когда рыбак поймал акулу, распорол ей брюхо , выпустил кишки и кинул ее обратно в море. Когда он снова забросил крючок с насаженными на него внутренностями акулы, он поймал на него… ту же самую акулу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Archie\Рабочий стол\Окулы\1216896767.jp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big_330790"/>
          <p:cNvPicPr/>
          <p:nvPr/>
        </p:nvPicPr>
        <p:blipFill>
          <a:blip r:embed="rId2"/>
          <a:stretch/>
        </p:blipFill>
        <p:spPr>
          <a:xfrm>
            <a:off x="0" y="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008163_normal"/>
          <p:cNvPicPr/>
          <p:nvPr/>
        </p:nvPicPr>
        <p:blipFill>
          <a:blip r:embed="rId3"/>
          <a:stretch/>
        </p:blipFill>
        <p:spPr>
          <a:xfrm>
            <a:off x="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Акула(Shark)(3)"/>
          <p:cNvPicPr/>
          <p:nvPr/>
        </p:nvPicPr>
        <p:blipFill>
          <a:blip r:embed="rId4"/>
          <a:stretch/>
        </p:blipFill>
        <p:spPr>
          <a:xfrm>
            <a:off x="3505320" y="-152280"/>
            <a:ext cx="548640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Archie\Рабочий стол\Окулы\0002-002-Kto-takie-akuly-klass-ryby-tip-khordovye-nadotrjad-akuly.jpg"/>
          <p:cNvPicPr/>
          <p:nvPr/>
        </p:nvPicPr>
        <p:blipFill>
          <a:blip r:embed="rId5"/>
          <a:stretch/>
        </p:blipFill>
        <p:spPr>
          <a:xfrm>
            <a:off x="5105520" y="3429000"/>
            <a:ext cx="4006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еное, копченое мясо  многих видов акул очень вкус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чень богата витамином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хрящей и кожи производят к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ясо акул не употребляемых в пищу человеком, перерабатывается на корм ск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а идет на производство различных издел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рень - акулья кожа. Боразо - самая дорогая кожа. 1 кв. см. этой кожи стоит 1 доллар.  При обработке этой кожи сохраняют плакоидные чешу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rchie\Рабочий стол\Окулы\_430_350_95_18774250481532257632.jpg"/>
          <p:cNvPicPr/>
          <p:nvPr/>
        </p:nvPicPr>
        <p:blipFill>
          <a:blip r:embed="rId2"/>
          <a:stretch/>
        </p:blipFill>
        <p:spPr>
          <a:xfrm>
            <a:off x="152280" y="1522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Archie\Рабочий стол\Окулы\Shark Grey.jpg"/>
          <p:cNvPicPr/>
          <p:nvPr/>
        </p:nvPicPr>
        <p:blipFill>
          <a:blip r:embed="rId3"/>
          <a:stretch/>
        </p:blipFill>
        <p:spPr>
          <a:xfrm>
            <a:off x="3809880" y="3124080"/>
            <a:ext cx="5220000" cy="3478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Archie\Рабочий стол\Окулы\Zub-drevney-akulyi-Megalodon-na-kozhanom-shnure-BONE-VALLEY-2.JPG"/>
          <p:cNvPicPr/>
          <p:nvPr/>
        </p:nvPicPr>
        <p:blipFill>
          <a:blip r:embed="rId4"/>
          <a:stretch/>
        </p:blipFill>
        <p:spPr>
          <a:xfrm>
            <a:off x="762120" y="4343400"/>
            <a:ext cx="2501640" cy="212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rchie\Рабочий стол\Окулы\megalodonWC1.jpg"/>
          <p:cNvPicPr/>
          <p:nvPr/>
        </p:nvPicPr>
        <p:blipFill>
          <a:blip r:embed="rId5"/>
          <a:stretch/>
        </p:blipFill>
        <p:spPr>
          <a:xfrm>
            <a:off x="5029200" y="38088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р используют при изготовлении косме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юсти и зубы идут на сувени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джелудочной железы получают панкреат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МЫСЕЛ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МЫСЕЛ АКУЛ УПАЛ, ХОТЯ И НЕ УГАС СОВСЕМ. В БУДУЩЕМ ОН МОЖЕТ ВОЗОБНОВИТЬСЯ С НОВОЙ СИЛОЙ, В ОСНОВНОМ РАДИ МЯСА АКУ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ая белая акула, китовая и гигантская акулы занесена в Красную книгу  Международного союза охраны природы (МСОП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Archie\Рабочий стол\Окулы\810267_503429.jpg"/>
          <p:cNvPicPr/>
          <p:nvPr/>
        </p:nvPicPr>
        <p:blipFill>
          <a:blip r:embed="rId2"/>
          <a:stretch/>
        </p:blipFill>
        <p:spPr>
          <a:xfrm>
            <a:off x="152280" y="152280"/>
            <a:ext cx="5133960" cy="3448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rchie\Рабочий стол\Окулы\shark_20.jpg"/>
          <p:cNvPicPr/>
          <p:nvPr/>
        </p:nvPicPr>
        <p:blipFill>
          <a:blip r:embed="rId3"/>
          <a:stretch/>
        </p:blipFill>
        <p:spPr>
          <a:xfrm>
            <a:off x="4419720" y="1676520"/>
            <a:ext cx="4616280" cy="346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rchie\Рабочий стол\Окулы\white.jpg"/>
          <p:cNvPicPr/>
          <p:nvPr/>
        </p:nvPicPr>
        <p:blipFill>
          <a:blip r:embed="rId4"/>
          <a:stretch/>
        </p:blipFill>
        <p:spPr>
          <a:xfrm>
            <a:off x="762120" y="37339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 островах с незапамятных времен существовал акулий цирк. Гавайские «гладиаторы» вступали в противоборство с аку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, Маршалловых, Саламоновых островах акулам приносились человеческие жерт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56386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меры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итовая акула достигает в длину 14 м. и весит около 13 тон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рликовая светящаяся акула- 7,5 см. дл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:\Documents and Settings\Archie\Рабочий стол\Окулы\Megalodon_scale1.png"/>
          <p:cNvPicPr/>
          <p:nvPr/>
        </p:nvPicPr>
        <p:blipFill>
          <a:blip r:embed="rId2"/>
          <a:stretch/>
        </p:blipFill>
        <p:spPr>
          <a:xfrm>
            <a:off x="2106720" y="3094200"/>
            <a:ext cx="703728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Archie\Рабочий стол\Окулы\jaws.jpg"/>
          <p:cNvPicPr/>
          <p:nvPr/>
        </p:nvPicPr>
        <p:blipFill>
          <a:blip r:embed="rId2"/>
          <a:stretch/>
        </p:blipFill>
        <p:spPr>
          <a:xfrm>
            <a:off x="1066680" y="-1523880"/>
            <a:ext cx="7162920" cy="955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аты – родственники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Documents and Settings\Archie\Рабочий стол\Окулы\1202923470_mobula_450.jpg"/>
          <p:cNvPicPr/>
          <p:nvPr/>
        </p:nvPicPr>
        <p:blipFill>
          <a:blip r:embed="rId2"/>
          <a:stretch/>
        </p:blipFill>
        <p:spPr>
          <a:xfrm>
            <a:off x="304920" y="1523880"/>
            <a:ext cx="3352680" cy="324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rchie\Рабочий стол\Окулы\906d03b59c5eecddba38ba8cf5893a9853952c49897845.jpg"/>
          <p:cNvPicPr/>
          <p:nvPr/>
        </p:nvPicPr>
        <p:blipFill>
          <a:blip r:embed="rId3"/>
          <a:stretch/>
        </p:blipFill>
        <p:spPr>
          <a:xfrm>
            <a:off x="3733920" y="1523880"/>
            <a:ext cx="5292720" cy="327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Archie\Рабочий стол\Окулы\115530197.jpg"/>
          <p:cNvPicPr/>
          <p:nvPr/>
        </p:nvPicPr>
        <p:blipFill>
          <a:blip r:embed="rId4"/>
          <a:stretch/>
        </p:blipFill>
        <p:spPr>
          <a:xfrm>
            <a:off x="228600" y="4303800"/>
            <a:ext cx="3505320" cy="255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rchie\Рабочий стол\Окулы\img.jpeg"/>
          <p:cNvPicPr/>
          <p:nvPr/>
        </p:nvPicPr>
        <p:blipFill>
          <a:blip r:embed="rId5"/>
          <a:stretch/>
        </p:blipFill>
        <p:spPr>
          <a:xfrm>
            <a:off x="6781680" y="3505320"/>
            <a:ext cx="223380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Archie\Рабочий стол\Окулы\1000-01.jpg"/>
          <p:cNvPicPr/>
          <p:nvPr/>
        </p:nvPicPr>
        <p:blipFill>
          <a:blip r:embed="rId6"/>
          <a:stretch/>
        </p:blipFill>
        <p:spPr>
          <a:xfrm>
            <a:off x="4191120" y="4876920"/>
            <a:ext cx="22240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рящевые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 нет настоящих костей, только хрящи. У некоторых видов акул в хрящах откладывается так много кальция, что они становятся почти такими же жесткими как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улья кожа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сткая кожа акулы покрыта рядами плакоидной чешуи. Плакоидная чешуя - это кожные зубы. Направлены все зубы назад. Кожа напоминает наждачную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ы- няньки кожные зубы большие и растут так часто, что в акулу трудно всадить гарп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 прочности  кожи акулы на разрыв равен 500 кг. на квадратный сантиме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rchie\Рабочий стол\Окулы\world-through-a-microscope-31.jpg"/>
          <p:cNvPicPr/>
          <p:nvPr/>
        </p:nvPicPr>
        <p:blipFill>
          <a:blip r:embed="rId2"/>
          <a:stretch/>
        </p:blipFill>
        <p:spPr>
          <a:xfrm>
            <a:off x="4267080" y="137160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rchie\Рабочий стол\Окулы\img14.jpg"/>
          <p:cNvPicPr/>
          <p:nvPr/>
        </p:nvPicPr>
        <p:blipFill>
          <a:blip r:embed="rId3"/>
          <a:stretch/>
        </p:blipFill>
        <p:spPr>
          <a:xfrm>
            <a:off x="152280" y="1371600"/>
            <a:ext cx="39625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у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убы акул расположены в пасти ровными рядами, иногда по 1000 и более зубов в ряду. Самые распространенные –треугольные зу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ади каждого зуба имеется еще несколько зубов, лежащих в глубоких ям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омное количество мощных острых зубов в пасти акулы помогает им хватать и рвать свою добыч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крупных акул (тигровая) огромные челю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ула без труда     может проглотить взрослого человек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4"/>
          <p:cNvPicPr/>
          <p:nvPr/>
        </p:nvPicPr>
        <p:blipFill>
          <a:blip r:embed="rId2"/>
          <a:stretch/>
        </p:blipFill>
        <p:spPr>
          <a:xfrm>
            <a:off x="4724280" y="4114800"/>
            <a:ext cx="419112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rchie\Рабочий стол\Окулы\326342.jpg"/>
          <p:cNvPicPr/>
          <p:nvPr/>
        </p:nvPicPr>
        <p:blipFill>
          <a:blip r:embed="rId2"/>
          <a:stretch/>
        </p:blipFill>
        <p:spPr>
          <a:xfrm>
            <a:off x="304920" y="3424320"/>
            <a:ext cx="3962160" cy="297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rchie\Рабочий стол\Окулы\10_02_08_17_19_33_borneo_shark_4.jpg"/>
          <p:cNvPicPr/>
          <p:nvPr/>
        </p:nvPicPr>
        <p:blipFill>
          <a:blip r:embed="rId3"/>
          <a:stretch/>
        </p:blipFill>
        <p:spPr>
          <a:xfrm>
            <a:off x="380880" y="152280"/>
            <a:ext cx="3886200" cy="310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rchie\Рабочий стол\Окулы\c-megalodon-teeth-thumb-399x500-48745.jpg"/>
          <p:cNvPicPr/>
          <p:nvPr/>
        </p:nvPicPr>
        <p:blipFill>
          <a:blip r:embed="rId4"/>
          <a:stretch/>
        </p:blipFill>
        <p:spPr>
          <a:xfrm>
            <a:off x="4800600" y="152280"/>
            <a:ext cx="2743200" cy="34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rchie\Рабочий стол\Окулы\12495-174850-945f4304f1db9f28f1c8cd97d135e0e2.jpg"/>
          <p:cNvPicPr/>
          <p:nvPr/>
        </p:nvPicPr>
        <p:blipFill>
          <a:blip r:embed="rId5"/>
          <a:stretch/>
        </p:blipFill>
        <p:spPr>
          <a:xfrm>
            <a:off x="4800600" y="3657600"/>
            <a:ext cx="3483000" cy="29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2:58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