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880C-DAA9-4E6E-B9EF-ADBCD173E6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D3B0-BE96-4174-8093-615A60C51CE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FD36-F600-4C50-AC8A-52A33B75B81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A06A-75B9-4D13-9453-4AA184A3B19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641F-5A79-458D-AEC8-C31778FC9DF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00ED-F326-4CFF-B382-55C05B68F8F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915D-E055-4C6B-90EE-8DA3693C218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8CC6-5B51-424A-BA57-D4EE6E014F8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1850-FADC-45B4-9EDD-5B9E06AAAD9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EF86-A917-4969-8D05-AD51C634148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8BED-D7CC-4F4E-8FD0-2D6782D66FB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E095-3F8F-4D57-8544-5F066CF3EB9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0E8A-00C0-496C-92DD-2B268DDB8BD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F17F-6940-46E4-A7A0-27F7AE90A98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7419-45E0-45AB-8786-53A4B95AC33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517C-0FE5-4E89-9395-8CED18B8193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1E6C-54FE-4AFE-98E8-3F71651E8F4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4B1B-F72C-4655-A377-25659064366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070D-7215-4EF9-8D6F-70262BA987F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ABE4-57F8-4FE7-8D90-828EE643A5A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6828-14BA-4ADC-A8C7-6B925DB4DD7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D044-6BC0-4AA9-9481-2008B7FED5A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673E-272D-4CEC-BD3B-6C37D142E03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299D-46DA-4D90-A487-FAB54449191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ED36-AFE0-482B-B07E-A757162AD24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7620-8A45-4759-9112-23D145399C6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0B0D-EFE6-4F4B-9EF6-6C71B76BD32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DCC4-F0E5-4E63-9897-170EED8B2EC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6F02-0B50-493E-B11F-F96D95A78A2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B69F-C74C-4FA6-AB5F-65486DDB35E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E0D5-3F94-401F-97A5-66DE03533E8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0880-FA00-4C79-BB4A-4EC7AE87623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B1B5-E262-43F4-81F4-9DFFFAF3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626E-A542-4738-81BC-9D75E9B4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1750-63EC-4213-BD91-A2CE6537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F43-223A-4637-A8D2-00903830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4E0BC-C56A-40E8-8094-B9FF489D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B5F60-D159-4AD1-AD74-B132566B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6B1A3-662F-422D-97E0-D4621391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5D413-8EDA-48A2-918F-22D9E166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69B4C-B07B-43D9-8277-52B60644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7BC2C-3A44-403E-BB57-89D0D279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5019F-A7FC-48A9-B140-79BF2D13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9F5-4F50-43CC-A3BB-ACBAB3E9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62178-4934-44CE-ADD3-7A490242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EC7B2-D702-4516-A583-21ED0DCF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90C80-891F-456C-A3F3-46E0FD33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2F8BB-23E4-44BC-8497-D8095910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2F3AB-A559-42FF-825E-9D6EF2F3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7B06-F754-4DA2-BC96-6A983C42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CCE2-52AF-4FB3-B893-BFB8A3C9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E41E-A748-44B3-A759-6A118978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7901-D0DC-440D-9CB4-1E7D5DF9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6B50-3F8B-4F9C-9D49-D1BC6CE9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4817-8A2D-49A7-8495-0B171675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ADFB-CF5B-4F98-8A27-E9F5C9C7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F697-77F1-4A65-979F-D0F4677581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E274-6247-4E42-8CF1-FBFD601A33F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59984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Tahoma"/>
              </a:rPr>
              <a:t>Немного про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8" descr="C:\Documents and Settings\Archie\Рабочий стол\Окулы\epaulette_shark.jpg"/>
          <p:cNvPicPr/>
          <p:nvPr/>
        </p:nvPicPr>
        <p:blipFill>
          <a:blip r:embed="rId2"/>
          <a:stretch/>
        </p:blipFill>
        <p:spPr>
          <a:xfrm>
            <a:off x="1600200" y="2286000"/>
            <a:ext cx="5715000" cy="36576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0" y="62485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льмухаметова Л.И., МАОУ СОШ №11, г. Калинингра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C:\Documents and Settings\Archie\Рабочий стол\Окулы\1030_58627.jpg"/>
          <p:cNvPicPr/>
          <p:nvPr/>
        </p:nvPicPr>
        <p:blipFill>
          <a:blip r:embed="rId2"/>
          <a:stretch/>
        </p:blipFill>
        <p:spPr>
          <a:xfrm>
            <a:off x="-609480" y="0"/>
            <a:ext cx="10574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ы нет плавательного пузыр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ржаться на плаву акула может только  безостановочно двигая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перемещается не только с помощью своего  хвоста: у них замечен еще один двигатель – «реактивный». С силой выталкивая воду из жаберных щелей, они передвигаются впере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ши акул находятся внутри головы, скрываемые за целым лабиринтом, что дает акулам чувствительный механизм, позволяющий улавливать и интерпретировать любые звуки под водой. А поскольку звук под водой распространяется гораздо дальше и быстрее, акулы способны улавливать звуки на расстоянии пары километров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течение многих лет существовала теория, будто у акул очень слабое з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выслеживает добычу при помощи обонятельных орга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мерно в 30 метрах от добычи, акула руководствуется одним только зр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Archie\Рабочий стол\Окулы\1275469441_0013_exebit.net_shark_jaws.jpg"/>
          <p:cNvPicPr/>
          <p:nvPr/>
        </p:nvPicPr>
        <p:blipFill>
          <a:blip r:embed="rId2"/>
          <a:stretch/>
        </p:blipFill>
        <p:spPr>
          <a:xfrm>
            <a:off x="4114800" y="2682720"/>
            <a:ext cx="4929120" cy="402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Archie\Рабочий стол\Окулы\great-white-shark-leaping-in-the-air-eating-a-seal1.jpg"/>
          <p:cNvPicPr/>
          <p:nvPr/>
        </p:nvPicPr>
        <p:blipFill>
          <a:blip r:embed="rId3"/>
          <a:stretch/>
        </p:blipFill>
        <p:spPr>
          <a:xfrm>
            <a:off x="152280" y="228600"/>
            <a:ext cx="5181840" cy="2906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Documents and Settings\Archie\Рабочий стол\Окулы\f688a65aa7.jpg"/>
          <p:cNvPicPr/>
          <p:nvPr/>
        </p:nvPicPr>
        <p:blipFill>
          <a:blip r:embed="rId4"/>
          <a:stretch/>
        </p:blipFill>
        <p:spPr>
          <a:xfrm>
            <a:off x="304920" y="3200400"/>
            <a:ext cx="351468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последнее время популярны теории, согласно которым акулы имеют высоко развитое чувство вкуса. По ним, акулы уже с первого укуса определяют, насколько калорийна пойманная добыча, сколько энергии они получат после ее поглощения, и т.д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увство обоняния у акул в 1000 раз более острое , чем у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ковая линия позволяет акуле реагировать на любые движения 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 на голове есть особые поры , которые ведут в органы, названные «ампулы Лоренцини». Ампулы реагируют на изменение давления и темпера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е акулы плотоядны. Их желудок может переварить все, что удалось проглотить. Желудок может сильно растягиваться и даже выворачиваться наизнанку. В желудке у акул пища может сохраняться «про запас» больше меся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Archie\Рабочий стол\Окулы\kak-ucelet-sredi-akul.jpg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вые следы акул находят в девонском периоде (320-265 млн. лет наза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настоящее время известно более 250 видов аку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C:\Documents and Settings\Archie\Рабочий стол\Окулы\557.jpg"/>
          <p:cNvPicPr/>
          <p:nvPr/>
        </p:nvPicPr>
        <p:blipFill>
          <a:blip r:embed="rId2"/>
          <a:stretch/>
        </p:blipFill>
        <p:spPr>
          <a:xfrm>
            <a:off x="4000680" y="3429000"/>
            <a:ext cx="5143320" cy="3429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Documents and Settings\Archie\Рабочий стол\Окулы\55.jpg"/>
          <p:cNvPicPr/>
          <p:nvPr/>
        </p:nvPicPr>
        <p:blipFill>
          <a:blip r:embed="rId3"/>
          <a:stretch/>
        </p:blipFill>
        <p:spPr>
          <a:xfrm>
            <a:off x="152280" y="31240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ых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акула открывает рот, чтобы втянуть воду, жаберные щели закрываются. Вода омывает жаберные нити, углекислый газ выпускается из крови, а кислород поглощается е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Живучесть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Мертвая» акула часто ведет себя совсем как живая, один рыбак, например, лишился руки, которую откусила выпотрошенная аку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вестен случай, когда рыбак поймал акулу, распорол ей брюхо , выпустил кишки и кинул ее обратно в море. Когда он снова забросил крючок с насаженными на него внутренностями акулы, он поймал на него… ту же самую акулу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2" descr="C:\Documents and Settings\Archie\Рабочий стол\Окулы\1216896767.jpg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big_330790"/>
          <p:cNvPicPr/>
          <p:nvPr/>
        </p:nvPicPr>
        <p:blipFill>
          <a:blip r:embed="rId2"/>
          <a:stretch/>
        </p:blipFill>
        <p:spPr>
          <a:xfrm>
            <a:off x="0" y="0"/>
            <a:ext cx="3200400" cy="2819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1008163_normal"/>
          <p:cNvPicPr/>
          <p:nvPr/>
        </p:nvPicPr>
        <p:blipFill>
          <a:blip r:embed="rId3"/>
          <a:stretch/>
        </p:blipFill>
        <p:spPr>
          <a:xfrm>
            <a:off x="0" y="2743200"/>
            <a:ext cx="502920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Акула(Shark)(3)"/>
          <p:cNvPicPr/>
          <p:nvPr/>
        </p:nvPicPr>
        <p:blipFill>
          <a:blip r:embed="rId4"/>
          <a:stretch/>
        </p:blipFill>
        <p:spPr>
          <a:xfrm>
            <a:off x="3505320" y="-152280"/>
            <a:ext cx="5486400" cy="297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C:\Documents and Settings\Archie\Рабочий стол\Окулы\0002-002-Kto-takie-akuly-klass-ryby-tip-khordovye-nadotrjad-akuly.jpg"/>
          <p:cNvPicPr/>
          <p:nvPr/>
        </p:nvPicPr>
        <p:blipFill>
          <a:blip r:embed="rId5"/>
          <a:stretch/>
        </p:blipFill>
        <p:spPr>
          <a:xfrm>
            <a:off x="5105520" y="3429000"/>
            <a:ext cx="40068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еное, копченое мясо  многих видов акул очень вкус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чень богата витамином 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хрящей и кожи производят к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ясо акул не употребляемых в пищу человеком, перерабатывается на корм ско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жа идет на производство различных издел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грень - акулья кожа. Боразо - самая дорогая кожа. 1 кв. см. этой кожи стоит 1 доллар.  При обработке этой кожи сохраняют плакоидные чешу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Archie\Рабочий стол\Окулы\_430_350_95_18774250481532257632.jpg"/>
          <p:cNvPicPr/>
          <p:nvPr/>
        </p:nvPicPr>
        <p:blipFill>
          <a:blip r:embed="rId2"/>
          <a:stretch/>
        </p:blipFill>
        <p:spPr>
          <a:xfrm>
            <a:off x="152280" y="152280"/>
            <a:ext cx="4419720" cy="4017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Archie\Рабочий стол\Окулы\Shark Grey.jpg"/>
          <p:cNvPicPr/>
          <p:nvPr/>
        </p:nvPicPr>
        <p:blipFill>
          <a:blip r:embed="rId3"/>
          <a:stretch/>
        </p:blipFill>
        <p:spPr>
          <a:xfrm>
            <a:off x="3809880" y="3124080"/>
            <a:ext cx="5220000" cy="3478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Archie\Рабочий стол\Окулы\Zub-drevney-akulyi-Megalodon-na-kozhanom-shnure-BONE-VALLEY-2.JPG"/>
          <p:cNvPicPr/>
          <p:nvPr/>
        </p:nvPicPr>
        <p:blipFill>
          <a:blip r:embed="rId4"/>
          <a:stretch/>
        </p:blipFill>
        <p:spPr>
          <a:xfrm>
            <a:off x="762120" y="4343400"/>
            <a:ext cx="2501640" cy="2125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rchie\Рабочий стол\Окулы\megalodonWC1.jpg"/>
          <p:cNvPicPr/>
          <p:nvPr/>
        </p:nvPicPr>
        <p:blipFill>
          <a:blip r:embed="rId5"/>
          <a:stretch/>
        </p:blipFill>
        <p:spPr>
          <a:xfrm>
            <a:off x="5029200" y="380880"/>
            <a:ext cx="340344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р используют при изготовлении космет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люсти и зубы идут на сувени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поджелудочной железы получают панкреат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МЫСЕЛ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СТОЯЩЕЕ ВРЕМЯ ПРОМЫСЕЛ АКУЛ УПАЛ, ХОТЯ И НЕ УГАС СОВСЕМ. В БУДУЩЕМ ОН МОЖЕТ ВОЗОБНОВИТЬСЯ С НОВОЙ СИЛОЙ, В ОСНОВНОМ РАДИ МЯСА АКУ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шая белая акула, китовая и гигантская акулы занесена в Красную книгу  Международного союза охраны природы (МСОП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Documents and Settings\Archie\Рабочий стол\Окулы\810267_503429.jpg"/>
          <p:cNvPicPr/>
          <p:nvPr/>
        </p:nvPicPr>
        <p:blipFill>
          <a:blip r:embed="rId2"/>
          <a:stretch/>
        </p:blipFill>
        <p:spPr>
          <a:xfrm>
            <a:off x="152280" y="152280"/>
            <a:ext cx="5133960" cy="3448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rchie\Рабочий стол\Окулы\shark_20.jpg"/>
          <p:cNvPicPr/>
          <p:nvPr/>
        </p:nvPicPr>
        <p:blipFill>
          <a:blip r:embed="rId3"/>
          <a:stretch/>
        </p:blipFill>
        <p:spPr>
          <a:xfrm>
            <a:off x="4419720" y="1676520"/>
            <a:ext cx="4616280" cy="3462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rchie\Рабочий стол\Окулы\white.jpg"/>
          <p:cNvPicPr/>
          <p:nvPr/>
        </p:nvPicPr>
        <p:blipFill>
          <a:blip r:embed="rId4"/>
          <a:stretch/>
        </p:blipFill>
        <p:spPr>
          <a:xfrm>
            <a:off x="762120" y="373392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то интересн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 островах с незапамятных времен существовал акулий цирк. Гавайские «гладиаторы» вступали в противоборство с аку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, Маршалловых, Саламоновых островах акулам приносились человеческие жерт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56386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азмеры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итовая акула достигает в длину 14 м. и весит около 13 тон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рликовая светящаяся акула- 7,5 см. дл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C:\Documents and Settings\Archie\Рабочий стол\Окулы\Megalodon_scale1.png"/>
          <p:cNvPicPr/>
          <p:nvPr/>
        </p:nvPicPr>
        <p:blipFill>
          <a:blip r:embed="rId2"/>
          <a:stretch/>
        </p:blipFill>
        <p:spPr>
          <a:xfrm>
            <a:off x="2106720" y="3094200"/>
            <a:ext cx="7037280" cy="37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Documents and Settings\Archie\Рабочий стол\Окулы\jaws.jpg"/>
          <p:cNvPicPr/>
          <p:nvPr/>
        </p:nvPicPr>
        <p:blipFill>
          <a:blip r:embed="rId2"/>
          <a:stretch/>
        </p:blipFill>
        <p:spPr>
          <a:xfrm>
            <a:off x="1066680" y="-1523880"/>
            <a:ext cx="7162920" cy="955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каты – родственники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2" descr="C:\Documents and Settings\Archie\Рабочий стол\Окулы\1202923470_mobula_450.jpg"/>
          <p:cNvPicPr/>
          <p:nvPr/>
        </p:nvPicPr>
        <p:blipFill>
          <a:blip r:embed="rId2"/>
          <a:stretch/>
        </p:blipFill>
        <p:spPr>
          <a:xfrm>
            <a:off x="304920" y="1523880"/>
            <a:ext cx="3352680" cy="3248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Documents and Settings\Archie\Рабочий стол\Окулы\906d03b59c5eecddba38ba8cf5893a9853952c49897845.jpg"/>
          <p:cNvPicPr/>
          <p:nvPr/>
        </p:nvPicPr>
        <p:blipFill>
          <a:blip r:embed="rId3"/>
          <a:stretch/>
        </p:blipFill>
        <p:spPr>
          <a:xfrm>
            <a:off x="3733920" y="1523880"/>
            <a:ext cx="5292720" cy="3276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Documents and Settings\Archie\Рабочий стол\Окулы\115530197.jpg"/>
          <p:cNvPicPr/>
          <p:nvPr/>
        </p:nvPicPr>
        <p:blipFill>
          <a:blip r:embed="rId4"/>
          <a:stretch/>
        </p:blipFill>
        <p:spPr>
          <a:xfrm>
            <a:off x="228600" y="4303800"/>
            <a:ext cx="3505320" cy="2554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:\Documents and Settings\Archie\Рабочий стол\Окулы\img.jpeg"/>
          <p:cNvPicPr/>
          <p:nvPr/>
        </p:nvPicPr>
        <p:blipFill>
          <a:blip r:embed="rId5"/>
          <a:stretch/>
        </p:blipFill>
        <p:spPr>
          <a:xfrm>
            <a:off x="6781680" y="3505320"/>
            <a:ext cx="2233800" cy="3352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:\Documents and Settings\Archie\Рабочий стол\Окулы\1000-01.jpg"/>
          <p:cNvPicPr/>
          <p:nvPr/>
        </p:nvPicPr>
        <p:blipFill>
          <a:blip r:embed="rId6"/>
          <a:stretch/>
        </p:blipFill>
        <p:spPr>
          <a:xfrm>
            <a:off x="4191120" y="4876920"/>
            <a:ext cx="22240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Хрящевые ры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 нет настоящих костей, только хрящи. У некоторых видов акул в хрящах откладывается так много кальция, что они становятся почти такими же жесткими как к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кулья кожа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сткая кожа акулы покрыта рядами плакоидной чешуи. Плакоидная чешуя - это кожные зубы. Направлены все зубы назад. Кожа напоминает наждачную бумаг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ы- няньки кожные зубы большие и растут так часто, что в акулу трудно всадить гарпу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ел прочности  кожи акулы на разрыв равен 500 кг. на квадратный сантимет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Archie\Рабочий стол\Окулы\world-through-a-microscope-31.jpg"/>
          <p:cNvPicPr/>
          <p:nvPr/>
        </p:nvPicPr>
        <p:blipFill>
          <a:blip r:embed="rId2"/>
          <a:stretch/>
        </p:blipFill>
        <p:spPr>
          <a:xfrm>
            <a:off x="4267080" y="1371600"/>
            <a:ext cx="4648320" cy="4648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Archie\Рабочий стол\Окулы\img14.jpg"/>
          <p:cNvPicPr/>
          <p:nvPr/>
        </p:nvPicPr>
        <p:blipFill>
          <a:blip r:embed="rId3"/>
          <a:stretch/>
        </p:blipFill>
        <p:spPr>
          <a:xfrm>
            <a:off x="152280" y="1371600"/>
            <a:ext cx="396252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у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убы акул расположены в пасти ровными рядами, иногда по 1000 и более зубов в ряду. Самые распространенные –треугольные зу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ади каждого зуба имеется еще несколько зубов, лежащих в глубоких ямк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громное количество мощных острых зубов в пасти акулы помогает им хватать и рвать свою добыч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крупных акул (тигровая) огромные челю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кула без труда     может проглотить взрослого человек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4"/>
          <p:cNvPicPr/>
          <p:nvPr/>
        </p:nvPicPr>
        <p:blipFill>
          <a:blip r:embed="rId2"/>
          <a:stretch/>
        </p:blipFill>
        <p:spPr>
          <a:xfrm>
            <a:off x="4724280" y="4114800"/>
            <a:ext cx="4191120" cy="26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Archie\Рабочий стол\Окулы\326342.jpg"/>
          <p:cNvPicPr/>
          <p:nvPr/>
        </p:nvPicPr>
        <p:blipFill>
          <a:blip r:embed="rId2"/>
          <a:stretch/>
        </p:blipFill>
        <p:spPr>
          <a:xfrm>
            <a:off x="304920" y="3424320"/>
            <a:ext cx="3962160" cy="2976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Archie\Рабочий стол\Окулы\10_02_08_17_19_33_borneo_shark_4.jpg"/>
          <p:cNvPicPr/>
          <p:nvPr/>
        </p:nvPicPr>
        <p:blipFill>
          <a:blip r:embed="rId3"/>
          <a:stretch/>
        </p:blipFill>
        <p:spPr>
          <a:xfrm>
            <a:off x="380880" y="152280"/>
            <a:ext cx="3886200" cy="3108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Archie\Рабочий стол\Окулы\c-megalodon-teeth-thumb-399x500-48745.jpg"/>
          <p:cNvPicPr/>
          <p:nvPr/>
        </p:nvPicPr>
        <p:blipFill>
          <a:blip r:embed="rId4"/>
          <a:stretch/>
        </p:blipFill>
        <p:spPr>
          <a:xfrm>
            <a:off x="4800600" y="152280"/>
            <a:ext cx="2743200" cy="343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Archie\Рабочий стол\Окулы\12495-174850-945f4304f1db9f28f1c8cd97d135e0e2.jpg"/>
          <p:cNvPicPr/>
          <p:nvPr/>
        </p:nvPicPr>
        <p:blipFill>
          <a:blip r:embed="rId5"/>
          <a:stretch/>
        </p:blipFill>
        <p:spPr>
          <a:xfrm>
            <a:off x="4800600" y="3657600"/>
            <a:ext cx="3483000" cy="291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27T12:58:09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