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58C5-4087-43A9-87BD-2FE41298DF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7C84-417B-4D71-878F-009E9FA90F2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15CD-B1B7-4066-900D-FD57888FA94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6AFD-49F1-4D54-85AC-28ECC9078DB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0CCC-7524-46FA-823E-CAD98C4FD8A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6CB8-B658-44B8-B5E2-DEEE4A107C1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D5C3-0DC7-400F-B7AA-3F85A024B1D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3D9D-9C73-4796-A8F0-F0D6B2615E0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D934-5FBF-4045-85D3-F2EF92B1B7C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B100-23B9-4499-BBAB-0B9081AD69E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7A98-86D4-481B-9024-AC089575579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29EA-6682-4943-8EEF-2C2F92BEA04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A939-DD97-4ECB-99D5-A98BED41EDD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9D6C-6554-40CF-8B9D-A0F3AAC73ED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792C-7EDE-4CDD-86B4-871416011BA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C396-1755-40C0-8964-4749493F70B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817E-ECAC-4C8B-BB38-6CB88E0D11F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08F9-3984-4E24-A0F7-E537BA6895B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75BB-A0CE-4279-B55A-06DCE6DE18F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3000-5C39-4783-B00D-2589608CCF9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E172-2596-4567-A550-0DDF7809112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94BC-C99B-4115-8BC8-5EA22A0113D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782D-859C-4D8C-BE8B-4D17426B6E7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8FDF-D6D1-4ECF-AD4D-1AAB258162A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9F8A-9291-4144-8B11-7F3FBF3F37A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28BE-6D0E-4083-B6E3-6E043F377C5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8717-590F-4E04-94D1-8305D668E8C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C34B-1E07-4EA3-866F-F3857585FED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E9EF-2ED7-41C7-A5B4-896A448AA53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0EAB-90B4-443D-BEFD-AE72B160FC7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D874-A528-4A99-A653-07F1E4CEA2B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B2B1-6F56-4219-8ED9-5BF8C6170D3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E2A1-DC27-44E4-BD2F-93BDAB10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2E4-651E-4426-8B80-F6D569DF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338-6921-4B86-90C8-4D22BEE8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7C18-60CC-416C-8DCA-83019CC3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69241-EC0E-4A00-9777-8BB3DCB9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CFBD2-0C7D-420A-B3CC-2EA480E1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4DBE3-3BD5-47CC-9800-D5356134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8E11C-1E4D-4F3C-90B5-C7CAE6A3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C730F-CADB-4A20-96E2-35A5F05B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7BCF3-2B4A-47CB-8BEA-A93EA58A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77B51-F920-41A6-A7D2-5F35AF96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D6F-1D16-4CDC-8363-F1DA5C58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02866-1C1D-4280-801A-2C4EC40F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89586-C13C-4C73-8576-44992EE7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92664-2939-47A5-AA50-C1A948ED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F6DF8-E03C-4EB3-A93D-FB67E723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CC0D2-4992-4AA8-AC9A-9036722F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A73-307B-4C06-B2FE-A3F058F9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5ED-7088-4692-8C49-90A00A19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FFC-A7DA-4D3A-A3A7-64811C04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7BDF-3934-4CB2-A487-0C105B76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6691-B38E-437A-BFEE-41B2A34B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25D1-C07A-4C6D-8EF6-2E900BB2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79EB-D58E-4CB2-B9D7-C42A50E5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E1C2-38DF-4E66-A928-73DA6DA1EC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F1DA-5667-449C-9568-18E96D042C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Tahoma"/>
              </a:rPr>
              <a:t>Немного про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8" descr="C:\Documents and Settings\Archie\Рабочий стол\Окулы\epaulette_shark.jpg"/>
          <p:cNvPicPr/>
          <p:nvPr/>
        </p:nvPicPr>
        <p:blipFill>
          <a:blip r:embed="rId2"/>
          <a:stretch/>
        </p:blipFill>
        <p:spPr>
          <a:xfrm>
            <a:off x="1600200" y="2286000"/>
            <a:ext cx="571500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0" y="6248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ьмухаметова Л.И., МАОУ СОШ №11, г. Калинингр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C:\Documents and Settings\Archie\Рабочий стол\Окулы\1030_58627.jpg"/>
          <p:cNvPicPr/>
          <p:nvPr/>
        </p:nvPicPr>
        <p:blipFill>
          <a:blip r:embed="rId2"/>
          <a:stretch/>
        </p:blipFill>
        <p:spPr>
          <a:xfrm>
            <a:off x="-609480" y="0"/>
            <a:ext cx="10574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ы нет плавательного пузы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ржаться на плаву акула может только  безостановочно двигая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перемещается не только с помощью своего  хвоста: у них замечен еще один двигатель – «реактивный». С силой выталкивая воду из жаберных щелей, они передвигаются впере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ши акул находятся внутри головы, скрываемые за целым лабиринтом, что дает акулам чувствительный механизм, позволяющий улавливать и интерпретировать любые звуки под водой. А поскольку звук под водой распространяется гораздо дальше и быстрее, акулы способны улавливать звуки на расстоянии пары километров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течение многих лет существовала теория, будто у акул очень слабое з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выслеживает добычу при помощи обонятельных орга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мерно в 30 метрах от добычи, акула руководствуется одним только зр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Archie\Рабочий стол\Окулы\1275469441_0013_exebit.net_shark_jaws.jpg"/>
          <p:cNvPicPr/>
          <p:nvPr/>
        </p:nvPicPr>
        <p:blipFill>
          <a:blip r:embed="rId2"/>
          <a:stretch/>
        </p:blipFill>
        <p:spPr>
          <a:xfrm>
            <a:off x="4114800" y="2682720"/>
            <a:ext cx="4929120" cy="402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rchie\Рабочий стол\Окулы\great-white-shark-leaping-in-the-air-eating-a-seal1.jpg"/>
          <p:cNvPicPr/>
          <p:nvPr/>
        </p:nvPicPr>
        <p:blipFill>
          <a:blip r:embed="rId3"/>
          <a:stretch/>
        </p:blipFill>
        <p:spPr>
          <a:xfrm>
            <a:off x="152280" y="228600"/>
            <a:ext cx="5181840" cy="2906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Documents and Settings\Archie\Рабочий стол\Окулы\f688a65aa7.jpg"/>
          <p:cNvPicPr/>
          <p:nvPr/>
        </p:nvPicPr>
        <p:blipFill>
          <a:blip r:embed="rId4"/>
          <a:stretch/>
        </p:blipFill>
        <p:spPr>
          <a:xfrm>
            <a:off x="304920" y="3200400"/>
            <a:ext cx="35146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оследнее время популярны теории, согласно которым акулы имеют высоко развитое чувство вкуса. По ним, акулы уже с первого укуса определяют, насколько калорийна пойманная добыча, сколько энергии они получат после ее поглощения, и т.д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о обоняния у акул в 1000 раз более острое , чем у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ковая линия позволяет акуле реагировать на любые движения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 на голове есть особые поры , которые ведут в органы, названные «ампулы Лоренцини». Ампулы реагируют на изменение давления и темпера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е акулы плотоядны. Их желудок может переварить все, что удалось проглотить. Желудок может сильно растягиваться и даже выворачиваться наизнанку. В желудке у акул пища может сохраняться «про запас» больше меся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Archie\Рабочий стол\Окулы\kak-ucelet-sredi-akul.jpg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ые следы акул находят в девонском периоде (320-265 млн. лет наза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астоящее время известно более 250 видов аку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C:\Documents and Settings\Archie\Рабочий стол\Окулы\557.jpg"/>
          <p:cNvPicPr/>
          <p:nvPr/>
        </p:nvPicPr>
        <p:blipFill>
          <a:blip r:embed="rId2"/>
          <a:stretch/>
        </p:blipFill>
        <p:spPr>
          <a:xfrm>
            <a:off x="4000680" y="342900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Documents and Settings\Archie\Рабочий стол\Окулы\55.jpg"/>
          <p:cNvPicPr/>
          <p:nvPr/>
        </p:nvPicPr>
        <p:blipFill>
          <a:blip r:embed="rId3"/>
          <a:stretch/>
        </p:blipFill>
        <p:spPr>
          <a:xfrm>
            <a:off x="152280" y="31240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ых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акула открывает рот, чтобы втянуть воду, жаберные щели закрываются. Вода омывает жаберные нити, углекислый газ выпускается из крови, а кислород поглощается е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Живучесть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Мертвая» акула часто ведет себя совсем как живая, один рыбак, например, лишился руки, которую откусила выпотрошенная аку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вестен случай, когда рыбак поймал акулу, распорол ей брюхо , выпустил кишки и кинул ее обратно в море. Когда он снова забросил крючок с насаженными на него внутренностями акулы, он поймал на него… ту же самую акулу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2" descr="C:\Documents and Settings\Archie\Рабочий стол\Окулы\1216896767.jpg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big_330790"/>
          <p:cNvPicPr/>
          <p:nvPr/>
        </p:nvPicPr>
        <p:blipFill>
          <a:blip r:embed="rId2"/>
          <a:stretch/>
        </p:blipFill>
        <p:spPr>
          <a:xfrm>
            <a:off x="0" y="0"/>
            <a:ext cx="3200400" cy="281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008163_normal"/>
          <p:cNvPicPr/>
          <p:nvPr/>
        </p:nvPicPr>
        <p:blipFill>
          <a:blip r:embed="rId3"/>
          <a:stretch/>
        </p:blipFill>
        <p:spPr>
          <a:xfrm>
            <a:off x="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Акула(Shark)(3)"/>
          <p:cNvPicPr/>
          <p:nvPr/>
        </p:nvPicPr>
        <p:blipFill>
          <a:blip r:embed="rId4"/>
          <a:stretch/>
        </p:blipFill>
        <p:spPr>
          <a:xfrm>
            <a:off x="3505320" y="-152280"/>
            <a:ext cx="5486400" cy="297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Documents and Settings\Archie\Рабочий стол\Окулы\0002-002-Kto-takie-akuly-klass-ryby-tip-khordovye-nadotrjad-akuly.jpg"/>
          <p:cNvPicPr/>
          <p:nvPr/>
        </p:nvPicPr>
        <p:blipFill>
          <a:blip r:embed="rId5"/>
          <a:stretch/>
        </p:blipFill>
        <p:spPr>
          <a:xfrm>
            <a:off x="5105520" y="3429000"/>
            <a:ext cx="40068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еное, копченое мясо  многих видов акул очень вкус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чень богата витамином 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хрящей и кожи производят к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ясо акул не употребляемых в пищу человеком, перерабатывается на корм ско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жа идет на производство различных издел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рень - акулья кожа. Боразо - самая дорогая кожа. 1 кв. см. этой кожи стоит 1 доллар.  При обработке этой кожи сохраняют плакоидные чешу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Archie\Рабочий стол\Окулы\_430_350_95_18774250481532257632.jpg"/>
          <p:cNvPicPr/>
          <p:nvPr/>
        </p:nvPicPr>
        <p:blipFill>
          <a:blip r:embed="rId2"/>
          <a:stretch/>
        </p:blipFill>
        <p:spPr>
          <a:xfrm>
            <a:off x="152280" y="152280"/>
            <a:ext cx="4419720" cy="4017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Archie\Рабочий стол\Окулы\Shark Grey.jpg"/>
          <p:cNvPicPr/>
          <p:nvPr/>
        </p:nvPicPr>
        <p:blipFill>
          <a:blip r:embed="rId3"/>
          <a:stretch/>
        </p:blipFill>
        <p:spPr>
          <a:xfrm>
            <a:off x="3809880" y="3124080"/>
            <a:ext cx="5220000" cy="3478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Archie\Рабочий стол\Окулы\Zub-drevney-akulyi-Megalodon-na-kozhanom-shnure-BONE-VALLEY-2.JPG"/>
          <p:cNvPicPr/>
          <p:nvPr/>
        </p:nvPicPr>
        <p:blipFill>
          <a:blip r:embed="rId4"/>
          <a:stretch/>
        </p:blipFill>
        <p:spPr>
          <a:xfrm>
            <a:off x="762120" y="4343400"/>
            <a:ext cx="2501640" cy="212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rchie\Рабочий стол\Окулы\megalodonWC1.jpg"/>
          <p:cNvPicPr/>
          <p:nvPr/>
        </p:nvPicPr>
        <p:blipFill>
          <a:blip r:embed="rId5"/>
          <a:stretch/>
        </p:blipFill>
        <p:spPr>
          <a:xfrm>
            <a:off x="5029200" y="380880"/>
            <a:ext cx="340344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р используют при изготовлении космет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люсти и зубы идут на сувени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поджелудочной железы получают панкреат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МЫСЕЛ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ПРОМЫСЕЛ АКУЛ УПАЛ, ХОТЯ И НЕ УГАС СОВСЕМ. В БУДУЩЕМ ОН МОЖЕТ ВОЗОБНОВИТЬСЯ С НОВОЙ СИЛОЙ, В ОСНОВНОМ РАДИ МЯСА АКУ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шая белая акула, китовая и гигантская акулы занесена в Красную книгу  Международного союза охраны природы (МСОП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Archie\Рабочий стол\Окулы\810267_503429.jpg"/>
          <p:cNvPicPr/>
          <p:nvPr/>
        </p:nvPicPr>
        <p:blipFill>
          <a:blip r:embed="rId2"/>
          <a:stretch/>
        </p:blipFill>
        <p:spPr>
          <a:xfrm>
            <a:off x="152280" y="152280"/>
            <a:ext cx="5133960" cy="3448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rchie\Рабочий стол\Окулы\shark_20.jpg"/>
          <p:cNvPicPr/>
          <p:nvPr/>
        </p:nvPicPr>
        <p:blipFill>
          <a:blip r:embed="rId3"/>
          <a:stretch/>
        </p:blipFill>
        <p:spPr>
          <a:xfrm>
            <a:off x="4419720" y="1676520"/>
            <a:ext cx="4616280" cy="3462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rchie\Рабочий стол\Окулы\white.jpg"/>
          <p:cNvPicPr/>
          <p:nvPr/>
        </p:nvPicPr>
        <p:blipFill>
          <a:blip r:embed="rId4"/>
          <a:stretch/>
        </p:blipFill>
        <p:spPr>
          <a:xfrm>
            <a:off x="762120" y="37339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то интересн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 островах с незапамятных времен существовал акулий цирк. Гавайские «гладиаторы» вступали в противоборство с аку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, Маршалловых, Саламоновых островах акулам приносились человеческие жерт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56386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азмеры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итовая акула достигает в длину 14 м. и весит около 13 тон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рликовая светящаяся акула- 7,5 см. дл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:\Documents and Settings\Archie\Рабочий стол\Окулы\Megalodon_scale1.png"/>
          <p:cNvPicPr/>
          <p:nvPr/>
        </p:nvPicPr>
        <p:blipFill>
          <a:blip r:embed="rId2"/>
          <a:stretch/>
        </p:blipFill>
        <p:spPr>
          <a:xfrm>
            <a:off x="2106720" y="3094200"/>
            <a:ext cx="7037280" cy="37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Archie\Рабочий стол\Окулы\jaws.jpg"/>
          <p:cNvPicPr/>
          <p:nvPr/>
        </p:nvPicPr>
        <p:blipFill>
          <a:blip r:embed="rId2"/>
          <a:stretch/>
        </p:blipFill>
        <p:spPr>
          <a:xfrm>
            <a:off x="1066680" y="-1523880"/>
            <a:ext cx="7162920" cy="955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каты – родственники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" descr="C:\Documents and Settings\Archie\Рабочий стол\Окулы\1202923470_mobula_450.jpg"/>
          <p:cNvPicPr/>
          <p:nvPr/>
        </p:nvPicPr>
        <p:blipFill>
          <a:blip r:embed="rId2"/>
          <a:stretch/>
        </p:blipFill>
        <p:spPr>
          <a:xfrm>
            <a:off x="304920" y="1523880"/>
            <a:ext cx="3352680" cy="324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Archie\Рабочий стол\Окулы\906d03b59c5eecddba38ba8cf5893a9853952c49897845.jpg"/>
          <p:cNvPicPr/>
          <p:nvPr/>
        </p:nvPicPr>
        <p:blipFill>
          <a:blip r:embed="rId3"/>
          <a:stretch/>
        </p:blipFill>
        <p:spPr>
          <a:xfrm>
            <a:off x="3733920" y="1523880"/>
            <a:ext cx="5292720" cy="327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Archie\Рабочий стол\Окулы\115530197.jpg"/>
          <p:cNvPicPr/>
          <p:nvPr/>
        </p:nvPicPr>
        <p:blipFill>
          <a:blip r:embed="rId4"/>
          <a:stretch/>
        </p:blipFill>
        <p:spPr>
          <a:xfrm>
            <a:off x="228600" y="4303800"/>
            <a:ext cx="3505320" cy="2554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Documents and Settings\Archie\Рабочий стол\Окулы\img.jpeg"/>
          <p:cNvPicPr/>
          <p:nvPr/>
        </p:nvPicPr>
        <p:blipFill>
          <a:blip r:embed="rId5"/>
          <a:stretch/>
        </p:blipFill>
        <p:spPr>
          <a:xfrm>
            <a:off x="6781680" y="3505320"/>
            <a:ext cx="2233800" cy="3352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Documents and Settings\Archie\Рабочий стол\Окулы\1000-01.jpg"/>
          <p:cNvPicPr/>
          <p:nvPr/>
        </p:nvPicPr>
        <p:blipFill>
          <a:blip r:embed="rId6"/>
          <a:stretch/>
        </p:blipFill>
        <p:spPr>
          <a:xfrm>
            <a:off x="4191120" y="4876920"/>
            <a:ext cx="22240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рящевые ры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 нет настоящих костей, только хрящи. У некоторых видов акул в хрящах откладывается так много кальция, что они становятся почти такими же жесткими как к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кулья кожа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сткая кожа акулы покрыта рядами плакоидной чешуи. Плакоидная чешуя - это кожные зубы. Направлены все зубы назад. Кожа напоминает наждачную бума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ы- няньки кожные зубы большие и растут так часто, что в акулу трудно всадить гарпу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ел прочности  кожи акулы на разрыв равен 500 кг. на квадратный сантимет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Archie\Рабочий стол\Окулы\world-through-a-microscope-31.jpg"/>
          <p:cNvPicPr/>
          <p:nvPr/>
        </p:nvPicPr>
        <p:blipFill>
          <a:blip r:embed="rId2"/>
          <a:stretch/>
        </p:blipFill>
        <p:spPr>
          <a:xfrm>
            <a:off x="4267080" y="1371600"/>
            <a:ext cx="4648320" cy="464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Archie\Рабочий стол\Окулы\img14.jpg"/>
          <p:cNvPicPr/>
          <p:nvPr/>
        </p:nvPicPr>
        <p:blipFill>
          <a:blip r:embed="rId3"/>
          <a:stretch/>
        </p:blipFill>
        <p:spPr>
          <a:xfrm>
            <a:off x="152280" y="1371600"/>
            <a:ext cx="39625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у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убы акул расположены в пасти ровными рядами, иногда по 1000 и более зубов в ряду. Самые распространенные –треугольные зу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ади каждого зуба имеется еще несколько зубов, лежащих в глубоких ямк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громное количество мощных острых зубов в пасти акулы помогает им хватать и рвать свою добыч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крупных акул (тигровая) огромные челю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ула без труда     может проглотить взрослого человек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4"/>
          <p:cNvPicPr/>
          <p:nvPr/>
        </p:nvPicPr>
        <p:blipFill>
          <a:blip r:embed="rId2"/>
          <a:stretch/>
        </p:blipFill>
        <p:spPr>
          <a:xfrm>
            <a:off x="4724280" y="4114800"/>
            <a:ext cx="4191120" cy="26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Archie\Рабочий стол\Окулы\326342.jpg"/>
          <p:cNvPicPr/>
          <p:nvPr/>
        </p:nvPicPr>
        <p:blipFill>
          <a:blip r:embed="rId2"/>
          <a:stretch/>
        </p:blipFill>
        <p:spPr>
          <a:xfrm>
            <a:off x="304920" y="3424320"/>
            <a:ext cx="3962160" cy="2976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Archie\Рабочий стол\Окулы\10_02_08_17_19_33_borneo_shark_4.jpg"/>
          <p:cNvPicPr/>
          <p:nvPr/>
        </p:nvPicPr>
        <p:blipFill>
          <a:blip r:embed="rId3"/>
          <a:stretch/>
        </p:blipFill>
        <p:spPr>
          <a:xfrm>
            <a:off x="380880" y="152280"/>
            <a:ext cx="3886200" cy="310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Archie\Рабочий стол\Окулы\c-megalodon-teeth-thumb-399x500-48745.jpg"/>
          <p:cNvPicPr/>
          <p:nvPr/>
        </p:nvPicPr>
        <p:blipFill>
          <a:blip r:embed="rId4"/>
          <a:stretch/>
        </p:blipFill>
        <p:spPr>
          <a:xfrm>
            <a:off x="4800600" y="152280"/>
            <a:ext cx="2743200" cy="343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Archie\Рабочий стол\Окулы\12495-174850-945f4304f1db9f28f1c8cd97d135e0e2.jpg"/>
          <p:cNvPicPr/>
          <p:nvPr/>
        </p:nvPicPr>
        <p:blipFill>
          <a:blip r:embed="rId5"/>
          <a:stretch/>
        </p:blipFill>
        <p:spPr>
          <a:xfrm>
            <a:off x="4800600" y="3657600"/>
            <a:ext cx="3483000" cy="291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2:58:09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