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FF2F-1B00-43DB-91EA-A8A16D93F6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E39C-7F53-458D-A5D6-1E207ED2493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FB70-A7EE-4B67-B794-8CB663B2C10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A30D-4BF6-4C29-B47D-320CDC3CE1E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F882-2D16-4577-A407-F5DDC950C15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8284-B066-436E-925C-54BC2656A42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A844-9B63-4ED3-869D-E2A68BD8DC3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61C7-835C-4947-B6B1-A70D5EAB1A5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12D1-59C6-4D00-BE80-3C4F6790C7A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B9C4-4D6F-4DF7-AE39-6ED6159D46F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DC75-6E61-40B8-92A6-8CD4AB171FF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14CE-DA4E-4C9A-AC1F-23DC0D3F0F6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34A9-C7EA-4C9E-A2DF-47D07805AB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972E-6066-435B-B798-48CD4AC3CE8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D924-3F46-43A5-A8B3-9A17B522BFF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CF9B-2D0A-40AD-B7AA-9836DFD6977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6A94-426E-44C9-AAC8-3D6477E2EA3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2C6A-E7C6-40F2-A0A4-894E2477591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9FA8-B4AF-4F8C-9EF6-4614F942A45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46FC-F706-4E59-9BCF-C129662630E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4CAB-E8EE-424B-942B-9B7FBAC54F8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E1FE-E978-49A2-9E6D-483509F3AA5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8871-C2C5-4387-B70D-1F0E77C9440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277B-4654-42AD-96D2-305156CD4FE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39AC-3DB3-4D4A-90D4-6A60530106E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7D5C-FBC2-4A91-8D48-56E7DF46FFA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D504-71EA-43AF-A874-852E4431A47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3411-AE4F-4103-A08F-2CA66F28D17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B3DB-052C-4EED-B536-3D100EC1498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5025-3314-409C-AD2F-F2D579D9CF9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2543-147C-4E01-BD35-7C1F6097C24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213E-3B19-481D-9B91-64F1FF86DDE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CAD-BA87-41EE-A533-AD9AA9EF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6737-9DD9-4D84-9AC6-2A179BFD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410-40B7-4A05-8F5E-1222CE69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A24-3EC7-4CAB-961E-CB8050CE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927C3-BE24-4320-A7C8-53ED89FC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CE54C-2B27-4667-907A-B5063C9C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22362-BE75-4556-AC37-8BA66913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A0257-8F9A-40F3-98EB-E2B5C201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B5C5D-E50C-4D8B-98C5-C3F40D87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3B687-AB71-4E3E-9291-1E353398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DB968-744E-4576-B838-3E3783F8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481-9B36-4F9A-9026-30412B91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A00BA-3047-4324-938F-57ADF94E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3D4A0-CF9E-442F-9F33-D68DB0CA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E201A-7311-4466-82E9-046E7FB9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1527F-8CF7-4001-8775-EED82FAD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26140-6F09-49DD-BC09-EEB41615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083-5EF3-41A2-8C7F-17468929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D08-F075-40DB-A793-1598F3AC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802-EFA6-48A6-88A4-4225E325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F7A-68DC-4148-B9B0-B8802E1E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19E-35B9-45F8-99A8-7E32C64D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27A-1B09-4EEE-8370-C9D33AFE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073-AADE-4933-A992-AF09A9E8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4E70-66E1-410C-8AB5-A888597FFC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C805-99F5-4415-9F4B-54892D2D6B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Tahoma"/>
              </a:rPr>
              <a:t>Немного про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C:\Documents and Settings\Archie\Рабочий стол\Окулы\epaulette_shark.jpg"/>
          <p:cNvPicPr/>
          <p:nvPr/>
        </p:nvPicPr>
        <p:blipFill>
          <a:blip r:embed="rId2"/>
          <a:stretch/>
        </p:blipFill>
        <p:spPr>
          <a:xfrm>
            <a:off x="1600200" y="228600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ьмухаметова Л.И., МАОУ СОШ №11, г. Калинин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Documents and Settings\Archie\Рабочий стол\Окулы\1030_58627.jpg"/>
          <p:cNvPicPr/>
          <p:nvPr/>
        </p:nvPicPr>
        <p:blipFill>
          <a:blip r:embed="rId2"/>
          <a:stretch/>
        </p:blipFill>
        <p:spPr>
          <a:xfrm>
            <a:off x="-609480" y="0"/>
            <a:ext cx="1057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ы нет плавате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ржаться на плаву акула может только  безостановочно двигая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перемещается не только с помощью своего  хвоста: у них замечен еще один двигатель – «реактивный». С силой выталкивая воду из жаберных щелей, они передвигаются впе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ши акул находятся внутри головы, скрываемые за целым лабиринтом, что дает акулам чувствительный механизм, позволяющий улавливать и интерпретировать любые звуки под водой. А поскольку звук под водой распространяется гораздо дальше и быстрее, акулы способны улавливать звуки на расстоянии пары километров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течение многих лет существовала теория, будто у акул очень слабое з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выслеживает добычу при помощи обонятельных орг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но в 30 метрах от добычи, акула руководствуется одним только зр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rchie\Рабочий стол\Окулы\1275469441_0013_exebit.net_shark_jaws.jpg"/>
          <p:cNvPicPr/>
          <p:nvPr/>
        </p:nvPicPr>
        <p:blipFill>
          <a:blip r:embed="rId2"/>
          <a:stretch/>
        </p:blipFill>
        <p:spPr>
          <a:xfrm>
            <a:off x="4114800" y="2682720"/>
            <a:ext cx="4929120" cy="402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rchie\Рабочий стол\Окулы\great-white-shark-leaping-in-the-air-eating-a-seal1.jpg"/>
          <p:cNvPicPr/>
          <p:nvPr/>
        </p:nvPicPr>
        <p:blipFill>
          <a:blip r:embed="rId3"/>
          <a:stretch/>
        </p:blipFill>
        <p:spPr>
          <a:xfrm>
            <a:off x="152280" y="228600"/>
            <a:ext cx="5181840" cy="290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Archie\Рабочий стол\Окулы\f688a65aa7.jpg"/>
          <p:cNvPicPr/>
          <p:nvPr/>
        </p:nvPicPr>
        <p:blipFill>
          <a:blip r:embed="rId4"/>
          <a:stretch/>
        </p:blipFill>
        <p:spPr>
          <a:xfrm>
            <a:off x="304920" y="3200400"/>
            <a:ext cx="35146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оследнее время популярны теории, согласно которым акулы имеют высоко развитое чувство вкуса. По ним, акулы уже с первого укуса определяют, насколько калорийна пойманная добыча, сколько энергии они получат после ее поглощения, и т.д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о обоняния у акул в 1000 раз более острое , чем у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ковая линия позволяет акуле реагировать на любые движения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 на голове есть особые поры , которые ведут в органы, названные «ампулы Лоренцини». Ампулы реагируют на изменение давления и темп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акулы плотоядны. Их желудок может переварить все, что удалось проглотить. Желудок может сильно растягиваться и даже выворачиваться наизнанку. В желудке у акул пища может сохраняться «про запас» больше меся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rchie\Рабочий стол\Окулы\kak-ucelet-sredi-akul.jpg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следы акул находят в девонском периоде (320-265 млн. лет наз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стоящее время известно более 250 видов аку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C:\Documents and Settings\Archie\Рабочий стол\Окулы\557.jpg"/>
          <p:cNvPicPr/>
          <p:nvPr/>
        </p:nvPicPr>
        <p:blipFill>
          <a:blip r:embed="rId2"/>
          <a:stretch/>
        </p:blipFill>
        <p:spPr>
          <a:xfrm>
            <a:off x="4000680" y="342900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Archie\Рабочий стол\Окулы\55.jpg"/>
          <p:cNvPicPr/>
          <p:nvPr/>
        </p:nvPicPr>
        <p:blipFill>
          <a:blip r:embed="rId3"/>
          <a:stretch/>
        </p:blipFill>
        <p:spPr>
          <a:xfrm>
            <a:off x="152280" y="3124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ых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акула открывает рот, чтобы втянуть воду, жаберные щели закрываются. Вода омывает жаберные нити, углекислый газ выпускается из крови, а кислород поглощается е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Живучесть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ертвая» акула часто ведет себя совсем как живая, один рыбак, например, лишился руки, которую откусила выпотрошенная ак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вестен случай, когда рыбак поймал акулу, распорол ей брюхо , выпустил кишки и кинул ее обратно в море. Когда он снова забросил крючок с насаженными на него внутренностями акулы, он поймал на него… ту же самую акулу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Archie\Рабочий стол\Окулы\1216896767.jp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big_330790"/>
          <p:cNvPicPr/>
          <p:nvPr/>
        </p:nvPicPr>
        <p:blipFill>
          <a:blip r:embed="rId2"/>
          <a:stretch/>
        </p:blipFill>
        <p:spPr>
          <a:xfrm>
            <a:off x="0" y="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008163_normal"/>
          <p:cNvPicPr/>
          <p:nvPr/>
        </p:nvPicPr>
        <p:blipFill>
          <a:blip r:embed="rId3"/>
          <a:stretch/>
        </p:blipFill>
        <p:spPr>
          <a:xfrm>
            <a:off x="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Акула(Shark)(3)"/>
          <p:cNvPicPr/>
          <p:nvPr/>
        </p:nvPicPr>
        <p:blipFill>
          <a:blip r:embed="rId4"/>
          <a:stretch/>
        </p:blipFill>
        <p:spPr>
          <a:xfrm>
            <a:off x="3505320" y="-152280"/>
            <a:ext cx="548640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Archie\Рабочий стол\Окулы\0002-002-Kto-takie-akuly-klass-ryby-tip-khordovye-nadotrjad-akuly.jpg"/>
          <p:cNvPicPr/>
          <p:nvPr/>
        </p:nvPicPr>
        <p:blipFill>
          <a:blip r:embed="rId5"/>
          <a:stretch/>
        </p:blipFill>
        <p:spPr>
          <a:xfrm>
            <a:off x="5105520" y="3429000"/>
            <a:ext cx="4006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еное, копченое мясо  многих видов акул очень вкус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чень богата витамином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хрящей и кожи производят к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ясо акул не употребляемых в пищу человеком, перерабатывается на корм ск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а идет на производство различных издел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рень - акулья кожа. Боразо - самая дорогая кожа. 1 кв. см. этой кожи стоит 1 доллар.  При обработке этой кожи сохраняют плакоидные чешу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rchie\Рабочий стол\Окулы\_430_350_95_18774250481532257632.jpg"/>
          <p:cNvPicPr/>
          <p:nvPr/>
        </p:nvPicPr>
        <p:blipFill>
          <a:blip r:embed="rId2"/>
          <a:stretch/>
        </p:blipFill>
        <p:spPr>
          <a:xfrm>
            <a:off x="152280" y="1522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Archie\Рабочий стол\Окулы\Shark Grey.jpg"/>
          <p:cNvPicPr/>
          <p:nvPr/>
        </p:nvPicPr>
        <p:blipFill>
          <a:blip r:embed="rId3"/>
          <a:stretch/>
        </p:blipFill>
        <p:spPr>
          <a:xfrm>
            <a:off x="3809880" y="3124080"/>
            <a:ext cx="5220000" cy="3478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Archie\Рабочий стол\Окулы\Zub-drevney-akulyi-Megalodon-na-kozhanom-shnure-BONE-VALLEY-2.JPG"/>
          <p:cNvPicPr/>
          <p:nvPr/>
        </p:nvPicPr>
        <p:blipFill>
          <a:blip r:embed="rId4"/>
          <a:stretch/>
        </p:blipFill>
        <p:spPr>
          <a:xfrm>
            <a:off x="762120" y="4343400"/>
            <a:ext cx="2501640" cy="212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rchie\Рабочий стол\Окулы\megalodonWC1.jpg"/>
          <p:cNvPicPr/>
          <p:nvPr/>
        </p:nvPicPr>
        <p:blipFill>
          <a:blip r:embed="rId5"/>
          <a:stretch/>
        </p:blipFill>
        <p:spPr>
          <a:xfrm>
            <a:off x="5029200" y="38088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р используют при изготовлении косме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юсти и зубы идут на сувени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джелудочной железы получают панкреат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МЫСЕЛ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МЫСЕЛ АКУЛ УПАЛ, ХОТЯ И НЕ УГАС СОВСЕМ. В БУДУЩЕМ ОН МОЖЕТ ВОЗОБНОВИТЬСЯ С НОВОЙ СИЛОЙ, В ОСНОВНОМ РАДИ МЯСА АКУ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ая белая акула, китовая и гигантская акулы занесена в Красную книгу  Международного союза охраны природы (МСОП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Archie\Рабочий стол\Окулы\810267_503429.jpg"/>
          <p:cNvPicPr/>
          <p:nvPr/>
        </p:nvPicPr>
        <p:blipFill>
          <a:blip r:embed="rId2"/>
          <a:stretch/>
        </p:blipFill>
        <p:spPr>
          <a:xfrm>
            <a:off x="152280" y="152280"/>
            <a:ext cx="5133960" cy="3448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rchie\Рабочий стол\Окулы\shark_20.jpg"/>
          <p:cNvPicPr/>
          <p:nvPr/>
        </p:nvPicPr>
        <p:blipFill>
          <a:blip r:embed="rId3"/>
          <a:stretch/>
        </p:blipFill>
        <p:spPr>
          <a:xfrm>
            <a:off x="4419720" y="1676520"/>
            <a:ext cx="4616280" cy="346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rchie\Рабочий стол\Окулы\white.jpg"/>
          <p:cNvPicPr/>
          <p:nvPr/>
        </p:nvPicPr>
        <p:blipFill>
          <a:blip r:embed="rId4"/>
          <a:stretch/>
        </p:blipFill>
        <p:spPr>
          <a:xfrm>
            <a:off x="762120" y="37339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 островах с незапамятных времен существовал акулий цирк. Гавайские «гладиаторы» вступали в противоборство с аку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, Маршалловых, Саламоновых островах акулам приносились человеческие жерт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56386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меры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итовая акула достигает в длину 14 м. и весит около 13 тон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рликовая светящаяся акула- 7,5 см. дл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:\Documents and Settings\Archie\Рабочий стол\Окулы\Megalodon_scale1.png"/>
          <p:cNvPicPr/>
          <p:nvPr/>
        </p:nvPicPr>
        <p:blipFill>
          <a:blip r:embed="rId2"/>
          <a:stretch/>
        </p:blipFill>
        <p:spPr>
          <a:xfrm>
            <a:off x="2106720" y="3094200"/>
            <a:ext cx="703728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Archie\Рабочий стол\Окулы\jaws.jpg"/>
          <p:cNvPicPr/>
          <p:nvPr/>
        </p:nvPicPr>
        <p:blipFill>
          <a:blip r:embed="rId2"/>
          <a:stretch/>
        </p:blipFill>
        <p:spPr>
          <a:xfrm>
            <a:off x="1066680" y="-1523880"/>
            <a:ext cx="7162920" cy="955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аты – родственники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Documents and Settings\Archie\Рабочий стол\Окулы\1202923470_mobula_450.jpg"/>
          <p:cNvPicPr/>
          <p:nvPr/>
        </p:nvPicPr>
        <p:blipFill>
          <a:blip r:embed="rId2"/>
          <a:stretch/>
        </p:blipFill>
        <p:spPr>
          <a:xfrm>
            <a:off x="304920" y="1523880"/>
            <a:ext cx="3352680" cy="324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rchie\Рабочий стол\Окулы\906d03b59c5eecddba38ba8cf5893a9853952c49897845.jpg"/>
          <p:cNvPicPr/>
          <p:nvPr/>
        </p:nvPicPr>
        <p:blipFill>
          <a:blip r:embed="rId3"/>
          <a:stretch/>
        </p:blipFill>
        <p:spPr>
          <a:xfrm>
            <a:off x="3733920" y="1523880"/>
            <a:ext cx="5292720" cy="327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Archie\Рабочий стол\Окулы\115530197.jpg"/>
          <p:cNvPicPr/>
          <p:nvPr/>
        </p:nvPicPr>
        <p:blipFill>
          <a:blip r:embed="rId4"/>
          <a:stretch/>
        </p:blipFill>
        <p:spPr>
          <a:xfrm>
            <a:off x="228600" y="4303800"/>
            <a:ext cx="3505320" cy="255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rchie\Рабочий стол\Окулы\img.jpeg"/>
          <p:cNvPicPr/>
          <p:nvPr/>
        </p:nvPicPr>
        <p:blipFill>
          <a:blip r:embed="rId5"/>
          <a:stretch/>
        </p:blipFill>
        <p:spPr>
          <a:xfrm>
            <a:off x="6781680" y="3505320"/>
            <a:ext cx="223380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Archie\Рабочий стол\Окулы\1000-01.jpg"/>
          <p:cNvPicPr/>
          <p:nvPr/>
        </p:nvPicPr>
        <p:blipFill>
          <a:blip r:embed="rId6"/>
          <a:stretch/>
        </p:blipFill>
        <p:spPr>
          <a:xfrm>
            <a:off x="4191120" y="4876920"/>
            <a:ext cx="22240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рящевые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 нет настоящих костей, только хрящи. У некоторых видов акул в хрящах откладывается так много кальция, что они становятся почти такими же жесткими как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улья кожа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сткая кожа акулы покрыта рядами плакоидной чешуи. Плакоидная чешуя - это кожные зубы. Направлены все зубы назад. Кожа напоминает наждачную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ы- няньки кожные зубы большие и растут так часто, что в акулу трудно всадить гарп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 прочности  кожи акулы на разрыв равен 500 кг. на квадратный сантиме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rchie\Рабочий стол\Окулы\world-through-a-microscope-31.jpg"/>
          <p:cNvPicPr/>
          <p:nvPr/>
        </p:nvPicPr>
        <p:blipFill>
          <a:blip r:embed="rId2"/>
          <a:stretch/>
        </p:blipFill>
        <p:spPr>
          <a:xfrm>
            <a:off x="4267080" y="137160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rchie\Рабочий стол\Окулы\img14.jpg"/>
          <p:cNvPicPr/>
          <p:nvPr/>
        </p:nvPicPr>
        <p:blipFill>
          <a:blip r:embed="rId3"/>
          <a:stretch/>
        </p:blipFill>
        <p:spPr>
          <a:xfrm>
            <a:off x="152280" y="1371600"/>
            <a:ext cx="39625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у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убы акул расположены в пасти ровными рядами, иногда по 1000 и более зубов в ряду. Самые распространенные –треугольные зу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ади каждого зуба имеется еще несколько зубов, лежащих в глубоких ям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омное количество мощных острых зубов в пасти акулы помогает им хватать и рвать свою добыч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крупных акул (тигровая) огромные челю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ула без труда     может проглотить взрослого человек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4"/>
          <p:cNvPicPr/>
          <p:nvPr/>
        </p:nvPicPr>
        <p:blipFill>
          <a:blip r:embed="rId2"/>
          <a:stretch/>
        </p:blipFill>
        <p:spPr>
          <a:xfrm>
            <a:off x="4724280" y="4114800"/>
            <a:ext cx="419112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rchie\Рабочий стол\Окулы\326342.jpg"/>
          <p:cNvPicPr/>
          <p:nvPr/>
        </p:nvPicPr>
        <p:blipFill>
          <a:blip r:embed="rId2"/>
          <a:stretch/>
        </p:blipFill>
        <p:spPr>
          <a:xfrm>
            <a:off x="304920" y="3424320"/>
            <a:ext cx="3962160" cy="297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rchie\Рабочий стол\Окулы\10_02_08_17_19_33_borneo_shark_4.jpg"/>
          <p:cNvPicPr/>
          <p:nvPr/>
        </p:nvPicPr>
        <p:blipFill>
          <a:blip r:embed="rId3"/>
          <a:stretch/>
        </p:blipFill>
        <p:spPr>
          <a:xfrm>
            <a:off x="380880" y="152280"/>
            <a:ext cx="3886200" cy="310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rchie\Рабочий стол\Окулы\c-megalodon-teeth-thumb-399x500-48745.jpg"/>
          <p:cNvPicPr/>
          <p:nvPr/>
        </p:nvPicPr>
        <p:blipFill>
          <a:blip r:embed="rId4"/>
          <a:stretch/>
        </p:blipFill>
        <p:spPr>
          <a:xfrm>
            <a:off x="4800600" y="152280"/>
            <a:ext cx="2743200" cy="34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rchie\Рабочий стол\Окулы\12495-174850-945f4304f1db9f28f1c8cd97d135e0e2.jpg"/>
          <p:cNvPicPr/>
          <p:nvPr/>
        </p:nvPicPr>
        <p:blipFill>
          <a:blip r:embed="rId5"/>
          <a:stretch/>
        </p:blipFill>
        <p:spPr>
          <a:xfrm>
            <a:off x="4800600" y="3657600"/>
            <a:ext cx="3483000" cy="29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2:58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