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039F-9448-4DE4-9893-337F4A8F60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FACE-8B13-4F29-B166-236E6BDB5B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31DB-C4A0-4C1F-9692-1E56D26B6E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4512-991D-4146-95C2-E78A773A4A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4B6B-5505-4F2E-B8A2-991C54A0CD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9932-6A3D-4E55-9F42-EFCA5B9ACD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0547-8033-47B2-BE6F-9E99C6586E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EDF4-F264-4222-BEAB-95DE5F01BF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B639-F810-4316-8650-0323C1C990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9179-DA1C-447A-9AEF-D2A48B98B9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EAB8-F4FC-4227-8E34-A03496ECAE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645A-B891-4AFF-BDF2-3395C29EC8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6844-FB70-4CEF-9613-4D4A37E5F6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4AE5-FF71-49F3-9D3B-4551A5EC98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2DCC-A12D-4190-9CC6-3C479F4571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3DF9-E3AF-445F-ADF9-44EB6089CF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AD3-E5EC-4F59-994D-3680C5AC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B1C6-6CF2-45EF-9AEB-68CCAE0E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986-8CF8-4254-A643-15B83D3B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203-12D4-46F8-B6FE-01A7F9FC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7866-793E-45EC-81FB-51341664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1E83-5DF6-4963-B05E-6571188C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A283-EDC8-4502-B54B-6A014461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B1DF-AE8C-47EB-BA18-80745786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9A5D-4061-414F-94CD-E8F93EBE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1DC1-A678-4D2D-9EA3-4E39F6BC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5EDB-CDC5-4494-9FD6-110CE908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196-2380-4D55-BB46-91656827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EF0B-265C-46CC-8CFB-308AA909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55A2-8F18-48AE-B89E-E3C72D5A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6F53-B38F-4A53-93C1-A197A815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36C1-815F-447C-AAFD-54207BAB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9B20-F942-46E1-B44F-3CBAE956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A60D-EABA-4499-9CF9-8B3B8BF8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D9199-24BB-4BFC-AE28-9AE38C09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8D15E-D03F-4C6C-8A8B-C4E60134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82E1F-B278-46FF-BD84-892EE3D4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969F4-BF95-46B3-A2FF-2DD58248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FB1-5BF9-4FE5-898C-D2BA3D35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8B075-AE15-4E29-8026-7F398ED8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84B0C-C158-4569-B629-04ACC930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4FF8-8CF8-4C65-BA14-3E4B3D38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D0F0B-9D07-4DE9-9AB0-D59549F1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752B0-63B2-4C1A-825E-A185AA35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583A0-423D-4F26-AFB2-F0ABC2FA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1D804-F1D9-472C-A998-C49DFCC8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77A4C-49AD-4BD5-8899-4056338E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D388D-373F-4062-810D-E5063E02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60FF3-4885-4462-9C53-F528F18C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A9D-D00F-49E4-B74F-AF8E4BC4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7F328-5CFF-4A79-8022-97B3FA7B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6E405-D0D9-4482-A87F-E2DBA8FC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D8E3A-7B4C-4A34-BFFC-776D19D3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FE4C5-8F39-4964-9491-7D770AE9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E5A94-236D-4DFF-8CAF-D90A2912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B49BA-E464-432E-AC03-3D4931A2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63807-0CC7-44BB-A4FF-A1EA2776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4CB10-1C97-426D-A795-D8BC7C7F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7B848-1177-4BFC-8A60-CA6B835D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8E2A5-C2F5-43B0-85E6-08E96C1B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455-4267-4C5D-A487-7EF06556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596C1-52C3-481C-87F0-790BE6BB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833DA-1143-4D50-A1F5-76B28E52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912FB-2D63-4D0D-BD43-5CEDD9A2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4620F-2E5F-40BB-98E7-C4667D2C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2C608-2CA3-476D-AAE3-FA29F49F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7C4E8-699B-4F21-8438-21D7C8BB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DA569-24F1-4D56-8650-57E1DD07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D2BE0-E5D0-4D38-90DA-16EDA417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22E85-2EB6-4DDA-9551-1A555FEB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C60C6-C209-4691-AA4E-5C5A0AAF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BBF-7BF2-4DA1-96D9-F61C48CD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BFB40-2711-47D6-8378-0080DA0A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485E-2276-423D-8A75-E4000E1A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6EB-6F61-43C0-A012-D7000FCE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24E9-08AA-4B2F-8252-2240E2CF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C82C-C5D4-4AB2-975B-B2B734018D5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D12C-C0CC-45C4-A160-A220A9E93F4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CCF6-67CD-466D-8CDF-6A8A9B53194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0AFA-7CBD-433D-A10A-B6A863433CD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014C-E4C3-4824-853D-AF2B14E743F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4"/>
            </a:gs>
            <a:gs pos="100000">
              <a:srgbClr val="ffe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Губ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9766f"/>
                </a:solidFill>
                <a:latin typeface="Verdana"/>
              </a:rPr>
              <a:t>Тупиковая</a:t>
            </a:r>
            <a:r>
              <a:rPr b="1" lang="en-US" sz="2400" spc="-1" strike="noStrike">
                <a:solidFill>
                  <a:srgbClr val="79766f"/>
                </a:solidFill>
                <a:latin typeface="Verdana"/>
              </a:rPr>
              <a:t> ветвь эволю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одзаголовок 2"/>
          <p:cNvSpPr/>
          <p:nvPr/>
        </p:nvSpPr>
        <p:spPr>
          <a:xfrm>
            <a:off x="357120" y="5786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Учитель высшей категории МОУ СОШ №11 г. Калинин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321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39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ел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Обычен скелет , состоящий из роговых волокон, известковых или кремневых и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тдельные иглы могут соединяться между собой, а могут оставаться свободны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Греческая губка», используемая в гигиенических целях, на самом деле,  является скелето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стоящим из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ластичного бел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 большинства гу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орная систе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жесткая и колюч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121280" y="2981160"/>
            <a:ext cx="4674960" cy="3059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2408400" y="4767120"/>
            <a:ext cx="2120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Жизнедеятель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итание и пищева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убки - фильтраторы. Вода поступает сквозь отверстия в стенках, процеживается и выбрасывается фонтаном сверх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68200" y="3340080"/>
            <a:ext cx="86439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летки - поры похожи   на бублик с дыркой - каналом посередин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павшие в губку пищевые частицы захватываются псевдоподиями клеток и перевариваются в их цитоплазме (внутриклеточное пищеварение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Небольшая губка домункула пропускает через себя 200 литров воды в час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Дыхание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клетки попадает растворенный в воде кислород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множение и развити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ермафродиты и раздельнополые. Половое и бесполое размножение - почкова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овые клетки образуются из амебоцитов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убка-это организм вывернутый наизнанку! У двухслойного зародыша (бластулы) происходит перераспределение   клеток. Эктодермальные клетки оказываются во внутреннем слое, а  энтодермальные-снаруж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ел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Из зиготы развиваетс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крытая ресничками личинк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8" descr="Картинка 14 из 1921"/>
          <p:cNvPicPr/>
          <p:nvPr/>
        </p:nvPicPr>
        <p:blipFill>
          <a:blip r:embed="rId1"/>
          <a:stretch/>
        </p:blipFill>
        <p:spPr>
          <a:xfrm>
            <a:off x="6143760" y="3571920"/>
            <a:ext cx="26431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егенерац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сли протереть губку через мелкоячеистое сито, то масса отдельных клеток слипнется и через несколько дней превратиться в маленькую губ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определение регенер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начение в природ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Врагов в природе у губок не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ильтратор воды. «Многоквартирный Дом» для многих морских организм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5592600" y="4357800"/>
            <a:ext cx="31467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дач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Губки живут только в чистой воде?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клеточность- эволюционный тупик, т.к. совершенствование организмов в рамках одной клетки имеет пределы, как и размеры самой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дите несколько фактов, ограничивающих увеличение размеров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сказка. С увеличением размеров тела, его объем возрастает в кубе, а площадь поверхности в квадра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никновение многоклеточности -важный этап развития животно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357280"/>
            <a:ext cx="49910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ногоклеточ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71680" y="3429000"/>
          <a:ext cx="8143560" cy="213372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итив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стоящие многоклеточ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нервной систем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ть нервная сист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Штриховая стрелка вправо 4"/>
          <p:cNvSpPr/>
          <p:nvPr/>
        </p:nvSpPr>
        <p:spPr>
          <a:xfrm rot="8124600">
            <a:off x="2539440" y="2557440"/>
            <a:ext cx="1616040" cy="57168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Штриховая стрелка вправо 5"/>
          <p:cNvSpPr/>
          <p:nvPr/>
        </p:nvSpPr>
        <p:spPr>
          <a:xfrm rot="2523000">
            <a:off x="4770000" y="2539800"/>
            <a:ext cx="1616040" cy="57132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 какой группе многоклеточных относятся губк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чему ты так думаеш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07880" y="3687840"/>
            <a:ext cx="83646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ете ли вы, что губки были признаны животными только в 1825 г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этого их относили к зоофитам- животнорастен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и 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одиночные, часто живут колония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07880" y="3767040"/>
            <a:ext cx="8321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реда обит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: обитают в моря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ение- пресноводная губка бодяга (водяг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мметрия тела : тело ассиметрич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Spongillidae"/>
          <p:cNvPicPr/>
          <p:nvPr/>
        </p:nvPicPr>
        <p:blipFill>
          <a:blip r:embed="rId1"/>
          <a:stretch/>
        </p:blipFill>
        <p:spPr>
          <a:xfrm>
            <a:off x="428760" y="307188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20 из 1921"/>
          <p:cNvPicPr/>
          <p:nvPr/>
        </p:nvPicPr>
        <p:blipFill>
          <a:blip r:embed="rId2"/>
          <a:stretch/>
        </p:blipFill>
        <p:spPr>
          <a:xfrm>
            <a:off x="3143160" y="4357800"/>
            <a:ext cx="3095640" cy="2066760"/>
          </a:xfrm>
          <a:prstGeom prst="rect">
            <a:avLst/>
          </a:prstGeom>
          <a:ln w="25560">
            <a:solidFill>
              <a:srgbClr val="b26b02"/>
            </a:solidFill>
            <a:miter/>
          </a:ln>
        </p:spPr>
      </p:pic>
      <p:pic>
        <p:nvPicPr>
          <p:cNvPr id="250" name="Picture 4" descr="Картинка 18 из 1953"/>
          <p:cNvPicPr/>
          <p:nvPr/>
        </p:nvPicPr>
        <p:blipFill>
          <a:blip r:embed="rId3"/>
          <a:stretch/>
        </p:blipFill>
        <p:spPr>
          <a:xfrm>
            <a:off x="6296040" y="2786040"/>
            <a:ext cx="28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аз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большие и маленьк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Тихом океане обитает губка «Кубок Нептуна», имеющая вид громадного кубка 1,5 м высотой и 0, 75 м в поперечни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нутая из воды губка напоминает кусок сырой печени 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важно пах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30280"/>
            <a:ext cx="4068720" cy="582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собенности стро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убка напоминает пористую ваз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ло образовано 2 слоями клето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ружный- ЭКТОДЕР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нутренний- МЕЗОДЕР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каней н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жду ними находится студенистое вещество- мезогле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мезоглее есть особые клетки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мебоциты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ни выделяют  вещество мезоглеи , из них образуются половые клетки и клетки  образующие скелет животного. Иглы растут в этих клетках, как снежинки на мороз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86400" y="285840"/>
            <a:ext cx="44146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46:27Z</dcterms:created>
  <dc:creator>Archie</dc:creator>
  <dc:description/>
  <dc:language>en-US</dc:language>
  <cp:lastModifiedBy>КарМаН</cp:lastModifiedBy>
  <dcterms:modified xsi:type="dcterms:W3CDTF">2012-04-25T08:17:18Z</dcterms:modified>
  <cp:revision>26</cp:revision>
  <dc:subject/>
  <dc:title>Слайд 1</dc:title>
</cp:coreProperties>
</file>