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6AFE-BAF9-4D70-A8C2-8897346AF1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2557-E934-4AA7-98F9-F1734FA79F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A9A4-6FD1-4C05-865A-1E8404A042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9614-3D32-49FF-9F5B-20080941ED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B88C-CB55-4F35-A52E-D3B30D1625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0AA8-862E-4491-9A9C-B0A6B39D5B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2F48-9CA4-4C10-A5F9-BB7BC30087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63AF-5D53-4816-956C-0B47A675BA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8699-9CA7-4FE2-85B2-184128FD06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D20C-60E6-4E04-A86C-3DE52950FA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912C-1D1D-4397-B1CC-3361665AC6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CE7D-F838-4D1C-A5DF-256468CCDB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14BD-A84F-4CBF-A640-20E2DBC3B3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85B1-8ED0-4FD2-811C-C3F7432F3B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D79E-DEB6-43D3-B11F-9A3BF18D89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E908-208D-40EB-BB40-2F0D4D7D30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C789-162C-4BC1-9175-E4839480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2747-06FB-4D9E-AAD2-E683E8F7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7FE4-32BE-4F90-A195-35A45143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A141-140D-45BC-B662-2CFCD962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3C1B-9AD1-420D-8023-847C57F2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A3E4-E10D-4F17-A8ED-300D55AA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94E2-AE57-405E-BBB1-0B61D480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9AF0-F74B-44E6-A8C6-BD522ABB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984B-B6C5-4BDB-BF1A-B2052365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56C1-14E1-4DA9-91F0-04984AE5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1765-E7EB-4F5F-AF40-9FB3533E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2939-593D-4486-AC82-7476B0F8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C0A6-BF52-4D8A-9125-AC72FA29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643A-68EF-4D1A-B854-CA8E1B9D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F624-F438-40DE-AC56-508903B2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4001-CA59-40D9-BFCA-BF891078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B49B-E77C-4405-A8DD-7D703CDB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9845C-592A-440C-8890-F1320552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4A0BA-1D4A-4DFD-BE3D-B01A7DF1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A20FD-D218-4DB5-A659-70B2B08D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D17C2-AD08-4935-80EF-2416DEE3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C4EE7-1258-463C-8B8D-C22799C8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76CF-5AC0-4BAF-B05A-ACA3A2D7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6C358-B24E-4924-87D3-F12FCEF5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E28EE-BF55-4F70-AF07-E00EFEF2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7CA81-AF11-4331-BBA2-7CA4C1B4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C33A4-C81B-4CCA-924C-CA8C9666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DC587-C659-4631-B616-E457F30E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B2DF3-1754-4E64-8EA1-5D083859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9BEEE-33AF-4A76-9399-4106B7DD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D4569-2988-44E9-948D-C211C520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AB3A9-CA08-4BB6-B629-408C6918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A555E-7C40-4C93-95A9-C9745781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1EEC-8965-44BC-AE68-3C9C58CB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2B78D-AF08-467D-8253-897FA230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5492F-A76F-4339-9E47-ED26D42C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D1D7B-8DF1-4770-915C-88400654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A937A-A49D-4813-A543-6656E6B0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FBA1B-24E0-4F1C-9243-84C081D0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8A37D-3158-4F05-99F6-9B16213B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0419E-8C8B-4F31-A7E5-5E09EC9A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67C2E-7B8C-4348-8446-479A3511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34BF7-2777-4776-8CEB-9281F3FA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A440B-EE16-42CE-8D65-1A685701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A136-71F8-4DB1-814D-31AA8E42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93316-B1F5-4903-AA05-D0F18DD7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8A9DA-7D77-44F4-B976-15FAFA52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76EB4-D498-43A0-846F-A7F79CA3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82E6C-9987-44D2-A65E-9948868F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CF3AD-8FDE-48D6-99C0-35B69DA0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A4489-8515-4A24-9D31-ECFD62C0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802AC-8A85-4176-A787-F4A44A59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71908-2F1A-41F3-87F4-589196EB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1F501-AD98-48C2-919C-D479A77D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51B7C-2500-4C39-944F-24D7FA5A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E8D7-1057-41A8-A4CA-F550266B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184A7-9FD9-4706-A46F-5E28CD50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717-8C19-43F2-BC94-61618405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1146-38E6-4B1C-99F5-C3D2C21D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4174-AAC6-4935-B143-C4687BF3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D32C-A599-4623-9D1E-1211F992E56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A351-8345-4ECD-A9DF-53CA5EC6BD5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3EAC-34E2-4B8B-B9D3-D2E3E5193F8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9AEC-FEFE-4872-B81C-88C6D90DEC2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8FB3-6C2D-4A3C-967C-AD02FE852E5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4"/>
            </a:gs>
            <a:gs pos="100000">
              <a:srgbClr val="ffe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Губки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9766f"/>
                </a:solidFill>
                <a:latin typeface="Verdana"/>
              </a:rPr>
              <a:t>Тупиковая</a:t>
            </a:r>
            <a:r>
              <a:rPr b="1" lang="en-US" sz="2400" spc="-1" strike="noStrike">
                <a:solidFill>
                  <a:srgbClr val="79766f"/>
                </a:solidFill>
                <a:latin typeface="Verdana"/>
              </a:rPr>
              <a:t> ветвь эволю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Подзаголовок 2"/>
          <p:cNvSpPr/>
          <p:nvPr/>
        </p:nvSpPr>
        <p:spPr>
          <a:xfrm>
            <a:off x="357120" y="5786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Учитель высшей категории МОУ СОШ №11 г. Калининг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Дельмухаметова Л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3219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03280" y="529920"/>
            <a:ext cx="8183520" cy="4398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Это интересн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келе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Обычен скелет , состоящий из роговых волокон, известковых или кремневых иг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тдельные иглы могут соединяться между собой, а могут оставаться свободны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Греческая губка», используемая в гигиенических целях, на самом деле,  является скелетом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стоящим из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эластичного бел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 большинства гу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порная систем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жесткая и колюча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4121280" y="2981160"/>
            <a:ext cx="4674960" cy="3059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2408400" y="4767120"/>
            <a:ext cx="21207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Жизнедеятель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итание и пищева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убки - фильтраторы. Вода поступает сквозь отверстия в стенках, процеживается и выбрасывается фонтаном сверх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268200" y="3340080"/>
            <a:ext cx="86439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Это интересн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Клетки - поры похожи   на бублик с дыркой - каналом посередин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павшие в губку пищевые частицы захватываются псевдоподиями клеток и перевариваются в их цитоплазме (внутриклеточное пищеварение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Это интересно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Небольшая губка домункула пропускает через себя 200 литров воды в час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Дыхание 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клетки попадает растворенный в воде кислород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змножение и развити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ермафродиты и раздельнополые. Половое и бесполое размножение - почкование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ловые клетки образуются из амебоцитов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убка-это организм вывернутый наизнанку! У двухслойного зародыша (бластулы) происходит перераспределение   клеток. Эктодермальные клетки оказываются во внутреннем слое, а  энтодермальные-снаруж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елени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 Из зиготы развиваетс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крытая ресничками личинк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Picture 8" descr="Картинка 14 из 1921"/>
          <p:cNvPicPr/>
          <p:nvPr/>
        </p:nvPicPr>
        <p:blipFill>
          <a:blip r:embed="rId1"/>
          <a:stretch/>
        </p:blipFill>
        <p:spPr>
          <a:xfrm>
            <a:off x="6143760" y="3571920"/>
            <a:ext cx="264312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Регенерац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сли протереть губку через мелкоячеистое сито, то масса отдельных клеток слипнется и через несколько дней превратиться в маленькую губк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формулируйте определение регенераци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Значение в природ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Врагов в природе у губок нет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ильтратор воды. «Многоквартирный Дом» для многих морских организм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5592600" y="4357800"/>
            <a:ext cx="31467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дача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Губки живут только в чистой воде? Почем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оклеточность- эволюционный тупик, т.к. совершенствование организмов в рамках одной клетки имеет пределы, как и размеры самой клет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дите несколько фактов, ограничивающих увеличение размеров клет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сказка. С увеличением размеров тела, его объем возрастает в кубе, а площадь поверхности в квадра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никновение многоклеточности -важный этап развития животного ми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57120" y="2357280"/>
            <a:ext cx="499104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Многоклеточ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71680" y="3429000"/>
          <a:ext cx="8143560" cy="2133720"/>
        </p:xfrm>
        <a:graphic>
          <a:graphicData uri="http://schemas.openxmlformats.org/drawingml/2006/table">
            <a:tbl>
              <a:tblPr/>
              <a:tblGrid>
                <a:gridCol w="4071600"/>
                <a:gridCol w="40719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митив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стоящие многоклеточ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нервной системы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сть нервная систе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Штриховая стрелка вправо 4"/>
          <p:cNvSpPr/>
          <p:nvPr/>
        </p:nvSpPr>
        <p:spPr>
          <a:xfrm rot="8124600">
            <a:off x="2539440" y="2557440"/>
            <a:ext cx="1616040" cy="571680"/>
          </a:xfrm>
          <a:prstGeom prst="pie">
            <a:avLst/>
          </a:prstGeom>
          <a:solidFill>
            <a:srgbClr val="f9b268"/>
          </a:solidFill>
          <a:ln w="42480">
            <a:solidFill>
              <a:srgbClr val="783f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Штриховая стрелка вправо 5"/>
          <p:cNvSpPr/>
          <p:nvPr/>
        </p:nvSpPr>
        <p:spPr>
          <a:xfrm rot="2523000">
            <a:off x="4770000" y="2539800"/>
            <a:ext cx="1616040" cy="571320"/>
          </a:xfrm>
          <a:prstGeom prst="pie">
            <a:avLst/>
          </a:prstGeom>
          <a:solidFill>
            <a:srgbClr val="f9b268"/>
          </a:solidFill>
          <a:ln w="42480">
            <a:solidFill>
              <a:srgbClr val="783f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 какой группе многоклеточных относятся губк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очему ты так думаешь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407880" y="3687840"/>
            <a:ext cx="83646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ете ли вы, что губки были признаны животными только в 1825 го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 этого их относили к зоофитам- животнорастения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обенности организаци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 одиночные, часто живут колония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07880" y="3767040"/>
            <a:ext cx="83217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реда обита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: обитают в моря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ение- пресноводная губка бодяга (водяг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мметрия тела : тело ассиметрично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5" descr="Spongillidae"/>
          <p:cNvPicPr/>
          <p:nvPr/>
        </p:nvPicPr>
        <p:blipFill>
          <a:blip r:embed="rId1"/>
          <a:stretch/>
        </p:blipFill>
        <p:spPr>
          <a:xfrm>
            <a:off x="428760" y="307188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Картинка 20 из 1921"/>
          <p:cNvPicPr/>
          <p:nvPr/>
        </p:nvPicPr>
        <p:blipFill>
          <a:blip r:embed="rId2"/>
          <a:stretch/>
        </p:blipFill>
        <p:spPr>
          <a:xfrm>
            <a:off x="3143160" y="4357800"/>
            <a:ext cx="3095640" cy="2066760"/>
          </a:xfrm>
          <a:prstGeom prst="rect">
            <a:avLst/>
          </a:prstGeom>
          <a:ln w="25560">
            <a:solidFill>
              <a:srgbClr val="b26b02"/>
            </a:solidFill>
            <a:miter/>
          </a:ln>
        </p:spPr>
      </p:pic>
      <p:pic>
        <p:nvPicPr>
          <p:cNvPr id="250" name="Picture 4" descr="Картинка 18 из 1953"/>
          <p:cNvPicPr/>
          <p:nvPr/>
        </p:nvPicPr>
        <p:blipFill>
          <a:blip r:embed="rId3"/>
          <a:stretch/>
        </p:blipFill>
        <p:spPr>
          <a:xfrm>
            <a:off x="6296040" y="2786040"/>
            <a:ext cx="2847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аз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большие и маленьк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Тихом океане обитает губка «Кубок Нептуна», имеющая вид громадного кубка 1,5 м высотой и 0, 75 м в поперечник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ынутая из воды губка напоминает кусок сырой печени  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еважно пахн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143680" y="378612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530280"/>
            <a:ext cx="4068720" cy="582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собенности строе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убка напоминает пористую ваз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ло образовано 2 слоями клето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ружный- ЭКТОДЕР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нутренний- МЕЗОДЕРМ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каней н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ежду ними находится студенистое вещество- мезогле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мезоглее есть особые клетки-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амебоциты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ни выделяют  вещество мезоглеи , из них образуются половые клетки и клетки  образующие скелет животного. Иглы растут в этих клетках, как снежинки на мороз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586400" y="285840"/>
            <a:ext cx="44146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8:46:27Z</dcterms:created>
  <dc:creator>Archie</dc:creator>
  <dc:description/>
  <dc:language>en-US</dc:language>
  <cp:lastModifiedBy>КарМаН</cp:lastModifiedBy>
  <dcterms:modified xsi:type="dcterms:W3CDTF">2012-04-25T08:17:18Z</dcterms:modified>
  <cp:revision>26</cp:revision>
  <dc:subject/>
  <dc:title>Слайд 1</dc:title>
</cp:coreProperties>
</file>