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1749-D076-4776-AD8E-C3FF2C65E5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BBA8-C161-4330-9DBB-953FBD8169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E5B4-5DC4-4DB8-ABD5-E8699EB8DC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EFA7-34EF-40BF-AC8B-6B4CB41510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1256-4964-48B7-8E6C-3C91E12D0F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BED6-0889-4829-B67F-EA61A20DC2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441B-A111-4EA6-8913-181576B55C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8CD0-8B30-419E-8110-62C2018471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D51A-9447-45B5-9E9C-E49EA1097F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2AD8-6A73-48B3-83E8-CFB528B658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AAC5-22A0-4894-81F4-F6F643D2FA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13C9-6712-4E76-870F-68EA61AD49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491E-76B5-4B3B-AA8F-F2811DA36E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246D-F660-4CC4-998A-4EF728E27D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EA0F-CAEF-4CBB-B7A3-BBF6604A16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58AA-EF43-4D6F-A016-7E7C381641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A35-D7B1-44E3-9AB6-E2B4CA58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769-EC83-4A29-8296-E1794AD1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FD1-9EE7-43EA-8C2B-B010FE31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EC6-EF00-4363-95E8-8C2F89EC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0D45-089E-4DE6-B864-E1CD0D76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C762-7AC3-40D0-9F7A-6F069C7E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D513-32B1-4228-959B-1A932E2D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7CA6-B8AA-451E-93DD-10CC5D50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848C-A825-4F36-B106-271EAA76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ABFC-56C5-46EF-B867-E1874B13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5E60-AAA6-4351-B69C-80F41A4B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FB4-73D6-4F4B-8253-7CCF855D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BC18-E124-4D48-8396-D1C76046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05C4-1CAE-493C-AF28-B7450D54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0DB6-0B16-4A1E-9A6C-E800A9CD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25C6-3A48-4401-972E-51C9EA15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EED1-5D6F-4604-826D-64A5CF66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D5FFA-667F-45A2-9A76-41CAACE8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03281-0B2F-4C72-BD3B-E856FCA6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BDA94-196C-4047-87F0-2A5D1CED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474FB-69A4-4C07-8D21-2A051EFE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CA9E1-48BB-421C-A56C-69794981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1BF-1589-40AC-BB5E-5BEC221F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81966-C047-4994-9590-6D188342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5DA3C-2DA9-4941-92EE-839EE569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4B67B-BFBB-4DDA-8EE1-CA26AF68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E3F25-FDBA-46A8-9441-07039FAC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99564-D299-4390-AE73-AECF3BA9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82F3F-5D46-4BC6-BDAA-228934B1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3AF0B-EA87-4043-8168-97E18533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45A50-352E-4E90-B1F8-9EA9B0B1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6799F-FC07-44D9-A684-846CC1E8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7FC63-8808-4E8D-BF02-B107CF4D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8EA-88D1-48F1-B6E9-79C4EBB1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89FDF-7DC3-45CF-AF2A-48C5A792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EBEF1-8C98-4883-8C1B-CFF9D1DD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80574-FE2C-4371-AFA7-F5E7F5EB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16D6A-E3D2-4882-9765-930C474A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52700-CBA4-4FE2-8660-45251927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3C13-2D0A-4543-8A09-DFD5BEBB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43232-75F7-4E9F-BF84-C4C44F46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FCCCE-05E2-4CD8-9A2B-67B4486A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318C5-D6ED-4F6D-86BF-28F37D82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1BC8C-97C5-4561-A6B4-703EFDEF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2CBC-DFB5-486C-985A-C7826831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36101-BD4A-4CC3-AE43-D96FFFDD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8156F-E520-4E9D-B77C-5E5A2113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995A0-213E-4566-9D72-FF35653F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36092-A324-4813-8582-AE98FAE0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FE2D2-6698-4E23-9511-83F1C430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7EC6B-1FF4-47A3-B929-540078CE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7152B-93BF-4CB7-863D-DABAB3DA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7EC3F-E767-410F-B463-A853776C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0B050-1530-46E9-A64E-ADEC07B2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4C8AF-3D02-4838-9B13-8378F93B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266-1378-4424-ADD2-0058C9E8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23BA3-4D63-44FB-864C-EB1311D4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4F3-3B11-483B-B435-89A88750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858-6364-4B57-880C-92017EE5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446-1ADF-4611-AD2F-92F039B5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5E68-E5FE-4FE5-91A8-9DDDA11308A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56B2-462A-4D6E-9A4D-0CD67D5C384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95FD-24F0-4707-A59A-8988C8664CD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EF49-5910-4F37-9E6A-54DB99F67B5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6123-ECCD-4887-8EE9-7398FE0EC6E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Губ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9766f"/>
                </a:solidFill>
                <a:latin typeface="Verdana"/>
              </a:rPr>
              <a:t>Тупиковая</a:t>
            </a:r>
            <a:r>
              <a:rPr b="1" lang="en-US" sz="2400" spc="-1" strike="noStrike">
                <a:solidFill>
                  <a:srgbClr val="79766f"/>
                </a:solidFill>
                <a:latin typeface="Verdana"/>
              </a:rPr>
              <a:t> ветвь эволю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57120" y="5786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Учитель высшей категории МОУ СОШ №11 г. Калинин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21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39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ел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Обычен скелет , состоящий из роговых волокон, известковых или кремневых и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дельные иглы могут соединяться между собой, а могут оставаться свободны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Греческая губка», используемая в гигиенических целях, на самом деле,  является скелето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стоящим из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ластичного бел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 большинства гу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орная систе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есткая и колюч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121280" y="2981160"/>
            <a:ext cx="4674960" cy="3059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2408400" y="4767120"/>
            <a:ext cx="2120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изнедеятель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итание и пищева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убки - фильтраторы. Вода поступает сквозь отверстия в стенках, процеживается и выбрасывается фонтаном сверх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68200" y="3340080"/>
            <a:ext cx="86439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летки - поры похожи   на бублик с дыркой - каналом посередин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павшие в губку пищевые частицы захватываются псевдоподиями клеток и перевариваются в их цитоплазме (внутриклеточное пищеварение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Небольшая губка домункула пропускает через себя 200 литров воды в час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Дыхание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летки попадает растворенный в воде кислоро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множение и развит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ермафродиты и раздельнополые. Половое и бесполое размножение - почкова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овые клетки образуются из амебоцит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убка-это организм вывернутый наизнанку! У двухслойного зародыша (бластулы) происходит перераспределение   клеток. Эктодермальные клетки оказываются во внутреннем слое, а  энтодермальные-снаруж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ел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Из зиготы развиваетс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крытая ресничками личин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8" descr="Картинка 14 из 1921"/>
          <p:cNvPicPr/>
          <p:nvPr/>
        </p:nvPicPr>
        <p:blipFill>
          <a:blip r:embed="rId1"/>
          <a:stretch/>
        </p:blipFill>
        <p:spPr>
          <a:xfrm>
            <a:off x="6143760" y="3571920"/>
            <a:ext cx="2643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егенерац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сли протереть губку через мелкоячеистое сито, то масса отдельных клеток слипнется и через несколько дней превратиться в маленькую губ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определение регенер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начение в природ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Врагов в природе у губок не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льтратор воды. «Многоквартирный Дом» для многих морских организм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5592600" y="4357800"/>
            <a:ext cx="31467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дач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Губки живут только в чистой воде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клеточность- эволюционный тупик, т.к. совершенствование организмов в рамках одной клетки имеет пределы, как и размеры самой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дите несколько фактов, ограничивающих увеличение размеров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сказка. С увеличением размеров тела, его объем возрастает в кубе, а площадь поверхности в квадра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никновение многоклеточности -важный этап развития животно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357280"/>
            <a:ext cx="49910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71680" y="3429000"/>
          <a:ext cx="8143560" cy="213372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итив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тоящие многоклеточ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нервной систем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ть нервная сис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Штриховая стрелка вправо 4"/>
          <p:cNvSpPr/>
          <p:nvPr/>
        </p:nvSpPr>
        <p:spPr>
          <a:xfrm rot="8124600">
            <a:off x="2539440" y="2557440"/>
            <a:ext cx="1616040" cy="57168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Штриховая стрелка вправо 5"/>
          <p:cNvSpPr/>
          <p:nvPr/>
        </p:nvSpPr>
        <p:spPr>
          <a:xfrm rot="2523000">
            <a:off x="4770000" y="2539800"/>
            <a:ext cx="1616040" cy="57132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 какой группе многоклеточных относятся губк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чему ты так думаеш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07880" y="3687840"/>
            <a:ext cx="8364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ете ли вы, что губки были признаны животными только в 1825 г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этого их относили к зоофитам- животнорастен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и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одиночные, часто живут колония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07880" y="3767040"/>
            <a:ext cx="8321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реда обит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: обитают в моря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ение- пресноводная губка бодяга (водяг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мметрия тела : тело ассиметрич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Spongillidae"/>
          <p:cNvPicPr/>
          <p:nvPr/>
        </p:nvPicPr>
        <p:blipFill>
          <a:blip r:embed="rId1"/>
          <a:stretch/>
        </p:blipFill>
        <p:spPr>
          <a:xfrm>
            <a:off x="428760" y="307188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20 из 1921"/>
          <p:cNvPicPr/>
          <p:nvPr/>
        </p:nvPicPr>
        <p:blipFill>
          <a:blip r:embed="rId2"/>
          <a:stretch/>
        </p:blipFill>
        <p:spPr>
          <a:xfrm>
            <a:off x="3143160" y="4357800"/>
            <a:ext cx="3095640" cy="2066760"/>
          </a:xfrm>
          <a:prstGeom prst="rect">
            <a:avLst/>
          </a:prstGeom>
          <a:ln w="25560">
            <a:solidFill>
              <a:srgbClr val="b26b02"/>
            </a:solidFill>
            <a:miter/>
          </a:ln>
        </p:spPr>
      </p:pic>
      <p:pic>
        <p:nvPicPr>
          <p:cNvPr id="250" name="Picture 4" descr="Картинка 18 из 1953"/>
          <p:cNvPicPr/>
          <p:nvPr/>
        </p:nvPicPr>
        <p:blipFill>
          <a:blip r:embed="rId3"/>
          <a:stretch/>
        </p:blipFill>
        <p:spPr>
          <a:xfrm>
            <a:off x="6296040" y="278604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аз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большие и маленьк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Тихом океане обитает губка «Кубок Нептуна», имеющая вид громадного кубка 1,5 м высотой и 0, 75 м в поперечни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нутая из воды губка напоминает кусок сырой печени 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важно пах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30280"/>
            <a:ext cx="4068720" cy="582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собенности стро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убка напоминает пористую ваз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ло образовано 2 слоями клет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ружный- ЭКТОДЕР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нутренний- МЕЗОДЕР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каней н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жду ними находится студенистое вещество- мезогле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мезоглее есть особые клетки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мебоциты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ни выделяют  вещество мезоглеи , из них образуются половые клетки и клетки  образующие скелет животного. Иглы растут в этих клетках, как снежинки на мороз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86400" y="285840"/>
            <a:ext cx="44146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46:27Z</dcterms:created>
  <dc:creator>Archie</dc:creator>
  <dc:description/>
  <dc:language>en-US</dc:language>
  <cp:lastModifiedBy>КарМаН</cp:lastModifiedBy>
  <dcterms:modified xsi:type="dcterms:W3CDTF">2012-04-25T08:17:18Z</dcterms:modified>
  <cp:revision>26</cp:revision>
  <dc:subject/>
  <dc:title>Слайд 1</dc:title>
</cp:coreProperties>
</file>