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271-E404-4E37-AE1C-341DE04CDC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C65-CDD8-4C2A-8E82-63829A0A9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8B85-D99E-4E57-8EBE-455E9DFAEA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610B-7C25-4756-88FD-EAD3D6675C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7C24-571A-49F9-995B-CDDC074C0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A08-C987-451F-917B-5E4A4FB7E8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87C3-C061-467A-89FD-BBE6C393B1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BD5F-966E-4A4C-B202-DE9631437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50EA-F0C5-4E93-9B71-F030C2E77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155B-860C-47E6-89A5-9292FA0D81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21BB-DCD0-4220-B7DE-9CB35BEA52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E31-0714-46BE-99FC-86CF103DD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4A4A-CFA0-434F-A0B1-4288260CF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216-2E49-4DF8-A191-7B6C76774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952D-00D3-45A2-BC35-8662439C8B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EE6A-7A0C-4BC2-A14A-EEF591D4F6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7F3-93F7-4DF2-AD29-05675C15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7B5-B639-4F7F-A78D-1619427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06E-EA7E-4191-8083-382E1A4B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815-BB17-451E-A2DE-9D1D32D3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C851-3CDE-475D-95FB-2176A552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4305-E045-48CC-AC67-3F870415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DD77-528A-4049-A754-1CE57229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F993-6FC9-4008-819D-B32A525F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3715-5EDD-404D-816D-31310E2B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479-79A4-4D76-9286-195CE3AE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DAE2-80E9-40BD-BC8B-37C1127F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6BC-24C6-4A68-9599-D6F16890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F2CD-425A-4B0B-A04D-A4B12FC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248-F905-408C-B909-944BBD36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9BF4-0DDF-4FED-8E9D-96B44B2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942B-92E6-420E-B673-F04855BA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BB03-09A3-45F1-AFBF-3208FC09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3358-E51D-422B-A184-E40D8694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A127-E058-437B-B15F-D195D85E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64E1-485E-44F0-B497-9346B554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B4B5-7ED0-4BA1-8D5E-7104888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A142-E041-42F7-A632-9F520F79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DD9-8F1F-4A2B-B71F-992B856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9377-0D80-474D-B0A9-5C323082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63093-01B8-4619-8FC2-7E89A69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723E-D10E-452E-9A32-2962DB1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AACB-D154-422F-8E3B-D0645C7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9ED8-A633-46FC-B754-E771CA8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434B-41AF-44CF-98EF-A111DB44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8D7D-4798-4A02-A9B9-1E7868DF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47D4-BBDC-4BDE-8221-FA84129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9796-11E1-4CF8-8682-E005CF27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EEE19-3FCE-4204-8FAE-C1D7BE46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6F9-3A94-4DB1-8CD6-7E45FB78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B19D-1715-4642-B6D8-8A979EDF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0C46-901B-403C-9DB7-E71A74BE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86E75-0556-4F94-8B36-C80D5AFE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A0911-B37C-4DAC-A811-E217FBBB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C555-4677-40D4-B929-1578696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297C-5E83-494E-8FD5-C087C88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9BB6-951B-427C-B1B1-632231EB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F268-6AB0-4D48-A32D-8A6159A0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6D50-8D54-430D-8945-1FF7AD64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2FBF-F1D2-42CD-9C56-727467E6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E1B-F986-4397-BADD-C72D9251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ED7E1-9188-46AE-99E6-CCC47285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EB59-6CB7-427B-BCB4-C245312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6A372-7CC8-480B-9351-1ED3503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0BB5-AF8B-49B0-9E48-BBB0BF16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7A3CF-2ECD-4CA5-896B-1A2ECF9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CDC9E-1A7B-4961-89AA-B18F09AB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7EA7B-78FD-418F-BE2D-78C72CF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B14E-0950-4A9A-9D63-9F8B4C82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CC04-CE3F-4659-880E-D6608C6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5E17-F5AC-41D9-AFEC-7344CA3A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CDA-6B91-42F8-8440-EB46A352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707AD-9D3A-47B8-BF92-889F69F8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4D8-F0C0-452A-B411-D53384A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842-1CF6-4475-B3EF-3CF445F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4AD-62ED-47DE-9DA8-F6459A2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61F1-3D66-405B-8789-16840B44923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53CF-B546-4A10-87AA-AA9820F4999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F95E-1938-4110-91FF-9E3BBE31574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3C0-F81F-4912-8F91-CE7023FC8A8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ECE1-DD79-4E02-948E-C9F70ADC401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4"/>
            </a:gs>
            <a:gs pos="100000">
              <a:srgbClr val="ffe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Губ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79766f"/>
                </a:solidFill>
                <a:latin typeface="Verdana"/>
              </a:rPr>
              <a:t>Тупиковая</a:t>
            </a:r>
            <a:r>
              <a:rPr b="1" lang="en-US" sz="2400" spc="-1" strike="noStrike">
                <a:solidFill>
                  <a:srgbClr val="79766f"/>
                </a:solidFill>
                <a:latin typeface="Verdana"/>
              </a:rPr>
              <a:t> ветвь эволю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57120" y="5786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читель высшей категории МОУ СОШ №11 г. Калинин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219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398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кел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Обычен скелет , состоящий из роговых волокон, известковых или кремневых и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дельные иглы могут соединяться между собой, а могут оставаться свободны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«Греческая губка», используемая в гигиенических целях, на самом деле,  является скелетом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стоящим из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ластичного бел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 большинства губ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порная систем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есткая и колюча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121280" y="2981160"/>
            <a:ext cx="4674960" cy="3059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2408400" y="4767120"/>
            <a:ext cx="2120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Жизнедеятель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итание и пищева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убки - фильтраторы. Вода поступает сквозь отверстия в стенках, процеживается и выбрасывается фонтаном сверх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68200" y="3340080"/>
            <a:ext cx="86439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Клетки - поры похожи   на бублик с дыркой - каналом посередин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павшие в губку пищевые частицы захватываются псевдоподиями клеток и перевариваются в их цитоплазме (внутриклеточное пищеварение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интересн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Небольшая губка домункула пропускает через себя 200 литров воды в час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Дыхание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клетки попадает растворенный в воде кислород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множение и развити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ермафродиты и раздельнополые. Половое и бесполое размножение - почкова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овые клетки образуются из амебоцит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убка-это организм вывернутый наизнанку! У двухслойного зародыша (бластулы) происходит перераспределение   клеток. Эктодермальные клетки оказываются во внутреннем слое, а  энтодермальные-снаруж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ел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Из зиготы развиваетс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крытая ресничками личин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8" descr="Картинка 14 из 1921"/>
          <p:cNvPicPr/>
          <p:nvPr/>
        </p:nvPicPr>
        <p:blipFill>
          <a:blip r:embed="rId1"/>
          <a:stretch/>
        </p:blipFill>
        <p:spPr>
          <a:xfrm>
            <a:off x="6143760" y="3571920"/>
            <a:ext cx="26431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Регенер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сли протереть губку через мелкоячеистое сито, то масса отдельных клеток слипнется и через несколько дней превратиться в маленькую губ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формулируйте определение регенерац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ение в природе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Врагов в природе у губок нет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ильтратор воды. «Многоквартирный Дом» для многих морских организм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365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5592600" y="4357800"/>
            <a:ext cx="31467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дач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Губки живут только в чистой вод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клеточность- эволюционный тупик, т.к. совершенствование организмов в рамках одной клетки имеет пределы, как и размеры самой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дите несколько фактов, ограничивающих увеличение размеров клет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сказка. С увеличением размеров тела, его объем возрастает в кубе, а площадь поверхности в квадра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никновение многоклеточности -важный этап развития животно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7120" y="2357280"/>
            <a:ext cx="49910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71680" y="3429000"/>
          <a:ext cx="8143560" cy="2133720"/>
        </p:xfrm>
        <a:graphic>
          <a:graphicData uri="http://schemas.openxmlformats.org/drawingml/2006/table">
            <a:tbl>
              <a:tblPr/>
              <a:tblGrid>
                <a:gridCol w="4071600"/>
                <a:gridCol w="40719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итив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тоящие многоклеточ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нервной систем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ть нервная систе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Штриховая стрелка вправо 4"/>
          <p:cNvSpPr/>
          <p:nvPr/>
        </p:nvSpPr>
        <p:spPr>
          <a:xfrm rot="8124600">
            <a:off x="2539440" y="2557440"/>
            <a:ext cx="1616040" cy="57168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Штриховая стрелка вправо 5"/>
          <p:cNvSpPr/>
          <p:nvPr/>
        </p:nvSpPr>
        <p:spPr>
          <a:xfrm rot="2523000">
            <a:off x="4770000" y="2539800"/>
            <a:ext cx="1616040" cy="571320"/>
          </a:xfrm>
          <a:prstGeom prst="pie">
            <a:avLst/>
          </a:prstGeom>
          <a:solidFill>
            <a:srgbClr val="f9b268"/>
          </a:solidFill>
          <a:ln w="42480">
            <a:solidFill>
              <a:srgbClr val="783f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какой группе многоклеточных относятся губк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чему ты так думаеш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07880" y="3687840"/>
            <a:ext cx="83646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ете ли вы, что губки были признаны животными только в 1825 го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этого их относили к зоофитам- животнорасте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обенности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 одиночные, часто живут колония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07880" y="3767040"/>
            <a:ext cx="8321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реда обита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: обитают в моря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ение- пресноводная губка бодяга (водяг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мметрия тела : тело ассиметрично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5" descr="Spongillidae"/>
          <p:cNvPicPr/>
          <p:nvPr/>
        </p:nvPicPr>
        <p:blipFill>
          <a:blip r:embed="rId1"/>
          <a:stretch/>
        </p:blipFill>
        <p:spPr>
          <a:xfrm>
            <a:off x="428760" y="307188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Картинка 20 из 1921"/>
          <p:cNvPicPr/>
          <p:nvPr/>
        </p:nvPicPr>
        <p:blipFill>
          <a:blip r:embed="rId2"/>
          <a:stretch/>
        </p:blipFill>
        <p:spPr>
          <a:xfrm>
            <a:off x="3143160" y="4357800"/>
            <a:ext cx="3095640" cy="2066760"/>
          </a:xfrm>
          <a:prstGeom prst="rect">
            <a:avLst/>
          </a:prstGeom>
          <a:ln w="25560">
            <a:solidFill>
              <a:srgbClr val="b26b02"/>
            </a:solidFill>
            <a:miter/>
          </a:ln>
        </p:spPr>
      </p:pic>
      <p:pic>
        <p:nvPicPr>
          <p:cNvPr id="250" name="Picture 4" descr="Картинка 18 из 1953"/>
          <p:cNvPicPr/>
          <p:nvPr/>
        </p:nvPicPr>
        <p:blipFill>
          <a:blip r:embed="rId3"/>
          <a:stretch/>
        </p:blipFill>
        <p:spPr>
          <a:xfrm>
            <a:off x="6296040" y="2786040"/>
            <a:ext cx="2847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Раз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большие и малень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Тихом океане обитает губка «Кубок Нептуна», имеющая вид громадного кубка 1,5 м высотой и 0, 75 м в поперечни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ынутая из воды губка напоминает кусок сырой печени 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важно пахн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30280"/>
            <a:ext cx="4068720" cy="582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обенности стро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убка напоминает пористую ваз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о образовано 2 слоями клето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ружный- ЭКТОДЕР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утренний- МЕЗОДЕРМ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каней н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ежду ними находится студенистое вещество- мезогле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мезоглее есть особые клетки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амебоциты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ни выделяют  вещество мезоглеи , из них образуются половые клетки и клетки  образующие скелет животного. Иглы растут в этих клетках, как снежинки на мороз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86400" y="285840"/>
            <a:ext cx="44146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46:27Z</dcterms:created>
  <dc:creator>Archie</dc:creator>
  <dc:description/>
  <dc:language>en-US</dc:language>
  <cp:lastModifiedBy>КарМаН</cp:lastModifiedBy>
  <dcterms:modified xsi:type="dcterms:W3CDTF">2012-04-25T08:17:18Z</dcterms:modified>
  <cp:revision>26</cp:revision>
  <dc:subject/>
  <dc:title>Слайд 1</dc:title>
</cp:coreProperties>
</file>