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18E7-592C-4EAF-AFD3-64139D10FF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377E-D72C-46BD-9FA5-FC00B51B2F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33DE-F7A1-43A4-AAD8-2FE587E8CDF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C2C0-9C57-426A-B2E4-9EEE7F6DA2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BEF-9C5B-4368-872A-FC8E6929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63F-8076-40B6-97ED-C070F4C3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CD5-B889-4DC8-A169-885413A7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BD4-5929-4FA3-9A69-9E4E5BCE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6E28-923E-46AE-9CD2-2DC2AE3D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48F6-D38F-464B-9A0F-EE27130B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5F92-7EF0-43C2-B856-949978F2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35BA-1B74-41F0-A6B6-088FC8B2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5A9B-B100-4F7A-A52A-BBE19EBB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0BBF-DD07-4924-9591-9F1B6CDD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FA7A-2998-46FD-992F-ADF1E64D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4598-13D5-4CF3-81E7-133D4637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1532-09FC-41BE-AE88-383B83ED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7122-9FB7-44CF-B7EA-8E1192E5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8676-1033-430F-B2EC-954C076C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7890-F13F-4C92-8DF1-61CBFA04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3B98-B6C1-4014-9225-CABBEDF8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02D-B95A-47AE-9BAB-EAE0AF3B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524-BD63-41A0-86E0-5E084BA8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38F2-DF11-46B7-B596-7251F56B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2FA-360E-46D3-8129-3A0FF229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F69-9EC1-48C9-848D-908F849A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9D4-751C-4AF5-9776-E2A50333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C4C-1D1F-4F1A-8995-5F4468AB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90B3-BD2F-45EE-9797-6C6201B8E51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8406-B535-44DE-B7EB-4F6F16F7F39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6" descr=""/>
          <p:cNvPicPr/>
          <p:nvPr/>
        </p:nvPicPr>
        <p:blipFill>
          <a:blip r:embed="rId2"/>
          <a:stretch/>
        </p:blipFill>
        <p:spPr>
          <a:xfrm>
            <a:off x="-6480" y="255600"/>
            <a:ext cx="6413760" cy="4657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50920" y="5157720"/>
            <a:ext cx="5257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биологии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ОУ СОШ №4  Сереброва Л.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Светлоград, Ставропольский кра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564000" y="6381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12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4" descr=""/>
          <p:cNvPicPr/>
          <p:nvPr/>
        </p:nvPicPr>
        <p:blipFill>
          <a:blip r:embed="rId2"/>
          <a:stretch/>
        </p:blipFill>
        <p:spPr>
          <a:xfrm>
            <a:off x="2305080" y="-128520"/>
            <a:ext cx="6819840" cy="20732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4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4" descr=""/>
          <p:cNvPicPr/>
          <p:nvPr/>
        </p:nvPicPr>
        <p:blipFill>
          <a:blip r:embed="rId2"/>
          <a:stretch/>
        </p:blipFill>
        <p:spPr>
          <a:xfrm>
            <a:off x="1085760" y="-128520"/>
            <a:ext cx="7186680" cy="145728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extBox 14" descr=""/>
          <p:cNvPicPr/>
          <p:nvPr/>
        </p:nvPicPr>
        <p:blipFill>
          <a:blip r:embed="rId3"/>
          <a:stretch/>
        </p:blipFill>
        <p:spPr>
          <a:xfrm>
            <a:off x="535788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4" descr=""/>
          <p:cNvPicPr/>
          <p:nvPr/>
        </p:nvPicPr>
        <p:blipFill>
          <a:blip r:embed="rId2"/>
          <a:stretch/>
        </p:blipFill>
        <p:spPr>
          <a:xfrm>
            <a:off x="255600" y="158760"/>
            <a:ext cx="8991720" cy="84132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2"/>
          <p:cNvSpPr/>
          <p:nvPr/>
        </p:nvSpPr>
        <p:spPr>
          <a:xfrm>
            <a:off x="6227640" y="177336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ив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8"/>
          <p:cNvPicPr/>
          <p:nvPr/>
        </p:nvPicPr>
        <p:blipFill>
          <a:blip r:embed="rId3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8" name="Прямая со стрелкой 7"/>
          <p:cNvCxnSpPr/>
          <p:nvPr/>
        </p:nvCxnSpPr>
        <p:spPr>
          <a:xfrm flipH="1">
            <a:off x="2340000" y="1628640"/>
            <a:ext cx="144036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Прямая со стрелкой 9"/>
          <p:cNvCxnSpPr>
            <a:endCxn id="150" idx="0"/>
          </p:cNvCxnSpPr>
          <p:nvPr/>
        </p:nvCxnSpPr>
        <p:spPr>
          <a:xfrm>
            <a:off x="5437080" y="1557360"/>
            <a:ext cx="1315440" cy="79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1" name="Прямоугольник 10" descr=""/>
          <p:cNvPicPr/>
          <p:nvPr/>
        </p:nvPicPr>
        <p:blipFill>
          <a:blip r:embed="rId2"/>
          <a:stretch/>
        </p:blipFill>
        <p:spPr>
          <a:xfrm>
            <a:off x="1206360" y="55440"/>
            <a:ext cx="7340760" cy="20718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1"/>
          <p:cNvSpPr/>
          <p:nvPr/>
        </p:nvSpPr>
        <p:spPr>
          <a:xfrm>
            <a:off x="250920" y="2349360"/>
            <a:ext cx="3929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земными побега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о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блевыми черен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зучими побег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од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ив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4357800" y="2349360"/>
            <a:ext cx="478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земными  побегам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отпрыс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оизмененными побег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Клубн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. Луковиц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. Корневищ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14"/>
          <p:cNvSpPr/>
          <p:nvPr/>
        </p:nvSpPr>
        <p:spPr>
          <a:xfrm flipV="1">
            <a:off x="285840" y="1356840"/>
            <a:ext cx="144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9" descr=""/>
          <p:cNvPicPr/>
          <p:nvPr/>
        </p:nvPicPr>
        <p:blipFill>
          <a:blip r:embed="rId2"/>
          <a:stretch/>
        </p:blipFill>
        <p:spPr>
          <a:xfrm>
            <a:off x="2262240" y="311040"/>
            <a:ext cx="4529160" cy="12621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11" descr=""/>
          <p:cNvPicPr/>
          <p:nvPr/>
        </p:nvPicPr>
        <p:blipFill>
          <a:blip r:embed="rId3"/>
          <a:stretch/>
        </p:blipFill>
        <p:spPr>
          <a:xfrm>
            <a:off x="1133640" y="1779480"/>
            <a:ext cx="7229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1249200" y="542880"/>
            <a:ext cx="5992920" cy="1157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71720" y="185724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 учащихся со  способами  вегетативного размножения покрытосеменных растени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92160"/>
            <a:ext cx="9120240" cy="83484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6084720" y="1341360"/>
            <a:ext cx="2571840" cy="1008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левыми 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5724360" y="242100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ро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локс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у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7"/>
          <p:cNvPicPr/>
          <p:nvPr/>
        </p:nvPicPr>
        <p:blipFill>
          <a:blip r:embed="rId3"/>
          <a:stretch/>
        </p:blipFill>
        <p:spPr>
          <a:xfrm>
            <a:off x="428760" y="1285920"/>
            <a:ext cx="5143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-128520"/>
            <a:ext cx="9088200" cy="841320"/>
          </a:xfrm>
          <a:prstGeom prst="rect">
            <a:avLst/>
          </a:prstGeom>
          <a:ln w="0">
            <a:noFill/>
          </a:ln>
        </p:spPr>
      </p:pic>
      <p:sp>
        <p:nvSpPr>
          <p:cNvPr id="99" name="Скругленный прямоугольник 6"/>
          <p:cNvSpPr/>
          <p:nvPr/>
        </p:nvSpPr>
        <p:spPr>
          <a:xfrm>
            <a:off x="5580000" y="1700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21420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264312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Прямоугольник 12"/>
          <p:cNvSpPr/>
          <p:nvPr/>
        </p:nvSpPr>
        <p:spPr>
          <a:xfrm>
            <a:off x="142920" y="3143160"/>
            <a:ext cx="47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множение корневыми            Нарезать кусочка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ами: обрезать                    по 5 см и сделать косой сре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инные корн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5"/>
          <a:stretch/>
        </p:blipFill>
        <p:spPr>
          <a:xfrm>
            <a:off x="142920" y="3714840"/>
            <a:ext cx="219060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3" descr=""/>
          <p:cNvPicPr/>
          <p:nvPr/>
        </p:nvPicPr>
        <p:blipFill>
          <a:blip r:embed="rId6"/>
          <a:stretch/>
        </p:blipFill>
        <p:spPr>
          <a:xfrm>
            <a:off x="2643120" y="3714840"/>
            <a:ext cx="219096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Прямоугольник 11"/>
          <p:cNvSpPr/>
          <p:nvPr/>
        </p:nvSpPr>
        <p:spPr>
          <a:xfrm>
            <a:off x="0" y="5929200"/>
            <a:ext cx="514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и воткнуть в почвосмесь    Молодые растени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ссады, сверху насыпать       пересадить в горшки ил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й песка или керамзита.            сразу же высадить в открытый грун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364000" y="32846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пов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уванчи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2"/>
          <a:stretch/>
        </p:blipFill>
        <p:spPr>
          <a:xfrm>
            <a:off x="96840" y="304920"/>
            <a:ext cx="9016920" cy="834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1"/>
          <p:cNvSpPr/>
          <p:nvPr/>
        </p:nvSpPr>
        <p:spPr>
          <a:xfrm>
            <a:off x="4500720" y="2060640"/>
            <a:ext cx="44272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го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нсевье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амбарская фиа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опол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кс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8" descr="1"/>
          <p:cNvPicPr/>
          <p:nvPr/>
        </p:nvPicPr>
        <p:blipFill>
          <a:blip r:embed="rId3"/>
          <a:stretch/>
        </p:blipFill>
        <p:spPr>
          <a:xfrm>
            <a:off x="357120" y="1428840"/>
            <a:ext cx="4071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60480"/>
            <a:ext cx="9205920" cy="84132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5"/>
          <p:cNvSpPr/>
          <p:nvPr/>
        </p:nvSpPr>
        <p:spPr>
          <a:xfrm>
            <a:off x="6372360" y="907920"/>
            <a:ext cx="2571480" cy="857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рыс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378612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4716360" y="1197000"/>
            <a:ext cx="108288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TextBox 13"/>
          <p:cNvSpPr/>
          <p:nvPr/>
        </p:nvSpPr>
        <p:spPr>
          <a:xfrm>
            <a:off x="6215040" y="2000160"/>
            <a:ext cx="29289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епи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нды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ери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р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158760"/>
            <a:ext cx="8654760" cy="84132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3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152280" y="231840"/>
            <a:ext cx="9120240" cy="84132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6"/>
          <p:cNvPicPr/>
          <p:nvPr/>
        </p:nvPicPr>
        <p:blipFill>
          <a:blip r:embed="rId3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1017720" y="-128520"/>
            <a:ext cx="6821280" cy="145728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4859280" y="21337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5"/>
          <p:cNvPicPr/>
          <p:nvPr/>
        </p:nvPicPr>
        <p:blipFill>
          <a:blip r:embed="rId3"/>
          <a:stretch/>
        </p:blipFill>
        <p:spPr>
          <a:xfrm>
            <a:off x="5376960" y="3716280"/>
            <a:ext cx="3481200" cy="292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4"/>
          <p:cNvPicPr/>
          <p:nvPr/>
        </p:nvPicPr>
        <p:blipFill>
          <a:blip r:embed="rId4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КарМаН</cp:lastModifiedBy>
  <dcterms:modified xsi:type="dcterms:W3CDTF">2012-06-05T09:23:10Z</dcterms:modified>
  <cp:revision>108</cp:revision>
  <dc:subject/>
  <dc:title>Слайд 1</dc:title>
</cp:coreProperties>
</file>