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7CA5-A8A2-4B78-9422-24278063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58F5-FBD6-44D8-A72B-6A8D1087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EF2DB-2286-4149-9707-8E1F61F8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946F00-4D52-4CC1-B23F-190A58C1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132012-7E6A-4D1F-938E-D18265F9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98B41D-8F7A-408B-B098-A7198B49D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884D81-D553-4BD5-A0CD-8A8FCA1D7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99939-79FC-4448-9ED1-5D0E27FD6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F4369D-6087-47B2-87B9-F51102FB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D2C088-AAA0-45FC-9018-13E4A2123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291229-4346-4E8C-A5F2-E6F9F2B42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5C2D-1752-491B-8369-2724B71B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00F0-45D0-463E-B2EA-BBC382E9D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C6E5-3109-4E51-8512-0B7A279C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7A763-086C-4891-BF30-DF71A681A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2BA7F-C902-46EC-A8A6-113561D69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0A87-ED1E-4B7C-B42C-2D70AC9EF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3A75-BD47-429B-B19A-B8C87439E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507E-590A-475B-A214-7A4F5B93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EA557-2383-4E7C-8B49-7A5587E8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DAD3-A306-4FDF-A747-5632C365C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D1770-F695-4B19-B7BF-15D9288E1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4CCCA-52EF-434A-941A-26C968358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87D9-7235-455E-AD75-63141607E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AB4FE-7AD3-45F6-A8B2-AADFBCE79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780C-ADFC-4C0B-9C66-4FAFD8E0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8E396-B376-4CE3-AEFA-12FF2D77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F7335-5509-47FA-8E94-F4ABB96C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BBD71-E7D5-44A4-834C-F4D975F3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E8FC9-617F-4F4B-9DEE-BCA8CE46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1B71E1-52E9-4CDB-8CF6-C159EAFE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C3C28-7521-46B9-B110-FD13DA905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E39D-CE24-47D7-83C9-C83A4436B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A970D-883A-4F7C-875F-2AF01793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E2717C-1725-412E-9ED8-D454FC55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60239-C8EF-4576-870A-813741D3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7AD26F-67B5-4765-B5DA-E2990D46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86E1E-604D-450C-A5D9-A3DEAC43E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CF514-6DAB-42C7-B709-9B7ED0B1B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DACE97-93D0-4867-92A4-BE428A1B0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3434DB-4C64-4EC1-9186-D52265C0D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6A1F0-41AA-4480-8A57-D5E4F8DCF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4B57-C4AA-4ACE-8D23-CA625595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3CEDFE-BEBA-444B-86D3-4C4F227D9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C4398-C866-4575-9424-FD84D9F9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663A8-8A83-43C8-AD44-84F75EF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6E7FF0-D63E-447F-8808-53D91EA6D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38B6B5-AC5A-46FC-B19A-7A4A658C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B1B9-32F5-4AF4-B1EA-765BD82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7E6BF-0B43-4E10-A660-E65C4F6B6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54B20-7459-4084-8654-05BC62A0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D82B30-8D44-447B-A507-E9480F034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27F32-CED1-4A67-A59A-380FA334E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5E3B-A7AA-402E-B490-54481D624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7EC68-24CC-4F9B-8F72-D76E17BEC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E049D-A21A-4301-B7F2-4E4DC916D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F61E5-4489-4009-A35D-105B32DD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3FBFF-CB7E-4EA8-A105-FD4BB843A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D0092E-26E6-4471-858D-8F062F944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8549-EA3D-4127-8766-684EC5D0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C5E0B-3511-455C-B0EB-09BCE29E4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1486F-B929-4B79-B689-112D4B63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A55CC-7B6D-4E2F-855E-9C800A55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7C92B-C9F6-4F98-8052-9147505C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865C-8F65-420A-B416-2469E8EC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1F58-6618-49E8-A440-F08C8B924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33F2F-8270-49FE-96C3-0FAB9182D0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B9A1A-EDCA-424D-BE70-0D17CF13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11D365-A145-4A86-8848-67613FE7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9093A5-55D5-4317-8FAB-39FB0C814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04A5-0424-43D4-81B5-757DC2ADD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63C02F-8468-4B10-A618-6FD03477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CD70F1-25ED-4FFD-BF4A-042F3615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EEE9D9-0667-4F7B-9C34-38762683F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7BFBD4-069A-41F7-A54A-B3C5FDB7B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A4CA-5414-4198-BC50-529F23FD7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E6B7C-FBBD-4237-99B3-B89BAADD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12D5FE-6CA7-46B1-A181-EF864C982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67508-DD85-448C-B3B9-2CD682DE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A5541E-2D83-4E79-AF0C-D44F98F39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99B638-ED33-4DAF-9755-504D32D79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3EB5-364E-4F63-A7F1-C0C1D5C39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AF225-E9E5-4433-BDA3-010CE341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8E05E-082E-4E7D-BC0C-5182746C5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9034C-44F3-422C-8CFD-73E2C88CB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0788E-0652-4BC1-8D54-EAD5D933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1C27-0FE6-4BCD-BBFC-2A815B8A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9992E-DB17-4377-AB71-54C8BB63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3CBA39-8A9E-4CEC-B9CC-817EE28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AF25C-7D8A-4E61-8624-6D40F276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A2734-720A-409D-8FBB-F292416B7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FE78D-4D70-4187-A83C-AC34BC8E9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ED19B4-3911-44A6-A726-F9CF3F5BB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89A2D4-D026-4B95-9D2B-82A9B325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B80EF-11AD-498E-9914-68864C5E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5F8205-E3E6-483E-962B-D1ED9537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8AD980-ABEE-41D1-B7A6-AA373F315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EF72-C246-4892-A55E-0D5B9C59F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358A0-045E-4FC3-B801-0EBD491BD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E8D292-04B2-4E1A-A469-5C64FF8C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B125C-1843-4292-B586-8318D86C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9F53D-B814-48A0-9CF5-AAC2B1CE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9B90DA-E020-438B-82AE-290FD828A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B13051-8F27-4D91-A158-A86DD9B40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14F46-7F6B-495A-9A6C-594820820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FEB5D8-83CF-4BF5-AC8D-44FA8E8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CFE7D5-1992-4703-BE16-FD40ADF75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4EB037-AFE4-4A58-AC88-5628265B7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EE3E-719A-4D1E-8FBD-2F6B69F7B3D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338C3-AFAB-4D24-A0A6-7BE3C26E4F3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5CA88-96BA-45C9-86AB-488053E00A5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8BA2-2DFD-46C6-876D-DF0B3861C7B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89B7-6BFB-41B6-9865-A9DCE6112E6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05CE-6DCA-4A73-A83C-D880E21AB12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413B9-F11E-4B75-AD39-4DE09B30F1B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446C-9519-4B4C-A23E-046A13FAE3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B0A8-3758-4B8C-970B-674DB1B46C7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DlkVYQhSTTE" TargetMode="External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3" descr=""/>
          <p:cNvPicPr/>
          <p:nvPr/>
        </p:nvPicPr>
        <p:blipFill>
          <a:blip r:embed="rId1"/>
          <a:stretch/>
        </p:blipFill>
        <p:spPr>
          <a:xfrm>
            <a:off x="171360" y="401760"/>
            <a:ext cx="8759880" cy="245736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6227640" y="3716280"/>
            <a:ext cx="2611440" cy="108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Автор: учитель биологии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ГБОУ ЦО №1456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Водопьянова 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443329"/>
                </a:solidFill>
                <a:latin typeface="Franklin Gothic Book"/>
              </a:rPr>
              <a:t>Марина Александровна</a:t>
            </a:r>
            <a:endParaRPr b="0" lang="en-US" sz="17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04920" y="456840"/>
            <a:ext cx="8686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500" spc="-1" strike="noStrike">
                <a:solidFill>
                  <a:srgbClr val="4e3b30"/>
                </a:solidFill>
                <a:latin typeface="Franklin Gothic Medium"/>
              </a:rPr>
              <a:t>ПОЧВА</a:t>
            </a:r>
            <a:endParaRPr b="0" lang="en-US" sz="115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304920" y="2492280"/>
            <a:ext cx="8686800" cy="35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4e3b30"/>
                </a:solidFill>
                <a:latin typeface="Franklin Gothic Book"/>
              </a:rPr>
              <a:t>это верхний плодородный слой земли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4e3b30"/>
                </a:solidFill>
                <a:latin typeface="Franklin Gothic Medium"/>
              </a:rPr>
              <a:t>ТРУДНОСТИ</a:t>
            </a:r>
            <a:endParaRPr b="0" lang="en-US" sz="72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304920" y="1989000"/>
            <a:ext cx="86868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Почва очень плотная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 проникает свет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34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4e3b30"/>
                </a:solidFill>
                <a:latin typeface="Franklin Gothic Book"/>
              </a:rPr>
              <a:t>Недостаточно кислорода</a:t>
            </a:r>
            <a:endParaRPr b="0" lang="en-US" sz="5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4e3b30"/>
                </a:solidFill>
                <a:latin typeface="Franklin Gothic Medium"/>
              </a:rPr>
              <a:t>ПОЛОЖИТЕЛЬНЫЕ СВОЙСТВА</a:t>
            </a:r>
            <a:endParaRPr b="0" lang="en-US" sz="50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Обеспечена водой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Много минеральных и органических веществ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11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Нет резких колебаний температуры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http://www.youtube.com/watch?v=DlkVYQhSTTE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Franklin Gothic Medium"/>
              </a:rPr>
              <a:t>КРОТ</a:t>
            </a:r>
            <a:endParaRPr b="0" lang="en-US" sz="9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Franklin Gothic Medium"/>
              </a:rPr>
              <a:t>ЛИЧИНКА МАЙСКОГО ЖУКА</a:t>
            </a:r>
            <a:endParaRPr b="0" lang="en-US" sz="44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1680" y="456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0000"/>
                </a:solidFill>
                <a:latin typeface="Franklin Gothic Medium"/>
              </a:rPr>
              <a:t>МЕДВЕДКА</a:t>
            </a:r>
            <a:endParaRPr b="0" lang="en-US" sz="60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94920" y="1052640"/>
            <a:ext cx="8435880" cy="4525920"/>
          </a:xfrm>
          <a:prstGeom prst="rect">
            <a:avLst/>
          </a:prstGeom>
          <a:noFill/>
          <a:ln w="57240">
            <a:solidFill>
              <a:srgbClr val="0033cc"/>
            </a:solidFill>
            <a:miter/>
          </a:ln>
        </p:spPr>
        <p:txBody>
          <a:bodyPr anchor="t">
            <a:normAutofit fontScale="89000"/>
          </a:bodyPr>
          <a:p>
            <a:pPr marL="305280" indent="-3052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4e3b30"/>
                </a:solidFill>
                <a:latin typeface="Franklin Gothic Book"/>
              </a:rPr>
              <a:t>ПОЧВА НАСЕЛЕНА МНОГОЧИСЛЕННЫМИ ОРГАНИЗМАМИ, КОТОРЫЕ НАХОДЯТСЯ В НЕЙ УСЛОВИЯ, БЛАГОПРИЯТНЫЕ ДЛЯ ЖИЗНИ.</a:t>
            </a:r>
            <a:endParaRPr b="0" lang="en-US" sz="4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5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7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9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1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611280" y="2133720"/>
          <a:ext cx="7921440" cy="380988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40000"/>
                <a:gridCol w="539640"/>
                <a:gridCol w="539640"/>
                <a:gridCol w="463680"/>
                <a:gridCol w="539640"/>
                <a:gridCol w="539640"/>
                <a:gridCol w="540000"/>
                <a:gridCol w="441360"/>
                <a:gridCol w="539640"/>
                <a:gridCol w="539640"/>
              </a:tblGrid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п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ё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т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е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я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в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д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р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о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с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л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ч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и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н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к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4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а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Franklin Gothic Medium"/>
              </a:rPr>
              <a:t>ЧАЙНВОРД</a:t>
            </a:r>
            <a:endParaRPr b="0" lang="en-US" sz="6600" spc="-1" strike="noStrike">
              <a:solidFill>
                <a:srgbClr val="4e3b30"/>
              </a:solidFill>
              <a:latin typeface="Franklin Gothic Medium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81080" y="2945880"/>
            <a:ext cx="8686800" cy="11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beec9"/>
                </a:solidFill>
                <a:latin typeface="Franklin Gothic Medium"/>
              </a:rPr>
              <a:t>КТО ЖИВЕТ В ПОЧВЕ</a:t>
            </a:r>
            <a:endParaRPr b="0" lang="en-US" sz="6600" spc="-1" strike="noStrike">
              <a:solidFill>
                <a:srgbClr val="fbeec9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4T13:25:35Z</dcterms:created>
  <dc:creator>Пользователь</dc:creator>
  <dc:description/>
  <dc:language>en-US</dc:language>
  <cp:lastModifiedBy>Пользователь</cp:lastModifiedBy>
  <dcterms:modified xsi:type="dcterms:W3CDTF">2012-07-18T11:12:28Z</dcterms:modified>
  <cp:revision>14</cp:revision>
  <dc:subject/>
  <dc:title>Слайд 1</dc:title>
</cp:coreProperties>
</file>