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975B-2E05-4198-9695-2851A1FC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2A5F-BD68-43DE-8E8E-8476D047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CDA50-B6E1-4908-AC3F-7421717E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DBB69-1C53-463B-9519-B3AB0DA2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06E73-4D98-474B-92AB-0C70F436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32EAF-51A5-4358-A906-16661CBE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04E81-D68C-458D-81A3-E68044F1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BCA17-E4C9-4093-9D99-DA60F73D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80DCB-FA88-4123-B44E-D817E319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D7B39-EB1A-4093-A873-1495B61C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D4315-9F58-4864-BCFB-2DC82ECF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AFC0-F087-47B6-B45F-FE57C15A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311B-CAE3-401E-82EC-EADBD8E8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9E0E-CC8E-40A1-9C28-3E30CAC3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0C84-2A2D-4FAC-96B1-1BA178E5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D7E0-9D1C-4AD0-94ED-4A067027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97AF-19C6-44C4-AE4A-2417990B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49D8-0B99-49CF-8BCA-55669110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5FA8-712B-4CC2-B0B3-EB81AFBD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4460-0B49-4009-ABA5-526B673A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C8F6-B748-4F03-BD73-0936E343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E575-84E8-4649-A3FA-8E2F3F21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0547-4FEF-4847-BA19-9B26D55F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6E40-AAC5-4E80-83E7-907AFBC6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CCFF-F671-4772-A374-81DC772C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0FA3-DECD-4597-BFF6-D74DD3BC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E3344-563E-41F1-8EA9-2C19A60C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A061E-D042-4F27-AC46-29357CFF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1608D-8300-4202-B490-0C65A6AA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E95B9-43E4-451B-9880-8C173354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EF1B2-86AB-4C6A-90FD-63CDB296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443F-DA0E-48D8-9AED-66231C93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FBFB0-B737-413D-BB9A-2701FE33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8C5A9-3066-4FD8-86C4-F34AABF6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F6B2C-7D7E-4AF4-AC1C-A8386557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36F89-57A5-4E74-B1D2-F227E49C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07EBC-EB3D-4C7E-9FD9-B1494FC2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4120A-C623-4193-BB89-8F325953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2D7B8-EFF3-43A6-B6B1-21299A74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2870E-8786-4190-884E-EBD6DE6A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B9B33-F9DC-493C-8B37-B98C2930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97E7A-9238-49AD-A1F5-61E3EAE1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F09D-EF5D-4161-9EE3-2B453CE5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E55A2-4E52-4642-974F-12369D20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B1A07-A78D-4BA8-893D-E461620B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BECE4-217B-4736-AC7F-80433C9A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454DF-D299-4B88-A4E0-615536E6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AFC4B-B802-4662-991B-3B7F231D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2E8AE-1983-4D14-B261-6D4C69A1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BC1CD-3A75-4003-98CD-5B70FD9C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E2847-B1C3-49B3-800A-63E8EC6A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2636C-B4E9-49A3-A62B-70D50E59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954CC-D49A-49DB-ABB4-5DFF8677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244B-220C-4F16-939B-51069920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7E02A-AFE3-41F4-BBA2-D682E4C1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6652A-2595-4F62-8DB3-8EC81311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1F3C8-2DCB-4E35-9222-40468FE5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EE296-9F20-4179-BC09-A53CDBA9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A3D8B-FA9C-49EE-999F-BB71D8D5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62E1D-B79D-445E-B80D-0256A51E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E0D23-4E79-4D6C-A959-74250A02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5821E-A852-442F-90B2-3671648A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0D93B-E844-43B6-A15C-B73DFF4D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7C621-C90B-4DF6-85FE-F43BBB8B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57EA-62A7-4637-909A-2C96A2F5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8EB17-F4F5-4FD0-B5BD-1E93B265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2FA31-5CEA-488C-9557-7C6DABAE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8C9E4-4E93-47AC-B9F0-12778296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C331B-69EF-49A8-AAA6-5345A186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5200B-CEF6-43D6-9DE3-A510184A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1FCB3-88B8-4D13-B14D-68C0B3F0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93832-602B-45BC-8ED0-49BB8FBE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83DDA-045C-4552-839F-0F970211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AC8DC-947B-4A28-BADE-CAA7FAB8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972C7-31EC-4ABC-ACA3-4C62E592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2DB3-B7D4-4F2E-B21E-001BF521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0DA16-DE8B-4147-90B4-860ECC75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760A3-21E9-4F2D-9F62-C55697FD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7F78A-B585-4155-8C99-16D8AC85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E394E-5023-4560-997B-CBAC14BE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BEE2C-61DB-4A1A-89AF-7E01106E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AC96B-9CAF-4F84-B24A-34FB36A5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74FDF-813B-4A2B-B7D9-8C0287C4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95317-6196-451C-AF55-13FECE63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61EDA-FE70-429B-99E4-3064F9A5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2C875-99D7-4CA4-B625-06561C40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0272-1653-48D1-949E-86E1F746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4B48C-3F57-41D1-898B-4CBD7DA7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58E8D-E6F8-460D-8EDA-99AA17DD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9758D-1433-40F0-917C-ABE092D1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F3776-5951-4843-8A05-D6EC9321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1CDD1-92E3-4E17-ADB8-3E894EF3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82F49-7639-44A0-A633-2401C1B8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A60AD-8934-42EE-8FFE-F0307986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9E3F2-15CC-43C9-AFA2-F4CFD9C2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DF121-FD1B-44A0-92E0-8734AB15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8D702-3D6A-48FF-9A16-DCAEB1FA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66AD-99DC-4090-AD40-FD834258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EA8A6-1EE0-4CDC-B4C0-CA5A14B8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EDF7A-02DF-43C2-8429-CAD7AA11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BE08F-C195-4160-B582-CED32AFC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A0C26-9058-4440-BB05-00E37AFF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A03D0-ED9E-4E19-A399-0D7D1888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3EEBF-C493-4E7E-A1B2-31E3E694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875E2-38AA-418A-96B2-CB295FBE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81405-C83C-4B0F-BE59-1FD1CAB4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A9C95-99B5-41FA-A688-D8AF413F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31CDF-9643-4820-AD67-C26E2D64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8C96-3036-4582-8F19-5A5A96EF704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797F-010A-422A-AA89-BD3A18F666B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1431-80C9-4C0E-A357-754AC12DB4C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1E62-AF2D-4338-8C8E-3AE82A5336D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7BE6-1F9E-4533-9C81-7C9F2E8DE0C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02AF-7CE9-4BF5-9CF6-FB0063468D0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65A5-F81E-4787-85E7-AA260F63ADD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E367-1AC5-4245-B728-26EC89CBF50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5BD7-31E8-4B51-93CF-75E1832507F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lkVYQhSTTE" TargetMode="External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3" descr=""/>
          <p:cNvPicPr/>
          <p:nvPr/>
        </p:nvPicPr>
        <p:blipFill>
          <a:blip r:embed="rId1"/>
          <a:stretch/>
        </p:blipFill>
        <p:spPr>
          <a:xfrm>
            <a:off x="171360" y="401760"/>
            <a:ext cx="8759880" cy="2457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227640" y="3716280"/>
            <a:ext cx="261144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Автор: учитель биологии 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ГБОУ ЦО №1456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Водопьянова 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Марина Александровна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4e3b30"/>
                </a:solidFill>
                <a:latin typeface="Franklin Gothic Medium"/>
              </a:rPr>
              <a:t>ПОЧВА</a:t>
            </a:r>
            <a:endParaRPr b="0" lang="en-US" sz="115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04920" y="2492280"/>
            <a:ext cx="8686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e3b30"/>
                </a:solidFill>
                <a:latin typeface="Franklin Gothic Book"/>
              </a:rPr>
              <a:t>это верхний плодородный слой земл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e3b30"/>
                </a:solidFill>
                <a:latin typeface="Franklin Gothic Medium"/>
              </a:rPr>
              <a:t>ТРУДНОСТИ</a:t>
            </a:r>
            <a:endParaRPr b="0" lang="en-US" sz="7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989000"/>
            <a:ext cx="86868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Почва очень плотная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Не проникает свет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Недостаточно кислород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4e3b30"/>
                </a:solidFill>
                <a:latin typeface="Franklin Gothic Medium"/>
              </a:rPr>
              <a:t>ПОЛОЖИТЕЛЬНЫЕ СВОЙСТВА</a:t>
            </a:r>
            <a:endParaRPr b="0" lang="en-US" sz="5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Обеспечена водой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Много минеральных и органических веществ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Нет резких колебаний температуры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1"/>
              </a:rPr>
              <a:t>http://www.youtube.com/watch?v=DlkVYQhSTT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Franklin Gothic Medium"/>
              </a:rPr>
              <a:t>КРОТ</a:t>
            </a:r>
            <a:endParaRPr b="0" lang="en-US" sz="9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Franklin Gothic Medium"/>
              </a:rPr>
              <a:t>ЛИЧИНКА МАЙСКОГО ЖУКА</a:t>
            </a: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Franklin Gothic Medium"/>
              </a:rPr>
              <a:t>МЕДВЕДКА</a:t>
            </a:r>
            <a:endParaRPr b="0" lang="en-US" sz="60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94920" y="1052640"/>
            <a:ext cx="8435880" cy="452592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ПОЧВА НАСЕЛЕНА МНОГОЧИСЛЕННЫМИ ОРГАНИЗМАМИ, КОТОРЫЕ НАХОДЯТСЯ В НЕЙ УСЛОВИЯ, БЛАГОПРИЯТНЫЕ ДЛЯ ЖИЗНИ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81080" y="2945880"/>
            <a:ext cx="868680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beec9"/>
                </a:solidFill>
                <a:latin typeface="Franklin Gothic Medium"/>
              </a:rPr>
              <a:t>КТО ЖИВЕТ В ПОЧВЕ</a:t>
            </a:r>
            <a:endParaRPr b="0" lang="en-US" sz="6600" spc="-1" strike="noStrike">
              <a:solidFill>
                <a:srgbClr val="fbeec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13:25:35Z</dcterms:created>
  <dc:creator>Пользователь</dc:creator>
  <dc:description/>
  <dc:language>en-US</dc:language>
  <cp:lastModifiedBy>Пользователь</cp:lastModifiedBy>
  <dcterms:modified xsi:type="dcterms:W3CDTF">2012-07-18T11:12:28Z</dcterms:modified>
  <cp:revision>14</cp:revision>
  <dc:subject/>
  <dc:title>Слайд 1</dc:title>
</cp:coreProperties>
</file>