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2E48-AB81-4F25-AD51-7E441E1BDA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B2F0-F922-4881-B71A-CA79ECB3CF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CAF5-96B5-4971-B41F-3FEF5EEB5A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C3F-CA9F-48BE-8BFF-AA4C8839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DDD2-7CD6-4DE4-8497-A7B135DB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A0A-37B1-4A90-9E93-6EFF38B7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7F4-6C26-4CB5-BE1B-E4BDC001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1B93-39B1-4EC7-AF4B-E5628108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BE87-E087-4D6C-ADC1-2F8ECD7E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665E-13ED-41F2-B34E-BEB0C0EA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0627-03BF-4B4B-A8C9-90EE29DE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ADFC-8220-4151-8170-662D6D1B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5CF6-3BAE-4640-80D4-F52CB699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563B-3869-402F-AF45-3854C3D0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E7E-B8E8-4642-9814-B1486E17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174E-3D4C-4A87-8957-3AA99441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0BE5-212B-4766-A838-5B6D7E3D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B449-FF4E-4A8A-9D25-F54B214F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F9B0-FBC3-492F-A9D9-C705CC8A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1481-049E-4EFF-8391-7F24D40D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918EB-42B1-408A-AC41-30354977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6AD01-5916-4322-8B9A-FFA3BD1E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32DCB-4F15-41F8-A6F9-5B16E017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1FE6D-2D36-4626-8025-076B5E1C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4AD2E-7DB6-4AE0-A567-3BEFC895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25EB-74EA-4274-8EE9-3E290672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4D848-AAB4-4F42-B7E0-FC6DEE31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0B186-5610-4EA8-ADAF-EED71405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D9D5F-5F26-4F2F-A878-926252B5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0C1A1-2640-4AF7-AA37-BEEE3293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78FF3-7238-4621-9B94-92371213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F046E-6472-4E1A-8D68-6163D92B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EF2E0-BD4B-4243-BD49-2241F4F4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FB621-4F1E-4E1D-A7A0-C540C63F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B7054-49F7-430F-8AEE-052DCEED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48D6B-36DA-47BD-BDAB-F2F5B603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1C0-0A92-45F9-A9FD-02C13E7A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8AF3F-007C-4E64-B1AA-7454C591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88D6C-42A1-4288-90E9-072E85B9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86B19-6D17-40D7-B8E4-4E6440B3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C2492-6E5D-433F-A4F0-39D04776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61EE6-D2E1-4E82-A6D5-D55A5DCB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41D94-3857-4EBE-A05F-F8E5289C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7CB10-ED7D-4239-802E-2E701782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F1079-ADF7-4AC2-81C4-B0F555B4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DCD15-A203-474B-B225-486A4883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CBDE4-7C12-4F65-A27E-80EE90B6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492A-1F45-481D-AAEC-28BDFF0A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BE14B-055C-49B4-8CA2-62DDAF8A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23809-EE50-43EF-9383-9F71AC12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9FEBE-F019-4513-8326-B59DC029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9806F-55A2-46C8-95BE-13D14855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33938-5705-4BAF-9471-2FE8EBBE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141F0-E333-4369-B58B-8FD787FF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8EE91-D931-409C-9663-71A1C43A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A37B1-7C96-4279-943C-747DFC33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793DF-92C1-40B7-A4A2-79449DC7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FD75E-7569-4D85-9431-86771AFA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2667-9183-424A-9463-AF182F81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4D6A6-8321-4B00-8B10-6539E3EC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D4DD6-CC2F-4E33-AAF5-C9A91AA4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B2701-50CF-4296-A455-A870AF21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805FE-EC01-49D0-82FB-C0AAC569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5ECAC-A727-42F1-9391-93409874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D15DE-35F8-4C22-9792-5B9B7854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50B1F-10A3-41D7-A11E-AAE62674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F7F7D-AA84-4F55-BDBF-649EDA33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F9B61-C6B2-4980-A6AF-F02BB785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8AC0B-E852-474E-8BA3-BB7EF00F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F429-C655-447E-A937-88AF1BA4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D4E94-2F3A-47FE-B74A-64CCEE49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B69B7-30DD-426A-9DE4-D71E53ED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16473-18E8-40B3-B131-E57E1A00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C448-5D98-487E-A8FC-E7712D1C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DAF3-5588-4C4E-B26F-AD5BE400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FB28-CF54-4E8F-80C7-9F817D837E1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E31F-F3C1-412D-9DBD-9F0DFB24CD7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7463-A1D7-41A9-B0B7-5A72AE50A72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0C0C-152B-418F-A31B-6CAFFD11A6F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779C-1447-44DA-81EC-10C685E7122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30FB-488D-4D96-AE38-1951BCF21C1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D:\Documents and Settings\Archie\Рабочий стол\Солнце\space01.jpg"/>
          <p:cNvPicPr/>
          <p:nvPr/>
        </p:nvPicPr>
        <p:blipFill>
          <a:blip r:embed="rId1"/>
          <a:stretch/>
        </p:blipFill>
        <p:spPr>
          <a:xfrm>
            <a:off x="0" y="-39600"/>
            <a:ext cx="6897600" cy="689760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28760" y="107172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Дельмухаметова Л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ОУ СОШ №11, г. Калинингр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2" descr="D:\Documents and Settings\Archie\Рабочий стол\Солнце\Gingko-Blaetter.jpg"/>
          <p:cNvPicPr/>
          <p:nvPr/>
        </p:nvPicPr>
        <p:blipFill>
          <a:blip r:embed="rId1"/>
          <a:stretch/>
        </p:blipFill>
        <p:spPr>
          <a:xfrm>
            <a:off x="1285920" y="1714680"/>
            <a:ext cx="6508800" cy="48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Гимн Солнц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57400" y="1599840"/>
            <a:ext cx="47149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сходит - и все ожива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ходит и все умира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ы - жизни мерило и первопричина ее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2" descr="D:\Documents and Settings\Archie\Рабочий стол\Солнце\5091.jpg"/>
          <p:cNvPicPr/>
          <p:nvPr/>
        </p:nvPicPr>
        <p:blipFill>
          <a:blip r:embed="rId1"/>
          <a:stretch/>
        </p:blipFill>
        <p:spPr>
          <a:xfrm>
            <a:off x="214200" y="171468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писать, какую роль играет Солнце в жизни нашей планет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лнце - главный источник энергии (света и тепла) на Земл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приводит в движение огромные массы воздуха (образование ветр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вызывает круговорот воды в природ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мена времен года и климат обусловлены распределением солнечной энергии на земном шар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Благодаря Солнцу развиваются и живут организм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инквейн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 прилагательны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 глагол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предлож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Овал 3"/>
          <p:cNvSpPr/>
          <p:nvPr/>
        </p:nvSpPr>
        <p:spPr>
          <a:xfrm>
            <a:off x="3143160" y="3429000"/>
            <a:ext cx="2143080" cy="20718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лись ли вопросы, на которые вы не нашли ответ в учебни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5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18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Хочу узнать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це и планет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" descr="C:\Users\HP\Desktop\Новая папка\1255179736_1003.jpg"/>
          <p:cNvPicPr/>
          <p:nvPr/>
        </p:nvPicPr>
        <p:blipFill>
          <a:blip r:embed="rId1"/>
          <a:stretch/>
        </p:blipFill>
        <p:spPr>
          <a:xfrm>
            <a:off x="34920" y="1857240"/>
            <a:ext cx="9037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Размеры звезд. Солнце – карлик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2" descr="C:\Users\HP\Desktop\Новая папка\1255179744_1004.jpg"/>
          <p:cNvPicPr/>
          <p:nvPr/>
        </p:nvPicPr>
        <p:blipFill>
          <a:blip r:embed="rId1"/>
          <a:stretch/>
        </p:blipFill>
        <p:spPr>
          <a:xfrm>
            <a:off x="642960" y="1285920"/>
            <a:ext cx="7888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Мир звезд. За страницами учебника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от Солнца до Земли 150 000000 (150 млн.) к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между звездами неудобно измерять в километрах, поэтому астрономы придумали единицу длины «световой год». Это путь, который проходит свет за один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света – 300 000 км в секунд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Мир звез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 год свет преодолевает 10 000000000000 (10 триллионов)  километров. Это и есть световой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вет от Солнца до Земли доходит за 8 мину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2" descr="C:\Users\HP\Desktop\Новая папка\8740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4324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рганизационный момен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все под рукой, работа движется рек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еч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0" name="Picture 2" descr="C:\Users\HP\Desktop\Новая папка\Solnce.jpg"/>
          <p:cNvPicPr/>
          <p:nvPr/>
        </p:nvPicPr>
        <p:blipFill>
          <a:blip r:embed="rId1"/>
          <a:stretch/>
        </p:blipFill>
        <p:spPr>
          <a:xfrm>
            <a:off x="285840" y="1357200"/>
            <a:ext cx="4808520" cy="3500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C:\Users\HP\Desktop\Новая папка\солнечное.jpg"/>
          <p:cNvPicPr/>
          <p:nvPr/>
        </p:nvPicPr>
        <p:blipFill>
          <a:blip r:embed="rId2"/>
          <a:stretch/>
        </p:blipFill>
        <p:spPr>
          <a:xfrm>
            <a:off x="5143680" y="1357200"/>
            <a:ext cx="3833640" cy="3232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C:\Users\HP\Desktop\Новая папка\i13081076115551181641.jpg"/>
          <p:cNvPicPr/>
          <p:nvPr/>
        </p:nvPicPr>
        <p:blipFill>
          <a:blip r:embed="rId3"/>
          <a:stretch/>
        </p:blipFill>
        <p:spPr>
          <a:xfrm>
            <a:off x="5143680" y="4643280"/>
            <a:ext cx="38592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Лун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4" name="Picture 2" descr="C:\Users\HP\Desktop\Новая папка\1002081_0534_002.jpg"/>
          <p:cNvPicPr/>
          <p:nvPr/>
        </p:nvPicPr>
        <p:blipFill>
          <a:blip r:embed="rId1"/>
          <a:stretch/>
        </p:blipFill>
        <p:spPr>
          <a:xfrm>
            <a:off x="285840" y="1285920"/>
            <a:ext cx="6786360" cy="3429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HP\Desktop\Новая папка\унное.jpg"/>
          <p:cNvPicPr/>
          <p:nvPr/>
        </p:nvPicPr>
        <p:blipFill>
          <a:blip r:embed="rId2"/>
          <a:stretch/>
        </p:blipFill>
        <p:spPr>
          <a:xfrm>
            <a:off x="6107040" y="4143240"/>
            <a:ext cx="3036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адач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лько лет понадобилось бы человеку, чтобы пешком дойти до Солнц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" descr="C:\Users\HP\Desktop\Новая папка\016.jpg"/>
          <p:cNvPicPr/>
          <p:nvPr/>
        </p:nvPicPr>
        <p:blipFill>
          <a:blip r:embed="rId1"/>
          <a:stretch/>
        </p:blipFill>
        <p:spPr>
          <a:xfrm>
            <a:off x="4357800" y="3143160"/>
            <a:ext cx="4649760" cy="3414960"/>
          </a:xfrm>
          <a:prstGeom prst="rect">
            <a:avLst/>
          </a:prstGeom>
          <a:ln w="0">
            <a:noFill/>
          </a:ln>
        </p:spPr>
      </p:pic>
      <p:sp>
        <p:nvSpPr>
          <p:cNvPr id="339" name="Стрелка влево 5"/>
          <p:cNvSpPr/>
          <p:nvPr/>
        </p:nvSpPr>
        <p:spPr>
          <a:xfrm>
            <a:off x="3286080" y="4357800"/>
            <a:ext cx="1571760" cy="114300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12-конечная звезда 6"/>
          <p:cNvSpPr/>
          <p:nvPr/>
        </p:nvSpPr>
        <p:spPr>
          <a:xfrm>
            <a:off x="571680" y="3929040"/>
            <a:ext cx="2286000" cy="2143080"/>
          </a:xfrm>
          <a:prstGeom prst="pie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ополнительные дан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пешехода – 5 км/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ловек двигается 8 часов в сут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году 365 дне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У каждой звезды своя история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247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-5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еген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ач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2" descr="C:\Users\HP\Desktop\Новая папка\2828.jpg"/>
          <p:cNvPicPr/>
          <p:nvPr/>
        </p:nvPicPr>
        <p:blipFill>
          <a:blip r:embed="rId1"/>
          <a:stretch/>
        </p:blipFill>
        <p:spPr>
          <a:xfrm>
            <a:off x="2857680" y="1500120"/>
            <a:ext cx="6252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2" descr="C:\Users\HP\Desktop\Новая папка\heic0514a.jpg"/>
          <p:cNvPicPr/>
          <p:nvPr/>
        </p:nvPicPr>
        <p:blipFill>
          <a:blip r:embed="rId1"/>
          <a:stretch/>
        </p:blipFill>
        <p:spPr>
          <a:xfrm>
            <a:off x="0" y="-800280"/>
            <a:ext cx="9572760" cy="765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ез повторения нет глубин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28400" y="1785600"/>
            <a:ext cx="7467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объединяет этих людей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6500880" y="12142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Ланда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D:\Documents and Settings\Archie\Рабочий стол\Солнце\img5.gif"/>
          <p:cNvPicPr/>
          <p:nvPr/>
        </p:nvPicPr>
        <p:blipFill>
          <a:blip r:embed="rId1"/>
          <a:stretch/>
        </p:blipFill>
        <p:spPr>
          <a:xfrm>
            <a:off x="1452600" y="2357280"/>
            <a:ext cx="176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D:\Documents and Settings\Archie\Рабочий стол\Солнце\img7.jpeg"/>
          <p:cNvPicPr/>
          <p:nvPr/>
        </p:nvPicPr>
        <p:blipFill>
          <a:blip r:embed="rId2"/>
          <a:stretch/>
        </p:blipFill>
        <p:spPr>
          <a:xfrm>
            <a:off x="5214960" y="2357280"/>
            <a:ext cx="1366920" cy="20005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6"/>
          <p:cNvSpPr/>
          <p:nvPr/>
        </p:nvSpPr>
        <p:spPr>
          <a:xfrm>
            <a:off x="1571760" y="4429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5286240" y="4429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толем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2.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ьедестале памятника Копернику в Варшаве высечены слова: «Остановивший Солнце, сдвинувший Землю». Объясните фра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D:\Documents and Settings\Archie\Рабочий стол\Солнце\img9.jpeg"/>
          <p:cNvPicPr/>
          <p:nvPr/>
        </p:nvPicPr>
        <p:blipFill>
          <a:blip r:embed="rId1"/>
          <a:stretch/>
        </p:blipFill>
        <p:spPr>
          <a:xfrm>
            <a:off x="5214960" y="3071880"/>
            <a:ext cx="2774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54899a"/>
                </a:solidFill>
                <a:latin typeface="Arial"/>
              </a:rPr>
              <a:t>.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сказал такие слова: «Каждая звезда – обширный мир, подобный солнечному, со своими планетами, на которых обитают разумные существа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C:\Users\HP\Desktop\Новая папка\77246869_3937309_3_obcy_105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749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2" descr="D:\Documents and Settings\Archie\Рабочий стол\Солнце\muzhchina-2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ечная систем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500040" y="2143080"/>
            <a:ext cx="8208720" cy="2879280"/>
            <a:chOff x="500040" y="2143080"/>
            <a:chExt cx="8208720" cy="2879280"/>
          </a:xfrm>
        </p:grpSpPr>
        <p:sp>
          <p:nvSpPr>
            <p:cNvPr id="284" name="Rectangle 3"/>
            <p:cNvSpPr/>
            <p:nvPr/>
          </p:nvSpPr>
          <p:spPr>
            <a:xfrm>
              <a:off x="539280" y="2143080"/>
              <a:ext cx="27770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Облако газа и пыл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4169520" y="2150640"/>
              <a:ext cx="4539240" cy="689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смический «строительный мусор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500040" y="3274200"/>
              <a:ext cx="1265760" cy="669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b3b3b"/>
                  </a:solidFill>
                  <a:latin typeface="Arial"/>
                </a:rPr>
                <a:t>Солнц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2103480" y="3333960"/>
              <a:ext cx="12992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план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4735080" y="3269880"/>
              <a:ext cx="12826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м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8"/>
            <p:cNvSpPr/>
            <p:nvPr/>
          </p:nvSpPr>
          <p:spPr>
            <a:xfrm>
              <a:off x="3458880" y="2451960"/>
              <a:ext cx="621360" cy="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9"/>
            <p:cNvSpPr/>
            <p:nvPr/>
          </p:nvSpPr>
          <p:spPr>
            <a:xfrm>
              <a:off x="6887160" y="3346200"/>
              <a:ext cx="15868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астерои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4586040" y="4372920"/>
              <a:ext cx="140832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1"/>
            <p:cNvSpPr/>
            <p:nvPr/>
          </p:nvSpPr>
          <p:spPr>
            <a:xfrm>
              <a:off x="6900480" y="4372920"/>
              <a:ext cx="16718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и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2"/>
            <p:cNvSpPr/>
            <p:nvPr/>
          </p:nvSpPr>
          <p:spPr>
            <a:xfrm flipH="1">
              <a:off x="1154160" y="2852640"/>
              <a:ext cx="601560" cy="34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"/>
            <p:cNvSpPr/>
            <p:nvPr/>
          </p:nvSpPr>
          <p:spPr>
            <a:xfrm>
              <a:off x="2301840" y="2892960"/>
              <a:ext cx="389880" cy="38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4"/>
            <p:cNvSpPr/>
            <p:nvPr/>
          </p:nvSpPr>
          <p:spPr>
            <a:xfrm flipH="1">
              <a:off x="5362920" y="2932920"/>
              <a:ext cx="1087560" cy="19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5"/>
            <p:cNvSpPr/>
            <p:nvPr/>
          </p:nvSpPr>
          <p:spPr>
            <a:xfrm>
              <a:off x="6649200" y="2953080"/>
              <a:ext cx="968400" cy="24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6"/>
            <p:cNvSpPr/>
            <p:nvPr/>
          </p:nvSpPr>
          <p:spPr>
            <a:xfrm>
              <a:off x="5333400" y="394776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7"/>
            <p:cNvSpPr/>
            <p:nvPr/>
          </p:nvSpPr>
          <p:spPr>
            <a:xfrm>
              <a:off x="7796520" y="400392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ц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3880" y="2104920"/>
          <a:ext cx="6096240" cy="32353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Читаем и понимаем даже то, что не написано!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974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 до слов «Мир звезд необычайно разнообразен…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полняем третью колонку текс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4:07:22Z</dcterms:created>
  <dc:creator>Archie</dc:creator>
  <dc:description/>
  <dc:language>en-US</dc:language>
  <cp:lastModifiedBy>КарМаН</cp:lastModifiedBy>
  <dcterms:modified xsi:type="dcterms:W3CDTF">2012-04-27T13:09:11Z</dcterms:modified>
  <cp:revision>33</cp:revision>
  <dc:subject/>
  <dc:title>Солнце</dc:title>
</cp:coreProperties>
</file>