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15DD-6D78-4F64-AF10-9BF72827BE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4BBA-6C0B-4744-B307-D03B24C2FA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897B-ADCE-4B37-BA54-14DCE93CEB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BDE-C9B2-4072-B0CB-918CB2F5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B26-DB6F-4620-A87C-E1ABEEC4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7D9-D609-4BF5-9184-E2040FC9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D52-9411-4CFD-B661-9AE9BA28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4F27-9A31-45F1-B589-BE9AAEF4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6E19-2247-4E81-9894-627846EC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CBDD-168C-47E2-9F27-A81D9050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2978-B366-4530-B168-E96B7AF7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E830-875B-4299-90DE-F1CBE51E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0137-1D81-4772-976D-344D3A68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2677-4107-44E4-8181-66DE91FA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640-2817-496E-AC1D-72B66B62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39FF-40BF-439D-A3E4-E8124928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1DA4-10E3-428F-8841-A7A24547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4237-DF5F-459C-97A1-27E7E0EB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EB3F-0E71-450D-854A-242555E2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3AF3-6C7E-4BAE-9BA1-3703BFAD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5FD20-9815-44D9-B87D-E04A31FE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B3E73-7AB6-43C0-B755-BC8630C2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F1414-D738-457B-BD9D-00487934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A3116-A87C-4BD4-A145-95575DC9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7C303-755C-46AC-A7F2-6BF58FAD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36BE-4D4C-443F-AF11-C93D1B1D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8543B-F4CF-4C8E-ABAC-10211C8C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0A625-221F-4F13-B725-51CD562D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E3161-891F-4B9D-8BE7-4DDEB95D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C5EA8-F4EE-4C38-B7B8-B6A7754F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53295-4652-4963-904A-CFCEFF33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BE41-BCCE-4C09-91DB-757A1373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F86C-EE00-465B-B599-50197F61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03C76-93EA-4E6C-90A0-D70DB91A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A0F93-627A-4703-A863-86B0A8C9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00C1F-D99B-4329-A2DA-149B65B5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AE6-5E4F-4EAE-9219-AF9DAFBD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8FEA2-0F63-4FA3-923E-8ED1B7AE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65B16-E0AF-40E0-B789-B449D923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70DB0-699B-4F7B-A318-81417147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411D9-4F8B-44A2-B7B7-E5F8E32A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66E3B-8195-4635-A701-85018113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F7036-99DF-4D9C-BBBA-27C69C95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0A14B-4DB2-4CB3-B74E-7CCA0360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5F14C-AAB8-4439-B016-C208A46D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1D0F0-BDB9-4948-9566-B07D715B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ED333-5219-4E33-922D-D023C593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63F-5C67-4527-B273-12692DB0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E747E-874A-464A-B760-81080D44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42B0C-C3BA-42E8-B880-EE89AD3D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84367-302C-469E-8DF0-ED9BF870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7120E-03F9-41DF-9326-FD11EDF7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B8364-240D-4B65-86A1-A04F78F1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06168-4657-4792-9132-901884D8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29AB1-0C9A-4CE7-804F-A80C3138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14C70-3C3C-437F-9B7C-982BD13B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C49C8-F54D-4BD6-8A28-2C033987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AD31C-5A4C-4C57-AE8D-AABEC226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21F-FD43-425F-BC3F-2A0F2779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856D9-245B-46F8-907D-6092CCF3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9DE1C-6729-4D4E-BC23-3B31C28A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8339D-E041-448B-8B0B-50831C4B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85DE1-721A-40F9-810E-B0076968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E3184-2323-44B7-86D8-2020C259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EB255-1C97-45C2-9D46-8DFEB917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151D5-E61A-417C-AE00-0DBCB831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1D4B9-516D-4E40-900C-749624AC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2CA2C-4C0E-41AA-8AA6-FBD5D2F1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0BCFE-0C9B-477D-B5E8-81401E2E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975-1578-4CC8-9831-4EB383E9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F5A19-A2C8-4866-92B7-3B57FDB1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D25C3-84FA-44C8-98E4-9D8E9CE0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59562-DB58-471E-A6C8-1A72AB70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678-8F46-4BC7-86C7-1A40DF0A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E8A-2C7E-4E15-A6F4-7F0744C8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1EB4-561B-4895-BF9A-85D0FF5869A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D558-5C76-4678-960B-22F67281594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239E-7F03-4380-A58D-3E1A48B9782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F0C7-0848-42C3-83AC-86E020A6AA2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02AE-4636-434C-8875-C69EA96C866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BC7C-FB91-4DFA-A290-625AF2BC4A4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D:\Documents and Settings\Archie\Рабочий стол\Солнце\space01.jpg"/>
          <p:cNvPicPr/>
          <p:nvPr/>
        </p:nvPicPr>
        <p:blipFill>
          <a:blip r:embed="rId1"/>
          <a:stretch/>
        </p:blipFill>
        <p:spPr>
          <a:xfrm>
            <a:off x="0" y="-39600"/>
            <a:ext cx="6897600" cy="68976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28760" y="10717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Дельмухаметова Л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ОУ СОШ №11, г. Калинин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D:\Documents and Settings\Archie\Рабочий стол\Солнце\Gingko-Blaetter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0880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имн Солнц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57400" y="1599840"/>
            <a:ext cx="47149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ходит - и все ожива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ходит и все умир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ы - жизни мерило и первопричина ее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D:\Documents and Settings\Archie\Рабочий стол\Солнце\5091.jpg"/>
          <p:cNvPicPr/>
          <p:nvPr/>
        </p:nvPicPr>
        <p:blipFill>
          <a:blip r:embed="rId1"/>
          <a:stretch/>
        </p:blipFill>
        <p:spPr>
          <a:xfrm>
            <a:off x="214200" y="171468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исать, какую роль играет Солнце в жизни нашей плане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лнце - главный источник энергии (света и тепла) на Земл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приводит в движение огромные массы воздуха (образование ветр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вызывает круговорот воды в природ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мена времен года и климат обусловлены распределением солнечной энергии на земном ша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лагодаря Солнцу развиваются и живут организм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инквей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прилагательны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глаго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предлож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Овал 3"/>
          <p:cNvSpPr/>
          <p:nvPr/>
        </p:nvSpPr>
        <p:spPr>
          <a:xfrm>
            <a:off x="3143160" y="3429000"/>
            <a:ext cx="2143080" cy="20718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лись ли вопросы, на которые вы не нашли ответ в учебни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5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1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Хочу узнат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це и плане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C:\Users\HP\Desktop\Новая папка\1255179736_1003.jpg"/>
          <p:cNvPicPr/>
          <p:nvPr/>
        </p:nvPicPr>
        <p:blipFill>
          <a:blip r:embed="rId1"/>
          <a:stretch/>
        </p:blipFill>
        <p:spPr>
          <a:xfrm>
            <a:off x="34920" y="1857240"/>
            <a:ext cx="903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Размеры звезд. Солнце – карлик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C:\Users\HP\Desktop\Новая папка\1255179744_1004.jpg"/>
          <p:cNvPicPr/>
          <p:nvPr/>
        </p:nvPicPr>
        <p:blipFill>
          <a:blip r:embed="rId1"/>
          <a:stretch/>
        </p:blipFill>
        <p:spPr>
          <a:xfrm>
            <a:off x="642960" y="1285920"/>
            <a:ext cx="7888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Мир звезд. За страницами учебник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от Солнца до Земли 150 000000 (150 млн.) к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между звездами неудобно измерять в километрах, поэтому астрономы придумали единицу длины «световой год». Это путь, который проходит свет за один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света – 300 000 км в секунд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ир звез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 год свет преодолевает 10 000000000000 (10 триллионов)  километров. Это и есть световой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вет от Солнца до Земли доходит за 8 мину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C:\Users\HP\Desktop\Новая папка\8740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43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рганизационный момен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се под рукой, работа движется рек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еч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Picture 2" descr="C:\Users\HP\Desktop\Новая папка\Solnce.jpg"/>
          <p:cNvPicPr/>
          <p:nvPr/>
        </p:nvPicPr>
        <p:blipFill>
          <a:blip r:embed="rId1"/>
          <a:stretch/>
        </p:blipFill>
        <p:spPr>
          <a:xfrm>
            <a:off x="285840" y="1357200"/>
            <a:ext cx="4808520" cy="3500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Users\HP\Desktop\Новая папка\солнечное.jpg"/>
          <p:cNvPicPr/>
          <p:nvPr/>
        </p:nvPicPr>
        <p:blipFill>
          <a:blip r:embed="rId2"/>
          <a:stretch/>
        </p:blipFill>
        <p:spPr>
          <a:xfrm>
            <a:off x="5143680" y="1357200"/>
            <a:ext cx="3833640" cy="3232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C:\Users\HP\Desktop\Новая папка\i13081076115551181641.jpg"/>
          <p:cNvPicPr/>
          <p:nvPr/>
        </p:nvPicPr>
        <p:blipFill>
          <a:blip r:embed="rId3"/>
          <a:stretch/>
        </p:blipFill>
        <p:spPr>
          <a:xfrm>
            <a:off x="5143680" y="4643280"/>
            <a:ext cx="3859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ун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4" name="Picture 2" descr="C:\Users\HP\Desktop\Новая папка\1002081_0534_002.jpg"/>
          <p:cNvPicPr/>
          <p:nvPr/>
        </p:nvPicPr>
        <p:blipFill>
          <a:blip r:embed="rId1"/>
          <a:stretch/>
        </p:blipFill>
        <p:spPr>
          <a:xfrm>
            <a:off x="285840" y="1285920"/>
            <a:ext cx="6786360" cy="3429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HP\Desktop\Новая папка\унное.jpg"/>
          <p:cNvPicPr/>
          <p:nvPr/>
        </p:nvPicPr>
        <p:blipFill>
          <a:blip r:embed="rId2"/>
          <a:stretch/>
        </p:blipFill>
        <p:spPr>
          <a:xfrm>
            <a:off x="6107040" y="4143240"/>
            <a:ext cx="3036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дач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лько лет понадобилось бы человеку, чтобы пешком дойти до Солнц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Users\HP\Desktop\Новая папка\016.jpg"/>
          <p:cNvPicPr/>
          <p:nvPr/>
        </p:nvPicPr>
        <p:blipFill>
          <a:blip r:embed="rId1"/>
          <a:stretch/>
        </p:blipFill>
        <p:spPr>
          <a:xfrm>
            <a:off x="4357800" y="3143160"/>
            <a:ext cx="4649760" cy="3414960"/>
          </a:xfrm>
          <a:prstGeom prst="rect">
            <a:avLst/>
          </a:prstGeom>
          <a:ln w="0">
            <a:noFill/>
          </a:ln>
        </p:spPr>
      </p:pic>
      <p:sp>
        <p:nvSpPr>
          <p:cNvPr id="339" name="Стрелка влево 5"/>
          <p:cNvSpPr/>
          <p:nvPr/>
        </p:nvSpPr>
        <p:spPr>
          <a:xfrm>
            <a:off x="3286080" y="4357800"/>
            <a:ext cx="1571760" cy="114300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2-конечная звезда 6"/>
          <p:cNvSpPr/>
          <p:nvPr/>
        </p:nvSpPr>
        <p:spPr>
          <a:xfrm>
            <a:off x="571680" y="3929040"/>
            <a:ext cx="2286000" cy="2143080"/>
          </a:xfrm>
          <a:prstGeom prst="pi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полнительные дан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пешехода – 5 км/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ловек двигается 8 часов в сут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году 365 дн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У каждой звезды своя истори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247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-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ген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ч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C:\Users\HP\Desktop\Новая папка\2828.jpg"/>
          <p:cNvPicPr/>
          <p:nvPr/>
        </p:nvPicPr>
        <p:blipFill>
          <a:blip r:embed="rId1"/>
          <a:stretch/>
        </p:blipFill>
        <p:spPr>
          <a:xfrm>
            <a:off x="2857680" y="1500120"/>
            <a:ext cx="6252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HP\Desktop\Новая папка\heic0514a.jpg"/>
          <p:cNvPicPr/>
          <p:nvPr/>
        </p:nvPicPr>
        <p:blipFill>
          <a:blip r:embed="rId1"/>
          <a:stretch/>
        </p:blipFill>
        <p:spPr>
          <a:xfrm>
            <a:off x="0" y="-800280"/>
            <a:ext cx="9572760" cy="76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з повторения нет глуби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400" y="1785600"/>
            <a:ext cx="7467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объединяет этих людей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6500880" y="12142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Ланда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D:\Documents and Settings\Archie\Рабочий стол\Солнце\img5.gif"/>
          <p:cNvPicPr/>
          <p:nvPr/>
        </p:nvPicPr>
        <p:blipFill>
          <a:blip r:embed="rId1"/>
          <a:stretch/>
        </p:blipFill>
        <p:spPr>
          <a:xfrm>
            <a:off x="1452600" y="2357280"/>
            <a:ext cx="176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:\Documents and Settings\Archie\Рабочий стол\Солнце\img7.jpeg"/>
          <p:cNvPicPr/>
          <p:nvPr/>
        </p:nvPicPr>
        <p:blipFill>
          <a:blip r:embed="rId2"/>
          <a:stretch/>
        </p:blipFill>
        <p:spPr>
          <a:xfrm>
            <a:off x="5214960" y="2357280"/>
            <a:ext cx="1366920" cy="20005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157176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286240" y="4429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ол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2.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ьедестале памятника Копернику в Варшаве высечены слова: «Остановивший Солнце, сдвинувший Землю». Объясните ф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D:\Documents and Settings\Archie\Рабочий стол\Солнце\img9.jpeg"/>
          <p:cNvPicPr/>
          <p:nvPr/>
        </p:nvPicPr>
        <p:blipFill>
          <a:blip r:embed="rId1"/>
          <a:stretch/>
        </p:blipFill>
        <p:spPr>
          <a:xfrm>
            <a:off x="5214960" y="3071880"/>
            <a:ext cx="2774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54899a"/>
                </a:solidFill>
                <a:latin typeface="Arial"/>
              </a:rPr>
              <a:t>.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сказал такие слова: «Каждая звезда – обширный мир, подобный солнечному, со своими планетами, на которых обитают разумные существ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C:\Users\HP\Desktop\Новая папка\77246869_3937309_3_obcy_105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74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D:\Documents and Settings\Archie\Рабочий стол\Солнце\muzhchina-2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ечная систем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500040" y="2143080"/>
            <a:ext cx="8208720" cy="2879280"/>
            <a:chOff x="500040" y="2143080"/>
            <a:chExt cx="8208720" cy="2879280"/>
          </a:xfrm>
        </p:grpSpPr>
        <p:sp>
          <p:nvSpPr>
            <p:cNvPr id="284" name="Rectangle 3"/>
            <p:cNvSpPr/>
            <p:nvPr/>
          </p:nvSpPr>
          <p:spPr>
            <a:xfrm>
              <a:off x="539280" y="2143080"/>
              <a:ext cx="27770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Облако газа и пы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169520" y="2150640"/>
              <a:ext cx="4539240" cy="689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смический «строительный мусор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00040" y="3274200"/>
              <a:ext cx="1265760" cy="669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b3b3b"/>
                  </a:solidFill>
                  <a:latin typeface="Arial"/>
                </a:rPr>
                <a:t>Солнц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2103480" y="3333960"/>
              <a:ext cx="12992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план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4735080" y="3269880"/>
              <a:ext cx="12826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м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8"/>
            <p:cNvSpPr/>
            <p:nvPr/>
          </p:nvSpPr>
          <p:spPr>
            <a:xfrm>
              <a:off x="3458880" y="2451960"/>
              <a:ext cx="621360" cy="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9"/>
            <p:cNvSpPr/>
            <p:nvPr/>
          </p:nvSpPr>
          <p:spPr>
            <a:xfrm>
              <a:off x="6887160" y="3346200"/>
              <a:ext cx="15868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астерои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4586040" y="4372920"/>
              <a:ext cx="140832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1"/>
            <p:cNvSpPr/>
            <p:nvPr/>
          </p:nvSpPr>
          <p:spPr>
            <a:xfrm>
              <a:off x="6900480" y="4372920"/>
              <a:ext cx="16718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и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 flipH="1">
              <a:off x="1154160" y="2852640"/>
              <a:ext cx="601560" cy="34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>
              <a:off x="2301840" y="2892960"/>
              <a:ext cx="389880" cy="38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 flipH="1">
              <a:off x="5362920" y="2932920"/>
              <a:ext cx="1087560" cy="19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>
              <a:off x="6649200" y="2953080"/>
              <a:ext cx="968400" cy="24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5333400" y="394776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7796520" y="400392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ц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2104920"/>
          <a:ext cx="6096240" cy="3235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Читаем и понимаем даже то, что не написано!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974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 до слов «Мир звезд необычайно разнообразен…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олняем третью колонку тек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4:07:22Z</dcterms:created>
  <dc:creator>Archie</dc:creator>
  <dc:description/>
  <dc:language>en-US</dc:language>
  <cp:lastModifiedBy>КарМаН</cp:lastModifiedBy>
  <dcterms:modified xsi:type="dcterms:W3CDTF">2012-04-27T13:09:11Z</dcterms:modified>
  <cp:revision>33</cp:revision>
  <dc:subject/>
  <dc:title>Солнце</dc:title>
</cp:coreProperties>
</file>