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9344-1111-46C7-A20D-2E968C2A01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270A-BCC3-4788-B8F0-0B8DBB8806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C7DA-ABDE-47F2-8986-BECBE62E0F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952-16C4-4F0B-8148-7C43F80A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3D02-BD4F-49B7-BBD6-EDEFF1B8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0ACA-2548-4537-9BA5-FDFB264A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3A5C-E864-4B58-A876-E6513626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A9B5-B9E2-47F7-9EC1-05FD8E6D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D136-F7B4-4A75-8AC1-D72BD85A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BB59-53EE-4B5C-936E-7CF01688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FA0C-AEAB-4A2D-8C04-682273C9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5E35-B751-4DAA-B5CF-8A8F345E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91CF-5845-4653-BAE2-1FDC0452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043B-8530-4349-A8DF-723A1532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8578-2F26-4FEC-B827-7DFA92F5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D725-C82A-4F8A-8313-A142278B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94A4-FE1C-45D8-A577-25F6DD21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8C44-4B4B-4922-AB89-C2E3A003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05C5-A382-491A-99DD-D65D8C57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9366-2217-45EC-9E2D-6923DDE7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F4F63-70D5-4A12-AE29-21EC7588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841D5-0998-4312-98D8-6126346D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32CA4-6CB7-41AC-9D31-1C15E385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46657-2739-4EB1-91BD-2652BF34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29181-91E6-43ED-A18D-6AC913D5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892C-64EF-4D5F-BF45-7F822246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216F9-6CE0-4CE4-970D-8E95669E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3F8A4-495D-40BD-8742-6B463100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E4DA0-A744-4D26-BEC9-32909F99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4F55A-D761-48D6-BF84-ED03C403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E689B-8227-4952-B215-3AF670F1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24696-D249-4037-B213-BDA3B3EC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7C1E6-70AC-4BCF-A316-6F12E8CB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C074F-282F-4644-B597-FBA32EE2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17300-9BE5-4510-8FEB-20CF6F75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3FB10-0131-4239-AE75-0DAC6369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FA79-C430-434C-88FC-0EA41C4A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4BB7E-7E84-4AE1-AEEF-9AC3BF65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62A77-A6A7-42B9-9777-B1F99548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8AEF1-80E8-4930-BC99-64F44AF4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68428-5FBD-484A-B218-C8AA783B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8E64F-5FBD-4084-A8FB-23D8D5AD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8E1F6-0578-4F59-A2D6-0108C07A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3A074-5E20-43A8-A77D-DAB30942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BD1D0-A467-44D2-B71E-C5A5D9B0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69DB1-2868-407A-AC86-5A01F05A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BA55D-C3AD-4860-892F-9EF8CDE8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247F-3DF9-4581-B785-AF822626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25E9E-F02A-4641-9401-0F4F98C1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BE900-852D-48C9-9CA8-9004A12F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2B39D-D16A-4E57-B7F3-6B287DFA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9779A-F7C5-4094-A670-EE4243CA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692E5-98CE-4C47-BF29-6C4BAD8C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F2ECB-E315-40C2-9477-1CCD1932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305A1-2B3C-4764-AB2D-BEE84E7B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22EE6-CF9A-40D9-B95D-559A8A2B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A1FF0-D0A3-4418-8AB3-58513E96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4487C-4478-49FB-8FF4-1BFF5B17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D147-CA74-4744-9863-6322D9E3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F9707-4DE5-4DC5-AD3E-3FC66227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91323-4A93-479E-A107-3CE28313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4116C-7465-4BC4-847B-DC8D1BCF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E30BA-FECC-4383-8C64-4EFC5E1A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E6DCD-A1A3-442D-B797-141C11C7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CF59B-548B-4B98-A783-AB8B56B7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85B5F-6BEB-4EA3-9098-A3DC71DF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67FD1-02B7-4226-A53B-2C4EF5E0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E22B3-7444-4A03-BF7B-F68762CD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AC793-444C-4223-9938-B31B73E8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E49-1684-4531-9B4A-27130DE7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0417A-F8DA-4310-BDF3-A92F7DD8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8B7A8-3236-4023-8888-360C1906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4BD35-E2D9-4B6B-9D73-6075FD07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1A8F-AC58-4400-8BA2-BEDC3AF7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5E06-F588-4DE4-B2E1-B24CFFFE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CA7C-C13F-4F16-AC84-5CA25788A0F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922C-381D-4937-ADF7-57EB044823C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6A85-C808-4D30-AC87-779CFA7B560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EEB9-EDEA-445F-9FDC-DDD85DDBCDD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21E6-9A26-452B-81A8-70D3BEA9B79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4677-EC0B-464C-958C-4D772E746F1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D:\Documents and Settings\Archie\Рабочий стол\Солнце\space01.jpg"/>
          <p:cNvPicPr/>
          <p:nvPr/>
        </p:nvPicPr>
        <p:blipFill>
          <a:blip r:embed="rId1"/>
          <a:stretch/>
        </p:blipFill>
        <p:spPr>
          <a:xfrm>
            <a:off x="0" y="-39600"/>
            <a:ext cx="6897600" cy="6897600"/>
          </a:xfrm>
          <a:prstGeom prst="rect">
            <a:avLst/>
          </a:prstGeom>
          <a:ln w="0">
            <a:noFill/>
          </a:ln>
        </p:spPr>
      </p:pic>
      <p:pic>
        <p:nvPicPr>
          <p:cNvPr id="262" name="Заголовок 1" descr=""/>
          <p:cNvPicPr/>
          <p:nvPr/>
        </p:nvPicPr>
        <p:blipFill>
          <a:blip r:embed="rId2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28760" y="107172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Дельмухаметова Л.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ОУ СОШ №11, г. Калинингр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2" descr="D:\Documents and Settings\Archie\Рабочий стол\Солнце\Gingko-Blaetter.jpg"/>
          <p:cNvPicPr/>
          <p:nvPr/>
        </p:nvPicPr>
        <p:blipFill>
          <a:blip r:embed="rId1"/>
          <a:stretch/>
        </p:blipFill>
        <p:spPr>
          <a:xfrm>
            <a:off x="1285920" y="1714680"/>
            <a:ext cx="6508800" cy="48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Гимн Солнцу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57400" y="1599840"/>
            <a:ext cx="471492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сходит - и все ожива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ходит и все умира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ы - жизни мерило и первопричина ее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2" descr="D:\Documents and Settings\Archie\Рабочий стол\Солнце\5091.jpg"/>
          <p:cNvPicPr/>
          <p:nvPr/>
        </p:nvPicPr>
        <p:blipFill>
          <a:blip r:embed="rId1"/>
          <a:stretch/>
        </p:blipFill>
        <p:spPr>
          <a:xfrm>
            <a:off x="214200" y="1714680"/>
            <a:ext cx="3571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ыписать, какую роль играет Солнце в жизни нашей планет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олнце - главный источник энергии (света и тепла) на Земл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Энергия Солнца приводит в движение огромные массы воздуха (образование ветра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Энергия Солнца вызывает круговорот воды в природ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мена времен года и климат обусловлены распределением солнечной энергии на земном шар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Благодаря Солнцу развиваются и живут организмы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инквейн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существительно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 прилагательны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 глагол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предложе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существительно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Овал 3"/>
          <p:cNvSpPr/>
          <p:nvPr/>
        </p:nvSpPr>
        <p:spPr>
          <a:xfrm>
            <a:off x="3143160" y="3429000"/>
            <a:ext cx="2143080" cy="20718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лись ли вопросы, на которые вы не нашли ответ в учебни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4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5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18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Хочу узнать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олнце и планет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2" descr="C:\Users\HP\Desktop\Новая папка\1255179736_1003.jpg"/>
          <p:cNvPicPr/>
          <p:nvPr/>
        </p:nvPicPr>
        <p:blipFill>
          <a:blip r:embed="rId1"/>
          <a:stretch/>
        </p:blipFill>
        <p:spPr>
          <a:xfrm>
            <a:off x="34920" y="1857240"/>
            <a:ext cx="90378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Размеры звезд. Солнце – карлик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2" descr="C:\Users\HP\Desktop\Новая папка\1255179744_1004.jpg"/>
          <p:cNvPicPr/>
          <p:nvPr/>
        </p:nvPicPr>
        <p:blipFill>
          <a:blip r:embed="rId1"/>
          <a:stretch/>
        </p:blipFill>
        <p:spPr>
          <a:xfrm>
            <a:off x="642960" y="1285920"/>
            <a:ext cx="78883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Мир звезд. За страницами учебника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тояние от Солнца до Земли 150 000000 (150 млн.) к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тояние между звездами неудобно измерять в километрах, поэтому астрономы придумали единицу длины «световой год». Это путь, который проходит свет за один го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рость света – 300 000 км в секунд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Мир звезд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 год свет преодолевает 10 000000000000 (10 триллионов)  километров. Это и есть световой го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вет от Солнца до Земли доходит за 8 мину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2" descr="C:\Users\HP\Desktop\Новая папка\8740.jpg"/>
          <p:cNvPicPr/>
          <p:nvPr/>
        </p:nvPicPr>
        <p:blipFill>
          <a:blip r:embed="rId1"/>
          <a:stretch/>
        </p:blipFill>
        <p:spPr>
          <a:xfrm>
            <a:off x="4857840" y="3643200"/>
            <a:ext cx="414324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рганизационный момент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536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536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сли все под рукой, работа движется реко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олнечное затм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0" name="Picture 2" descr="C:\Users\HP\Desktop\Новая папка\Solnce.jpg"/>
          <p:cNvPicPr/>
          <p:nvPr/>
        </p:nvPicPr>
        <p:blipFill>
          <a:blip r:embed="rId1"/>
          <a:stretch/>
        </p:blipFill>
        <p:spPr>
          <a:xfrm>
            <a:off x="285840" y="1357200"/>
            <a:ext cx="4808520" cy="35006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C:\Users\HP\Desktop\Новая папка\солнечное.jpg"/>
          <p:cNvPicPr/>
          <p:nvPr/>
        </p:nvPicPr>
        <p:blipFill>
          <a:blip r:embed="rId2"/>
          <a:stretch/>
        </p:blipFill>
        <p:spPr>
          <a:xfrm>
            <a:off x="5143680" y="1357200"/>
            <a:ext cx="3833640" cy="3232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C:\Users\HP\Desktop\Новая папка\i13081076115551181641.jpg"/>
          <p:cNvPicPr/>
          <p:nvPr/>
        </p:nvPicPr>
        <p:blipFill>
          <a:blip r:embed="rId3"/>
          <a:stretch/>
        </p:blipFill>
        <p:spPr>
          <a:xfrm>
            <a:off x="5143680" y="4643280"/>
            <a:ext cx="38592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Лунное затм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4" name="Picture 2" descr="C:\Users\HP\Desktop\Новая папка\1002081_0534_002.jpg"/>
          <p:cNvPicPr/>
          <p:nvPr/>
        </p:nvPicPr>
        <p:blipFill>
          <a:blip r:embed="rId1"/>
          <a:stretch/>
        </p:blipFill>
        <p:spPr>
          <a:xfrm>
            <a:off x="285840" y="1285920"/>
            <a:ext cx="6786360" cy="3429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C:\Users\HP\Desktop\Новая папка\унное.jpg"/>
          <p:cNvPicPr/>
          <p:nvPr/>
        </p:nvPicPr>
        <p:blipFill>
          <a:blip r:embed="rId2"/>
          <a:stretch/>
        </p:blipFill>
        <p:spPr>
          <a:xfrm>
            <a:off x="6107040" y="4143240"/>
            <a:ext cx="3036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адач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лько лет понадобилось бы человеку, чтобы пешком дойти до Солнц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2" descr="C:\Users\HP\Desktop\Новая папка\016.jpg"/>
          <p:cNvPicPr/>
          <p:nvPr/>
        </p:nvPicPr>
        <p:blipFill>
          <a:blip r:embed="rId1"/>
          <a:stretch/>
        </p:blipFill>
        <p:spPr>
          <a:xfrm>
            <a:off x="4357800" y="3143160"/>
            <a:ext cx="4649760" cy="3414960"/>
          </a:xfrm>
          <a:prstGeom prst="rect">
            <a:avLst/>
          </a:prstGeom>
          <a:ln w="0">
            <a:noFill/>
          </a:ln>
        </p:spPr>
      </p:pic>
      <p:sp>
        <p:nvSpPr>
          <p:cNvPr id="339" name="Стрелка влево 5"/>
          <p:cNvSpPr/>
          <p:nvPr/>
        </p:nvSpPr>
        <p:spPr>
          <a:xfrm>
            <a:off x="3286080" y="4357800"/>
            <a:ext cx="1571760" cy="114300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12-конечная звезда 6"/>
          <p:cNvSpPr/>
          <p:nvPr/>
        </p:nvSpPr>
        <p:spPr>
          <a:xfrm>
            <a:off x="571680" y="3929040"/>
            <a:ext cx="2286000" cy="2143080"/>
          </a:xfrm>
          <a:prstGeom prst="pie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Дополнительные данны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рость пешехода – 5 км/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ловек двигается 8 часов в сут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году 365 дне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У каждой звезды своя история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247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8-5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еген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дач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2" descr="C:\Users\HP\Desktop\Новая папка\2828.jpg"/>
          <p:cNvPicPr/>
          <p:nvPr/>
        </p:nvPicPr>
        <p:blipFill>
          <a:blip r:embed="rId1"/>
          <a:stretch/>
        </p:blipFill>
        <p:spPr>
          <a:xfrm>
            <a:off x="2857680" y="1500120"/>
            <a:ext cx="62528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2" descr="C:\Users\HP\Desktop\Новая папка\heic0514a.jpg"/>
          <p:cNvPicPr/>
          <p:nvPr/>
        </p:nvPicPr>
        <p:blipFill>
          <a:blip r:embed="rId1"/>
          <a:stretch/>
        </p:blipFill>
        <p:spPr>
          <a:xfrm>
            <a:off x="0" y="-800280"/>
            <a:ext cx="9572760" cy="765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Без повторения нет глубин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28400" y="1785600"/>
            <a:ext cx="74674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то объединяет этих людей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6500880" y="121428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. Ланда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D:\Documents and Settings\Archie\Рабочий стол\Солнце\img5.gif"/>
          <p:cNvPicPr/>
          <p:nvPr/>
        </p:nvPicPr>
        <p:blipFill>
          <a:blip r:embed="rId1"/>
          <a:stretch/>
        </p:blipFill>
        <p:spPr>
          <a:xfrm>
            <a:off x="1452600" y="2357280"/>
            <a:ext cx="1762200" cy="1952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D:\Documents and Settings\Archie\Рабочий стол\Солнце\img7.jpeg"/>
          <p:cNvPicPr/>
          <p:nvPr/>
        </p:nvPicPr>
        <p:blipFill>
          <a:blip r:embed="rId2"/>
          <a:stretch/>
        </p:blipFill>
        <p:spPr>
          <a:xfrm>
            <a:off x="5214960" y="2357280"/>
            <a:ext cx="1366920" cy="20005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6"/>
          <p:cNvSpPr/>
          <p:nvPr/>
        </p:nvSpPr>
        <p:spPr>
          <a:xfrm>
            <a:off x="1571760" y="44290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5286240" y="4429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толем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899a"/>
                </a:solidFill>
                <a:latin typeface="Arial"/>
              </a:rPr>
              <a:t>2.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ьедестале памятника Копернику в Варшаве высечены слова: «Остановивший Солнце, сдвинувший Землю». Объясните фра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2" descr="D:\Documents and Settings\Archie\Рабочий стол\Солнце\img9.jpeg"/>
          <p:cNvPicPr/>
          <p:nvPr/>
        </p:nvPicPr>
        <p:blipFill>
          <a:blip r:embed="rId1"/>
          <a:stretch/>
        </p:blipFill>
        <p:spPr>
          <a:xfrm>
            <a:off x="5214960" y="3071880"/>
            <a:ext cx="2774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899a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54899a"/>
                </a:solidFill>
                <a:latin typeface="Arial"/>
              </a:rPr>
              <a:t>.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сказал такие слова: «Каждая звезда – обширный мир, подобный солнечному, со своими планетами, на которых обитают разумные существа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2" descr="C:\Users\HP\Desktop\Новая папка\77246869_3937309_3_obcy_105.jpg"/>
          <p:cNvPicPr/>
          <p:nvPr/>
        </p:nvPicPr>
        <p:blipFill>
          <a:blip r:embed="rId1"/>
          <a:stretch/>
        </p:blipFill>
        <p:spPr>
          <a:xfrm>
            <a:off x="4857840" y="3643200"/>
            <a:ext cx="41749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2" descr="D:\Documents and Settings\Archie\Рабочий стол\Солнце\muzhchina-2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Солнечная систем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83" name="Group 2"/>
          <p:cNvGrpSpPr/>
          <p:nvPr/>
        </p:nvGrpSpPr>
        <p:grpSpPr>
          <a:xfrm>
            <a:off x="500040" y="2143080"/>
            <a:ext cx="8208720" cy="2879280"/>
            <a:chOff x="500040" y="2143080"/>
            <a:chExt cx="8208720" cy="2879280"/>
          </a:xfrm>
        </p:grpSpPr>
        <p:sp>
          <p:nvSpPr>
            <p:cNvPr id="284" name="Rectangle 3"/>
            <p:cNvSpPr/>
            <p:nvPr/>
          </p:nvSpPr>
          <p:spPr>
            <a:xfrm>
              <a:off x="539280" y="2143080"/>
              <a:ext cx="27770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Облако газа и пыл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4"/>
            <p:cNvSpPr/>
            <p:nvPr/>
          </p:nvSpPr>
          <p:spPr>
            <a:xfrm>
              <a:off x="4169520" y="2150640"/>
              <a:ext cx="4539240" cy="689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космический «строительный мусор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5"/>
            <p:cNvSpPr/>
            <p:nvPr/>
          </p:nvSpPr>
          <p:spPr>
            <a:xfrm>
              <a:off x="500040" y="3274200"/>
              <a:ext cx="1265760" cy="669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b3b3b"/>
                  </a:solidFill>
                  <a:latin typeface="Arial"/>
                </a:rPr>
                <a:t>Солнц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6"/>
            <p:cNvSpPr/>
            <p:nvPr/>
          </p:nvSpPr>
          <p:spPr>
            <a:xfrm>
              <a:off x="2103480" y="3333960"/>
              <a:ext cx="12992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плане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7"/>
            <p:cNvSpPr/>
            <p:nvPr/>
          </p:nvSpPr>
          <p:spPr>
            <a:xfrm>
              <a:off x="4735080" y="3269880"/>
              <a:ext cx="128268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коме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8"/>
            <p:cNvSpPr/>
            <p:nvPr/>
          </p:nvSpPr>
          <p:spPr>
            <a:xfrm>
              <a:off x="3458880" y="2451960"/>
              <a:ext cx="621360" cy="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9"/>
            <p:cNvSpPr/>
            <p:nvPr/>
          </p:nvSpPr>
          <p:spPr>
            <a:xfrm>
              <a:off x="6887160" y="3346200"/>
              <a:ext cx="158688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астерои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10"/>
            <p:cNvSpPr/>
            <p:nvPr/>
          </p:nvSpPr>
          <p:spPr>
            <a:xfrm>
              <a:off x="4586040" y="4372920"/>
              <a:ext cx="140832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метеор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11"/>
            <p:cNvSpPr/>
            <p:nvPr/>
          </p:nvSpPr>
          <p:spPr>
            <a:xfrm>
              <a:off x="6900480" y="4372920"/>
              <a:ext cx="16718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метеори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2"/>
            <p:cNvSpPr/>
            <p:nvPr/>
          </p:nvSpPr>
          <p:spPr>
            <a:xfrm flipH="1">
              <a:off x="1154160" y="2852640"/>
              <a:ext cx="601560" cy="34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3"/>
            <p:cNvSpPr/>
            <p:nvPr/>
          </p:nvSpPr>
          <p:spPr>
            <a:xfrm>
              <a:off x="2301840" y="2892960"/>
              <a:ext cx="389880" cy="38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4"/>
            <p:cNvSpPr/>
            <p:nvPr/>
          </p:nvSpPr>
          <p:spPr>
            <a:xfrm flipH="1">
              <a:off x="5362920" y="2932920"/>
              <a:ext cx="1087560" cy="19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5"/>
            <p:cNvSpPr/>
            <p:nvPr/>
          </p:nvSpPr>
          <p:spPr>
            <a:xfrm>
              <a:off x="6649200" y="2953080"/>
              <a:ext cx="968400" cy="248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6"/>
            <p:cNvSpPr/>
            <p:nvPr/>
          </p:nvSpPr>
          <p:spPr>
            <a:xfrm>
              <a:off x="5333400" y="3947760"/>
              <a:ext cx="6480" cy="37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7"/>
            <p:cNvSpPr/>
            <p:nvPr/>
          </p:nvSpPr>
          <p:spPr>
            <a:xfrm>
              <a:off x="7796520" y="4003920"/>
              <a:ext cx="6480" cy="37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Солнц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523880" y="2104920"/>
          <a:ext cx="6096240" cy="32353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чу узн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н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Читаем и понимаем даже то, что не написано!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9749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8 до слов «Мир звезд необычайно разнообразен…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полняем третью колонку текст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4:07:22Z</dcterms:created>
  <dc:creator>Archie</dc:creator>
  <dc:description/>
  <dc:language>en-US</dc:language>
  <cp:lastModifiedBy>КарМаН</cp:lastModifiedBy>
  <dcterms:modified xsi:type="dcterms:W3CDTF">2012-04-27T13:09:11Z</dcterms:modified>
  <cp:revision>33</cp:revision>
  <dc:subject/>
  <dc:title>Солнце</dc:title>
</cp:coreProperties>
</file>