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6.jpeg" ContentType="image/jpeg"/>
  <Override PartName="/ppt/media/image14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move the slide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01F59-400E-488C-986C-A15A38D7CA5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C6628-BE9C-4229-B691-8C522C8F97A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4E775-875E-4398-B12D-3783E8013F1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0D5F-E69F-420A-9565-02137030E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CD52-157F-4350-B0B7-E2637813A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E8D02-779C-4EAD-A531-B224876D3B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7E1E0-AEBF-42E4-97BC-90C76CBB4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59604-EF66-4544-B245-64AE6CB4D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B8DB9-B297-4EB9-A85C-D59310A0C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9C49A-74C8-4C73-A237-D6CE2B1C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7AE9-3335-4D92-98E7-4D773645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A0D8-6D03-4167-BBC6-CCF1B1BC4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D374F-3BE0-4F13-94AF-2785A6768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416FB-1CA5-4C70-ADAD-78641DAF8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1DB4-4016-4491-9133-EB8C5509A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79E9-F50C-424F-8A3A-B6B9CCC5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869-8930-467A-9121-063E980A0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363AD1-FAC4-40E5-A43A-6885C014A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3A94-B3ED-42C8-85F4-AF7E0A602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CE15-AE00-4F0E-99D0-5BAEC7F9F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2513FE-FBFA-4DB1-BE6F-57357E2E6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D9D24-4D1D-49F6-8F5B-7C60B8C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1ED57-3D37-4F29-B429-85D2277D5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38414E-8C33-4871-B00E-1105268CF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F54A8C-5E53-4ACF-9D0E-FEF832DEA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1416B-7C6D-4A2A-B868-C3F51683A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D56647-02EE-43B3-8CF9-350CCA0C7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D761DE-0C4F-42E2-AE8A-2C45E0273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2B1B3-798A-4CDD-BC7A-3019DC303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A0AC6C-9A4E-434C-A028-F58D7E481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2AE9CA-4266-4FBE-BD68-9054F435E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1F5E69-9F4D-4AB8-8A44-E9FB0C5A3B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74BB36-D7DE-4734-9678-AB1DE9ADF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ECA77-4ABC-43E0-904B-4A99B1A1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90743-2778-48DB-828B-00510110D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3AF94-86A3-4F8E-B45F-CAD6C37C9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62326-16A7-48FF-B376-E86696994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436D6C-A730-4041-9E54-1779EEF7A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5640A0-3AF9-4AB5-BD93-A3FB2A20B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DF99EF-F6BF-4106-8ED5-FA2414B11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FF0F8-44F1-477E-BDF3-049D8BCE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562CEA-A21E-4C5D-BF50-EA3599E3D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FDD12-681A-4915-B29C-EF09691AC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EAB271-327D-4063-9B14-94ACCEF73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9BB0AF-87C7-4280-AE61-51DD628E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8E5D9A-341F-4D4C-A5F0-55D052B44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3C169-3FEA-4BE0-90BD-AB3D44711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34B69-2BAF-49D2-AC1C-43B5595D3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6ADABE7-48B8-4B57-AA4F-FCBB22B3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28D320-A855-43AF-A449-21BB2049E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38E5DF-E2DD-4A6E-8D57-2EE9D3AC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C151B-E664-46DA-AC83-8DC123F50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C7666-EA09-4510-BEE2-86799099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5AEEA6-E261-46DA-8484-E5039716D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9F781D-1C45-4547-A49D-7F5501ECF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306864-7D2C-451F-82A7-EA0705761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8D61E-3525-4A51-A4DF-7D0F2EF6D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0A1083-7EA9-4C07-B235-9217B24BA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67B8-C40C-4474-9D15-64FB285E4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38EB3B-00DC-426C-8015-5B39B520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47EE7B-F436-4946-81CC-449B774FC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9BCCB7-0776-4EB5-95BE-086129463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892D8A-34C3-4073-9D55-6FAB447B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6741D83-2CBC-44BE-BC18-3C34694E4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3ED24A-B1DB-41E7-8763-5B7A9A293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8681C0-D44F-4210-BEB1-630A7512A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F8B960-9244-48F9-AF83-B4273F6DC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BBA63C-B87E-4EAD-B27A-CBAB64EE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C01963-1F52-4057-827C-1327886C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48A0-B42E-46DA-979D-33327B6E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86CDBE-100C-40F6-B377-F1A24FEC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01F10-73AA-4ACF-8E1D-13D7A6FA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9FB5F2-E48A-41FB-8F03-F75D1AAF37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46ABA-C14C-4202-9E0C-4ABCE125D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DECB4-FD16-4D04-8E3C-521303FD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6E2BF-A7F8-4155-BA02-876CB2CA32A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120F-4073-4307-BA38-3DFFB2D8FED1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067AA-6491-4DDD-9628-17063905C62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6B1E-B516-46DD-8F5B-0B5CB4AB594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prstGeom prst="pie">
            <a:avLst/>
          </a:pr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prstGeom prst="pie">
            <a:avLst/>
          </a:pr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077E-FFA0-4363-9098-B0B38C7E5314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2B399-5D42-4787-936B-03DFA56F66E8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Picture 4" descr="D:\Documents and Settings\Archie\Рабочий стол\Солнце\space01.jpg"/>
          <p:cNvPicPr/>
          <p:nvPr/>
        </p:nvPicPr>
        <p:blipFill>
          <a:blip r:embed="rId1"/>
          <a:stretch/>
        </p:blipFill>
        <p:spPr>
          <a:xfrm>
            <a:off x="0" y="-39600"/>
            <a:ext cx="6897600" cy="6897600"/>
          </a:xfrm>
          <a:prstGeom prst="rect">
            <a:avLst/>
          </a:prstGeom>
          <a:ln w="0">
            <a:noFill/>
          </a:ln>
        </p:spPr>
      </p:pic>
      <p:pic>
        <p:nvPicPr>
          <p:cNvPr id="262" name="Заголовок 1" descr=""/>
          <p:cNvPicPr/>
          <p:nvPr/>
        </p:nvPicPr>
        <p:blipFill>
          <a:blip r:embed="rId2"/>
          <a:stretch/>
        </p:blipFill>
        <p:spPr>
          <a:xfrm>
            <a:off x="420840" y="3200400"/>
            <a:ext cx="6838920" cy="244476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28760" y="1071720"/>
            <a:ext cx="6480000" cy="17524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5 клас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итель Дельмухаметова Л.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МАОУ СОШ №11, г. Калининград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5" name="Picture 2" descr="D:\Documents and Settings\Archie\Рабочий стол\Солнце\Gingko-Blaetter.jpg"/>
          <p:cNvPicPr/>
          <p:nvPr/>
        </p:nvPicPr>
        <p:blipFill>
          <a:blip r:embed="rId1"/>
          <a:stretch/>
        </p:blipFill>
        <p:spPr>
          <a:xfrm>
            <a:off x="1285920" y="1714680"/>
            <a:ext cx="6508800" cy="48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Гимн Солнцу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3857400" y="1599840"/>
            <a:ext cx="471492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осходит - и все оживает,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ходит и все умирае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357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Ты - жизни мерило и первопричина ее..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8" name="Picture 2" descr="D:\Documents and Settings\Archie\Рабочий стол\Солнце\5091.jpg"/>
          <p:cNvPicPr/>
          <p:nvPr/>
        </p:nvPicPr>
        <p:blipFill>
          <a:blip r:embed="rId1"/>
          <a:stretch/>
        </p:blipFill>
        <p:spPr>
          <a:xfrm>
            <a:off x="214200" y="1714680"/>
            <a:ext cx="357192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ыписать, какую роль играет Солнце в жизни нашей планеты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начение Солнц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олнце - главный источник энергии (света и тепла) на Земл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приводит в движение огромные массы воздуха (образование ветра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Энергия Солнца вызывает круговорот воды в природ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Смена времен года и климат обусловлены распределением солнечной энергии на земном шаре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80000"/>
              </a:lnSpc>
              <a:spcBef>
                <a:spcPts val="524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ff"/>
                </a:solidFill>
                <a:latin typeface="Arial"/>
              </a:rPr>
              <a:t>Благодаря Солнцу развиваются и живут организмы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инквейн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2 прилагательных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3 глагол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предложени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1 существительное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Овал 3"/>
          <p:cNvSpPr/>
          <p:nvPr/>
        </p:nvSpPr>
        <p:spPr>
          <a:xfrm>
            <a:off x="3143160" y="3429000"/>
            <a:ext cx="2143080" cy="2071800"/>
          </a:xfrm>
          <a:prstGeom prst="ellipse">
            <a:avLst/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тались ли вопросы, на которые вы не нашли ответ в учебник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lnSpc>
                <a:spcPct val="90000"/>
              </a:lnSpc>
              <a:spcBef>
                <a:spcPts val="700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lnSpc>
                <a:spcPct val="90000"/>
              </a:lnSpc>
              <a:spcBef>
                <a:spcPts val="4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5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18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Хочу узнать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це и планет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Picture 2" descr="C:\Users\HP\Desktop\Новая папка\1255179736_1003.jpg"/>
          <p:cNvPicPr/>
          <p:nvPr/>
        </p:nvPicPr>
        <p:blipFill>
          <a:blip r:embed="rId1"/>
          <a:stretch/>
        </p:blipFill>
        <p:spPr>
          <a:xfrm>
            <a:off x="34920" y="1857240"/>
            <a:ext cx="903780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14256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Размеры звезд. Солнце – карлик.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2" descr="C:\Users\HP\Desktop\Новая папка\1255179744_1004.jpg"/>
          <p:cNvPicPr/>
          <p:nvPr/>
        </p:nvPicPr>
        <p:blipFill>
          <a:blip r:embed="rId1"/>
          <a:stretch/>
        </p:blipFill>
        <p:spPr>
          <a:xfrm>
            <a:off x="642960" y="1285920"/>
            <a:ext cx="78883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Мир звезд. За страницами учебника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от Солнца до Земли 150 000000 (150 млн.) км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Расстояние между звездами неудобно измерять в километрах, поэтому астрономы придумали единицу длины «световой год». Это путь, который проходит свет за один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02120" indent="-36720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света – 300 000 км в секунду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ир звезд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 год свет преодолевает 10 000000000000 (10 триллионов)  километров. Это и есть световой год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вет от Солнца до Земли доходит за 8 минут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9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Picture 2" descr="C:\Users\HP\Desktop\Новая папка\8740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43240" cy="31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Организационный момент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" indent="53640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Если все под рукой, работа движется реко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олнеч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0" name="Picture 2" descr="C:\Users\HP\Desktop\Новая папка\Solnce.jpg"/>
          <p:cNvPicPr/>
          <p:nvPr/>
        </p:nvPicPr>
        <p:blipFill>
          <a:blip r:embed="rId1"/>
          <a:stretch/>
        </p:blipFill>
        <p:spPr>
          <a:xfrm>
            <a:off x="285840" y="1357200"/>
            <a:ext cx="4808520" cy="350064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3" descr="C:\Users\HP\Desktop\Новая папка\солнечное.jpg"/>
          <p:cNvPicPr/>
          <p:nvPr/>
        </p:nvPicPr>
        <p:blipFill>
          <a:blip r:embed="rId2"/>
          <a:stretch/>
        </p:blipFill>
        <p:spPr>
          <a:xfrm>
            <a:off x="5143680" y="1357200"/>
            <a:ext cx="3833640" cy="323244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4" descr="C:\Users\HP\Desktop\Новая папка\i13081076115551181641.jpg"/>
          <p:cNvPicPr/>
          <p:nvPr/>
        </p:nvPicPr>
        <p:blipFill>
          <a:blip r:embed="rId3"/>
          <a:stretch/>
        </p:blipFill>
        <p:spPr>
          <a:xfrm>
            <a:off x="5143680" y="4643280"/>
            <a:ext cx="3859200" cy="25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Лунное затмени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334" name="Picture 2" descr="C:\Users\HP\Desktop\Новая папка\1002081_0534_002.jpg"/>
          <p:cNvPicPr/>
          <p:nvPr/>
        </p:nvPicPr>
        <p:blipFill>
          <a:blip r:embed="rId1"/>
          <a:stretch/>
        </p:blipFill>
        <p:spPr>
          <a:xfrm>
            <a:off x="285840" y="1285920"/>
            <a:ext cx="6786360" cy="342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" descr="C:\Users\HP\Desktop\Новая папка\унное.jpg"/>
          <p:cNvPicPr/>
          <p:nvPr/>
        </p:nvPicPr>
        <p:blipFill>
          <a:blip r:embed="rId2"/>
          <a:stretch/>
        </p:blipFill>
        <p:spPr>
          <a:xfrm>
            <a:off x="6107040" y="4143240"/>
            <a:ext cx="303696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Задач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just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лько лет понадобилось бы человеку, чтобы пешком дойти до Солнц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8" name="Picture 2" descr="C:\Users\HP\Desktop\Новая папка\016.jpg"/>
          <p:cNvPicPr/>
          <p:nvPr/>
        </p:nvPicPr>
        <p:blipFill>
          <a:blip r:embed="rId1"/>
          <a:stretch/>
        </p:blipFill>
        <p:spPr>
          <a:xfrm>
            <a:off x="4357800" y="3143160"/>
            <a:ext cx="4649760" cy="3414960"/>
          </a:xfrm>
          <a:prstGeom prst="rect">
            <a:avLst/>
          </a:prstGeom>
          <a:ln w="0">
            <a:noFill/>
          </a:ln>
        </p:spPr>
      </p:pic>
      <p:sp>
        <p:nvSpPr>
          <p:cNvPr id="339" name="Стрелка влево 5"/>
          <p:cNvSpPr/>
          <p:nvPr/>
        </p:nvSpPr>
        <p:spPr>
          <a:xfrm>
            <a:off x="3286080" y="4357800"/>
            <a:ext cx="1571760" cy="1143000"/>
          </a:xfrm>
          <a:prstGeom prst="leftArrow">
            <a:avLst>
              <a:gd name="adj1" fmla="val 50000"/>
              <a:gd name="adj2" fmla="val 50007"/>
            </a:avLst>
          </a:prstGeom>
          <a:solidFill>
            <a:srgbClr val="6ea0b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12-конечная звезда 6"/>
          <p:cNvSpPr/>
          <p:nvPr/>
        </p:nvSpPr>
        <p:spPr>
          <a:xfrm>
            <a:off x="571680" y="3929040"/>
            <a:ext cx="2286000" cy="2143080"/>
          </a:xfrm>
          <a:prstGeom prst="pie">
            <a:avLst/>
          </a:prstGeom>
          <a:solidFill>
            <a:srgbClr val="ffff00"/>
          </a:solidFill>
          <a:ln w="19080">
            <a:solidFill>
              <a:srgbClr val="4f74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полнительные данны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корость пешехода – 5 км/ч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ловек двигается 8 часов в сутки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В году 365 дней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У каждой звезды своя история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457200" y="1600200"/>
            <a:ext cx="24717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-50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егенда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дач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5" name="Picture 2" descr="C:\Users\HP\Desktop\Новая папка\2828.jpg"/>
          <p:cNvPicPr/>
          <p:nvPr/>
        </p:nvPicPr>
        <p:blipFill>
          <a:blip r:embed="rId1"/>
          <a:stretch/>
        </p:blipFill>
        <p:spPr>
          <a:xfrm>
            <a:off x="2857680" y="1500120"/>
            <a:ext cx="6252840" cy="500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8" name="Picture 2" descr="C:\Users\HP\Desktop\Новая папка\heic0514a.jpg"/>
          <p:cNvPicPr/>
          <p:nvPr/>
        </p:nvPicPr>
        <p:blipFill>
          <a:blip r:embed="rId1"/>
          <a:stretch/>
        </p:blipFill>
        <p:spPr>
          <a:xfrm>
            <a:off x="0" y="-800280"/>
            <a:ext cx="9572760" cy="765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115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Без повторения нет глубины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28400" y="1785600"/>
            <a:ext cx="7467480" cy="43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5080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то объединяет этих людей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5080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Box 3"/>
          <p:cNvSpPr/>
          <p:nvPr/>
        </p:nvSpPr>
        <p:spPr>
          <a:xfrm>
            <a:off x="6500880" y="1214280"/>
            <a:ext cx="264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Г. Ланда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9" name="Picture 2" descr="D:\Documents and Settings\Archie\Рабочий стол\Солнце\img5.gif"/>
          <p:cNvPicPr/>
          <p:nvPr/>
        </p:nvPicPr>
        <p:blipFill>
          <a:blip r:embed="rId1"/>
          <a:stretch/>
        </p:blipFill>
        <p:spPr>
          <a:xfrm>
            <a:off x="1452600" y="2357280"/>
            <a:ext cx="176220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3" descr="D:\Documents and Settings\Archie\Рабочий стол\Солнце\img7.jpeg"/>
          <p:cNvPicPr/>
          <p:nvPr/>
        </p:nvPicPr>
        <p:blipFill>
          <a:blip r:embed="rId2"/>
          <a:stretch/>
        </p:blipFill>
        <p:spPr>
          <a:xfrm>
            <a:off x="5214960" y="2357280"/>
            <a:ext cx="1366920" cy="2000520"/>
          </a:xfrm>
          <a:prstGeom prst="rect">
            <a:avLst/>
          </a:prstGeom>
          <a:ln w="0">
            <a:noFill/>
          </a:ln>
        </p:spPr>
      </p:pic>
      <p:sp>
        <p:nvSpPr>
          <p:cNvPr id="271" name="TextBox 6"/>
          <p:cNvSpPr/>
          <p:nvPr/>
        </p:nvSpPr>
        <p:spPr>
          <a:xfrm>
            <a:off x="1571760" y="442908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ристоте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Box 7"/>
          <p:cNvSpPr/>
          <p:nvPr/>
        </p:nvSpPr>
        <p:spPr>
          <a:xfrm>
            <a:off x="5286240" y="4429080"/>
            <a:ext cx="171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толеме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623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2.       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На пьедестале памятника Копернику в Варшаве высечены слова: «Остановивший Солнце, сдвинувший Землю». Объясните фраз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5" name="Picture 2" descr="D:\Documents and Settings\Archie\Рабочий стол\Солнце\img9.jpeg"/>
          <p:cNvPicPr/>
          <p:nvPr/>
        </p:nvPicPr>
        <p:blipFill>
          <a:blip r:embed="rId1"/>
          <a:stretch/>
        </p:blipFill>
        <p:spPr>
          <a:xfrm>
            <a:off x="5214960" y="3071880"/>
            <a:ext cx="2774880" cy="30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54899a"/>
                </a:solidFill>
                <a:latin typeface="Arial"/>
              </a:rPr>
              <a:t>3</a:t>
            </a:r>
            <a:r>
              <a:rPr b="0" lang="ru-RU" sz="2800" spc="-1" strike="noStrike">
                <a:solidFill>
                  <a:srgbClr val="54899a"/>
                </a:solidFill>
                <a:latin typeface="Arial"/>
              </a:rPr>
              <a:t>.       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то сказал такие слова: «Каждая звезда – обширный мир, подобный солнечному, со своими планетами, на которых обитают разумные существа»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Picture 2" descr="C:\Users\HP\Desktop\Новая папка\77246869_3937309_3_obcy_105.jpg"/>
          <p:cNvPicPr/>
          <p:nvPr/>
        </p:nvPicPr>
        <p:blipFill>
          <a:blip r:embed="rId1"/>
          <a:stretch/>
        </p:blipFill>
        <p:spPr>
          <a:xfrm>
            <a:off x="4857840" y="3643200"/>
            <a:ext cx="4174920" cy="31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1" name="Picture 2" descr="D:\Documents and Settings\Archie\Рабочий стол\Солнце\muzhchina-2.jpg"/>
          <p:cNvPicPr/>
          <p:nvPr/>
        </p:nvPicPr>
        <p:blipFill>
          <a:blip r:embed="rId1"/>
          <a:stretch/>
        </p:blipFill>
        <p:spPr>
          <a:xfrm>
            <a:off x="0" y="-142920"/>
            <a:ext cx="9144000" cy="73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ечная система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pSp>
        <p:nvGrpSpPr>
          <p:cNvPr id="283" name="Group 2"/>
          <p:cNvGrpSpPr/>
          <p:nvPr/>
        </p:nvGrpSpPr>
        <p:grpSpPr>
          <a:xfrm>
            <a:off x="500040" y="2143080"/>
            <a:ext cx="8208720" cy="2879280"/>
            <a:chOff x="500040" y="2143080"/>
            <a:chExt cx="8208720" cy="2879280"/>
          </a:xfrm>
        </p:grpSpPr>
        <p:sp>
          <p:nvSpPr>
            <p:cNvPr id="284" name="Rectangle 3"/>
            <p:cNvSpPr/>
            <p:nvPr/>
          </p:nvSpPr>
          <p:spPr>
            <a:xfrm>
              <a:off x="539280" y="2143080"/>
              <a:ext cx="27770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Облако газа и пыли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4"/>
            <p:cNvSpPr/>
            <p:nvPr/>
          </p:nvSpPr>
          <p:spPr>
            <a:xfrm>
              <a:off x="4169520" y="2150640"/>
              <a:ext cx="4539240" cy="68976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смический «строительный мусор»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5"/>
            <p:cNvSpPr/>
            <p:nvPr/>
          </p:nvSpPr>
          <p:spPr>
            <a:xfrm>
              <a:off x="500040" y="3274200"/>
              <a:ext cx="1265760" cy="66960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b3b3b"/>
                  </a:solidFill>
                  <a:latin typeface="Arial"/>
                </a:rPr>
                <a:t>Солнце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6"/>
            <p:cNvSpPr/>
            <p:nvPr/>
          </p:nvSpPr>
          <p:spPr>
            <a:xfrm>
              <a:off x="2103480" y="3333960"/>
              <a:ext cx="12992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план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7"/>
            <p:cNvSpPr/>
            <p:nvPr/>
          </p:nvSpPr>
          <p:spPr>
            <a:xfrm>
              <a:off x="4735080" y="3269880"/>
              <a:ext cx="12826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коме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8"/>
            <p:cNvSpPr/>
            <p:nvPr/>
          </p:nvSpPr>
          <p:spPr>
            <a:xfrm>
              <a:off x="3458880" y="2451960"/>
              <a:ext cx="621360" cy="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9"/>
            <p:cNvSpPr/>
            <p:nvPr/>
          </p:nvSpPr>
          <p:spPr>
            <a:xfrm>
              <a:off x="6887160" y="3346200"/>
              <a:ext cx="158688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астероид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10"/>
            <p:cNvSpPr/>
            <p:nvPr/>
          </p:nvSpPr>
          <p:spPr>
            <a:xfrm>
              <a:off x="4586040" y="4372920"/>
              <a:ext cx="140832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cc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Rectangle 11"/>
            <p:cNvSpPr/>
            <p:nvPr/>
          </p:nvSpPr>
          <p:spPr>
            <a:xfrm>
              <a:off x="6900480" y="4372920"/>
              <a:ext cx="1671840" cy="64944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b3b3b"/>
                  </a:solidFill>
                  <a:latin typeface="Arial"/>
                </a:rPr>
                <a:t>метеориты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2"/>
            <p:cNvSpPr/>
            <p:nvPr/>
          </p:nvSpPr>
          <p:spPr>
            <a:xfrm flipH="1">
              <a:off x="1154160" y="2852640"/>
              <a:ext cx="601560" cy="3488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3"/>
            <p:cNvSpPr/>
            <p:nvPr/>
          </p:nvSpPr>
          <p:spPr>
            <a:xfrm>
              <a:off x="2301840" y="2892960"/>
              <a:ext cx="389880" cy="3888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4"/>
            <p:cNvSpPr/>
            <p:nvPr/>
          </p:nvSpPr>
          <p:spPr>
            <a:xfrm flipH="1">
              <a:off x="5362920" y="2932920"/>
              <a:ext cx="1087560" cy="196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5"/>
            <p:cNvSpPr/>
            <p:nvPr/>
          </p:nvSpPr>
          <p:spPr>
            <a:xfrm>
              <a:off x="6649200" y="2953080"/>
              <a:ext cx="968400" cy="248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6"/>
            <p:cNvSpPr/>
            <p:nvPr/>
          </p:nvSpPr>
          <p:spPr>
            <a:xfrm>
              <a:off x="5333400" y="394776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7"/>
            <p:cNvSpPr/>
            <p:nvPr/>
          </p:nvSpPr>
          <p:spPr>
            <a:xfrm>
              <a:off x="7796520" y="4003920"/>
              <a:ext cx="6480" cy="376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Солнце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523880" y="2104920"/>
          <a:ext cx="6096240" cy="323532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Знаю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Хочу узнать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знал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6ea0b0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bf0f2"/>
                    </a:solidFill>
                  </a:tcPr>
                </a:tc>
              </a:tr>
              <a:tr h="36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5dfe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Franklin Gothic Book"/>
              </a:rPr>
              <a:t>Читаем и понимаем даже то, что не написано!</a:t>
            </a:r>
            <a:endParaRPr b="0" lang="en-US" sz="41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6840" y="197496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Стр. 48 до слов «Мир звезд необычайно разнообразен…»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Заполняем третью колонку текста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7T14:07:22Z</dcterms:created>
  <dc:creator>Archie</dc:creator>
  <dc:description/>
  <dc:language>en-US</dc:language>
  <cp:lastModifiedBy>КарМаН</cp:lastModifiedBy>
  <dcterms:modified xsi:type="dcterms:W3CDTF">2012-04-27T13:09:11Z</dcterms:modified>
  <cp:revision>33</cp:revision>
  <dc:subject/>
  <dc:title>Солнце</dc:title>
</cp:coreProperties>
</file>