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17F7-4FB0-4524-B445-2A49BEC57E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1C9D-783F-4573-B333-F60085CF1764}" type="slidenum">
              <a:rPr b="0" lang="ru-RU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ллелиз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аследственные задатки (гены) Мендель предложил обозначать большими буквами латинского алфавита, например, доминантный — большой — А, рецессивный — маленькой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аждый организм один задаток (ген) получает от материнского организма, а другой — от отцовского, следовательно, они являются парами. Явление парности генов называют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измо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парные гены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ьным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каждый ген пары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ью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Например, желтая и зеленая окраска семян гороха являются двумя аллелями (соответственно, доминантный аллель и рецессивный аллель) одного ген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ножественный аллелиз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4. Расхождение хромосом при мейозе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едположим, что соматические клетки несут всего одну пару гомологичных хромосом, содержащих гены, определяющие окраску семян у гороха. Обозначим ген, определяющий желтую окраску, буквой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зеленую —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оскольку Мендель работал с чистыми линиями, оба организма — гомозиготны, то есть несут два одинаковых аллеля гена окраски семян (соответственно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. Во время мейоза число хромосом уменьшается в два раза и в каждую гамету попадает только одна хромосома. Но так как обе хромосомы несут одинаковые аллели, все гаметы одного организмы будут содержать одну хромосом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другого —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енетическая запись осуществляется следующим образом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ано: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ен      Признак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Желт.  Зелен.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 — желтые семена;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ам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 — зеленые семена;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Р АА х аа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          Аа   х 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Желт.  Зелен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Желт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Желт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а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1 = ?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       АА + 2Аа +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Желт.     Желт.      Зелен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и оплодотворении гаметы сливаются, и их хромосомы объединяются в одной зиготе. Получившийся от скрещивания гибрид становится гетерозиготным, так как его клетки будут иметь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,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о есть оба аллеля одного и того же гена. У гибридного организма во время мейоза хромосомы расходятся в разные клетки и образуется два типа гамет — 50% гамет будет нести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50% —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Оплодотворение — процесс случайный и равновероятный, то есть любой сперматозоид может оплодотворить любую клетку. А поскольку образовалось два типа сперматозоидов и два типа яйцеклеток, возможно возникновение четырех типов зигот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з приведенной схемы видно, что образуется три типа зигот. Половина из них — гетерозиготы (несут гены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, 1/4 — гомозиготы по доминантному признаку (несут два гена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1/4 — гомозиготы по рецессивному признаку (несут два гена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. Причем желтосеменные растения одинаковы по фенотипу, но различны по генотипу: 1/3 являются гомозиготными по доминантному признаку и 2/3 — гетерозиготн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аким образом, учитывая цитологические основы, второй закон Менделя можно сформулировать следующим образом: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при скрещивании гибридов первого поколения между собой (двух гетерозиготных особей) во втором поколении наблюдается расщепление в определенном числовом соотношении: по фенотипу 3:1, по генотипу 1:2:1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еполное доминировани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Явление доминирования не абсолютно. Сам Мендель столкнулся с тем, что при скрещивании крупнолистного сорта гороха с мелколистным гибриды первого поколения не повторяли признак ни одного из родительских растений. Все они имели листья средней величины, то есть выражение признака у гибридов носит промежуточный характер с большим или меньшим уклонением в сторону одного из родительски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6. Наследование окраски плода у земляники при явлении неполного доминирова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зже выяснилось, что неполное доминирование (или промежуточное проявление признака) характерно для многих признаков растений и животных. Именно такой характер имеет наследование окраски цветка у львиного зева, окраски оперения у кур, шерсти у крупного рогатого скота и овец и т.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наследование окраски плода у земляники (рис. 326). При скрещивании гомозиготных красноплодных и белоплодных сортов земляники, все первое поколение гибридов получается розовоплодным. При скрещивании    гибридов    получае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сщепление в соотношении соотношении 1 красноплодная: 2 розовоплодные: 1 белоплодная. Характерно то, что при неполном доминировании расщепление по генотипу соответствует расщеплению по фенотипу, так как гетерозиготы фенотипически отличаются от гомозиго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ющее скрещивание. Генотип гороха с зелеными семенами может быть только аа. Горох с желтыми семенами может иметь генотип АА или Аа. Для того, чтобы определить генотип особи, обладающей доминантными признаками, проводят анализирующее скрещивание — скрещивают с особью, гомозиготной по рецессивным признак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омозиготна (АА), то потомство от такого скрещивания будет иметь желтые семена и генотип Аа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10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етерозиготна (Аа), то она образует два типа гамет и 50% потомства будет иметь желтые семена и генотип Аа, а 50% — зеленые семена и генотип аа: Аа х аа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50% Аа, 5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гибридное скрещи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рганизмы отличаются друг от друга по многим признакам. Поэтому, установив закономерности наследования одной пары признаков, Г.Мендель перешел к изучению наследования двух (и более) пар альтернативны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Дигибридны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называют скрещивание двух организмов, отличающихся друг от друга по двум парам альтернативных признак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ля дигибридного скрещивания Мендель брал гомозиготные растения гороха, отличающиеся по окраске семян (желтые и зеленые) и форме семян (гладкие и морщинистые). Желт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гладк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семян — доминантные признаки, зелен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морщинист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— рецессивные признак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рещивая растение с желтыми и гладкими семенами с растением с зелеными и морщинистыми семенами, Мендель получил единообразное гибридное поколение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с желтыми и гладкими семенами (рис. 325). От самоопыления 15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было получено 556 семян, из них 315 желтых гладких, 101 желтое морщинистое, 108 зеленых гладких и 32 зеленых морщинист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я полученное потомство, Мендель, прежде всего, обратил внимание на то, что, наряду с сочетаниями признаков исходных сортов (желтые гладкие и зеленые морщинистые семена), при дигибридном скрещивании появляются и новые сочетания признаков (желтые морщинистые и зеленые гладкие семена).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Он обратил внимание на то, что расщепление по каждому отдельно взятому признаку соответствует расщеплению при моногибридном скрещивани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Из 556 семян 423 были гладкими и 133 морщинистыми (соотношение 3:1), 416 семян имели желтую окраску, а 140 — зеленую (соотношение 3:1). Однако Менделя интересовал вопрос: зависит ли расщепление одной пары признаков (гладкие и морщинистые семена) от расщепления другой пары (желая окраска семян и зеленая) или эти пары тесно связаны между собо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5. Дигибридное скрещивание растений гороха с желтыми гладкими и зелеными морщинистыми семенам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 количественных соотношений групп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, имеющих определенное сочетание признаков, привело к такому заключению: расщепление по фенотипу при скрещивании дигетерозигот происходит в соотношении 9:3:3:1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9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доминантными признаками (гладкие желтые семена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желтыми (доминантный) и морщинистыми (рецессив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зелеными (рецессивный) и гладкими (доминант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рецессивными признаками (морщинистые семена зеленого цвета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при моногибридном скрещивании родительские  организмы  отличаются по одной паре признаков (21) (желтые и зеленые семена) и дают во втором поколении  дв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нотипа в соотношении 3+1, то при дигибридном они отличаются по двум парам признаков (22) и дают во втором поколении четыре фенотипа в соотношении (3+1)2. Легко посчитать, сколько фенотипов и в каком соотношении будет образовываться во втором поколении при тригибридном скрещивании: (23). — восемь фенотипов в соотношении (3+1)3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Четыре фенотипа скрывают девять разных генотипов: 1 — ААBB; 2 — AABb; 1 — AAbb; 2 — AaBB; 4 — AaBb; 2 — Aabb; 1 — aaBB; 2 — aaBb; 1 — aabb. Если расщепление по генотипу в F2 при моногибридном поколении было 1:2:1, то есть было три разных генотипа (31), то при при дигибридном образуется 9 разных генотипов — 32, при тригибридном скрещивании образуется 33 — 27 разных генотип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ендель пришел к выводу, что расщепление по одной паре признаков не связано с расщеплением по другой паре. Для семян гибридов характерны не только сочетания признаков родительских растений (желтое гладкое семя и зеленое морщиностое семя), но и возникновение новых комбинаций признаков (желтое морщинистое семя и зеленое гладкое сем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веденное исследование позволило сформулировать закон независимого комбинирования генов (третий закон Менделя): при скрещивании двух гетерозиготных особей, отличающихся друг от друга по двум (и более) парам альтернативных признаков, гены и соответствующие им признаки наследуются независимо друг от друга в соотношении 3:1 и комбинируются во всех возможных сочетания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 справедлив только для тех случаев, когда анализируемые гены находятся в разных парах гомологичных хромосо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Цитологические основ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ьего закона Мендел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ен, обусловливающий развитие желтой окраски семян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зеленой окраск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ладкая форма семен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морщинистая. Скрещиваются гибриды первого поколения, имеющие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В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ри образовании гамет, из каждой пары аллельных генов в гамету попадает только один, при этом в результате случайности расхождения хромосом в первом делении мейоз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попасть в одну гамет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объединиться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Таким образом, каждый организм образует четыре сорта гамет в одинаковом количестве (по 25 %):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о время оплодотворения каждый из четырех типов сперматозоидов может оплодотворить любую из четырех типов яйцеклеток. Все возможные сочетания мужских и женских гамет легко установить с помощью решетки Пеннета. При анализе результатов видно, что по фенотипу потомство делится на четыре группы: 9 желтых гладких: 3 желтых морщинистых: 3 зеленых гладких: 1 желтая морщинистая. Если проанализировать результаты расщепления по каждой паре признаков в отдельности, то получится, что отношение числа желтых семян к числу зеленых — 3:1, отношение числа гладких к числу морщинистых — 3:1. Таким образом, при дигибридном скрещивании каждая пара признаков при расщеплении в потомстве ведет себя так же, как при моногибридном скрещивании, т.е. независимо от другой пары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D229-06CD-46FE-8F6E-A96477F876EB}" type="slidenum">
              <a:rPr b="0" lang="ru-RU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з приведенной схемы видно, что образуется три типа зигот. Неполное доминировани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Явление доминирования не абсолютно. Сам Мендель столкнулся с тем, что при скрещивании крупнолистного сорта гороха с мелколистным гибриды первого поколения не повторяли признак ни одного из родительских растений. Все они имели листья средней величины, то есть выражение признака у гибридов носит промежуточный характер с большим или меньшим уклонением в сторону одного из родительски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6. Наследование окраски плода у земляники при явлении неполного доминирова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зже выяснилось, что неполное доминирование (или промежуточное проявление признака) характерно для многих признаков растений и животных. Именно такой характер имеет наследование окраски цветка у львиного зева, окраски оперения у кур, шерсти у крупного рогатого скота и овец и т.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наследование окраски плода у земляники (рис. 326). При скрещивании гомозиготных красноплодных и белоплодных сортов земляники, все первое поколение гибридов получается розовоплодным. При скрещивании    гибридов    получае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сщепление в соотношении соотношении 1 красноплодная: 2 розовоплодные: 1 белоплодная. Характерно то, что при неполном доминировании расщепление по генотипу соответствует расщеплению по фенотипу, так как гетерозиготы фенотипически отличаются от гомозиго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ющее скрещивание. Генотип гороха с зелеными семенами может быть только аа. Горох с желтыми семенами может иметь генотип АА или Аа. Для того, чтобы определить генотип особи, обладающей доминантными признаками, проводят анализирующее скрещивание — скрещивают с особью, гомозиготной по рецессивным признак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омозиготна (АА), то потомство от такого скрещивания будет иметь желтые семена и генотип Аа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10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етерозиготна (Аа), то она образует два типа гамет и 50% потомства будет иметь желтые семена и генотип Аа, а 50% — зеленые семена и генотип аа: Аа х аа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50% Аа, 5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гибридное скрещи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рганизмы отличаются друг от друга по многим признакам. Поэтому, установив закономерности наследования одной пары признаков, Г.Мендель перешел к изучению наследования двух (и более) пар альтернативны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Дигибридны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называют скрещивание двух организмов, отличающихся друг от друга по двум парам альтернативных признак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ля дигибридного скрещивания Мендель брал гомозиготные растения гороха, отличающиеся по окраске семян (желтые и зеленые) и форме семян (гладкие и морщинистые). Желт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гладк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семян — доминантные признаки, зелен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морщинист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— рецессивные признак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рещивая растение с желтыми и гладкими семенами с растением с зелеными и морщинистыми семенами, Мендель получил единообразное гибридное поколение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с желтыми и гладкими семенами (рис. 325). От самоопыления 15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было получено 556 семян, из них 315 желтых гладких, 101 желтое морщинистое, 108 зеленых гладких и 32 зеленых морщинист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я полученное потомство, Мендель, прежде всего, обратил внимание на то, что, наряду с сочетаниями признаков исходных сортов (желтые гладкие и зеленые морщинистые семена), при дигибридном скрещивании появляются и новые сочетания признаков (желтые морщинистые и зеленые гладкие семена).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Он обратил внимание на то, что расщепление по каждому отдельно взятому признаку соответствует расщеплению при моногибридном скрещивани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Из 556 семян 423 были гладкими и 133 морщинистыми (соотношение 3:1), 416 семян имели желтую окраску, а 140 — зеленую (соотношение 3:1). Однако Менделя интересовал вопрос: зависит ли расщепление одной пары признаков (гладкие и морщинистые семена) от расщепления другой пары (желая окраска семян и зеленая) или эти пары тесно связаны между собо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5. Дигибридное скрещивание растений гороха с желтыми гладкими и зелеными морщинистыми семенам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 количественных соотношений групп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, имеющих определенное сочетание признаков, привело к такому заключению: расщепление по фенотипу при скрещивании дигетерозигот происходит в соотношении 9:3:3:1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9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доминантными признаками (гладкие желтые семена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желтыми (доминантный) и морщинистыми (рецессив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зелеными (рецессивный) и гладкими (доминант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рецессивными признаками (морщинистые семена зеленого цвета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при моногибридном скрещивании родительские  организмы  отличаются по одной паре признаков (21) (желтые и зеленые семена) и дают во втором поколении  дв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нотипа в соотношении 3+1, то при дигибридном они отличаются по двум парам признаков (22) и дают во втором поколении четыре фенотипа в соотношении (3+1)2. Легко посчитать, сколько фенотипов и в каком соотношении будет образовываться во втором поколении при тригибридном скрещивании: (23). — восемь фенотипов в соотношении (3+1)3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Четыре фенотипа скрывают девять разных генотипов: 1 — ААBB; 2 — AABb; 1 — AAbb; 2 — AaBB; 4 — AaBb; 2 — Aabb; 1 — aaBB; 2 — aaBb; 1 — aabb. Если расщепление по генотипу в F2 при моногибридном поколении было 1:2:1, то есть было три разных генотипа (31), то при при дигибридном образуется 9 разных генотипов — 32, при тригибридном скрещивании образуется 33 — 27 разных генотип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ендель пришел к выводу, что расщепление по одной паре признаков не связано с расщеплением по другой паре. Для семян гибридов характерны не только сочетания признаков родительских растений (желтое гладкое семя и зеленое морщиностое семя), но и возникновение новых комбинаций признаков (желтое морщинистое семя и зеленое гладкое сем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веденное исследование позволило сформулировать закон независимого комбинирования генов (третий закон Менделя): при скрещивании двух гетерозиготных особей, отличающихся друг от друга по двум (и более) парам альтернативных признаков, гены и соответствующие им признаки наследуются независимо друг от друга в соотношении 3:1 и комбинируются во всех возможных сочетания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 справедлив только для тех случаев, когда анализируемые гены находятся в разных парах гомологичных хромосо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Цитологические основ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ьего закона Мендел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ен, обусловливающий развитие желтой окраски семян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зеленой окраск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ладкая форма семен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морщинистая. Скрещиваются гибриды первого поколения, имеющие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В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ри образовании гамет, из каждой пары аллельных генов в гамету попадает только один, при этом в результате случайности расхождения хромосом в первом делении мейоз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попасть в одну гамет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объединиться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Таким образом, каждый организм образует четыре сорта гамет в одинаковом количестве (по 25 %):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о время оплодотворения каждый из четырех типов сперматозоидов может оплодотворить любую из четырех типов яйцеклеток. Все возможные сочетания мужских и женских гамет легко установить с помощью решетки Пеннета. При анализе результатов видно, что по фенотипу потомство делится на четыре группы: 9 желтых гладких: 3 желтых морщинистых: 3 зеленых гладких: 1 желтая морщинистая. Если проанализировать результаты расщепления по каждой паре признаков в отдельности, то получится, что отношение числа желтых семян к числу зеленых — 3:1, отношение числа гладких к числу морщинистых — 3:1. Таким образом, при дигибридном скрещивании каждая пара признаков при расщеплении в потомстве ведет себя так же, как при моногибридном скрещивании, т.е. независимо от другой пары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9567-D387-4714-9A75-7F4DC60D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45F7-7B4B-498F-878E-E7055A65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DD99-9C56-45EE-AE01-ED67F902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125B-258B-4419-9243-D257FBB1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617E-7EF9-4AFA-BE0A-36DE2CBB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D2FE-D7DB-4BBE-85AB-F73B18C5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BB9B-BE1B-4BB9-AA17-273FC8E6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A0BC-AE6C-4DBF-AE15-6E0EF4DB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3398-DAB6-4563-9A35-7BE8A7EB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655E-7BCE-4859-BB77-23D1775F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4BC2-AD37-4DAC-BB4C-7F86F78C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68AF-105D-4B05-983B-C536490C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A10C-875F-4393-8EDE-2EC104EB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0670-17D5-4749-BCD3-FDB43505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8451-6D05-4AA7-B600-5FD71208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8B6D-33D5-4C8E-8F0A-0E9AE569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A243-7D45-4FFD-A50C-3B45BF8A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410-4288-4F5F-8ADE-BC1F03CE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F251-9504-46DB-A58B-B63D7B30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45BF-1258-47D6-8725-902FD399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8F76-7A87-412E-8EBC-DC6983B9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8849-A50B-4E68-87C4-D8127809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69FD-92A5-4399-878E-1E13C0E9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E414-78F8-4F94-94A7-813A6913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E4BA-D06A-4411-BE31-7E07FFEB82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ffffb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313A-2F1B-48C6-AB49-8DEC67DAAA5B}" type="slidenum">
              <a:rPr b="0" lang="ru-RU" sz="1400" spc="-1" strike="noStrike">
                <a:solidFill>
                  <a:srgbClr val="00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 Black"/>
              </a:rPr>
              <a:t>Моногибридное скрещивание. Раздел 3.11</a:t>
            </a:r>
            <a:endParaRPr b="1" lang="en-US" sz="5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928800" y="442908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0 класс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МОУ СОШ №11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Дельмухаметова Л.И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324000" y="1627200"/>
            <a:ext cx="5473440" cy="51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етика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Наследственност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Изменчивост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Ф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Доминантный признак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Доминантный 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Рецессивный признак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Рецессивный 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омозиготная особ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терозиготная особ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ибридологический метод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Моногибридное скрещивание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Законы Менделя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651640" y="1808280"/>
            <a:ext cx="3132000" cy="916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Может ли быть при одинаковом генотипе разный ф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6084720" y="3357720"/>
            <a:ext cx="2743200" cy="30286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61616"/>
                </a:solidFill>
                <a:latin typeface="Calibri"/>
              </a:rPr>
              <a:t>Основные</a:t>
            </a: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161616"/>
                </a:solidFill>
                <a:latin typeface="Calibri"/>
              </a:rPr>
              <a:t>понятия генетики</a:t>
            </a:r>
            <a:endParaRPr b="0" lang="en-US" sz="5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0" name="Нашивка 6"/>
          <p:cNvSpPr/>
          <p:nvPr/>
        </p:nvSpPr>
        <p:spPr>
          <a:xfrm>
            <a:off x="64296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1" name="Нашивка 7"/>
          <p:cNvSpPr/>
          <p:nvPr/>
        </p:nvSpPr>
        <p:spPr>
          <a:xfrm>
            <a:off x="114300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2" name="Нашивка 8"/>
          <p:cNvSpPr/>
          <p:nvPr/>
        </p:nvSpPr>
        <p:spPr>
          <a:xfrm>
            <a:off x="164304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3" name="Нашивка 9"/>
          <p:cNvSpPr/>
          <p:nvPr/>
        </p:nvSpPr>
        <p:spPr>
          <a:xfrm>
            <a:off x="214308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4" name="Нашивка 10"/>
          <p:cNvSpPr/>
          <p:nvPr/>
        </p:nvSpPr>
        <p:spPr>
          <a:xfrm>
            <a:off x="264312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285840" y="1000080"/>
            <a:ext cx="3286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Дать определение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214200" y="3244680"/>
            <a:ext cx="48578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Выучить к следующему уроку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643720" y="1000080"/>
            <a:ext cx="1785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Подумай!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8" name="Номер слайда 1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531B-AE91-400C-9B38-CC0B63CEB41D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42600" y="1904760"/>
            <a:ext cx="8202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Гибридологический метод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Гибридизация – скрещивание 2-х организмов, различающихся альтернативными признаками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Метод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1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BE6D-F96F-455B-80B1-1808EB48892F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93200" y="1428840"/>
            <a:ext cx="800748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— родители;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потомство, (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8b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гибриды первого поколения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8b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гибриды второго поколения);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значок скрещивания;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♂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мужская особь;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♀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женская особь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— буквами латинского алфавита обозначаются отдельно взятые наследственные признаки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Генетическая символика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4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3993-4300-4272-A2CB-28241608F615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8080" y="1857240"/>
            <a:ext cx="5662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Моногибридное скрещивание – скрещивание организмов, анализируемых по одной паре альтернативных признаков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6500880" y="1865160"/>
            <a:ext cx="2357280" cy="2421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Calibri"/>
              </a:rPr>
              <a:t>Моногибридное скрещвание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8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03EB-ACC4-4EDC-830A-4A235B0841FF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6000840" y="1643040"/>
            <a:ext cx="2928960" cy="50356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40" name="TextBox 4"/>
          <p:cNvSpPr/>
          <p:nvPr/>
        </p:nvSpPr>
        <p:spPr>
          <a:xfrm>
            <a:off x="142920" y="1500120"/>
            <a:ext cx="542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ервый закон: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 закон доминирования или закон единообразия гибридов первого поколения (доминантный признак – господствующий, рецессивный - скрытый). Доминирование – явление преобладания одного признака над другим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торой закон: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закон расщепления признаков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Законы Менделя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2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2B83-44FC-4B32-9C54-25EBD29B9DA1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4067280" y="714240"/>
            <a:ext cx="475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Соматические клетки диплоидны, в паре гомологичных хромосом находятся пара аллелей генов, контролирующие окраску горошин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одного из родителей это аллели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у другого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ри образовании гамет происходит мейоз, в гаметы попадает только один ген из пары. Все гаметы одного родителя содержат аллель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другого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136440" y="692280"/>
            <a:ext cx="3935520" cy="59054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45" name="Скругленный прямоугольник 4"/>
          <p:cNvSpPr/>
          <p:nvPr/>
        </p:nvSpPr>
        <p:spPr>
          <a:xfrm>
            <a:off x="4214880" y="2071800"/>
            <a:ext cx="4500360" cy="1000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лел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llelon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 греч. - друг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– одна из двух альтернативных форм гена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6" name="Скругленный прямоугольник 5"/>
          <p:cNvSpPr/>
          <p:nvPr/>
        </p:nvSpPr>
        <p:spPr>
          <a:xfrm>
            <a:off x="4214880" y="5143680"/>
            <a:ext cx="4500360" cy="1000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Гипотеза чистоты гамет: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гаметы "чисты", содержат только один наследственный признак из пар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-3571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1616"/>
                </a:solidFill>
                <a:latin typeface="Calibri"/>
              </a:rPr>
              <a:t>Цитологические основы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8" name="Номер слайда 7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2960-8CCD-4D55-AD87-267EC515E067}" type="slidenum">
              <a:rPr b="0" lang="ru-RU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4067280" y="765000"/>
            <a:ext cx="489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Гибриды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1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–единообразны и по фенотипу и по генотипу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Гибриды 1 поколения гетерозиготны и образуют два типа гамет – 50% гамет с аллелем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50% - с аллелем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гибридов второго поколения 1/4 зигот содержит аллели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1/2 -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1/4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гибридов второго поколения наблюдается расщепление: по фенотипу 3:1, по генотипу 1:2:1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136440" y="692280"/>
            <a:ext cx="3935520" cy="59054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51" name="Rectangle 2"/>
          <p:cNvSpPr/>
          <p:nvPr/>
        </p:nvSpPr>
        <p:spPr>
          <a:xfrm>
            <a:off x="0" y="-3571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16"/>
                </a:solidFill>
                <a:latin typeface="Calibri"/>
              </a:rPr>
              <a:t>Цитологические основы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D7E0-AD93-4823-AFEE-3435F1982E9D}" type="slidenum">
              <a:rPr b="0" lang="ru-RU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9:15:50Z</dcterms:created>
  <dc:creator>Archie</dc:creator>
  <dc:description/>
  <dc:language>en-US</dc:language>
  <cp:lastModifiedBy>КарМаН</cp:lastModifiedBy>
  <dcterms:modified xsi:type="dcterms:W3CDTF">2012-04-24T19:57:43Z</dcterms:modified>
  <cp:revision>42</cp:revision>
  <dc:subject/>
  <dc:title>Моногибридное скрещивание</dc:title>
</cp:coreProperties>
</file>