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4E5F-B9CC-45B4-AED9-33DF11AE17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0A6E-AB00-4754-A89E-40ADCFE8C901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аследственные задатки (гены) Мендель предложил обозначать большими буквами латинского алфавита, например, доминантный — большой — А, рецессивный — маленькой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аждый организм один задаток (ген) получает от материнского организма, а другой — от отцовского, следовательно, они являются парами. Явление парности генов называют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измо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парные ген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ным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каждый ген пар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ю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Например, желтая и зеленая окраска семян гороха являются двумя аллелями (соответственно, доминантный аллель и рецессивный аллель) одного ген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ножественный 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4. Расхождение хромосом при мейоз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едположим, что соматические клетки несут всего одну пару гомологичных хромосом, содержащих гены, определяющие окраску семян у гороха. Обозначим ген, определяющий желтую окраску, буквой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зеленую —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оскольку Мендель работал с чистыми линиями, оба организма — гомозиготны, то есть несут два одинаковых аллеля гена окраски семян (соответственно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Во время мейоза число хромосом уменьшается в два раза и в каждую гамету попадает только одна хромосома. Но так как обе хромосомы несут одинаковые аллели, все гаметы одного организмы будут содержать одну хромосом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другого —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етическая запись осуществляется следующим образом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ано: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      Признак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  Зелен.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желт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зелен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 АА х аа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   Аа   х 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Зелен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а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 = ?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АА + 2Аа +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   Желт.      Зеле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 оплодотворении гаметы сливаются, и их хромосомы объединяются в одной зиготе. Получившийся от скрещивания гибрид становится гетерозиготным, так как его клетки будут иметь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,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о есть оба аллеля одного и того же гена. У гибридного организма во время мейоза хромосомы расходятся в разные клетки и образуется два типа гамет — 50% гамет будет нести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50% —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Оплодотворение — процесс случайный и равновероятный, то есть любой сперматозоид может оплодотворить любую клетку. А поскольку образовалось два типа сперматозоидов и два типа яйцеклеток, возможно возникновение четырех типов зигот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Половина из них — гетерозиготы (несут гены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, 1/4 — гомозиготы по доминант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1/4 — гомозиготы по рецессив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Причем желтосеменные растения одинаковы по фенотипу, но различны по генотипу: 1/3 являются гомозиготными по доминантному признаку и 2/3 — гетерозигот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аким образом, учитывая цитологические основы, второй закон Менделя можно сформулировать следующим образом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при скрещивании гибридов первого поколения между собой (двух гетерозиготных особей) во втором поколении наблюдается расщепление в определенном числовом соотношении: по фенотипу 3:1, по генотипу 1:2:1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5341-99A7-43D7-83F4-248DB01BDED0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7AF-2120-4C8A-8789-45C2907F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3A5-9EA4-497B-A45D-0BBFC8A6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B11-1207-482E-8CA3-0462C160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93E-4778-4FA3-B800-A9FDD43D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6EE6-975F-4913-8559-8EAF58F5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3939-272E-40A2-B4A4-FF6C3A1E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3C58-9086-47BF-A1C1-FF53F693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DFEF-EADA-4404-8E28-7BC00F33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4D3E-73D0-49DB-8ED2-9BED30C8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B14D-9991-4775-83FC-0517EE99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FDE9-F4B7-4B39-B8BB-8C2C79B4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5DF-E959-49A8-BFCC-6CE82F49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E5AF-B313-4486-9414-BCBD26AB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CFCD-942D-4980-85E3-796F7DC7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8B1F-5283-4068-A357-09024711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4BEA-1983-4867-B330-1A951678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BE96-3A81-4EC2-B381-73E533DE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107-F6FD-4C3C-82AF-A26BCBF8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E5D-4271-425F-A026-3C41311A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1ED-DAC5-4C3F-AC4B-959E0A7D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EC47-6C8D-416C-80A8-C228EB5A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FEA-06E1-4402-A26E-7E7E1C5C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178-A3F1-4943-8128-D6689C36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598F-5F86-4D4B-83A4-0CEF3F0C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9743-4ADB-4DB4-BD75-781150385C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ffffb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5E3C-4099-46C7-A1E5-764502240C91}" type="slidenum"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 Black"/>
              </a:rPr>
              <a:t>Моногибридное скрещивание. Раздел 3.11</a:t>
            </a:r>
            <a:endParaRPr b="1" lang="en-US" sz="5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928800" y="44290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0 класс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ОУ СОШ №11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Дельмухаметова Л.И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324000" y="1627200"/>
            <a:ext cx="5473440" cy="51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етика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Наследственн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Изменчив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ом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тер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ибридологический метод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ногибридное скрещивание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Законы Менделя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51640" y="1808280"/>
            <a:ext cx="3132000" cy="91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жет ли быть при одинаковом генотипе разный 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084720" y="3357720"/>
            <a:ext cx="2743200" cy="3028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Основные</a:t>
            </a: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понятия генетики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Нашивка 6"/>
          <p:cNvSpPr/>
          <p:nvPr/>
        </p:nvSpPr>
        <p:spPr>
          <a:xfrm>
            <a:off x="64296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Нашивка 7"/>
          <p:cNvSpPr/>
          <p:nvPr/>
        </p:nvSpPr>
        <p:spPr>
          <a:xfrm>
            <a:off x="114300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Нашивка 8"/>
          <p:cNvSpPr/>
          <p:nvPr/>
        </p:nvSpPr>
        <p:spPr>
          <a:xfrm>
            <a:off x="164304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Нашивка 9"/>
          <p:cNvSpPr/>
          <p:nvPr/>
        </p:nvSpPr>
        <p:spPr>
          <a:xfrm>
            <a:off x="214308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Нашивка 10"/>
          <p:cNvSpPr/>
          <p:nvPr/>
        </p:nvSpPr>
        <p:spPr>
          <a:xfrm>
            <a:off x="264312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85840" y="1000080"/>
            <a:ext cx="3286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Дать определение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14200" y="3244680"/>
            <a:ext cx="4857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Выучить к следующему уроку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643720" y="1000080"/>
            <a:ext cx="1785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Подумай!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Номер слайда 1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4171-453E-47A3-8974-F67B234CAD81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42600" y="1904760"/>
            <a:ext cx="820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ологический метод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изация – скрещивание 2-х организмов, различающихся альтернативными признакам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Метод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57CA-A277-4EC0-A2E7-A0F6C4A9051A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93200" y="1428840"/>
            <a:ext cx="800748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родители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потомство, (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первого поколения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второго поколения)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значок скрещивания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♂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мужская особь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♀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женская особь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буквами латинского алфавита обозначаются отдельно взятые наследственные признак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Генетическая символик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1164-E567-4536-AA39-CC36F2D3C7FB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8080" y="1857240"/>
            <a:ext cx="566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Моногибридное скрещивание – скрещивание организмов, анализируемых по одной паре альтернативных признаков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6500880" y="1865160"/>
            <a:ext cx="2357280" cy="2421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Calibri"/>
              </a:rPr>
              <a:t>Моногибридное скрещвание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8C3C-E8B8-4084-A083-A247ED7B0129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000840" y="1643040"/>
            <a:ext cx="2928960" cy="5035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0" name="TextBox 4"/>
          <p:cNvSpPr/>
          <p:nvPr/>
        </p:nvSpPr>
        <p:spPr>
          <a:xfrm>
            <a:off x="142920" y="1500120"/>
            <a:ext cx="54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ервый закон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закон доминирования или закон единообразия гибридов первого поколения (доминантный признак – господствующий, рецессивный - скрытый). Доминирование – явление преобладания одного признака над другим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торой закон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закон расщепления признаков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Законы Менделя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351B-5B69-48F6-8BA0-0D27040C1F1B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067280" y="714240"/>
            <a:ext cx="47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оматические клетки диплоидны, в паре гомологичных хромосом находятся пара аллелей генов, контролирующие окраску горошин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одного из родителей это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у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и образовании гамет происходит мейоз, в гаметы попадает только один ген из пары. Все гаметы одного родителя содержат аллель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5" name="Скругленный прямоугольник 4"/>
          <p:cNvSpPr/>
          <p:nvPr/>
        </p:nvSpPr>
        <p:spPr>
          <a:xfrm>
            <a:off x="4214880" y="207180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лел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elon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реч. - друг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– одна из двух альтернативных форм ген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4214880" y="514368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Гипотеза чистоты гамет: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гаметы "чисты", содержат только один наследственный признак из па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Номер слайда 7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4EF7-DA80-45AE-BD7F-122BEE4F1D74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4067280" y="76500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1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–единообразны и по фенотипу и по генотипу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1 поколения гетерозиготны и образуют два типа гамет – 50% гамет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50% -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1/4 зигот содержит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2 -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4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наблюдается расщепление: по фенотипу 3:1, по генотипу 1:2:1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51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A9EE-7828-42FE-9256-407CD89FA9A1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9:15:50Z</dcterms:created>
  <dc:creator>Archie</dc:creator>
  <dc:description/>
  <dc:language>en-US</dc:language>
  <cp:lastModifiedBy>КарМаН</cp:lastModifiedBy>
  <dcterms:modified xsi:type="dcterms:W3CDTF">2012-04-24T19:57:43Z</dcterms:modified>
  <cp:revision>42</cp:revision>
  <dc:subject/>
  <dc:title>Моногибридное скрещивание</dc:title>
</cp:coreProperties>
</file>