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5D59-650E-459B-822A-ADFA29249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25DC-B7D0-4B3E-A4E6-056809D0A0A7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аследственные задатки (гены) Мендель предложил обозначать большими буквами латинского алфавита, например, доминантный — большой — А, рецессивный — маленькой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аждый организм один задаток (ген) получает от материнского организма, а другой — от отцовского, следовательно, они являются парами. Явление парности генов называют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измо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парные ген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ным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каждый ген пары —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ллелью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Например, желтая и зеленая окраска семян гороха являются двумя аллелями (соответственно, доминантный аллель и рецессивный аллель) одного ген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ножественный аллелиз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4. Расхождение хромосом при мейоз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едположим, что соматические клетки несут всего одну пару гомологичных хромосом, содержащих гены, определяющие окраску семян у гороха. Обозначим ген, определяющий желтую окраску, буквой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зеленую —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оскольку Мендель работал с чистыми линиями, оба организма — гомозиготны, то есть несут два одинаковых аллеля гена окраски семян (соответственно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Во время мейоза число хромосом уменьшается в два раза и в каждую гамету попадает только одна хромосома. Но так как обе хромосомы несут одинаковые аллели, все гаметы одного организмы будут содержать одну хромосом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а другого —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етическая запись осуществляется следующим образом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ано: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ешение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ен      Признак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  Зелен.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желт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 — зеленые семена;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Р АА х аа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   Аа   х 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Зелен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Желт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а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1 = ?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Г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       АА + 2Аа + а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Желт.     Желт.      Зелен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и оплодотворении гаметы сливаются, и их хромосомы объединяются в одной зиготе. Получившийся от скрещивания гибрид становится гетерозиготным, так как его клетки будут иметь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,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о есть оба аллеля одного и того же гена. У гибридного организма во время мейоза хромосомы расходятся в разные клетки и образуется два типа гамет — 50% гамет будет нести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, 50% —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Оплодотворение — процесс случайный и равновероятный, то есть любой сперматозоид может оплодотворить любую клетку. А поскольку образовалось два типа сперматозоидов и два типа яйцеклеток, возможно возникновение четырех типов зигот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Половина из них — гетерозиготы (несут гены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, 1/4 — гомозиготы по доминант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1/4 — гомозиготы по рецессивному признаку (несут два гена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. Причем желтосеменные растения одинаковы по фенотипу, но различны по генотипу: 1/3 являются гомозиготными по доминантному признаку и 2/3 — гетерозигот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аким образом, учитывая цитологические основы, второй закон Менделя можно сформулировать следующим образом: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при скрещивании гибридов первого поколения между собой (двух гетерозиготных особей) во втором поколении наблюдается расщепление в определенном числовом соотношении: по фенотипу 3:1, по генотипу 1:2:1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B3C1-155A-48D2-B896-26BC667EC64C}" type="slidenum">
              <a:rPr b="0" lang="ru-RU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Из приведенной схемы видно, что образуется три типа зигот. Неполное доминировани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Явление доминирования не абсолютно. Сам Мендель столкнулся с тем, что при скрещивании крупнолистного сорта гороха с мелколистным гибриды первого поколения не повторяли признак ни одного из родительских растений. Все они имели листья средней величины, то есть выражение признака у гибридов носит промежуточный характер с большим или меньшим уклонением в сторону одного из родительски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6. Наследование окраски плода у земляники при явлении неполного доминирован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озже выяснилось, что неполное доминирование (или промежуточное проявление признака) характерно для многих признаков растений и животных. Именно такой характер имеет наследование окраски цветка у львиного зева, окраски оперения у кур, шерсти у крупного рогатого скота и овец и т.д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 качестве примера рассмотрим наследование окраски плода у земляники (рис. 326). При скрещивании гомозиготных красноплодных и белоплодных сортов земляники, все первое поколение гибридов получается розовоплодным. При скрещивании    гибридов    получае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асщепление в соотношении соотношении 1 красноплодная: 2 розовоплодные: 1 белоплодная. Характерно то, что при неполном доминировании расщепление по генотипу соответствует расщеплению по фенотипу, так как гетерозиготы фенотипически отличаются от гомозигот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ющее скрещивание. Генотип гороха с зелеными семенами может быть только аа. Горох с желтыми семенами может иметь генотип АА или Аа. Для того, чтобы определить генотип особи, обладающей доминантными признаками, проводят анализирующее скрещивание — скрещивают с особью, гомозиготной по рецессивным признака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омозиготна (АА), то потомство от такого скрещивания будет иметь желтые семена и генотип Аа: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АА х а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10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исследуемая особь гетерозиготна (Аа), то она образует два типа гамет и 50% потомства будет иметь желтые семена и генотип Аа, а 50% — зеленые семена и генотип аа: Аа х аа;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— 50% Аа, 50% аа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игибридное скрещивани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Организмы отличаются друг от друга по многим признакам. Поэтому, установив закономерности наследования одной пары признаков, Г.Мендель перешел к изучению наследования двух (и более) пар альтернативных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Дигибридным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называют скрещивание двух организмов, отличающихся друг от друга по двум парам альтернативных признаков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Для дигибридного скрещивания Мендель брал гомозиготные растения гороха, отличающиеся по окраске семян (желтые и зеленые) и форме семян (гладкие и морщинистые). Желт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гладк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семян — доминантные признаки, зеленая окраск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и морщинистая форма (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) — рецессивные признаки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Скрещивая растение с желтыми и гладкими семенами с растением с зелеными и морщинистыми семенами, Мендель получил единообразное гибридное поколение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с желтыми и гладкими семенами (рис. 325). От самоопыления 15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 было получено 556 семян, из них 315 желтых гладких, 101 желтое морщинистое, 108 зеленых гладких и 32 зеленых морщинисты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ируя полученное потомство, Мендель, прежде всего, обратил внимание на то, что, наряду с сочетаниями признаков исходных сортов (желтые гладкие и зеленые морщинистые семена), при дигибридном скрещивании появляются и новые сочетания признаков (желтые морщинистые и зеленые гладкие семена).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Он обратил внимание на то, что расщепление по каждому отдельно взятому признаку соответствует расщеплению при моногибридном скрещивании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Из 556 семян 423 были гладкими и 133 морщинистыми (соотношение 3:1), 416 семян имели желтую окраску, а 140 — зеленую (соотношение 3:1). Однако Менделя интересовал вопрос: зависит ли расщепление одной пары признаков (гладкие и морщинистые семена) от расщепления другой пары (желая окраска семян и зеленая) или эти пары тесно связаны между собой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Рис. 325. Дигибридное скрещивание растений гороха с желтыми гладкими и зелеными морщинистыми семенам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нализ количественных соотношений групп гибридов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, имеющих определенное сочетание признаков, привело к такому заключению: расщепление по фенотипу при скрещивании дигетерозигот происходит в соотношении 9:3:3:1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9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доминантными признаками (гладкие желтые семена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желтыми (доминантный) и морщинистыми (рецессив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/16 были зелеными (рецессивный) и гладкими (доминантный)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/16 растений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 обладали обоими рецессивными признаками (морщинистые семена зеленого цвета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Если при моногибридном скрещивании родительские  организмы  отличаются по одной паре признаков (21) (желтые и зеленые семена) и дают во втором поколении  дв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фенотипа в соотношении 3+1, то при дигибридном они отличаются по двум парам признаков (22) и дают во втором поколении четыре фенотипа в соотношении (3+1)2. Легко посчитать, сколько фенотипов и в каком соотношении будет образовываться во втором поколении при тригибридном скрещивании: (23). — восемь фенотипов в соотношении (3+1)3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Четыре фенотипа скрывают девять разных генотипов: 1 — ААBB; 2 — AABb; 1 — AAbb; 2 — AaBB; 4 — AaBb; 2 — Aabb; 1 — aaBB; 2 — aaBb; 1 — aabb. Если расщепление по генотипу в F2 при моногибридном поколении было 1:2:1, то есть было три разных генотипа (31), то при при дигибридном образуется 9 разных генотипов — 32, при тригибридном скрещивании образуется 33 — 27 разных генотип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ендель пришел к выводу, что расщепление по одной паре признаков не связано с расщеплением по другой паре. Для семян гибридов характерны не только сочетания признаков родительских растений (желтое гладкое семя и зеленое морщиностое семя), но и возникновение новых комбинаций признаков (желтое морщинистое семя и зеленое гладкое сем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роведенное исследование позволило сформулировать закон независимого комбинирования генов (третий закон Менделя): при скрещивании двух гетерозиготных особей, отличающихся друг от друга по двум (и более) парам альтернативных признаков, гены и соответствующие им признаки наследуются независимо друг от друга в соотношении 3:1 и комбинируются во всех возможных сочетаниях.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ий закон Менделя справедлив только для тех случаев, когда анализируемые гены находятся в разных парах гомологичных хромосом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Цитологические основ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ретьего закона Мендел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ен, обусловливающий развитие желтой окраски семян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зеленой окраск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гладкая форма семени,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— морщинистая. Скрещиваются гибриды первого поколения, имеющие генотип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аВ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. При образовании гамет, из каждой пары аллельных генов в гамету попадает только один, при этом в результате случайности расхождения хромосом в первом делении мейоз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попасть в одну гамету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а ген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может объединиться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или с геном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Таким образом, каждый организм образует четыре сорта гамет в одинаковом количестве (по 25 %):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А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B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о время оплодотворения каждый из четырех типов сперматозоидов может оплодотворить любую из четырех типов яйцеклеток. Все возможные сочетания мужских и женских гамет легко установить с помощью решетки Пеннета. При анализе результатов видно, что по фенотипу потомство делится на четыре группы: 9 желтых гладких: 3 желтых морщинистых: 3 зеленых гладких: 1 желтая морщинистая. Если проанализировать результаты расщепления по каждой паре признаков в отдельности, то получится, что отношение числа желтых семян к числу зеленых — 3:1, отношение числа гладких к числу морщинистых — 3:1. Таким образом, при дигибридном скрещивании каждая пара признаков при расщеплении в потомстве ведет себя так же, как при моногибридном скрещивании, т.е. независимо от другой пары признаков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C547-FBCA-48F0-8723-420221BE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320-A0C5-4C49-B43F-963C3013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7E0-2A0E-4EB0-B0E6-E82A9022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D89F-95C6-495E-973C-4C1F673BD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5C6E-5E36-4DF1-BCB6-5C7CE83EA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820A-84E2-4C09-9159-B956D1EC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9D7A-A076-44B4-8FB3-E07E4A8E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E1EA-D76E-4CEB-986E-163BC0B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FDE7-7152-49D5-9934-F8CE2957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1696-9D4A-4674-B2FD-4116A0C6A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9654C-BA40-4C7B-BD68-51998E2E7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A097-C9A4-480A-9619-4F11C8D2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8447-5706-48D0-B1F1-12D1ECA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4AC6-82AB-4DD1-9B17-3D23095A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9E4E6-F219-4992-8913-C41EFCF2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DAA1-37A4-49E7-AB73-C6A4C2C12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410F-6593-48B4-850F-66102BAD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045-6B15-4B67-A98C-53C65E5B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668A-11E9-4B30-B46A-541F472C0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B83-3B1E-4C60-821D-0FF94C20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F851-CA02-4453-9AC2-42E03B23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75F-E9CA-4C10-8F19-CA3DE37B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4A1-2574-4354-A0F3-0568DFBE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1A61-039C-4062-9C4C-4A34C60A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AFE3-8A7A-4EFF-99B0-4D1B74A4A1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5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grpSp>
        <p:nvGrpSpPr>
          <p:cNvPr id="59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60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ffffb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1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ffffb7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2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3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ffffb7">
                    <a:alpha val="0"/>
                  </a:srgbClr>
                </a:gs>
                <a:gs pos="100000">
                  <a:srgbClr val="d1d19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4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65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ffffc0"/>
                </a:gs>
                <a:gs pos="100000">
                  <a:srgbClr val="ffffb7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CD49-AD00-4265-80CE-46B51B10B10C}" type="slidenum">
              <a:rPr b="0" lang="ru-RU" sz="1400" spc="-1" strike="noStrike">
                <a:solidFill>
                  <a:srgbClr val="0066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00"/>
                </a:solidFill>
                <a:latin typeface="Arial Black"/>
              </a:rPr>
              <a:t>Моногибридное скрещивание. Раздел 3.11</a:t>
            </a:r>
            <a:endParaRPr b="1" lang="en-US" sz="5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928800" y="442908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10 класс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МОУ СОШ №11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Дельмухаметова Л.И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5"/>
          <p:cNvSpPr/>
          <p:nvPr/>
        </p:nvSpPr>
        <p:spPr>
          <a:xfrm>
            <a:off x="324000" y="1627200"/>
            <a:ext cx="5473440" cy="51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7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етика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Наследственн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Изменчивост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125"/>
              </a:spcBef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Доминант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признак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Рецессивный ген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ом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етерозиготная особь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Гибридологический метод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ногибридное скрещивание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Законы Менделя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buClr>
                <a:srgbClr val="16161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651640" y="1808280"/>
            <a:ext cx="313200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61616"/>
                </a:solidFill>
                <a:latin typeface="Arial"/>
              </a:rPr>
              <a:t>Может ли быть при одинаковом генотипе разный фенотип?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18" name="Picture 8" descr=""/>
          <p:cNvPicPr/>
          <p:nvPr/>
        </p:nvPicPr>
        <p:blipFill>
          <a:blip r:embed="rId2"/>
          <a:stretch/>
        </p:blipFill>
        <p:spPr>
          <a:xfrm>
            <a:off x="6084720" y="3357720"/>
            <a:ext cx="2743200" cy="30286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0" y="0"/>
            <a:ext cx="91440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Основные</a:t>
            </a: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161616"/>
                </a:solidFill>
                <a:latin typeface="Calibri"/>
              </a:rPr>
              <a:t>понятия генетики</a:t>
            </a:r>
            <a:endParaRPr b="0" lang="en-US" sz="5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0" name="Нашивка 6"/>
          <p:cNvSpPr/>
          <p:nvPr/>
        </p:nvSpPr>
        <p:spPr>
          <a:xfrm>
            <a:off x="64296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1" name="Нашивка 7"/>
          <p:cNvSpPr/>
          <p:nvPr/>
        </p:nvSpPr>
        <p:spPr>
          <a:xfrm>
            <a:off x="114300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2" name="Нашивка 8"/>
          <p:cNvSpPr/>
          <p:nvPr/>
        </p:nvSpPr>
        <p:spPr>
          <a:xfrm>
            <a:off x="164304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3" name="Нашивка 9"/>
          <p:cNvSpPr/>
          <p:nvPr/>
        </p:nvSpPr>
        <p:spPr>
          <a:xfrm>
            <a:off x="214308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4" name="Нашивка 10"/>
          <p:cNvSpPr/>
          <p:nvPr/>
        </p:nvSpPr>
        <p:spPr>
          <a:xfrm>
            <a:off x="2643120" y="3357720"/>
            <a:ext cx="500040" cy="357120"/>
          </a:xfrm>
          <a:custGeom>
            <a:avLst/>
            <a:gdLst>
              <a:gd name="textAreaLeft" fmla="*/ 0 w 500040"/>
              <a:gd name="textAreaRight" fmla="*/ 500400 w 50004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86" y="0"/>
                </a:lnTo>
                <a:lnTo>
                  <a:pt x="21600" y="10800"/>
                </a:lnTo>
                <a:lnTo>
                  <a:pt x="13886" y="21600"/>
                </a:lnTo>
                <a:lnTo>
                  <a:pt x="0" y="21600"/>
                </a:lnTo>
                <a:lnTo>
                  <a:pt x="7714" y="10800"/>
                </a:lnTo>
                <a:close/>
              </a:path>
            </a:pathLst>
          </a:cu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85840" y="1000080"/>
            <a:ext cx="32860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Дать определение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214200" y="3244680"/>
            <a:ext cx="485784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Выучить к следующему уроку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643720" y="1000080"/>
            <a:ext cx="1785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1616"/>
                </a:solidFill>
                <a:latin typeface="Calibri"/>
              </a:rPr>
              <a:t>Подумай!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28" name="Номер слайда 1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20AFD-56E0-4E2F-81EE-6DF997DAB199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42600" y="1904760"/>
            <a:ext cx="8202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ологический метод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1616"/>
                </a:solidFill>
                <a:latin typeface="Arial"/>
              </a:rPr>
              <a:t>Гибридизация – скрещивание 2-х организмов, различающихся альтернативными признакам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Метод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1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BD21-0B18-4386-884C-AE2F97BADAC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93200" y="1428840"/>
            <a:ext cx="800748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родители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потомство, (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первого поколения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008b00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гибриды второго поколения);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х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значок скрещивания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♂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мужская особь;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♀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 — женская особь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1616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8b00"/>
                </a:solidFill>
                <a:latin typeface="Arial"/>
              </a:rPr>
              <a:t>c</a:t>
            </a:r>
            <a:r>
              <a:rPr b="0" lang="ru-RU" sz="3200" spc="-1" strike="noStrike">
                <a:solidFill>
                  <a:srgbClr val="008b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161616"/>
                </a:solidFill>
                <a:latin typeface="Arial"/>
              </a:rPr>
              <a:t>— буквами латинского алфавита обозначаются отдельно взятые наследственные признаки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Генетическая символика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9DF0-FB66-4AF3-BCDC-08E95DF510C7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8080" y="1857240"/>
            <a:ext cx="5662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Arial"/>
              </a:rPr>
              <a:t>Моногибридное скрещивание – скрещивание организмов, анализируемых по одной паре альтернативных признаков.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2"/>
          <a:stretch/>
        </p:blipFill>
        <p:spPr>
          <a:xfrm>
            <a:off x="6500880" y="1865160"/>
            <a:ext cx="2357280" cy="2421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61616"/>
                </a:solidFill>
                <a:latin typeface="Calibri"/>
              </a:rPr>
              <a:t>Моногибридное скрещвание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5E50-C045-4A24-9546-002494384660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2"/>
          <a:stretch/>
        </p:blipFill>
        <p:spPr>
          <a:xfrm>
            <a:off x="6000840" y="1643040"/>
            <a:ext cx="2928960" cy="503568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0" name="TextBox 4"/>
          <p:cNvSpPr/>
          <p:nvPr/>
        </p:nvSpPr>
        <p:spPr>
          <a:xfrm>
            <a:off x="142920" y="1500120"/>
            <a:ext cx="542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Первый закон: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 закон доминирования или закон единообразия гибридов первого поколения (доминантный признак – господствующий, рецессивный - скрытый). Доминирование – явление преобладания одного признака над другим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Второй закон: 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закон расщепления признаков.</a:t>
            </a:r>
            <a:endParaRPr b="0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61616"/>
                </a:solidFill>
                <a:latin typeface="Calibri"/>
              </a:rPr>
              <a:t>Законы Менделя</a:t>
            </a:r>
            <a:endParaRPr b="0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2" name="Номер слайда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ED4C-B589-44C8-8B46-00C8DCE3D646}" type="slidenum">
              <a:rPr b="0" lang="en-US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4"/>
          <p:cNvSpPr/>
          <p:nvPr/>
        </p:nvSpPr>
        <p:spPr>
          <a:xfrm>
            <a:off x="4067280" y="714240"/>
            <a:ext cx="475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Соматические клетки диплоидны, в паре гомологичных хромосом находятся пара аллелей генов, контролирующие окраску горошин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одного из родителей это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у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При образовании гамет происходит мейоз, в гаметы попадает только один ген из пары. Все гаметы одного родителя содержат аллель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другого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45" name="Скругленный прямоугольник 4"/>
          <p:cNvSpPr/>
          <p:nvPr/>
        </p:nvSpPr>
        <p:spPr>
          <a:xfrm>
            <a:off x="4214880" y="207180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ллель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llelon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, греч. - друг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) – одна из двух альтернативных форм гена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6" name="Скругленный прямоугольник 5"/>
          <p:cNvSpPr/>
          <p:nvPr/>
        </p:nvSpPr>
        <p:spPr>
          <a:xfrm>
            <a:off x="4214880" y="5143680"/>
            <a:ext cx="4500360" cy="100008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Гипотеза чистоты гамет: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гаметы "чисты", содержат только один наследственный признак из пары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48" name="Номер слайда 7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37D1-E0B9-40DE-BC6B-1302CBCE54B2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4067280" y="765000"/>
            <a:ext cx="4897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1 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–единообразны и по фенотипу и по генотипу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Гибриды 1 поколения гетерозиготны и образуют два типа гамет – 50% гамет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50% - с аллелем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1/4 зигот содержит аллели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2 -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, 1/4 – </a:t>
            </a:r>
            <a:r>
              <a:rPr b="0" i="1" lang="ru-RU" sz="1800" spc="-1" strike="noStrike">
                <a:solidFill>
                  <a:srgbClr val="ff3300"/>
                </a:solidFill>
                <a:latin typeface="Arial"/>
              </a:rPr>
              <a:t>аа</a:t>
            </a: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00"/>
                </a:solidFill>
                <a:latin typeface="Arial"/>
              </a:rPr>
              <a:t>У гибридов второго поколения наблюдается расщепление: по фенотипу 3:1, по генотипу 1:2:1.</a:t>
            </a:r>
            <a:endParaRPr b="0" lang="en-US" sz="1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136440" y="692280"/>
            <a:ext cx="3935520" cy="590544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1" name="Rectangle 2"/>
          <p:cNvSpPr/>
          <p:nvPr/>
        </p:nvSpPr>
        <p:spPr>
          <a:xfrm>
            <a:off x="0" y="-357120"/>
            <a:ext cx="9144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16"/>
                </a:solidFill>
                <a:latin typeface="Calibri"/>
              </a:rPr>
              <a:t>Цитологические основы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52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6D2F-8543-4E9F-B5F3-B9D6E303DA30}" type="slidenum">
              <a:rPr b="0" lang="ru-RU" sz="3200" spc="-1" strike="noStrike">
                <a:solidFill>
                  <a:srgbClr val="161616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7T09:15:50Z</dcterms:created>
  <dc:creator>Archie</dc:creator>
  <dc:description/>
  <dc:language>en-US</dc:language>
  <cp:lastModifiedBy>КарМаН</cp:lastModifiedBy>
  <dcterms:modified xsi:type="dcterms:W3CDTF">2012-04-24T19:57:43Z</dcterms:modified>
  <cp:revision>42</cp:revision>
  <dc:subject/>
  <dc:title>Моногибридное скрещивание</dc:title>
</cp:coreProperties>
</file>