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Arial Black"/>
              </a:rPr>
              <a:t>Click to move the slide</a:t>
            </a: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87998-C037-4770-83BB-FBBD0A63334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20012-D1E0-4621-ACC4-18A36B7C555E}" type="slidenum">
              <a:rPr b="0" lang="ru-RU" sz="1200" spc="-1" strike="noStrike">
                <a:solidFill>
                  <a:srgbClr val="0066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Аллелизм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Наследственные задатки (гены) Мендель предложил обозначать большими буквами латинского алфавита, например, доминантный — большой — А, рецессивный — маленькой — </a:t>
            </a: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Каждый организм один задаток (ген) получает от материнского организма, а другой — от отцовского, следовательно, они являются парами. Явление парности генов называют </a:t>
            </a: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аллелизмом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, парные гены — </a:t>
            </a: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аллельными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, а каждый ген пары — </a:t>
            </a: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аллелью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. Например, желтая и зеленая окраска семян гороха являются двумя аллелями (соответственно, доминантный аллель и рецессивный аллель) одного гена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Множественный аллелизм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Рис. 324. Расхождение хромосом при мейозе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Предположим, что соматические клетки несут всего одну пару гомологичных хромосом, содержащих гены, определяющие окраску семян у гороха. Обозначим ген, определяющий желтую окраску, буквой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, а зеленую —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. Поскольку Мендель работал с чистыми линиями, оба организма — гомозиготны, то есть несут два одинаковых аллеля гена окраски семян (соответственно,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АА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аа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). Во время мейоза число хромосом уменьшается в два раза и в каждую гамету попадает только одна хромосома. Но так как обе хромосомы несут одинаковые аллели, все гаметы одного организмы будут содержать одну хромосому с геном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, а другого — с геном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Генетическая запись осуществляется следующим образом: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Дано: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Решение: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АА х аа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Ген      Признак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      Желт.  Зелен.Аа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А — желтые семена;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Гам.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а — зеленые семена;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Р АА х аа</a:t>
            </a: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           Аа   х  Аа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Желт.  Зелен.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      Желт.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    Желт.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ааАА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1 = ?</a:t>
            </a: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Гам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        АА + 2Аа + аа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Желт.     Желт.      Зелен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При оплодотворении гаметы сливаются, и их хромосомы объединяются в одной зиготе. Получившийся от скрещивания гибрид становится гетерозиготным, так как его клетки будут иметь генотип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Аа, 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то есть оба аллеля одного и того же гена. У гибридного организма во время мейоза хромосомы расходятся в разные клетки и образуется два типа гамет — 50% гамет будет нести ген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, 50% — ген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. Оплодотворение — процесс случайный и равновероятный, то есть любой сперматозоид может оплодотворить любую клетку. А поскольку образовалось два типа сперматозоидов и два типа яйцеклеток, возможно возникновение четырех типов зигот.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Из приведенной схемы видно, что образуется три типа зигот. Половина из них — гетерозиготы (несут гены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А 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), 1/4 — гомозиготы по доминантному признаку (несут два гена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) и 1/4 — гомозиготы по рецессивному признаку (несут два гена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). Причем желтосеменные растения одинаковы по фенотипу, но различны по генотипу: 1/3 являются гомозиготными по доминантному признаку и 2/3 — гетерозиготны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Таким образом, учитывая цитологические основы, второй закон Менделя можно сформулировать следующим образом: </a:t>
            </a: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при скрещивании гибридов первого поколения между собой (двух гетерозиготных особей) во втором поколении наблюдается расщепление в определенном числовом соотношении: по фенотипу 3:1, по генотипу 1:2:1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Неполное доминирование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Явление доминирования не абсолютно. Сам Мендель столкнулся с тем, что при скрещивании крупнолистного сорта гороха с мелколистным гибриды первого поколения не повторяли признак ни одного из родительских растений. Все они имели листья средней величины, то есть выражение признака у гибридов носит промежуточный характер с большим или меньшим уклонением в сторону одного из родительских признаков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Рис. 326. Наследование окраски плода у земляники при явлении неполного доминирования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Позже выяснилось, что неполное доминирование (или промежуточное проявление признака) характерно для многих признаков растений и животных. Именно такой характер имеет наследование окраски цветка у львиного зева, окраски оперения у кур, шерсти у крупного рогатого скота и овец и т.д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В качестве примера рассмотрим наследование окраски плода у земляники (рис. 326). При скрещивании гомозиготных красноплодных и белоплодных сортов земляники, все первое поколение гибридов получается розовоплодным. При скрещивании    гибридов    получаем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расщепление в соотношении соотношении 1 красноплодная: 2 розовоплодные: 1 белоплодная. Характерно то, что при неполном доминировании расщепление по генотипу соответствует расщеплению по фенотипу, так как гетерозиготы фенотипически отличаются от гомозигот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Анализирующее скрещивание. Генотип гороха с зелеными семенами может быть только аа. Горох с желтыми семенами может иметь генотип АА или Аа. Для того, чтобы определить генотип особи, обладающей доминантными признаками, проводят анализирующее скрещивание — скрещивают с особью, гомозиготной по рецессивным признакам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Если исследуемая особь гомозиготна (АА), то потомство от такого скрещивания будет иметь желтые семена и генотип Аа: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АА х аа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;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1 — 100% Аа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Если исследуемая особь гетерозиготна (Аа), то она образует два типа гамет и 50% потомства будет иметь желтые семена и генотип Аа, а 50% — зеленые семена и генотип аа: Аа х аа;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1 — 50% Аа, 50% аа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Дигибридное скрещивание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Организмы отличаются друг от друга по многим признакам. Поэтому, установив закономерности наследования одной пары признаков, Г.Мендель перешел к изучению наследования двух (и более) пар альтернативных признаков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Дигибридным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называют скрещивание двух организмов, отличающихся друг от друга по двум парам альтернативных признаков.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Третий закон Менделя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Для дигибридного скрещивания Мендель брал гомозиготные растения гороха, отличающиеся по окраске семян (желтые и зеленые) и форме семян (гладкие и морщинистые). Желтая окраска (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) и гладкая форма (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) семян — доминантные признаки, зеленая окраска (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) и морщинистая форма (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) — рецессивные признаки.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Скрещивая растение с желтыми и гладкими семенами с растением с зелеными и морщинистыми семенами, Мендель получил единообразное гибридное поколение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1 с желтыми и гладкими семенами (рис. 325). От самоопыления 15 гибридов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1 было получено 556 семян, из них 315 желтых гладких, 101 желтое морщинистое, 108 зеленых гладких и 32 зеленых морщинистых.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Анализируя полученное потомство, Мендель, прежде всего, обратил внимание на то, что, наряду с сочетаниями признаков исходных сортов (желтые гладкие и зеленые морщинистые семена), при дигибридном скрещивании появляются и новые сочетания признаков (желтые морщинистые и зеленые гладкие семена). </a:t>
            </a: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Он обратил внимание на то, что расщепление по каждому отдельно взятому признаку соответствует расщеплению при моногибридном скрещивании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. Из 556 семян 423 были гладкими и 133 морщинистыми (соотношение 3:1), 416 семян имели желтую окраску, а 140 — зеленую (соотношение 3:1). Однако Менделя интересовал вопрос: зависит ли расщепление одной пары признаков (гладкие и морщинистые семена) от расщепления другой пары (желая окраска семян и зеленая) или эти пары тесно связаны между собой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Рис. 325. Дигибридное скрещивание растений гороха с желтыми гладкими и зелеными морщинистыми семенами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Анализ количественных соотношений групп гибридов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2, имеющих определенное сочетание признаков, привело к такому заключению: расщепление по фенотипу при скрещивании дигетерозигот происходит в соотношении 9:3:3:1.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9/16 растений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2 обладали обоими доминантными признаками (гладкие желтые семена)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3/16 были желтыми (доминантный) и морщинистыми (рецессивный)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3/16 были зелеными (рецессивный) и гладкими (доминантный)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1/16 растений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2 обладали обоими рецессивными признаками (морщинистые семена зеленого цвета)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Если при моногибридном скрещивании родительские  организмы  отличаются по одной паре признаков (21) (желтые и зеленые семена) и дают во втором поколении  два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фенотипа в соотношении 3+1, то при дигибридном они отличаются по двум парам признаков (22) и дают во втором поколении четыре фенотипа в соотношении (3+1)2. Легко посчитать, сколько фенотипов и в каком соотношении будет образовываться во втором поколении при тригибридном скрещивании: (23). — восемь фенотипов в соотношении (3+1)3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Четыре фенотипа скрывают девять разных генотипов: 1 — ААBB; 2 — AABb; 1 — AAbb; 2 — AaBB; 4 — AaBb; 2 — Aabb; 1 — aaBB; 2 — aaBb; 1 — aabb. Если расщепление по генотипу в F2 при моногибридном поколении было 1:2:1, то есть было три разных генотипа (31), то при при дигибридном образуется 9 разных генотипов — 32, при тригибридном скрещивании образуется 33 — 27 разных генотипов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Мендель пришел к выводу, что расщепление по одной паре признаков не связано с расщеплением по другой паре. Для семян гибридов характерны не только сочетания признаков родительских растений (желтое гладкое семя и зеленое морщиностое семя), но и возникновение новых комбинаций признаков (желтое морщинистое семя и зеленое гладкое семя)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Проведенное исследование позволило сформулировать закон независимого комбинирования генов (третий закон Менделя): при скрещивании двух гетерозиготных особей, отличающихся друг от друга по двум (и более) парам альтернативных признаков, гены и соответствующие им признаки наследуются независимо друг от друга в соотношении 3:1 и комбинируются во всех возможных сочетаниях.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Третий закон Менделя справедлив только для тех случаев, когда анализируемые гены находятся в разных парах гомологичных хромосом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Цитологические основы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третьего закона Менделя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Пусть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— ген, обусловливающий развитие желтой окраски семян,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— зеленой окраски,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— гладкая форма семени,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— морщинистая. Скрещиваются гибриды первого поколения, имеющие генотип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АаВв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. При образовании гамет, из каждой пары аллельных генов в гамету попадает только один, при этом в результате случайности расхождения хромосом в первом делении мейоза ген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А 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может попасть в одну гамету с геном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или с геном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а ген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а 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может объединиться с геном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или с геном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Таким образом, каждый организм образует четыре сорта гамет в одинаковом количестве (по 25 %):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АВ, </a:t>
            </a: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в, </a:t>
            </a: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aB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Во время оплодотворения каждый из четырех типов сперматозоидов может оплодотворить любую из четырех типов яйцеклеток. Все возможные сочетания мужских и женских гамет легко установить с помощью решетки Пеннета. При анализе результатов видно, что по фенотипу потомство делится на четыре группы: 9 желтых гладких: 3 желтых морщинистых: 3 зеленых гладких: 1 желтая морщинистая. Если проанализировать результаты расщепления по каждой паре признаков в отдельности, то получится, что отношение числа желтых семян к числу зеленых — 3:1, отношение числа гладких к числу морщинистых — 3:1. Таким образом, при дигибридном скрещивании каждая пара признаков при расщеплении в потомстве ведет себя так же, как при моногибридном скрещивании, т.е. независимо от другой пары признаков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58FC4-1D5A-4D12-B0E4-C9F5D9A51C13}" type="slidenum">
              <a:rPr b="0" lang="ru-RU" sz="1200" spc="-1" strike="noStrike">
                <a:solidFill>
                  <a:srgbClr val="0066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Из приведенной схемы видно, что образуется три типа зигот. Неполное доминирование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Явление доминирования не абсолютно. Сам Мендель столкнулся с тем, что при скрещивании крупнолистного сорта гороха с мелколистным гибриды первого поколения не повторяли признак ни одного из родительских растений. Все они имели листья средней величины, то есть выражение признака у гибридов носит промежуточный характер с большим или меньшим уклонением в сторону одного из родительских признаков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Рис. 326. Наследование окраски плода у земляники при явлении неполного доминирования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Позже выяснилось, что неполное доминирование (или промежуточное проявление признака) характерно для многих признаков растений и животных. Именно такой характер имеет наследование окраски цветка у львиного зева, окраски оперения у кур, шерсти у крупного рогатого скота и овец и т.д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В качестве примера рассмотрим наследование окраски плода у земляники (рис. 326). При скрещивании гомозиготных красноплодных и белоплодных сортов земляники, все первое поколение гибридов получается розовоплодным. При скрещивании    гибридов    получаем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расщепление в соотношении соотношении 1 красноплодная: 2 розовоплодные: 1 белоплодная. Характерно то, что при неполном доминировании расщепление по генотипу соответствует расщеплению по фенотипу, так как гетерозиготы фенотипически отличаются от гомозигот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Анализирующее скрещивание. Генотип гороха с зелеными семенами может быть только аа. Горох с желтыми семенами может иметь генотип АА или Аа. Для того, чтобы определить генотип особи, обладающей доминантными признаками, проводят анализирующее скрещивание — скрещивают с особью, гомозиготной по рецессивным признакам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Если исследуемая особь гомозиготна (АА), то потомство от такого скрещивания будет иметь желтые семена и генотип Аа: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АА х аа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;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1 — 100% Аа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Если исследуемая особь гетерозиготна (Аа), то она образует два типа гамет и 50% потомства будет иметь желтые семена и генотип Аа, а 50% — зеленые семена и генотип аа: Аа х аа;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1 — 50% Аа, 50% аа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Дигибридное скрещивание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Организмы отличаются друг от друга по многим признакам. Поэтому, установив закономерности наследования одной пары признаков, Г.Мендель перешел к изучению наследования двух (и более) пар альтернативных признаков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Дигибридным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называют скрещивание двух организмов, отличающихся друг от друга по двум парам альтернативных признаков.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Третий закон Менделя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Для дигибридного скрещивания Мендель брал гомозиготные растения гороха, отличающиеся по окраске семян (желтые и зеленые) и форме семян (гладкие и морщинистые). Желтая окраска (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) и гладкая форма (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) семян — доминантные признаки, зеленая окраска (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) и морщинистая форма (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) — рецессивные признаки.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Скрещивая растение с желтыми и гладкими семенами с растением с зелеными и морщинистыми семенами, Мендель получил единообразное гибридное поколение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1 с желтыми и гладкими семенами (рис. 325). От самоопыления 15 гибридов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1 было получено 556 семян, из них 315 желтых гладких, 101 желтое морщинистое, 108 зеленых гладких и 32 зеленых морщинистых.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Анализируя полученное потомство, Мендель, прежде всего, обратил внимание на то, что, наряду с сочетаниями признаков исходных сортов (желтые гладкие и зеленые морщинистые семена), при дигибридном скрещивании появляются и новые сочетания признаков (желтые морщинистые и зеленые гладкие семена). </a:t>
            </a: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Он обратил внимание на то, что расщепление по каждому отдельно взятому признаку соответствует расщеплению при моногибридном скрещивании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. Из 556 семян 423 были гладкими и 133 морщинистыми (соотношение 3:1), 416 семян имели желтую окраску, а 140 — зеленую (соотношение 3:1). Однако Менделя интересовал вопрос: зависит ли расщепление одной пары признаков (гладкие и морщинистые семена) от расщепления другой пары (желая окраска семян и зеленая) или эти пары тесно связаны между собой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Рис. 325. Дигибридное скрещивание растений гороха с желтыми гладкими и зелеными морщинистыми семенами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Анализ количественных соотношений групп гибридов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2, имеющих определенное сочетание признаков, привело к такому заключению: расщепление по фенотипу при скрещивании дигетерозигот происходит в соотношении 9:3:3:1.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9/16 растений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2 обладали обоими доминантными признаками (гладкие желтые семена)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3/16 были желтыми (доминантный) и морщинистыми (рецессивный)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3/16 были зелеными (рецессивный) и гладкими (доминантный)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1/16 растений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2 обладали обоими рецессивными признаками (морщинистые семена зеленого цвета)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Если при моногибридном скрещивании родительские  организмы  отличаются по одной паре признаков (21) (желтые и зеленые семена) и дают во втором поколении  два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фенотипа в соотношении 3+1, то при дигибридном они отличаются по двум парам признаков (22) и дают во втором поколении четыре фенотипа в соотношении (3+1)2. Легко посчитать, сколько фенотипов и в каком соотношении будет образовываться во втором поколении при тригибридном скрещивании: (23). — восемь фенотипов в соотношении (3+1)3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Четыре фенотипа скрывают девять разных генотипов: 1 — ААBB; 2 — AABb; 1 — AAbb; 2 — AaBB; 4 — AaBb; 2 — Aabb; 1 — aaBB; 2 — aaBb; 1 — aabb. Если расщепление по генотипу в F2 при моногибридном поколении было 1:2:1, то есть было три разных генотипа (31), то при при дигибридном образуется 9 разных генотипов — 32, при тригибридном скрещивании образуется 33 — 27 разных генотипов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Мендель пришел к выводу, что расщепление по одной паре признаков не связано с расщеплением по другой паре. Для семян гибридов характерны не только сочетания признаков родительских растений (желтое гладкое семя и зеленое морщиностое семя), но и возникновение новых комбинаций признаков (желтое морщинистое семя и зеленое гладкое семя)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Проведенное исследование позволило сформулировать закон независимого комбинирования генов (третий закон Менделя): при скрещивании двух гетерозиготных особей, отличающихся друг от друга по двум (и более) парам альтернативных признаков, гены и соответствующие им признаки наследуются независимо друг от друга в соотношении 3:1 и комбинируются во всех возможных сочетаниях.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Третий закон Менделя справедлив только для тех случаев, когда анализируемые гены находятся в разных парах гомологичных хромосом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Цитологические основы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третьего закона Менделя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Пусть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— ген, обусловливающий развитие желтой окраски семян,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— зеленой окраски,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— гладкая форма семени,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— морщинистая. Скрещиваются гибриды первого поколения, имеющие генотип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АаВв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. При образовании гамет, из каждой пары аллельных генов в гамету попадает только один, при этом в результате случайности расхождения хромосом в первом делении мейоза ген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А 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может попасть в одну гамету с геном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или с геном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а ген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а 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может объединиться с геном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или с геном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Таким образом, каждый организм образует четыре сорта гамет в одинаковом количестве (по 25 %):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АВ, </a:t>
            </a: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в, </a:t>
            </a: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aB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Во время оплодотворения каждый из четырех типов сперматозоидов может оплодотворить любую из четырех типов яйцеклеток. Все возможные сочетания мужских и женских гамет легко установить с помощью решетки Пеннета. При анализе результатов видно, что по фенотипу потомство делится на четыре группы: 9 желтых гладких: 3 желтых морщинистых: 3 зеленых гладких: 1 желтая морщинистая. Если проанализировать результаты расщепления по каждой паре признаков в отдельности, то получится, что отношение числа желтых семян к числу зеленых — 3:1, отношение числа гладких к числу морщинистых — 3:1. Таким образом, при дигибридном скрещивании каждая пара признаков при расщеплении в потомстве ведет себя так же, как при моногибридном скрещивании, т.е. независимо от другой пары признаков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694B8-6912-4F86-BD81-2E62E3B29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58555-048A-4E71-AFFA-ED7081653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0598C-C833-40A0-B909-60FB26278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24CFF-B3EB-4790-B3C8-6546C325F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BA7D2-8DC3-4CC6-8333-35C2525BB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2B62C-1E94-4302-9F6B-0B26F3FF0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D3066-4F33-4BAF-B0E0-171C12316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197BF-CA84-406E-B104-332F799E4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3A14C-A4DF-404C-8518-0E9FC8329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9288A-D4A4-4098-B638-90AA06ECC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95991-4580-42DE-912F-A8C837C86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DA2C3-8D1C-4BED-BAC0-0AD26ED4D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3CFD4-0C12-49A6-8787-6B38B1811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EA6B3-AB44-4CD2-9EFA-086EE533B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F822D-D48E-42C3-B45A-BD4CB3828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ECDD4-8C30-4FCC-B7F0-FD02ABD98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54551-4C7C-4C8B-AEB8-D5529D0A3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61982-9ABB-4407-B475-B9E436054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F7E36-4670-4D25-997D-8AD81FEBA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3AA52-53FD-42B6-89C7-6091B811D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2113E-3C5F-4DD8-80D4-C78D29217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21D6C-C406-4806-B19A-792FB1C6F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B3CAB-A0BF-448D-BED2-CFDB1EDFD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DF7AA-1F72-4543-9DDE-41D66DFD5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ffffb7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ffffb7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ffffb7">
                    <a:alpha val="0"/>
                  </a:srgbClr>
                </a:gs>
                <a:gs pos="100000">
                  <a:srgbClr val="d1d19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ffffc0"/>
                </a:gs>
                <a:gs pos="100000">
                  <a:srgbClr val="ffff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ffffc0"/>
                </a:gs>
                <a:gs pos="100000">
                  <a:srgbClr val="ffffb7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ffffb7">
                    <a:alpha val="0"/>
                  </a:srgbClr>
                </a:gs>
                <a:gs pos="100000">
                  <a:srgbClr val="d1d19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ffffc0"/>
                </a:gs>
                <a:gs pos="100000">
                  <a:srgbClr val="ffffb7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00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09068-C082-44C1-9C61-EA7D275D7C1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5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ffffb7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ffffb7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ffffb7">
                    <a:alpha val="0"/>
                  </a:srgbClr>
                </a:gs>
                <a:gs pos="100000">
                  <a:srgbClr val="d1d19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ffffc0"/>
                </a:gs>
                <a:gs pos="100000">
                  <a:srgbClr val="ffff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ffffc0"/>
                </a:gs>
                <a:gs pos="100000">
                  <a:srgbClr val="ffffb7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5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ffffb7">
                    <a:alpha val="0"/>
                  </a:srgbClr>
                </a:gs>
                <a:gs pos="100000">
                  <a:srgbClr val="d1d19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ffffc0"/>
                </a:gs>
                <a:gs pos="100000">
                  <a:srgbClr val="ffffb7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00"/>
                </a:solidFill>
                <a:latin typeface="Arial"/>
              </a:endParaRPr>
            </a:p>
          </p:txBody>
        </p:sp>
      </p:grpSp>
      <p:grpSp>
        <p:nvGrpSpPr>
          <p:cNvPr id="59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60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ffffb7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61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ffffb7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62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ffffb7">
                    <a:alpha val="0"/>
                  </a:srgbClr>
                </a:gs>
                <a:gs pos="100000">
                  <a:srgbClr val="d1d19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63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ffffb7">
                    <a:alpha val="0"/>
                  </a:srgbClr>
                </a:gs>
                <a:gs pos="100000">
                  <a:srgbClr val="d1d19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64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ffffc0"/>
                </a:gs>
                <a:gs pos="100000">
                  <a:srgbClr val="ffffb7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65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ffffc0"/>
                </a:gs>
                <a:gs pos="100000">
                  <a:srgbClr val="ffffb7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00"/>
                </a:solidFill>
                <a:latin typeface="Arial"/>
              </a:endParaRPr>
            </a:p>
          </p:txBody>
        </p:sp>
      </p:grp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468CB-3EB3-45EE-9F5D-4CDB67B951F6}" type="slidenum">
              <a:rPr b="0" lang="ru-RU" sz="1400" spc="-1" strike="noStrike">
                <a:solidFill>
                  <a:srgbClr val="0066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8000"/>
                </a:solidFill>
                <a:latin typeface="Arial Black"/>
              </a:rPr>
              <a:t>Моногибридное скрещивание. Раздел 3.11</a:t>
            </a:r>
            <a:endParaRPr b="1" lang="en-US" sz="5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115" name="TextBox 2"/>
          <p:cNvSpPr/>
          <p:nvPr/>
        </p:nvSpPr>
        <p:spPr>
          <a:xfrm>
            <a:off x="928800" y="4429080"/>
            <a:ext cx="621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10 класс</a:t>
            </a:r>
            <a:endParaRPr b="0" lang="en-US" sz="2400" spc="-1" strike="noStrike">
              <a:solidFill>
                <a:srgbClr val="0066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МОУ СОШ №11</a:t>
            </a:r>
            <a:endParaRPr b="0" lang="en-US" sz="2400" spc="-1" strike="noStrike">
              <a:solidFill>
                <a:srgbClr val="0066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Дельмухаметова Л.И.</a:t>
            </a:r>
            <a:endParaRPr b="0" lang="en-US" sz="24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5"/>
          <p:cNvSpPr/>
          <p:nvPr/>
        </p:nvSpPr>
        <p:spPr>
          <a:xfrm>
            <a:off x="324000" y="1627200"/>
            <a:ext cx="5473440" cy="51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70000"/>
              </a:lnSpc>
              <a:spcBef>
                <a:spcPts val="1125"/>
              </a:spcBef>
              <a:buClr>
                <a:srgbClr val="16161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1616"/>
                </a:solidFill>
                <a:latin typeface="Arial"/>
              </a:rPr>
              <a:t>Генетика?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lnSpc>
                <a:spcPct val="50000"/>
              </a:lnSpc>
              <a:spcBef>
                <a:spcPts val="1125"/>
              </a:spcBef>
              <a:buClr>
                <a:srgbClr val="16161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1616"/>
                </a:solidFill>
                <a:latin typeface="Arial"/>
              </a:rPr>
              <a:t>Наследственность?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lnSpc>
                <a:spcPct val="50000"/>
              </a:lnSpc>
              <a:spcBef>
                <a:spcPts val="1125"/>
              </a:spcBef>
              <a:buClr>
                <a:srgbClr val="16161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1616"/>
                </a:solidFill>
                <a:latin typeface="Arial"/>
              </a:rPr>
              <a:t>Изменчивость?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lnSpc>
                <a:spcPct val="50000"/>
              </a:lnSpc>
              <a:spcBef>
                <a:spcPts val="1125"/>
              </a:spcBef>
              <a:buClr>
                <a:srgbClr val="16161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1616"/>
                </a:solidFill>
                <a:latin typeface="Arial"/>
              </a:rPr>
              <a:t>Генотип?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lnSpc>
                <a:spcPct val="50000"/>
              </a:lnSpc>
              <a:spcBef>
                <a:spcPts val="1125"/>
              </a:spcBef>
              <a:buClr>
                <a:srgbClr val="16161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1616"/>
                </a:solidFill>
                <a:latin typeface="Arial"/>
              </a:rPr>
              <a:t>Фенотип?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lnSpc>
                <a:spcPct val="50000"/>
              </a:lnSpc>
              <a:spcBef>
                <a:spcPts val="1125"/>
              </a:spcBef>
              <a:buClr>
                <a:srgbClr val="16161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1616"/>
                </a:solidFill>
                <a:latin typeface="Arial"/>
              </a:rPr>
              <a:t>Ген?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lnSpc>
                <a:spcPct val="50000"/>
              </a:lnSpc>
              <a:spcBef>
                <a:spcPts val="1125"/>
              </a:spcBef>
              <a:buClr>
                <a:srgbClr val="16161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lnSpc>
                <a:spcPct val="50000"/>
              </a:lnSpc>
              <a:spcBef>
                <a:spcPts val="1125"/>
              </a:spcBef>
              <a:buClr>
                <a:srgbClr val="16161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1616"/>
                </a:solidFill>
                <a:latin typeface="Arial"/>
              </a:rPr>
              <a:t>Доминантный признак?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buClr>
                <a:srgbClr val="16161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1616"/>
                </a:solidFill>
                <a:latin typeface="Arial"/>
              </a:rPr>
              <a:t>Доминантный ген?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buClr>
                <a:srgbClr val="16161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1616"/>
                </a:solidFill>
                <a:latin typeface="Arial"/>
              </a:rPr>
              <a:t>Рецессивный признак?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buClr>
                <a:srgbClr val="16161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1616"/>
                </a:solidFill>
                <a:latin typeface="Arial"/>
              </a:rPr>
              <a:t>Рецессивный ген?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buClr>
                <a:srgbClr val="16161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1616"/>
                </a:solidFill>
                <a:latin typeface="Arial"/>
              </a:rPr>
              <a:t>Гомозиготная особь?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buClr>
                <a:srgbClr val="16161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1616"/>
                </a:solidFill>
                <a:latin typeface="Arial"/>
              </a:rPr>
              <a:t>Гетерозиготная особь?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buClr>
                <a:srgbClr val="16161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1616"/>
                </a:solidFill>
                <a:latin typeface="Arial"/>
              </a:rPr>
              <a:t>Гибридологический метод?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buClr>
                <a:srgbClr val="16161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1616"/>
                </a:solidFill>
                <a:latin typeface="Arial"/>
              </a:rPr>
              <a:t>Моногибридное скрещивание?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buClr>
                <a:srgbClr val="16161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1616"/>
                </a:solidFill>
                <a:latin typeface="Arial"/>
              </a:rPr>
              <a:t>Законы Менделя?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buClr>
                <a:srgbClr val="16161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17" name="Text Box 7"/>
          <p:cNvSpPr/>
          <p:nvPr/>
        </p:nvSpPr>
        <p:spPr>
          <a:xfrm>
            <a:off x="5651640" y="1808280"/>
            <a:ext cx="3132000" cy="9169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1616"/>
                </a:solidFill>
                <a:latin typeface="Arial"/>
              </a:rPr>
              <a:t>Может ли быть при одинаковом генотипе разный фенотип?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118" name="Picture 8" descr=""/>
          <p:cNvPicPr/>
          <p:nvPr/>
        </p:nvPicPr>
        <p:blipFill>
          <a:blip r:embed="rId2"/>
          <a:stretch/>
        </p:blipFill>
        <p:spPr>
          <a:xfrm>
            <a:off x="6084720" y="3357720"/>
            <a:ext cx="2743200" cy="302868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2"/>
          <p:cNvSpPr/>
          <p:nvPr/>
        </p:nvSpPr>
        <p:spPr>
          <a:xfrm>
            <a:off x="0" y="0"/>
            <a:ext cx="91440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161616"/>
                </a:solidFill>
                <a:latin typeface="Calibri"/>
              </a:rPr>
              <a:t>Основные</a:t>
            </a:r>
            <a:r>
              <a:rPr b="1" lang="en-US" sz="4400" spc="-1" strike="noStrike">
                <a:solidFill>
                  <a:srgbClr val="161616"/>
                </a:solidFill>
                <a:latin typeface="Calibri"/>
              </a:rPr>
              <a:t> </a:t>
            </a:r>
            <a:r>
              <a:rPr b="1" lang="en-US" sz="5400" spc="-1" strike="noStrike">
                <a:solidFill>
                  <a:srgbClr val="161616"/>
                </a:solidFill>
                <a:latin typeface="Calibri"/>
              </a:rPr>
              <a:t>понятия генетики</a:t>
            </a:r>
            <a:endParaRPr b="0" lang="en-US" sz="5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20" name="Нашивка 6"/>
          <p:cNvSpPr/>
          <p:nvPr/>
        </p:nvSpPr>
        <p:spPr>
          <a:xfrm>
            <a:off x="642960" y="3357720"/>
            <a:ext cx="500040" cy="357120"/>
          </a:xfrm>
          <a:custGeom>
            <a:avLst/>
            <a:gdLst>
              <a:gd name="textAreaLeft" fmla="*/ 0 w 500040"/>
              <a:gd name="textAreaRight" fmla="*/ 500400 w 500040"/>
              <a:gd name="textAreaTop" fmla="*/ 0 h 357120"/>
              <a:gd name="textAreaBottom" fmla="*/ 35748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886" y="0"/>
                </a:lnTo>
                <a:lnTo>
                  <a:pt x="21600" y="10800"/>
                </a:lnTo>
                <a:lnTo>
                  <a:pt x="13886" y="21600"/>
                </a:lnTo>
                <a:lnTo>
                  <a:pt x="0" y="21600"/>
                </a:lnTo>
                <a:lnTo>
                  <a:pt x="7714" y="10800"/>
                </a:lnTo>
                <a:close/>
              </a:path>
            </a:pathLst>
          </a:custGeom>
          <a:solidFill>
            <a:srgbClr val="99cc00"/>
          </a:solidFill>
          <a:ln w="25560">
            <a:solidFill>
              <a:srgbClr val="6f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21" name="Нашивка 7"/>
          <p:cNvSpPr/>
          <p:nvPr/>
        </p:nvSpPr>
        <p:spPr>
          <a:xfrm>
            <a:off x="1143000" y="3357720"/>
            <a:ext cx="500040" cy="357120"/>
          </a:xfrm>
          <a:custGeom>
            <a:avLst/>
            <a:gdLst>
              <a:gd name="textAreaLeft" fmla="*/ 0 w 500040"/>
              <a:gd name="textAreaRight" fmla="*/ 500400 w 500040"/>
              <a:gd name="textAreaTop" fmla="*/ 0 h 357120"/>
              <a:gd name="textAreaBottom" fmla="*/ 35748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886" y="0"/>
                </a:lnTo>
                <a:lnTo>
                  <a:pt x="21600" y="10800"/>
                </a:lnTo>
                <a:lnTo>
                  <a:pt x="13886" y="21600"/>
                </a:lnTo>
                <a:lnTo>
                  <a:pt x="0" y="21600"/>
                </a:lnTo>
                <a:lnTo>
                  <a:pt x="7714" y="10800"/>
                </a:lnTo>
                <a:close/>
              </a:path>
            </a:pathLst>
          </a:custGeom>
          <a:solidFill>
            <a:srgbClr val="99cc00"/>
          </a:solidFill>
          <a:ln w="25560">
            <a:solidFill>
              <a:srgbClr val="6f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22" name="Нашивка 8"/>
          <p:cNvSpPr/>
          <p:nvPr/>
        </p:nvSpPr>
        <p:spPr>
          <a:xfrm>
            <a:off x="1643040" y="3357720"/>
            <a:ext cx="500040" cy="357120"/>
          </a:xfrm>
          <a:custGeom>
            <a:avLst/>
            <a:gdLst>
              <a:gd name="textAreaLeft" fmla="*/ 0 w 500040"/>
              <a:gd name="textAreaRight" fmla="*/ 500400 w 500040"/>
              <a:gd name="textAreaTop" fmla="*/ 0 h 357120"/>
              <a:gd name="textAreaBottom" fmla="*/ 35748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886" y="0"/>
                </a:lnTo>
                <a:lnTo>
                  <a:pt x="21600" y="10800"/>
                </a:lnTo>
                <a:lnTo>
                  <a:pt x="13886" y="21600"/>
                </a:lnTo>
                <a:lnTo>
                  <a:pt x="0" y="21600"/>
                </a:lnTo>
                <a:lnTo>
                  <a:pt x="7714" y="10800"/>
                </a:lnTo>
                <a:close/>
              </a:path>
            </a:pathLst>
          </a:custGeom>
          <a:solidFill>
            <a:srgbClr val="99cc00"/>
          </a:solidFill>
          <a:ln w="25560">
            <a:solidFill>
              <a:srgbClr val="6f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23" name="Нашивка 9"/>
          <p:cNvSpPr/>
          <p:nvPr/>
        </p:nvSpPr>
        <p:spPr>
          <a:xfrm>
            <a:off x="2143080" y="3357720"/>
            <a:ext cx="500040" cy="357120"/>
          </a:xfrm>
          <a:custGeom>
            <a:avLst/>
            <a:gdLst>
              <a:gd name="textAreaLeft" fmla="*/ 0 w 500040"/>
              <a:gd name="textAreaRight" fmla="*/ 500400 w 500040"/>
              <a:gd name="textAreaTop" fmla="*/ 0 h 357120"/>
              <a:gd name="textAreaBottom" fmla="*/ 35748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886" y="0"/>
                </a:lnTo>
                <a:lnTo>
                  <a:pt x="21600" y="10800"/>
                </a:lnTo>
                <a:lnTo>
                  <a:pt x="13886" y="21600"/>
                </a:lnTo>
                <a:lnTo>
                  <a:pt x="0" y="21600"/>
                </a:lnTo>
                <a:lnTo>
                  <a:pt x="7714" y="10800"/>
                </a:lnTo>
                <a:close/>
              </a:path>
            </a:pathLst>
          </a:custGeom>
          <a:solidFill>
            <a:srgbClr val="99cc00"/>
          </a:solidFill>
          <a:ln w="25560">
            <a:solidFill>
              <a:srgbClr val="6f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24" name="Нашивка 10"/>
          <p:cNvSpPr/>
          <p:nvPr/>
        </p:nvSpPr>
        <p:spPr>
          <a:xfrm>
            <a:off x="2643120" y="3357720"/>
            <a:ext cx="500040" cy="357120"/>
          </a:xfrm>
          <a:custGeom>
            <a:avLst/>
            <a:gdLst>
              <a:gd name="textAreaLeft" fmla="*/ 0 w 500040"/>
              <a:gd name="textAreaRight" fmla="*/ 500400 w 500040"/>
              <a:gd name="textAreaTop" fmla="*/ 0 h 357120"/>
              <a:gd name="textAreaBottom" fmla="*/ 35748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886" y="0"/>
                </a:lnTo>
                <a:lnTo>
                  <a:pt x="21600" y="10800"/>
                </a:lnTo>
                <a:lnTo>
                  <a:pt x="13886" y="21600"/>
                </a:lnTo>
                <a:lnTo>
                  <a:pt x="0" y="21600"/>
                </a:lnTo>
                <a:lnTo>
                  <a:pt x="7714" y="10800"/>
                </a:lnTo>
                <a:close/>
              </a:path>
            </a:pathLst>
          </a:custGeom>
          <a:solidFill>
            <a:srgbClr val="99cc00"/>
          </a:solidFill>
          <a:ln w="25560">
            <a:solidFill>
              <a:srgbClr val="6f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25" name="Rectangle 2"/>
          <p:cNvSpPr/>
          <p:nvPr/>
        </p:nvSpPr>
        <p:spPr>
          <a:xfrm>
            <a:off x="285840" y="1000080"/>
            <a:ext cx="328608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61616"/>
                </a:solidFill>
                <a:latin typeface="Calibri"/>
              </a:rPr>
              <a:t>Дать определение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26" name="Rectangle 2"/>
          <p:cNvSpPr/>
          <p:nvPr/>
        </p:nvSpPr>
        <p:spPr>
          <a:xfrm>
            <a:off x="214200" y="3244680"/>
            <a:ext cx="485784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61616"/>
                </a:solidFill>
                <a:latin typeface="Calibri"/>
              </a:rPr>
              <a:t>Выучить к следующему уроку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27" name="Rectangle 2"/>
          <p:cNvSpPr/>
          <p:nvPr/>
        </p:nvSpPr>
        <p:spPr>
          <a:xfrm>
            <a:off x="5643720" y="1000080"/>
            <a:ext cx="178596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61616"/>
                </a:solidFill>
                <a:latin typeface="Calibri"/>
              </a:rPr>
              <a:t>Подумай!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28" name="Номер слайда 14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E15D0-31FD-438E-89E6-77DF6C69C476}" type="slidenum">
              <a:rPr b="0" lang="en-US" sz="3200" spc="-1" strike="noStrike">
                <a:solidFill>
                  <a:srgbClr val="161616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642600" y="1904760"/>
            <a:ext cx="8202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1616"/>
                </a:solidFill>
                <a:latin typeface="Arial"/>
              </a:rPr>
              <a:t>Гибридологический метод.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1616"/>
                </a:solidFill>
                <a:latin typeface="Arial"/>
              </a:rPr>
              <a:t>Гибридизация – скрещивание 2-х организмов, различающихся альтернативными признаками.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61616"/>
                </a:solidFill>
                <a:latin typeface="Calibri"/>
              </a:rPr>
              <a:t>Метод</a:t>
            </a: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131" name="Номер слайда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38BE6-6F7E-4A72-B917-F24B23B162C7}" type="slidenum">
              <a:rPr b="0" lang="en-US" sz="3200" spc="-1" strike="noStrike">
                <a:solidFill>
                  <a:srgbClr val="161616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493200" y="1428840"/>
            <a:ext cx="8007480" cy="49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1616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b00"/>
                </a:solidFill>
                <a:latin typeface="Arial"/>
              </a:rPr>
              <a:t>Р</a:t>
            </a:r>
            <a:r>
              <a:rPr b="0" lang="ru-RU" sz="32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161616"/>
                </a:solidFill>
                <a:latin typeface="Arial"/>
              </a:rPr>
              <a:t>— родители;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1616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b00"/>
                </a:solidFill>
                <a:latin typeface="Arial"/>
              </a:rPr>
              <a:t>F</a:t>
            </a:r>
            <a:r>
              <a:rPr b="0" lang="ru-RU" sz="3200" spc="-1" strike="noStrike">
                <a:solidFill>
                  <a:srgbClr val="161616"/>
                </a:solidFill>
                <a:latin typeface="Arial"/>
              </a:rPr>
              <a:t> — потомство, (</a:t>
            </a:r>
            <a:r>
              <a:rPr b="0" lang="en-US" sz="3200" spc="-1" strike="noStrike">
                <a:solidFill>
                  <a:srgbClr val="008b00"/>
                </a:solidFill>
                <a:latin typeface="Arial"/>
              </a:rPr>
              <a:t>F</a:t>
            </a:r>
            <a:r>
              <a:rPr b="0" lang="ru-RU" sz="3200" spc="-1" strike="noStrike" baseline="-25000">
                <a:solidFill>
                  <a:srgbClr val="008b00"/>
                </a:solidFill>
                <a:latin typeface="Arial"/>
              </a:rPr>
              <a:t>1</a:t>
            </a:r>
            <a:r>
              <a:rPr b="0" lang="ru-RU" sz="3200" spc="-1" strike="noStrike">
                <a:solidFill>
                  <a:srgbClr val="161616"/>
                </a:solidFill>
                <a:latin typeface="Arial"/>
              </a:rPr>
              <a:t> — гибриды первого поколения, </a:t>
            </a:r>
            <a:r>
              <a:rPr b="0" lang="en-US" sz="3200" spc="-1" strike="noStrike">
                <a:solidFill>
                  <a:srgbClr val="008b00"/>
                </a:solidFill>
                <a:latin typeface="Arial"/>
              </a:rPr>
              <a:t>F</a:t>
            </a:r>
            <a:r>
              <a:rPr b="0" lang="ru-RU" sz="3200" spc="-1" strike="noStrike" baseline="-25000">
                <a:solidFill>
                  <a:srgbClr val="008b00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161616"/>
                </a:solidFill>
                <a:latin typeface="Arial"/>
              </a:rPr>
              <a:t> — гибриды второго поколения);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1616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b00"/>
                </a:solidFill>
                <a:latin typeface="Arial"/>
              </a:rPr>
              <a:t>х</a:t>
            </a:r>
            <a:r>
              <a:rPr b="0" lang="ru-RU" sz="3200" spc="-1" strike="noStrike">
                <a:solidFill>
                  <a:srgbClr val="161616"/>
                </a:solidFill>
                <a:latin typeface="Arial"/>
              </a:rPr>
              <a:t> — значок скрещивания;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♂</a:t>
            </a:r>
            <a:r>
              <a:rPr b="0" lang="ru-RU" sz="3200" spc="-1" strike="noStrike">
                <a:solidFill>
                  <a:srgbClr val="161616"/>
                </a:solidFill>
                <a:latin typeface="Arial"/>
              </a:rPr>
              <a:t> — мужская особь;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♀</a:t>
            </a:r>
            <a:r>
              <a:rPr b="0" lang="ru-RU" sz="3200" spc="-1" strike="noStrike">
                <a:solidFill>
                  <a:srgbClr val="161616"/>
                </a:solidFill>
                <a:latin typeface="Arial"/>
              </a:rPr>
              <a:t> — женская особь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1616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b00"/>
                </a:solidFill>
                <a:latin typeface="Arial"/>
              </a:rPr>
              <a:t>A</a:t>
            </a:r>
            <a:r>
              <a:rPr b="0" lang="ru-RU" sz="3200" spc="-1" strike="noStrike">
                <a:solidFill>
                  <a:srgbClr val="008b00"/>
                </a:solidFill>
                <a:latin typeface="Arial"/>
              </a:rPr>
              <a:t>, </a:t>
            </a:r>
            <a:r>
              <a:rPr b="0" lang="en-US" sz="3200" spc="-1" strike="noStrike">
                <a:solidFill>
                  <a:srgbClr val="008b00"/>
                </a:solidFill>
                <a:latin typeface="Arial"/>
              </a:rPr>
              <a:t>a</a:t>
            </a:r>
            <a:r>
              <a:rPr b="0" lang="ru-RU" sz="3200" spc="-1" strike="noStrike">
                <a:solidFill>
                  <a:srgbClr val="008b00"/>
                </a:solidFill>
                <a:latin typeface="Arial"/>
              </a:rPr>
              <a:t>, </a:t>
            </a:r>
            <a:r>
              <a:rPr b="0" lang="en-US" sz="3200" spc="-1" strike="noStrike">
                <a:solidFill>
                  <a:srgbClr val="008b00"/>
                </a:solidFill>
                <a:latin typeface="Arial"/>
              </a:rPr>
              <a:t>B</a:t>
            </a:r>
            <a:r>
              <a:rPr b="0" lang="ru-RU" sz="3200" spc="-1" strike="noStrike">
                <a:solidFill>
                  <a:srgbClr val="008b00"/>
                </a:solidFill>
                <a:latin typeface="Arial"/>
              </a:rPr>
              <a:t>, </a:t>
            </a:r>
            <a:r>
              <a:rPr b="0" lang="en-US" sz="3200" spc="-1" strike="noStrike">
                <a:solidFill>
                  <a:srgbClr val="008b00"/>
                </a:solidFill>
                <a:latin typeface="Arial"/>
              </a:rPr>
              <a:t>b</a:t>
            </a:r>
            <a:r>
              <a:rPr b="0" lang="ru-RU" sz="3200" spc="-1" strike="noStrike">
                <a:solidFill>
                  <a:srgbClr val="008b00"/>
                </a:solidFill>
                <a:latin typeface="Arial"/>
              </a:rPr>
              <a:t>, </a:t>
            </a:r>
            <a:r>
              <a:rPr b="0" lang="en-US" sz="3200" spc="-1" strike="noStrike">
                <a:solidFill>
                  <a:srgbClr val="008b00"/>
                </a:solidFill>
                <a:latin typeface="Arial"/>
              </a:rPr>
              <a:t>C</a:t>
            </a:r>
            <a:r>
              <a:rPr b="0" lang="ru-RU" sz="3200" spc="-1" strike="noStrike">
                <a:solidFill>
                  <a:srgbClr val="008b00"/>
                </a:solidFill>
                <a:latin typeface="Arial"/>
              </a:rPr>
              <a:t>, </a:t>
            </a:r>
            <a:r>
              <a:rPr b="0" lang="en-US" sz="3200" spc="-1" strike="noStrike">
                <a:solidFill>
                  <a:srgbClr val="008b00"/>
                </a:solidFill>
                <a:latin typeface="Arial"/>
              </a:rPr>
              <a:t>c</a:t>
            </a:r>
            <a:r>
              <a:rPr b="0" lang="ru-RU" sz="3200" spc="-1" strike="noStrike">
                <a:solidFill>
                  <a:srgbClr val="008b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161616"/>
                </a:solidFill>
                <a:latin typeface="Arial"/>
              </a:rPr>
              <a:t>— буквами латинского алфавита обозначаются отдельно взятые наследственные признаки.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33" name="Rectangle 2"/>
          <p:cNvSpPr/>
          <p:nvPr/>
        </p:nvSpPr>
        <p:spPr>
          <a:xfrm>
            <a:off x="0" y="0"/>
            <a:ext cx="914400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61616"/>
                </a:solidFill>
                <a:latin typeface="Calibri"/>
              </a:rPr>
              <a:t>Генетическая символика</a:t>
            </a:r>
            <a:endParaRPr b="0" lang="en-US" sz="4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34" name="Номер слайда 6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FAC07-6EDA-4707-9B0C-7171FC560E86}" type="slidenum">
              <a:rPr b="0" lang="en-US" sz="3200" spc="-1" strike="noStrike">
                <a:solidFill>
                  <a:srgbClr val="161616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8080" y="1857240"/>
            <a:ext cx="5662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00"/>
                </a:solidFill>
                <a:latin typeface="Arial"/>
              </a:rPr>
              <a:t>Моногибридное скрещивание – скрещивание организмов, анализируемых по одной паре альтернативных признаков.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136" name="Picture 5" descr=""/>
          <p:cNvPicPr/>
          <p:nvPr/>
        </p:nvPicPr>
        <p:blipFill>
          <a:blip r:embed="rId2"/>
          <a:stretch/>
        </p:blipFill>
        <p:spPr>
          <a:xfrm>
            <a:off x="6500880" y="1865160"/>
            <a:ext cx="2357280" cy="242100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2"/>
          <p:cNvSpPr/>
          <p:nvPr/>
        </p:nvSpPr>
        <p:spPr>
          <a:xfrm>
            <a:off x="0" y="0"/>
            <a:ext cx="914400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61616"/>
                </a:solidFill>
                <a:latin typeface="Calibri"/>
              </a:rPr>
              <a:t>Моногибридное скрещвание</a:t>
            </a:r>
            <a:endParaRPr b="0" lang="en-US" sz="4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38" name="Номер слайда 6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1ED60-3C0A-4A5A-B843-08D548CAFA49}" type="slidenum">
              <a:rPr b="0" lang="en-US" sz="3200" spc="-1" strike="noStrike">
                <a:solidFill>
                  <a:srgbClr val="161616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4" descr=""/>
          <p:cNvPicPr/>
          <p:nvPr/>
        </p:nvPicPr>
        <p:blipFill>
          <a:blip r:embed="rId2"/>
          <a:stretch/>
        </p:blipFill>
        <p:spPr>
          <a:xfrm>
            <a:off x="6000840" y="1643040"/>
            <a:ext cx="2928960" cy="5035680"/>
          </a:xfrm>
          <a:prstGeom prst="rect">
            <a:avLst/>
          </a:prstGeom>
          <a:ln w="9360">
            <a:solidFill>
              <a:srgbClr val="006600"/>
            </a:solidFill>
            <a:miter/>
          </a:ln>
        </p:spPr>
      </p:pic>
      <p:sp>
        <p:nvSpPr>
          <p:cNvPr id="140" name="TextBox 4"/>
          <p:cNvSpPr/>
          <p:nvPr/>
        </p:nvSpPr>
        <p:spPr>
          <a:xfrm>
            <a:off x="142920" y="1500120"/>
            <a:ext cx="54291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Первый закон: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  закон доминирования или закон единообразия гибридов первого поколения (доминантный признак – господствующий, рецессивный - скрытый). Доминирование – явление преобладания одного признака над другим.</a:t>
            </a:r>
            <a:endParaRPr b="0" lang="en-US" sz="2400" spc="-1" strike="noStrike">
              <a:solidFill>
                <a:srgbClr val="0066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Второй закон: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закон расщепления признаков.</a:t>
            </a:r>
            <a:endParaRPr b="0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41" name="Rectangle 2"/>
          <p:cNvSpPr/>
          <p:nvPr/>
        </p:nvSpPr>
        <p:spPr>
          <a:xfrm>
            <a:off x="0" y="0"/>
            <a:ext cx="914400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61616"/>
                </a:solidFill>
                <a:latin typeface="Calibri"/>
              </a:rPr>
              <a:t>Законы Менделя</a:t>
            </a:r>
            <a:endParaRPr b="0" lang="en-US" sz="4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42" name="Номер слайда 6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8C365-DE06-4370-9810-4F9970FBA3A2}" type="slidenum">
              <a:rPr b="0" lang="en-US" sz="3200" spc="-1" strike="noStrike">
                <a:solidFill>
                  <a:srgbClr val="161616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4"/>
          <p:cNvSpPr/>
          <p:nvPr/>
        </p:nvSpPr>
        <p:spPr>
          <a:xfrm>
            <a:off x="4067280" y="714240"/>
            <a:ext cx="47527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Соматические клетки диплоидны, в паре гомологичных хромосом находятся пара аллелей генов, контролирующие окраску горошин.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У одного из родителей это аллели </a:t>
            </a:r>
            <a:r>
              <a:rPr b="0" i="1" lang="ru-RU" sz="1800" spc="-1" strike="noStrike">
                <a:solidFill>
                  <a:srgbClr val="ff3300"/>
                </a:solidFill>
                <a:latin typeface="Arial"/>
              </a:rPr>
              <a:t>АА</a:t>
            </a: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, у другого – </a:t>
            </a:r>
            <a:r>
              <a:rPr b="0" i="1" lang="ru-RU" sz="1800" spc="-1" strike="noStrike">
                <a:solidFill>
                  <a:srgbClr val="ff3300"/>
                </a:solidFill>
                <a:latin typeface="Arial"/>
              </a:rPr>
              <a:t>аа</a:t>
            </a: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При образовании гамет происходит мейоз, в гаметы попадает только один ген из пары. Все гаметы одного родителя содержат аллель </a:t>
            </a:r>
            <a:r>
              <a:rPr b="0" i="1" lang="ru-RU" sz="1800" spc="-1" strike="noStrike">
                <a:solidFill>
                  <a:srgbClr val="ff3300"/>
                </a:solidFill>
                <a:latin typeface="Arial"/>
              </a:rPr>
              <a:t>А</a:t>
            </a: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, другого – </a:t>
            </a:r>
            <a:r>
              <a:rPr b="0" i="1" lang="ru-RU" sz="1800" spc="-1" strike="noStrike">
                <a:solidFill>
                  <a:srgbClr val="ff3300"/>
                </a:solidFill>
                <a:latin typeface="Arial"/>
              </a:rPr>
              <a:t>а</a:t>
            </a: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144" name="Picture 5" descr=""/>
          <p:cNvPicPr/>
          <p:nvPr/>
        </p:nvPicPr>
        <p:blipFill>
          <a:blip r:embed="rId2"/>
          <a:stretch/>
        </p:blipFill>
        <p:spPr>
          <a:xfrm>
            <a:off x="136440" y="692280"/>
            <a:ext cx="3935520" cy="5905440"/>
          </a:xfrm>
          <a:prstGeom prst="rect">
            <a:avLst/>
          </a:prstGeom>
          <a:ln w="9360">
            <a:solidFill>
              <a:srgbClr val="006600"/>
            </a:solidFill>
            <a:miter/>
          </a:ln>
        </p:spPr>
      </p:pic>
      <p:sp>
        <p:nvSpPr>
          <p:cNvPr id="145" name="Скругленный прямоугольник 4"/>
          <p:cNvSpPr/>
          <p:nvPr/>
        </p:nvSpPr>
        <p:spPr>
          <a:xfrm>
            <a:off x="4214880" y="2071800"/>
            <a:ext cx="4500360" cy="100008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25560">
            <a:solidFill>
              <a:srgbClr val="6f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ллель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llelon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, греч. - другой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) – одна из двух альтернативных форм гена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46" name="Скругленный прямоугольник 5"/>
          <p:cNvSpPr/>
          <p:nvPr/>
        </p:nvSpPr>
        <p:spPr>
          <a:xfrm>
            <a:off x="4214880" y="5143680"/>
            <a:ext cx="4500360" cy="100008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25560">
            <a:solidFill>
              <a:srgbClr val="6f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Гипотеза чистоты гамет:</a:t>
            </a: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гаметы "чисты", содержат только один наследственный признак из пары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47" name="Rectangle 2"/>
          <p:cNvSpPr/>
          <p:nvPr/>
        </p:nvSpPr>
        <p:spPr>
          <a:xfrm>
            <a:off x="0" y="-357120"/>
            <a:ext cx="914400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61616"/>
                </a:solidFill>
                <a:latin typeface="Calibri"/>
              </a:rPr>
              <a:t>Цитологические основы</a:t>
            </a:r>
            <a:endParaRPr b="0" lang="en-US" sz="36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48" name="Номер слайда 7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7ECCA-EEC9-48F1-A13B-D7F34F3B43DD}" type="slidenum">
              <a:rPr b="0" lang="ru-RU" sz="3200" spc="-1" strike="noStrike">
                <a:solidFill>
                  <a:srgbClr val="161616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3"/>
          <p:cNvSpPr/>
          <p:nvPr/>
        </p:nvSpPr>
        <p:spPr>
          <a:xfrm>
            <a:off x="4067280" y="765000"/>
            <a:ext cx="4897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Гибриды </a:t>
            </a: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F1 </a:t>
            </a: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–единообразны и по фенотипу и по генотипу. 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Гибриды 1 поколения гетерозиготны и образуют два типа гамет – 50% гамет с аллелем </a:t>
            </a:r>
            <a:r>
              <a:rPr b="0" i="1" lang="ru-RU" sz="1800" spc="-1" strike="noStrike">
                <a:solidFill>
                  <a:srgbClr val="ff3300"/>
                </a:solidFill>
                <a:latin typeface="Arial"/>
              </a:rPr>
              <a:t>А</a:t>
            </a: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, 50% - с аллелем </a:t>
            </a:r>
            <a:r>
              <a:rPr b="0" i="1" lang="ru-RU" sz="1800" spc="-1" strike="noStrike">
                <a:solidFill>
                  <a:srgbClr val="ff3300"/>
                </a:solidFill>
                <a:latin typeface="Arial"/>
              </a:rPr>
              <a:t>а</a:t>
            </a: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У гибридов второго поколения 1/4 зигот содержит аллели </a:t>
            </a:r>
            <a:r>
              <a:rPr b="0" i="1" lang="ru-RU" sz="1800" spc="-1" strike="noStrike">
                <a:solidFill>
                  <a:srgbClr val="ff3300"/>
                </a:solidFill>
                <a:latin typeface="Arial"/>
              </a:rPr>
              <a:t>АА</a:t>
            </a: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, 1/2 - </a:t>
            </a:r>
            <a:r>
              <a:rPr b="0" i="1" lang="ru-RU" sz="1800" spc="-1" strike="noStrike">
                <a:solidFill>
                  <a:srgbClr val="ff3300"/>
                </a:solidFill>
                <a:latin typeface="Arial"/>
              </a:rPr>
              <a:t>Аа</a:t>
            </a: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, 1/4 – </a:t>
            </a:r>
            <a:r>
              <a:rPr b="0" i="1" lang="ru-RU" sz="1800" spc="-1" strike="noStrike">
                <a:solidFill>
                  <a:srgbClr val="ff3300"/>
                </a:solidFill>
                <a:latin typeface="Arial"/>
              </a:rPr>
              <a:t>аа</a:t>
            </a: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У гибридов второго поколения наблюдается расщепление: по фенотипу 3:1, по генотипу 1:2:1.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150" name="Picture 4" descr=""/>
          <p:cNvPicPr/>
          <p:nvPr/>
        </p:nvPicPr>
        <p:blipFill>
          <a:blip r:embed="rId2"/>
          <a:stretch/>
        </p:blipFill>
        <p:spPr>
          <a:xfrm>
            <a:off x="136440" y="692280"/>
            <a:ext cx="3935520" cy="5905440"/>
          </a:xfrm>
          <a:prstGeom prst="rect">
            <a:avLst/>
          </a:prstGeom>
          <a:ln w="9360">
            <a:solidFill>
              <a:srgbClr val="006600"/>
            </a:solidFill>
            <a:miter/>
          </a:ln>
        </p:spPr>
      </p:pic>
      <p:sp>
        <p:nvSpPr>
          <p:cNvPr id="151" name="Rectangle 2"/>
          <p:cNvSpPr/>
          <p:nvPr/>
        </p:nvSpPr>
        <p:spPr>
          <a:xfrm>
            <a:off x="0" y="-357120"/>
            <a:ext cx="914400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61616"/>
                </a:solidFill>
                <a:latin typeface="Calibri"/>
              </a:rPr>
              <a:t>Цитологические основы</a:t>
            </a:r>
            <a:endParaRPr b="0" lang="en-US" sz="36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52" name="Номер слайда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87FA0-093D-458A-B3BD-8F9B869AD878}" type="slidenum">
              <a:rPr b="0" lang="ru-RU" sz="3200" spc="-1" strike="noStrike">
                <a:solidFill>
                  <a:srgbClr val="161616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7T09:15:50Z</dcterms:created>
  <dc:creator>Archie</dc:creator>
  <dc:description/>
  <dc:language>en-US</dc:language>
  <cp:lastModifiedBy>КарМаН</cp:lastModifiedBy>
  <dcterms:modified xsi:type="dcterms:W3CDTF">2012-04-24T19:57:43Z</dcterms:modified>
  <cp:revision>42</cp:revision>
  <dc:subject/>
  <dc:title>Моногибридное скрещивание</dc:title>
</cp:coreProperties>
</file>