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jpeg" ContentType="image/jpeg"/>
  <Override PartName="/ppt/media/image33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0.png" ContentType="image/png"/>
  <Override PartName="/ppt/media/image25.png" ContentType="image/png"/>
  <Override PartName="/ppt/media/image1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59.png" ContentType="image/png"/>
  <Override PartName="/ppt/media/image24.jpeg" ContentType="image/jpeg"/>
  <Override PartName="/ppt/media/image15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64.gif" ContentType="image/gif"/>
  <Override PartName="/ppt/media/image36.jpeg" ContentType="image/jpeg"/>
  <Override PartName="/ppt/media/image57.png" ContentType="image/png"/>
  <Override PartName="/ppt/media/image32.png" ContentType="image/png"/>
  <Override PartName="/ppt/media/image2.png" ContentType="image/png"/>
  <Override PartName="/ppt/media/image18.png" ContentType="image/png"/>
  <Override PartName="/ppt/media/image42.jpeg" ContentType="image/jpeg"/>
  <Override PartName="/ppt/media/image6.png" ContentType="image/png"/>
  <Override PartName="/ppt/media/image29.png" ContentType="image/png"/>
  <Override PartName="/ppt/media/image63.gif" ContentType="image/gif"/>
  <Override PartName="/ppt/media/image61.gif" ContentType="image/gif"/>
  <Override PartName="/ppt/media/image14.jpeg" ContentType="image/jpeg"/>
  <Override PartName="/ppt/media/image62.png" ContentType="image/png"/>
  <Override PartName="/ppt/media/image26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28.jpeg" ContentType="image/jpeg"/>
  <Override PartName="/ppt/media/image11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png" ContentType="image/png"/>
  <Override PartName="/ppt/media/image38.jpeg" ContentType="image/jpeg"/>
  <Override PartName="/ppt/media/image40.png" ContentType="image/png"/>
  <Override PartName="/ppt/media/image3.jpeg" ContentType="image/jpeg"/>
  <Override PartName="/ppt/media/image41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65.gif" ContentType="image/gif"/>
  <Override PartName="/ppt/media/image47.jpeg" ContentType="image/jpeg"/>
  <Override PartName="/ppt/media/image48.png" ContentType="image/png"/>
  <Override PartName="/ppt/media/image49.jpeg" ContentType="image/jpeg"/>
  <Override PartName="/ppt/media/image50.png" ContentType="image/png"/>
  <Override PartName="/ppt/media/image51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2EE-0EAF-4152-A75C-2F8398AA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49C-34C5-4F0E-A572-D0D1FA41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246-FEB7-4DC0-BE59-AF02F6EE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20F-FAEA-437E-9314-BAD6C1A5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146-A9F0-4317-9157-5C5E07AB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DE2-C217-4A86-8A3A-2C61A272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02E-9EA8-45A9-AA81-B0D03637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315B-15B8-4D5D-911A-DDA670A7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B9D-7343-4D72-B813-C8A1C94F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A53-B3B0-4B66-A87B-0750AF98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318-6144-4DFF-8500-A19D6D43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DDF-46BD-4D07-8176-538A9D31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405F-081A-4097-9ED1-5059E0D1E0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gif"/><Relationship Id="rId3" Type="http://schemas.openxmlformats.org/officeDocument/2006/relationships/image" Target="../media/image62.png"/><Relationship Id="rId4" Type="http://schemas.openxmlformats.org/officeDocument/2006/relationships/image" Target="../media/image63.gif"/><Relationship Id="rId5" Type="http://schemas.openxmlformats.org/officeDocument/2006/relationships/image" Target="../media/image64.gif"/><Relationship Id="rId6" Type="http://schemas.openxmlformats.org/officeDocument/2006/relationships/image" Target="../media/image6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7" descr=""/>
          <p:cNvPicPr/>
          <p:nvPr/>
        </p:nvPicPr>
        <p:blipFill>
          <a:blip r:embed="rId2"/>
          <a:stretch/>
        </p:blipFill>
        <p:spPr>
          <a:xfrm>
            <a:off x="2743200" y="274680"/>
            <a:ext cx="6089760" cy="209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фото наследственных болезней\COUP14.jpg"/>
          <p:cNvPicPr/>
          <p:nvPr/>
        </p:nvPicPr>
        <p:blipFill>
          <a:blip r:embed="rId3"/>
          <a:stretch/>
        </p:blipFill>
        <p:spPr>
          <a:xfrm>
            <a:off x="324000" y="1557360"/>
            <a:ext cx="4498920" cy="496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076720" y="3860640"/>
            <a:ext cx="381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Учитель: Плотникова Е.Н</a:t>
            </a:r>
            <a:r>
              <a:rPr b="0" lang="en-US" sz="3200" spc="-1" strike="noStrike">
                <a:solidFill>
                  <a:srgbClr val="5c1f3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4" descr="фенилкетонурия.jpg"/>
          <p:cNvPicPr/>
          <p:nvPr/>
        </p:nvPicPr>
        <p:blipFill>
          <a:blip r:embed="rId3"/>
          <a:stretch/>
        </p:blipFill>
        <p:spPr>
          <a:xfrm>
            <a:off x="3780000" y="4002120"/>
            <a:ext cx="5160960" cy="285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E:\фото наследственных болезней\phenylketonuria_pathway_2.gif"/>
          <p:cNvPicPr/>
          <p:nvPr/>
        </p:nvPicPr>
        <p:blipFill>
          <a:blip r:embed="rId4"/>
          <a:stretch/>
        </p:blipFill>
        <p:spPr>
          <a:xfrm>
            <a:off x="179280" y="1268280"/>
            <a:ext cx="3448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"/>
          <p:cNvPicPr/>
          <p:nvPr/>
        </p:nvPicPr>
        <p:blipFill>
          <a:blip r:embed="rId3"/>
          <a:stretch/>
        </p:blipFill>
        <p:spPr>
          <a:xfrm>
            <a:off x="438120" y="1584360"/>
            <a:ext cx="8267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ьшение одного плеча 5-й хромосом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с.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ач, напоминающий кошачий кр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ая смертность в первый год жиз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Содержимое 6" descr="кошачьего крика или лежена.jpg"/>
          <p:cNvPicPr/>
          <p:nvPr/>
        </p:nvPicPr>
        <p:blipFill>
          <a:blip r:embed="rId3"/>
          <a:stretch/>
        </p:blipFill>
        <p:spPr>
          <a:xfrm>
            <a:off x="7020000" y="1341360"/>
            <a:ext cx="1841400" cy="204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фото наследственных болезней\кошачьего крика.jpg"/>
          <p:cNvPicPr/>
          <p:nvPr/>
        </p:nvPicPr>
        <p:blipFill>
          <a:blip r:embed="rId4"/>
          <a:stretch/>
        </p:blipFill>
        <p:spPr>
          <a:xfrm>
            <a:off x="4427640" y="3317760"/>
            <a:ext cx="26604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рожденные повреждения носа и ротовой пол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Содержимое 4" descr="заячья губа и волчья пасть.jpg"/>
          <p:cNvPicPr/>
          <p:nvPr/>
        </p:nvPicPr>
        <p:blipFill>
          <a:blip r:embed="rId3"/>
          <a:stretch/>
        </p:blipFill>
        <p:spPr>
          <a:xfrm>
            <a:off x="4308480" y="1197000"/>
            <a:ext cx="4835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8" descr=""/>
          <p:cNvPicPr/>
          <p:nvPr/>
        </p:nvPicPr>
        <p:blipFill>
          <a:blip r:embed="rId3"/>
          <a:stretch/>
        </p:blipFill>
        <p:spPr>
          <a:xfrm>
            <a:off x="-6480" y="1047600"/>
            <a:ext cx="89125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6" descr="6-лет мальчик с синдромом Клайнфельтера.jpg"/>
          <p:cNvPicPr/>
          <p:nvPr/>
        </p:nvPicPr>
        <p:blipFill>
          <a:blip r:embed="rId3"/>
          <a:stretch/>
        </p:blipFill>
        <p:spPr>
          <a:xfrm>
            <a:off x="324000" y="1413000"/>
            <a:ext cx="250344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987640" y="1341360"/>
            <a:ext cx="31687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ХХ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ужчина с женскими признак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ы половые желез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ысокий рос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линные ног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плеч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Широкий та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E:\фото наследственных болезней\klinefelter-sindrom-a-foto.jpg"/>
          <p:cNvPicPr/>
          <p:nvPr/>
        </p:nvPicPr>
        <p:blipFill>
          <a:blip r:embed="rId4"/>
          <a:stretch/>
        </p:blipFill>
        <p:spPr>
          <a:xfrm>
            <a:off x="6156360" y="1341360"/>
            <a:ext cx="2987640" cy="5112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250920" y="587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-ти летний мальчик с с. Клайнфель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8540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image119.gif"/>
          <p:cNvPicPr/>
          <p:nvPr/>
        </p:nvPicPr>
        <p:blipFill>
          <a:blip r:embed="rId3"/>
          <a:stretch/>
        </p:blipFill>
        <p:spPr>
          <a:xfrm>
            <a:off x="324000" y="1268280"/>
            <a:ext cx="4038480" cy="233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фото наследственных болезней\клиника Тернера шершевского.jpg"/>
          <p:cNvPicPr/>
          <p:nvPr/>
        </p:nvPicPr>
        <p:blipFill>
          <a:blip r:embed="rId4"/>
          <a:stretch/>
        </p:blipFill>
        <p:spPr>
          <a:xfrm>
            <a:off x="4500720" y="1197000"/>
            <a:ext cx="4473360" cy="5265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395280" y="357336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5,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енщина, небольшой ро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медленное половое созре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пло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ечи широкие, узкий 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E:\фото наследственных болезней\sm.jpg"/>
          <p:cNvPicPr/>
          <p:nvPr/>
        </p:nvPicPr>
        <p:blipFill>
          <a:blip r:embed="rId2"/>
          <a:stretch/>
        </p:blipFill>
        <p:spPr>
          <a:xfrm>
            <a:off x="539640" y="0"/>
            <a:ext cx="8163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патау клиника.jpg"/>
          <p:cNvPicPr/>
          <p:nvPr/>
        </p:nvPicPr>
        <p:blipFill>
          <a:blip r:embed="rId3"/>
          <a:stretch/>
        </p:blipFill>
        <p:spPr>
          <a:xfrm>
            <a:off x="179280" y="1268280"/>
            <a:ext cx="442764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патау набор хромосом.gif"/>
          <p:cNvPicPr/>
          <p:nvPr/>
        </p:nvPicPr>
        <p:blipFill>
          <a:blip r:embed="rId4"/>
          <a:stretch/>
        </p:blipFill>
        <p:spPr>
          <a:xfrm>
            <a:off x="4700520" y="1413000"/>
            <a:ext cx="4192560" cy="4824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250920" y="3933720"/>
            <a:ext cx="424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7,13,13,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меньшение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щепление верхней губы и нё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вышенная гибкость суст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390600" y="-85680"/>
            <a:ext cx="8240760" cy="969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48320" y="1268280"/>
            <a:ext cx="4495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21,21,2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короченные конеч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ленький череп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оское широкое перенось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глазные щели 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осым разрез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ероятность рождения увеличивается в 10-20 раз в возрасте 35-45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down_syndrome_270"/>
          <p:cNvPicPr/>
          <p:nvPr/>
        </p:nvPicPr>
        <p:blipFill>
          <a:blip r:embed="rId3"/>
          <a:stretch/>
        </p:blipFill>
        <p:spPr>
          <a:xfrm>
            <a:off x="50760" y="1197000"/>
            <a:ext cx="4592520" cy="5048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5" descr=""/>
          <p:cNvPicPr/>
          <p:nvPr/>
        </p:nvPicPr>
        <p:blipFill>
          <a:blip r:embed="rId3"/>
          <a:stretch/>
        </p:blipFill>
        <p:spPr>
          <a:xfrm>
            <a:off x="-19080" y="1189080"/>
            <a:ext cx="4572000" cy="567540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6" descr=""/>
          <p:cNvPicPr/>
          <p:nvPr/>
        </p:nvPicPr>
        <p:blipFill>
          <a:blip r:embed="rId4"/>
          <a:stretch/>
        </p:blipFill>
        <p:spPr>
          <a:xfrm>
            <a:off x="4645080" y="1481040"/>
            <a:ext cx="43275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50920" y="1484280"/>
            <a:ext cx="3960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следуется предрасположенность к болезни, а не сама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ахарный диаб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ипертоническая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арикозное расширение ве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коголизм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Содержимое 4" descr="ce5f2b5c016d.jpg"/>
          <p:cNvPicPr/>
          <p:nvPr/>
        </p:nvPicPr>
        <p:blipFill>
          <a:blip r:embed="rId3"/>
          <a:stretch/>
        </p:blipFill>
        <p:spPr>
          <a:xfrm>
            <a:off x="4151160" y="1628640"/>
            <a:ext cx="4815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5" descr=""/>
          <p:cNvPicPr/>
          <p:nvPr/>
        </p:nvPicPr>
        <p:blipFill>
          <a:blip r:embed="rId3"/>
          <a:stretch/>
        </p:blipFill>
        <p:spPr>
          <a:xfrm>
            <a:off x="390600" y="1547640"/>
            <a:ext cx="84294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1196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Если есть в семье наследственные боле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ождение детей после 35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Длительный прием женщиной лекарственных препарат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 противосудорожных, противоопухолевых, кортикостероид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онтакт с токсическими и радиоактивными веществами, приём алкоголя и наркот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Близкородственные бр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401320" cy="14461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6" descr=""/>
          <p:cNvPicPr/>
          <p:nvPr/>
        </p:nvPicPr>
        <p:blipFill>
          <a:blip r:embed="rId3"/>
          <a:stretch/>
        </p:blipFill>
        <p:spPr>
          <a:xfrm>
            <a:off x="450720" y="1584360"/>
            <a:ext cx="82425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учение родословной (не менее 3-х поколени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енетическое тест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стракорпоральное оплодотворение с предимплантационной диагности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ещение УЗИ и сдача крови во время бе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опсия хори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683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причины возникновения 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характерные признаки изменений со стороны хромос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ему дальтонизм чаще встречается у мужчин, чем у женщи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е значение имеет охрана окружающей среды в профилактике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м образом планирование семьи снижает риск рождения больного ребе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sv02.gif"/>
          <p:cNvPicPr/>
          <p:nvPr/>
        </p:nvPicPr>
        <p:blipFill>
          <a:blip r:embed="rId2"/>
          <a:stretch/>
        </p:blipFill>
        <p:spPr>
          <a:xfrm>
            <a:off x="6215040" y="4286160"/>
            <a:ext cx="2524320" cy="277200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2" descr=""/>
          <p:cNvPicPr/>
          <p:nvPr/>
        </p:nvPicPr>
        <p:blipFill>
          <a:blip r:embed="rId3"/>
          <a:stretch/>
        </p:blipFill>
        <p:spPr>
          <a:xfrm>
            <a:off x="450720" y="1335240"/>
            <a:ext cx="8242560" cy="4979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5.gif"/>
          <p:cNvPicPr/>
          <p:nvPr/>
        </p:nvPicPr>
        <p:blipFill>
          <a:blip r:embed="rId4"/>
          <a:stretch/>
        </p:blipFill>
        <p:spPr>
          <a:xfrm>
            <a:off x="0" y="5500800"/>
            <a:ext cx="1285920" cy="1117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9.gif"/>
          <p:cNvPicPr/>
          <p:nvPr/>
        </p:nvPicPr>
        <p:blipFill>
          <a:blip r:embed="rId5"/>
          <a:stretch/>
        </p:blipFill>
        <p:spPr>
          <a:xfrm rot="8880600">
            <a:off x="12600" y="5400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3.jpg.gif"/>
          <p:cNvPicPr/>
          <p:nvPr/>
        </p:nvPicPr>
        <p:blipFill>
          <a:blip r:embed="rId6"/>
          <a:stretch/>
        </p:blipFill>
        <p:spPr>
          <a:xfrm rot="14851200">
            <a:off x="7908120" y="307080"/>
            <a:ext cx="1114560" cy="9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-0.10185 C 0.00729 -0.203 -0.00364 -0.30416 0.02969 -0.40856 C 0.06302 -0.51296 0.10209 -0.68032 0.21841 -0.72847 C 0.33472 -0.77662 0.62726 -0.77939 0.72726 -0.69699 C 0.82726 -0.61458 0.82275 -0.42407 0.81841 -0.23356 E">
                                      <p:cBhvr>
                                        <p:cTn id="11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2315 C 0.08767 0.0706 0.16128 0.11806 0.26042 0.22477 C 0.35955 0.33125 0.48437 0.49722 0.60885 0.66273 E">
                                      <p:cBhvr>
                                        <p:cTn id="118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6 0.00972 C -0.0441 0.02477 -0.06146 0.03981 -0.09531 0.07963 C -0.12917 0.11944 -0.21563 0.17199 -0.23021 0.24815 C -0.24479 0.3243 -0.21389 0.43032 -0.18281 0.53634 E">
                                      <p:cBhvr>
                                        <p:cTn id="120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"/>
          <p:cNvPicPr/>
          <p:nvPr/>
        </p:nvPicPr>
        <p:blipFill>
          <a:blip r:embed="rId3"/>
          <a:stretch/>
        </p:blipFill>
        <p:spPr>
          <a:xfrm>
            <a:off x="438120" y="1468440"/>
            <a:ext cx="82677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920" y="1699920"/>
            <a:ext cx="306072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Эритроциты приобретают форму серпа и теряют способность к нормальному транспорту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5" descr="serpovidnokletochnaya-bolez.jpg"/>
          <p:cNvPicPr/>
          <p:nvPr/>
        </p:nvPicPr>
        <p:blipFill>
          <a:blip r:embed="rId3"/>
          <a:stretch/>
        </p:blipFill>
        <p:spPr>
          <a:xfrm>
            <a:off x="5987880" y="1125360"/>
            <a:ext cx="290520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E:\фото наследственных болезней\распространение серповидноклеточной анемии.jpg"/>
          <p:cNvPicPr/>
          <p:nvPr/>
        </p:nvPicPr>
        <p:blipFill>
          <a:blip r:embed="rId4"/>
          <a:stretch/>
        </p:blipFill>
        <p:spPr>
          <a:xfrm>
            <a:off x="3203640" y="3645000"/>
            <a:ext cx="34765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величение числа пальцев до 6-9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 негров встречается в10 раз чащ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6" descr="полдактилия.jpg"/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фото наследственных болезней\полидактилия.jpg"/>
          <p:cNvPicPr/>
          <p:nvPr/>
        </p:nvPicPr>
        <p:blipFill>
          <a:blip r:embed="rId4"/>
          <a:stretch/>
        </p:blipFill>
        <p:spPr>
          <a:xfrm>
            <a:off x="179280" y="3429000"/>
            <a:ext cx="417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5" descr="ахондроплазия.jpg"/>
          <p:cNvPicPr/>
          <p:nvPr/>
        </p:nvPicPr>
        <p:blipFill>
          <a:blip r:embed="rId3"/>
          <a:stretch/>
        </p:blipFill>
        <p:spPr>
          <a:xfrm>
            <a:off x="250920" y="2060640"/>
            <a:ext cx="4513320" cy="33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716000" y="1341360"/>
            <a:ext cx="4038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номальный рост хрящевой тка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ие костей в длин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Бедренные и плечевые кости деформирова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E:\фото наследственных болезней\ахондроплазия2.jpg"/>
          <p:cNvPicPr/>
          <p:nvPr/>
        </p:nvPicPr>
        <p:blipFill>
          <a:blip r:embed="rId4"/>
          <a:stretch/>
        </p:blipFill>
        <p:spPr>
          <a:xfrm>
            <a:off x="5940360" y="4565520"/>
            <a:ext cx="21938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4" descr="дальтонизм.jpg"/>
          <p:cNvPicPr/>
          <p:nvPr/>
        </p:nvPicPr>
        <p:blipFill>
          <a:blip r:embed="rId3"/>
          <a:stretch/>
        </p:blipFill>
        <p:spPr>
          <a:xfrm>
            <a:off x="395280" y="1341360"/>
            <a:ext cx="4038480" cy="32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2920" y="1341360"/>
            <a:ext cx="4038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Цветовая слепо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4572000" y="3860640"/>
            <a:ext cx="4294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65520" y="201600"/>
            <a:ext cx="412776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:\фото наследственных болезней\тест на дальтонизм.jpg"/>
          <p:cNvPicPr/>
          <p:nvPr/>
        </p:nvPicPr>
        <p:blipFill>
          <a:blip r:embed="rId3"/>
          <a:stretch/>
        </p:blipFill>
        <p:spPr>
          <a:xfrm>
            <a:off x="179280" y="0"/>
            <a:ext cx="4210200" cy="414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E:\фото наследственных болезней\тест на дальтонизм-2.jpg"/>
          <p:cNvPicPr/>
          <p:nvPr/>
        </p:nvPicPr>
        <p:blipFill>
          <a:blip r:embed="rId4"/>
          <a:stretch/>
        </p:blipFill>
        <p:spPr>
          <a:xfrm>
            <a:off x="4427640" y="2060640"/>
            <a:ext cx="4576680" cy="45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фото наследственных болезней\get.jpg"/>
          <p:cNvPicPr/>
          <p:nvPr/>
        </p:nvPicPr>
        <p:blipFill>
          <a:blip r:embed="rId5"/>
          <a:stretch/>
        </p:blipFill>
        <p:spPr>
          <a:xfrm>
            <a:off x="900000" y="4292640"/>
            <a:ext cx="23083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8360" y="1268280"/>
            <a:ext cx="4038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свертываемость кро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Содержимое 4" descr="гемофилия.jpg"/>
          <p:cNvPicPr/>
          <p:nvPr/>
        </p:nvPicPr>
        <p:blipFill>
          <a:blip r:embed="rId3"/>
          <a:stretch/>
        </p:blipFill>
        <p:spPr>
          <a:xfrm>
            <a:off x="6507000" y="260280"/>
            <a:ext cx="2435400" cy="345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E:\фото наследственных болезней\23018935_artlib_gallery23929b.jpg"/>
          <p:cNvPicPr/>
          <p:nvPr/>
        </p:nvPicPr>
        <p:blipFill>
          <a:blip r:embed="rId4"/>
          <a:stretch/>
        </p:blipFill>
        <p:spPr>
          <a:xfrm>
            <a:off x="1187280" y="3108240"/>
            <a:ext cx="4537080" cy="374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фото наследственных болезней\haemophilia.jpg"/>
          <p:cNvPicPr/>
          <p:nvPr/>
        </p:nvPicPr>
        <p:blipFill>
          <a:blip r:embed="rId5"/>
          <a:stretch/>
        </p:blipFill>
        <p:spPr>
          <a:xfrm>
            <a:off x="6012000" y="3716280"/>
            <a:ext cx="2592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3:40:36Z</dcterms:created>
  <dc:creator>student11</dc:creator>
  <dc:description/>
  <dc:language>en-US</dc:language>
  <cp:lastModifiedBy>КарМаН</cp:lastModifiedBy>
  <dcterms:modified xsi:type="dcterms:W3CDTF">2012-03-20T01:51:37Z</dcterms:modified>
  <cp:revision>70</cp:revision>
  <dc:subject/>
  <dc:title>Слайд 1</dc:title>
</cp:coreProperties>
</file>