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90D2-B53B-4A1E-A43E-ECA221B877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84B2-B6A8-4D67-84DE-D3D3F93B78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D40-ED0D-4C8C-8512-36433081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2F1-9673-4027-A522-154833F6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A5F-A4A6-4C34-8137-04F2AE11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529-445B-4CB8-930F-0DD48E51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BA8B-15A3-4945-BF04-96C24958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2793-2E42-421C-9FCA-E9A2412D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B9A1-F147-4355-8B1C-F75E04A4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B637-56E7-4879-9B9A-CD85DBF2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1EC4-A722-4125-B9E5-79173207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029C-637F-44E6-987C-3C6AB1F5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BE42-27F6-4E53-8396-2BAB5F77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B90-731B-40B5-AC1C-82BF3DA4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89E9-2A85-48ED-B9CF-30205D92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9DF1-CDD9-4EC2-BBA4-DE439D3C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5318-EF86-4AC6-9F27-18E28D18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7FAB-1C19-45F6-8C04-CE223794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C12C-DCBB-4FAA-AEC0-1B1FC5D5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4CB8C-3739-45CE-9721-D6FC3DB7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6B7DA-14BA-47A1-BA2C-218FA9CA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9A73E-BBCF-4EDE-8BF2-9B86ACDF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F1E07-B66A-45E2-A507-CF507159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2E371-3AAE-40B5-82D8-AB74BAA6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960-7000-4956-ACD5-282B163D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B5545-A544-49B2-888B-3589F299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0ED86-4768-4AB4-926B-F2E4FE67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60554-4C87-4B08-A677-E1197CB3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C099F-56A9-4FEF-83E5-F7527A02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57D09-087A-4CDF-9DCD-ED63E3FD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CBA66-DD94-4C34-8197-005DCE35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7DFEA-9EA2-4572-B959-CA5D513B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05540-36DD-4E80-B569-7B760A4E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8FC95-E7F4-4B19-9557-A54366A9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0AD54-5CFB-4FC4-8715-F4A0A442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FD6-0DB0-4E26-B82B-946A222F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82979-074D-4D20-AE78-6E9354AE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515E2-D4E0-490E-A9DC-45921772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42EF2-20F4-48D4-B909-7045D9CC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D0925-7CFD-4331-8DAD-778B8D95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F84D8-ABD0-48C9-AD3E-EB3DB3C3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507AA-8054-4425-ABCF-9CF75D0E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9208E-5A87-4C63-B38A-76A51E14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80609-7DAE-4291-94FD-9EDD0520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69F2F-20BF-4FE9-858A-8524D68A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7BFF5-7697-4E04-946C-ACBA5E40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44C-E4A9-4FBB-9AAD-A7348D8A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542A7-894B-4534-B8CF-CFFD0BA9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ECF4A-F1B9-4BEE-86C5-BDBA5894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EA77C-2B86-42C9-91E9-66FFC979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09ECD-5AFF-4307-81E8-A4149393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7EAA8-2B23-44E9-8964-0B57D247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4918F-94EB-4DCB-8D02-EC5AEDBB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5B1D3-E389-4FB0-80F6-9A8F2289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9E549-D250-4B9A-8E76-ED038803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72003-6E4B-4688-8670-8DC861C3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3AC56-3174-407C-B3D8-73E98BB6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C5FD-47C9-4E8D-AB44-626445FC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8CDB4-55D0-48A1-A24D-180A8A8E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7E4-A08F-4FAA-9E8D-F4BC789E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DC3-DD69-4373-88FB-1DFC7000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4B4-3F0A-4ADA-A385-1924B844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66E4-55E6-40BC-A54D-4C5C57C5846A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BF68-2658-46A0-866B-AED18A417D2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9DB2-DDC8-40CF-A266-70A6E4756322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A6C6-060B-4DEE-BFCE-E9D984D4E67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82F5-E61D-43CD-917D-2C61A4A83E13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411F-250E-42AF-81C8-8A26F120EF2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C90D-3380-4C0E-8577-588AD475CC4D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F334-89EF-4A24-B234-3B6706F8D89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C5AE-02A8-4983-B196-EC2A35D5D80F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18E8-A90E-4912-AB77-BF22B40CB33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b6431"/>
                </a:solidFill>
                <a:latin typeface="Verdana"/>
              </a:rPr>
              <a:t>Половое размножение растений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6-й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МОУ СОШ №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D:\All_f\Tema\Art\Nature\1117.jpg"/>
          <p:cNvPicPr/>
          <p:nvPr/>
        </p:nvPicPr>
        <p:blipFill>
          <a:blip r:embed="rId1"/>
          <a:stretch/>
        </p:blipFill>
        <p:spPr>
          <a:xfrm>
            <a:off x="357120" y="357192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642960" y="12142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ыление – это процесс переноса пыльцы с тычинки на рыльце пест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A65D-E788-4137-9026-3E83B784F987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11" descr="opilehie"/>
          <p:cNvPicPr/>
          <p:nvPr/>
        </p:nvPicPr>
        <p:blipFill>
          <a:blip r:embed="rId1"/>
          <a:stretch/>
        </p:blipFill>
        <p:spPr>
          <a:xfrm>
            <a:off x="1214280" y="2500200"/>
            <a:ext cx="6769080" cy="23115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214280" y="2071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амоопыл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4788000" y="213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рекрест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с одним вырезанным скругленным углом 17"/>
          <p:cNvSpPr/>
          <p:nvPr/>
        </p:nvSpPr>
        <p:spPr>
          <a:xfrm>
            <a:off x="5143680" y="1357200"/>
            <a:ext cx="3500280" cy="4429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571680" y="155880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может переносит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CDB1-F222-42E0-B547-6A2B372FC8BF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58360" y="241452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секомыми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89760" y="3062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тицами       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23600" y="3914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до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76440" y="47721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етром        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9" descr="птица"/>
          <p:cNvPicPr/>
          <p:nvPr/>
        </p:nvPicPr>
        <p:blipFill>
          <a:blip r:embed="rId1"/>
          <a:stretch/>
        </p:blipFill>
        <p:spPr>
          <a:xfrm>
            <a:off x="3562200" y="29862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вода"/>
          <p:cNvPicPr/>
          <p:nvPr/>
        </p:nvPicPr>
        <p:blipFill>
          <a:blip r:embed="rId2"/>
          <a:stretch/>
        </p:blipFill>
        <p:spPr>
          <a:xfrm>
            <a:off x="3562200" y="39006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ветер"/>
          <p:cNvPicPr/>
          <p:nvPr/>
        </p:nvPicPr>
        <p:blipFill>
          <a:blip r:embed="rId3"/>
          <a:stretch/>
        </p:blipFill>
        <p:spPr>
          <a:xfrm>
            <a:off x="3562200" y="48150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пчела2"/>
          <p:cNvPicPr/>
          <p:nvPr/>
        </p:nvPicPr>
        <p:blipFill>
          <a:blip r:embed="rId4"/>
          <a:stretch/>
        </p:blipFill>
        <p:spPr>
          <a:xfrm>
            <a:off x="3571920" y="20718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5"/>
          <p:cNvSpPr/>
          <p:nvPr/>
        </p:nvSpPr>
        <p:spPr>
          <a:xfrm>
            <a:off x="5214960" y="15588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214960" y="2000160"/>
            <a:ext cx="350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в хвойном лесу часто встречаются растения с белыми цветкам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у многих растений нектар спрятан в глубине цветк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огда в Австралию завезли семена клевера и посеяли их, то клевер вырос, хорошо цвел, но плодов и семян у него не было. Почем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с одним вырезанным скругленным углом 14"/>
          <p:cNvSpPr/>
          <p:nvPr/>
        </p:nvSpPr>
        <p:spPr>
          <a:xfrm>
            <a:off x="3857760" y="1143000"/>
            <a:ext cx="4786200" cy="3286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9558-4FB1-4211-9D40-9FDB318A871B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3" descr="пыльцивая трубка"/>
          <p:cNvPicPr/>
          <p:nvPr/>
        </p:nvPicPr>
        <p:blipFill>
          <a:blip r:embed="rId1"/>
          <a:stretch/>
        </p:blipFill>
        <p:spPr>
          <a:xfrm>
            <a:off x="0" y="1071720"/>
            <a:ext cx="3794040" cy="57862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1"/>
          <p:cNvSpPr/>
          <p:nvPr/>
        </p:nvSpPr>
        <p:spPr>
          <a:xfrm>
            <a:off x="4000680" y="1214280"/>
            <a:ext cx="4714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– совокупность пыльцевых зере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емязачаток – образование у семенных растений из которого развивается сем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родышевый мешок – особый «мешочек», из которого после двойного оплодотворения развивается зародыш-эндоспер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пермий – мужская половая клетка, передвигающаяся пасси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Капля 12"/>
          <p:cNvSpPr/>
          <p:nvPr/>
        </p:nvSpPr>
        <p:spPr>
          <a:xfrm>
            <a:off x="2000160" y="5214960"/>
            <a:ext cx="71640" cy="14292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Капля 13"/>
          <p:cNvSpPr/>
          <p:nvPr/>
        </p:nvSpPr>
        <p:spPr>
          <a:xfrm>
            <a:off x="2000160" y="4643280"/>
            <a:ext cx="71640" cy="7164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677B-9F74-45D1-8FFC-7EA5058E29E2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8760" y="164304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яйце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00040" y="27241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иго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73120" y="36608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ародыша                    образ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741840" y="4668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892760" y="1716120"/>
            <a:ext cx="42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центральной 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3452760" y="4595760"/>
            <a:ext cx="1800360" cy="936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1868400" y="243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1868400" y="32274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Line 21"/>
          <p:cNvSpPr/>
          <p:nvPr/>
        </p:nvSpPr>
        <p:spPr>
          <a:xfrm>
            <a:off x="6550200" y="25081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23"/>
          <p:cNvSpPr/>
          <p:nvPr/>
        </p:nvSpPr>
        <p:spPr>
          <a:xfrm flipH="1">
            <a:off x="5252760" y="416412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25"/>
          <p:cNvSpPr/>
          <p:nvPr/>
        </p:nvSpPr>
        <p:spPr>
          <a:xfrm>
            <a:off x="2084400" y="416412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Прямоугольник 16"/>
          <p:cNvSpPr/>
          <p:nvPr/>
        </p:nvSpPr>
        <p:spPr>
          <a:xfrm>
            <a:off x="6720480" y="400068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эндоспе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Пло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642960" y="12142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стенок завязи образуется пл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4125-5C13-40C5-9A22-9BF0BC299227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Picture 2" descr="D:\All_f\Tema\Art\Nature\513002.JPG"/>
          <p:cNvPicPr/>
          <p:nvPr/>
        </p:nvPicPr>
        <p:blipFill>
          <a:blip r:embed="rId1"/>
          <a:stretch/>
        </p:blipFill>
        <p:spPr>
          <a:xfrm>
            <a:off x="3463920" y="3071880"/>
            <a:ext cx="4822920" cy="3211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D:\All_f\Tema\Art\Nature\513041.JPG"/>
          <p:cNvPicPr/>
          <p:nvPr/>
        </p:nvPicPr>
        <p:blipFill>
          <a:blip r:embed="rId2"/>
          <a:stretch/>
        </p:blipFill>
        <p:spPr>
          <a:xfrm>
            <a:off x="500040" y="1714680"/>
            <a:ext cx="49291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дач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642960" y="1214280"/>
            <a:ext cx="7715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оплодотворение цветковых растений называют двойны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ки вишни и цветки томата имеют по одному пестику. В плодах вишни развивается по одному семени, а в плодах томата по нескольку десятков. С чем это связано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американский ботаник Имс говорил, что «плод – это зрелый цветок»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огурцов имеются пустоцветы – тычиночные цветки, которые не образуют плодов. Нужно ли их обрыва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вестны случаи, когда цветок дает плод и «без брака». Чего не бывает в таких плодах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2F5F-4573-4F0F-9319-A6B9079004B3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с одним вырезанным скругленным углом 5"/>
          <p:cNvSpPr/>
          <p:nvPr/>
        </p:nvSpPr>
        <p:spPr>
          <a:xfrm>
            <a:off x="500040" y="1643040"/>
            <a:ext cx="6858000" cy="207180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642960" y="178596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не знал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предположить не мог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сих пор не укладывается в голове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C518-E350-4256-A55E-DE258C26EB69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Дополнительная информ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7751-DE00-4BB7-9794-BB020C15483C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2" descr="E:\Биология\2-19-3.jpg"/>
          <p:cNvPicPr/>
          <p:nvPr/>
        </p:nvPicPr>
        <p:blipFill>
          <a:blip r:embed="rId1"/>
          <a:stretch/>
        </p:blipFill>
        <p:spPr>
          <a:xfrm>
            <a:off x="4357800" y="1071720"/>
            <a:ext cx="4398840" cy="53323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5"/>
          <p:cNvSpPr/>
          <p:nvPr/>
        </p:nvSpPr>
        <p:spPr>
          <a:xfrm>
            <a:off x="642960" y="1071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едование поколений у папорот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7120" y="1643040"/>
          <a:ext cx="8429760" cy="375444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ер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Половое 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а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Оплодотв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Сперматозо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иг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ермафро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Оплодотворенная 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Развитие новой особи из зиготы, образующейся в результате оплодотво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Муж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Слияние половых кле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Обоеполый орган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. Жен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.Воспроизведение подобных с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. Половые кл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4"/>
          <p:cNvSpPr/>
          <p:nvPr/>
        </p:nvSpPr>
        <p:spPr>
          <a:xfrm>
            <a:off x="571680" y="121428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и соответ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EDD2-2149-4146-B5B1-284A2364F177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642960" y="1214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чало жизни, дорогие д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сут, конечно, половые кл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вайте сформулируем вопро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 половые клетки и мейо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42960" y="25718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овая клетка несет ________ набор хромос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игота имеет _________ набор хромос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642960" y="371484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лкие, подвижные клетки с половинным набором хромосом называются яйцеклет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рматозоид несет большой запас питательных веществ, ведь именно он обеспечивает питательными веществами зародыш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ивотных, у которых особи способны образовывать только сперматозоиды или только яйцеклетки, называют гермафродит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642960" y="328608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справь ошиб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Номер слайда 9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A1B3-F5F8-4469-BB14-127AF92D29CE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4"/>
          <p:cNvSpPr/>
          <p:nvPr/>
        </p:nvSpPr>
        <p:spPr>
          <a:xfrm>
            <a:off x="571680" y="15001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ли растения размножаться половым пут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3143160" y="752400"/>
            <a:ext cx="45007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a6a6a6"/>
                </a:solidFill>
                <a:latin typeface="Calibri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Изучение нового материал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Номер слайда 1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E532-7253-4E3A-95BF-41AD3578AD40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Picture 2" descr="E:\Биология\2-19-1.jpg"/>
          <p:cNvPicPr/>
          <p:nvPr/>
        </p:nvPicPr>
        <p:blipFill>
          <a:blip r:embed="rId1"/>
          <a:stretch/>
        </p:blipFill>
        <p:spPr>
          <a:xfrm>
            <a:off x="3351240" y="1071720"/>
            <a:ext cx="5365800" cy="5214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428760" y="1571760"/>
            <a:ext cx="350028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зигота покрыта толстой оболочкой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ой набор хромосом у взрослой хламидомонады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428760" y="1143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2C4A-20C2-482E-9047-E81FBCC43B6F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4"/>
          <p:cNvSpPr/>
          <p:nvPr/>
        </p:nvSpPr>
        <p:spPr>
          <a:xfrm>
            <a:off x="5286240" y="1785960"/>
            <a:ext cx="35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спирогира именно осенью размножается половым путе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ирогира может размножаться путем разрыва нитей на отдельные участки. Какое это размножени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4889520" cy="478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5286240" y="13572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Номер слайда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63A8-3EFD-4AE7-9EAD-3C7D1A58BBA6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с одним вырезанным скругленным углом 6"/>
          <p:cNvSpPr/>
          <p:nvPr/>
        </p:nvSpPr>
        <p:spPr>
          <a:xfrm>
            <a:off x="571680" y="1357200"/>
            <a:ext cx="8072280" cy="135756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«Черный ящик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642960" y="150012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ящике находятся 2 объекта, имеющих отношение к новой теме. Один из них – орган размножения цветковых растений, а другой можно назвать результатом этого процесса. О чем идет реч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6473-D97F-4859-BBCA-DF7ECBDB5FD9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Куб 5"/>
          <p:cNvSpPr/>
          <p:nvPr/>
        </p:nvSpPr>
        <p:spPr>
          <a:xfrm>
            <a:off x="2357280" y="2928960"/>
            <a:ext cx="3429000" cy="2286000"/>
          </a:xfrm>
          <a:prstGeom prst="cube">
            <a:avLst>
              <a:gd name="adj" fmla="val 25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1BF5-5B24-4980-945A-D86991AFFC4B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11" descr="цветок"/>
          <p:cNvPicPr/>
          <p:nvPr/>
        </p:nvPicPr>
        <p:blipFill>
          <a:blip r:embed="rId1"/>
          <a:stretch/>
        </p:blipFill>
        <p:spPr>
          <a:xfrm>
            <a:off x="3000240" y="1928880"/>
            <a:ext cx="575964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9"/>
          <p:cNvSpPr/>
          <p:nvPr/>
        </p:nvSpPr>
        <p:spPr>
          <a:xfrm>
            <a:off x="571680" y="149688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ок – специализированный орган полового размножения раст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571680" y="215748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овите главные части цветка. Почему их так называют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4"/>
          <p:cNvSpPr/>
          <p:nvPr/>
        </p:nvSpPr>
        <p:spPr>
          <a:xfrm>
            <a:off x="428760" y="135720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точки зрения русского языка, тычинка – слово женского рода, а пестик – мужского. А с точки зрения ботаник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3AFE-F5BA-4683-89A4-7EACA72A7E9B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пестик"/>
          <p:cNvPicPr/>
          <p:nvPr/>
        </p:nvPicPr>
        <p:blipFill>
          <a:blip r:embed="rId1"/>
          <a:stretch/>
        </p:blipFill>
        <p:spPr>
          <a:xfrm>
            <a:off x="7500960" y="1928880"/>
            <a:ext cx="1249200" cy="1944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тычинка"/>
          <p:cNvPicPr/>
          <p:nvPr/>
        </p:nvPicPr>
        <p:blipFill>
          <a:blip r:embed="rId2"/>
          <a:stretch/>
        </p:blipFill>
        <p:spPr>
          <a:xfrm>
            <a:off x="7491240" y="4000680"/>
            <a:ext cx="12956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642960" y="2809800"/>
          <a:ext cx="6381720" cy="1833480"/>
        </p:xfrm>
        <a:graphic>
          <a:graphicData uri="http://schemas.openxmlformats.org/drawingml/2006/table">
            <a:tbl>
              <a:tblPr/>
              <a:tblGrid>
                <a:gridCol w="3190680"/>
                <a:gridCol w="3191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лавные части цв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ы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Рыль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Тычиночная 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Столб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Пыльцевой ме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За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86" name="TextBox 10"/>
          <p:cNvSpPr/>
          <p:nvPr/>
        </p:nvSpPr>
        <p:spPr>
          <a:xfrm>
            <a:off x="428760" y="220176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Найди соответств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5:10:46Z</dcterms:created>
  <dc:creator>Archie</dc:creator>
  <dc:description/>
  <dc:language>en-US</dc:language>
  <cp:lastModifiedBy>КарМаН</cp:lastModifiedBy>
  <dcterms:modified xsi:type="dcterms:W3CDTF">2012-04-24T19:46:13Z</dcterms:modified>
  <cp:revision>58</cp:revision>
  <dc:subject/>
  <dc:title>Слайд 1</dc:title>
</cp:coreProperties>
</file>