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.jpeg" ContentType="image/jpeg"/>
  <Override PartName="/ppt/media/image3.png" ContentType="image/png"/>
  <Override PartName="/ppt/media/image4.jpeg" ContentType="image/jpeg"/>
  <Override PartName="/ppt/media/image2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18.png" ContentType="image/pn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9584-82C6-46C7-85C9-CD7466CD9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7939-F55C-4447-AE88-CBFB0821C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F3B831-F370-4083-944A-31712D3CC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AFCC5A-6092-4916-BB41-EE9C4F40A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252B6D-FA70-44DC-8E2F-5D4843F6C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A36BE3-CFD2-4C83-909C-011A6630C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C00563-F647-4B0D-B5B3-4B9905187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086721-854B-4601-8EE1-F6CBA4EDB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2F1706-7465-4A7C-842E-EDF8CEB2D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278230-98CB-454F-90F5-A5DCA5553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DEC785-E9F0-46E2-A8EF-1AB6A4224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FF2D-FE50-49E1-A1CF-D104DB4DA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FD3B-C0D0-4FE5-9C98-0A048C869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1160B-CDD6-4D3B-9371-443418A91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DE101-1305-4B1B-A908-224B22779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49D85-784B-4291-845B-F97221183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D820B-F708-4A7B-80EB-A0D55910F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0E295-2155-483D-B802-245FF11B7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53427-ED4A-4572-90BE-9AD02D0A0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AD119-6E3C-4893-B82C-EDEA395B1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7B66-94AD-4A74-9BBE-655A10F27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5D00E-B7FF-4243-886A-4DA89CB92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0B001-DE0E-4C1D-AE97-3B92F6479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9961C-4328-4E89-9DC5-B9FCF9D1F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F0E90-F8C9-4092-A140-75F497E4F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960FA-3364-4165-8565-642CBBFA4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767FA4-43D1-43D6-9774-272A01FBD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FA38B0-D3A5-4A51-9603-D17E1E4ED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42787E-9A43-4161-9119-28ABEB6CD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A81639-E2A8-4F2A-B403-D3673D182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599360-E9A0-472A-B7F7-765C3F536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863A-A05D-471E-8AE7-85AF4337C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10CC73-78B8-4F96-8634-30E36BD02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6B60C2-AAC1-4801-B0A4-8F425DB2F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AD8473-5519-42A9-AC48-FFF688B06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941C25-99BA-4998-A8B5-8684935D9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712B7D-EF60-4E66-B67E-3158E55FC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B8F44D-2273-402E-AFF9-465705F5D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2C62DC-6D32-4B2E-A125-6D909D044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610A26-A747-4815-8E96-28D6D4F66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0D354D-8FB9-4F8D-ADF2-E0B4CB231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6976CC-46CF-4DE8-BAEE-368BDFD73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E071-0B5C-4BDF-8273-D95D0276E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5FB0D3-C06F-4C4C-A75A-42B4847AF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92719C-B7DB-42BE-9DFF-E30C83406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179BD1-3724-4275-B1D4-3C2F6B70C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8558B1-B3D9-4629-9673-562F63DBE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D2DF12-56DC-4F22-8C06-B5BEC99B6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A43F95-51F8-468B-B07C-A01097D9F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999DDB-8F94-42FC-963A-39B2012A3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2C749C-FBB3-47AC-AFD2-15F0FC2D4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591309-0899-4EDA-8DFF-857C9FAB3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3CBA8A-8FDF-4A39-A6CE-BDC99E9C5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865A-A4EC-45F8-8EC1-749417595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1651BE-0A67-40F4-B1D2-35A983581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F73968-F80A-4FE8-8D42-060BE1C68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54DB19-E0D2-4540-AB18-5CE6F043C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BC4A10-3CC5-49A5-AB02-A5384A086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048CB8-2C98-4FF5-87EE-3092E01D9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E0AB34-2AF2-4DE8-9A1F-8480CCAC8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F278D8-AFD7-4656-B303-B3A493FFF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69BA98-69C8-4A1F-8F70-5659E35FD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BA6A19-DDF4-42B4-8855-304190D5B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E5E58C-9624-48F3-807A-B870A9878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38D6-CA0A-408A-ABAC-8D6C828AB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FBEC8F-9597-4034-943A-4AC6163C8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F31135-7AA3-4D45-8239-C3AE350EC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5B043B-9C4F-4558-B479-9750238F8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841AA2-D653-4498-B44B-CF58FA6EE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318EEB-0250-4C78-A488-0982B676B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452287-8D93-457B-97B1-FA8F178FA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7BB30F-E852-4BD5-B56D-E620F3D7F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4336DD-B9AA-4A49-9E14-076CEFD76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2CC602-1E74-4C9D-B23D-58CF81C30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0B6C33-3F86-4F5E-A1C4-9B5764D02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DF25-E8A6-42C1-AC33-8367632E4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4DAB1A-96FB-449C-A963-5E473653F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6A55A8-C0EE-458B-803D-EEE44B6D1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79DD86-B0C1-47C6-8867-C21C60562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CA4736-2817-4C1F-B0F2-A03158ECA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BEC72F-15F5-4BE2-9463-6C2809D1C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A403C6-073A-424B-8031-71CB25138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F256F0-8C2A-496F-9E01-592FF6BDD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27B497-E7B7-4EB0-8A91-E7B023186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29C5C1-DF6D-4E1E-A7B2-5750927A6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8EDA17-D5CF-4483-BA74-31705F5AB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A81C-1939-4016-92F6-A967827B9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C3902B-9641-4F4A-B07F-7F1360F8C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5201F1-D1AD-4153-B46B-4AC239A81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59FB35-CED2-4168-B64E-C59DB9A97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3BCB37-F246-4664-B123-1C518B990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3F16CB-F7D6-4EF6-945D-6BA64291E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AA89CD-B13D-4CA8-984A-B1F525D9F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B34A9B-4A41-438E-B334-FBE4BDE07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9317A4-F7AD-4EA9-BF4F-B6934C572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03490E-3C09-4EF2-9B42-D707F87F6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D81F40-AC16-443E-8B76-D2B05377E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11BE-648F-47FF-9D57-0E0D16CDA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9051A8-4161-4252-9C00-EA11BBC05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1DD7D5-23C7-4448-9C22-6523E1CA9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CC95E8-137E-40AD-A41A-10F6FF95F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744816-6338-48D6-88C9-CFA7FE6E7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DAEC51-196F-4ACE-80C0-60C80D1DA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6E3601-F0B5-48E9-B67F-809712664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00B457-BABF-4386-AA3C-07F09BFA8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F26E80-969E-480F-B97B-C890409AD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23AAA4-78FC-4ECB-ABDA-10D99D68E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441735-CC5B-4243-A888-175CBE477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9B8A8-F733-4CF4-8801-0395808F33CF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8EA3C-A39B-4F41-807F-700640B50A3C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B23B2-74DF-42A6-9F3E-A07C4E06C846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D71AC-119B-41C6-A665-1DC3B7C3CF1E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6F0BA-623E-4F00-AC3B-AD2A8DC262BB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7C19D-8AE5-47A1-AE55-6364D4589027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1CE43-BDF5-4909-A49A-FBA19BF37D06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36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337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8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9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0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1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19CEE-1838-40CF-8F74-A0A6C14E555A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84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385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6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7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8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00FC5-1B2A-4B55-9E2C-3DFE8DB1E41D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9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9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9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9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WordArt 6"/>
          <p:cNvSpPr txBox="1"/>
          <p:nvPr/>
        </p:nvSpPr>
        <p:spPr>
          <a:xfrm>
            <a:off x="2500200" y="571680"/>
            <a:ext cx="3071880" cy="142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ема урока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2" name="WordArt 7"/>
          <p:cNvSpPr txBox="1"/>
          <p:nvPr/>
        </p:nvSpPr>
        <p:spPr>
          <a:xfrm>
            <a:off x="571680" y="1284120"/>
            <a:ext cx="8100720" cy="183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c0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озитивные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c0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c0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заимоотношения между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c0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c0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рганизмами  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c0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3" name="Прямоугольник 7"/>
          <p:cNvSpPr/>
          <p:nvPr/>
        </p:nvSpPr>
        <p:spPr>
          <a:xfrm>
            <a:off x="1928880" y="4000680"/>
            <a:ext cx="6643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: Мишнина  Лидия Александровна, учитель биологии СОШ №3 Акбулакского района Оренбургской  област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Picture 6" descr="C:\Documents and Settings\User\Мои документы\Мои рисунки\66.JPG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4592520" y="2573280"/>
            <a:ext cx="4287960" cy="386568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2" descr="Картинка 1 из 5"/>
          <p:cNvPicPr/>
          <p:nvPr/>
        </p:nvPicPr>
        <p:blipFill>
          <a:blip r:embed="rId2"/>
          <a:stretch/>
        </p:blipFill>
        <p:spPr>
          <a:xfrm>
            <a:off x="222120" y="1409760"/>
            <a:ext cx="4384800" cy="3384360"/>
          </a:xfrm>
          <a:prstGeom prst="rect">
            <a:avLst/>
          </a:prstGeom>
          <a:ln w="0">
            <a:noFill/>
          </a:ln>
        </p:spPr>
      </p:pic>
      <p:sp>
        <p:nvSpPr>
          <p:cNvPr id="460" name="Прямоугольник 1"/>
          <p:cNvSpPr/>
          <p:nvPr/>
        </p:nvSpPr>
        <p:spPr>
          <a:xfrm>
            <a:off x="539640" y="333360"/>
            <a:ext cx="813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едите примеры  проявления кооперации в живой природе 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push dir="u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94e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Text Box 4"/>
          <p:cNvSpPr/>
          <p:nvPr/>
        </p:nvSpPr>
        <p:spPr>
          <a:xfrm>
            <a:off x="324000" y="836640"/>
            <a:ext cx="835164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утуализм –  взаимополезное сожительство, когда присутствие партнёра становится обязательным условием существования каждого из них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Text Box 5"/>
          <p:cNvSpPr/>
          <p:nvPr/>
        </p:nvSpPr>
        <p:spPr>
          <a:xfrm>
            <a:off x="2422440" y="196920"/>
            <a:ext cx="547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arlow Solid Italic"/>
              </a:rPr>
              <a:t>Мутуализм(++).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63" name="Picture 6" descr=""/>
          <p:cNvPicPr/>
          <p:nvPr/>
        </p:nvPicPr>
        <p:blipFill>
          <a:blip r:embed="rId1"/>
          <a:stretch/>
        </p:blipFill>
        <p:spPr>
          <a:xfrm>
            <a:off x="41400" y="2060640"/>
            <a:ext cx="4205160" cy="45370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Картинка 4 из 37"/>
          <p:cNvPicPr/>
          <p:nvPr/>
        </p:nvPicPr>
        <p:blipFill>
          <a:blip r:embed="rId2"/>
          <a:stretch/>
        </p:blipFill>
        <p:spPr>
          <a:xfrm>
            <a:off x="3805200" y="2060640"/>
            <a:ext cx="5338800" cy="4537080"/>
          </a:xfrm>
          <a:prstGeom prst="rect">
            <a:avLst/>
          </a:prstGeom>
          <a:ln w="0">
            <a:noFill/>
          </a:ln>
        </p:spPr>
      </p:pic>
      <p:sp>
        <p:nvSpPr>
          <p:cNvPr id="465" name="Прямоугольник 1"/>
          <p:cNvSpPr/>
          <p:nvPr/>
        </p:nvSpPr>
        <p:spPr>
          <a:xfrm>
            <a:off x="187200" y="4365720"/>
            <a:ext cx="3448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Лишайники—это тесное взаимовыгодное сожительство грибов и водорослей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Прямоугольник 2"/>
          <p:cNvSpPr/>
          <p:nvPr/>
        </p:nvSpPr>
        <p:spPr>
          <a:xfrm>
            <a:off x="5003640" y="5794200"/>
            <a:ext cx="38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Клубеньковые бактерии на корнях бобовых культур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ipe dir="l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3" dur="500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8" dur="500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69" name="Picture 2" descr=""/>
          <p:cNvPicPr/>
          <p:nvPr/>
        </p:nvPicPr>
        <p:blipFill>
          <a:blip r:embed="rId1"/>
          <a:stretch/>
        </p:blipFill>
        <p:spPr>
          <a:xfrm>
            <a:off x="480960" y="243000"/>
            <a:ext cx="8353440" cy="6264000"/>
          </a:xfrm>
          <a:prstGeom prst="rect">
            <a:avLst/>
          </a:prstGeom>
          <a:ln w="0">
            <a:noFill/>
          </a:ln>
        </p:spPr>
      </p:pic>
      <p:sp>
        <p:nvSpPr>
          <p:cNvPr id="470" name="Прямоугольник 3"/>
          <p:cNvSpPr/>
          <p:nvPr/>
        </p:nvSpPr>
        <p:spPr>
          <a:xfrm>
            <a:off x="755640" y="1052640"/>
            <a:ext cx="7345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Охарактеризуйте особенности взаимоотношения некоторых грибов и деревьев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71" name="Picture 3" descr=""/>
          <p:cNvPicPr/>
          <p:nvPr/>
        </p:nvPicPr>
        <p:blipFill>
          <a:blip r:embed="rId2"/>
          <a:stretch/>
        </p:blipFill>
        <p:spPr>
          <a:xfrm>
            <a:off x="611280" y="92160"/>
            <a:ext cx="1512720" cy="100800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4" descr=""/>
          <p:cNvPicPr/>
          <p:nvPr/>
        </p:nvPicPr>
        <p:blipFill>
          <a:blip r:embed="rId3"/>
          <a:stretch/>
        </p:blipFill>
        <p:spPr>
          <a:xfrm>
            <a:off x="2124000" y="108000"/>
            <a:ext cx="1295640" cy="97164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5" descr=""/>
          <p:cNvPicPr/>
          <p:nvPr/>
        </p:nvPicPr>
        <p:blipFill>
          <a:blip r:embed="rId4"/>
          <a:stretch/>
        </p:blipFill>
        <p:spPr>
          <a:xfrm>
            <a:off x="3419640" y="92160"/>
            <a:ext cx="1454040" cy="9666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 txBox="1"/>
          <p:nvPr/>
        </p:nvSpPr>
        <p:spPr>
          <a:xfrm>
            <a:off x="457200" y="404640"/>
            <a:ext cx="8229600" cy="561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73e87"/>
                </a:solidFill>
                <a:latin typeface="Candara"/>
              </a:rPr>
              <a:t>Докажите, что типичным симбиозом является взаимоотношение термитов и жгутиковых простейших.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e87"/>
                </a:solidFill>
                <a:latin typeface="Candara"/>
              </a:rPr>
              <a:t>( Термиты питаются древесиной, однако у них  нет ферментов для переваривания целлюлозы. Жгутиконосцы вырабатывают такие ферменты и переводят клетчатку в простые сахара. Без простейших – симбионтов – термиты погибают от голода).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transition spd="slow">
    <p:push dir="u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500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0" dur="2000"/>
                                        <p:tgtEl>
                                          <p:spTgt spid="4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 txBox="1"/>
          <p:nvPr/>
        </p:nvSpPr>
        <p:spPr>
          <a:xfrm>
            <a:off x="250560" y="1196640"/>
            <a:ext cx="85690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-</a:t>
            </a:r>
            <a:r>
              <a:rPr b="1" lang="ru-RU" sz="18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ndara"/>
              </a:rPr>
              <a:t>Нахлебничество. </a:t>
            </a:r>
            <a:r>
              <a:rPr b="1" lang="ru-RU" sz="1800" spc="-1" strike="noStrike">
                <a:solidFill>
                  <a:srgbClr val="073e87"/>
                </a:solidFill>
                <a:latin typeface="Candara"/>
              </a:rPr>
              <a:t>Рыба – прилипала прикрепляется к рыбам, черепахам, китам. Они за их счет не питаются, а используют лишь как транспорт и покидают их, оказавшись на месте с подходящим кормом. Для этого у рыб спинной плавник преобразован в присоску. Насытившись, рыбы вновь ищут к кому бы прикрепиться. В дороге они пользуются остатками корма своих возниц. 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73e87"/>
                </a:solidFill>
                <a:latin typeface="Candara"/>
              </a:rPr>
              <a:t>     </a:t>
            </a:r>
            <a:r>
              <a:rPr b="1" lang="ru-RU" sz="1800" spc="-1" strike="noStrike">
                <a:solidFill>
                  <a:srgbClr val="073e87"/>
                </a:solidFill>
                <a:latin typeface="Candara"/>
              </a:rPr>
              <a:t>- </a:t>
            </a:r>
            <a:r>
              <a:rPr b="1" lang="ru-RU" sz="1800" spc="-1" strike="noStrike">
                <a:solidFill>
                  <a:srgbClr val="000000"/>
                </a:solidFill>
                <a:latin typeface="Candara"/>
              </a:rPr>
              <a:t>Сотрапезничество</a:t>
            </a:r>
            <a:r>
              <a:rPr b="1" lang="ru-RU" sz="1800" spc="-1" strike="noStrike">
                <a:solidFill>
                  <a:srgbClr val="073e87"/>
                </a:solidFill>
                <a:latin typeface="Candara"/>
              </a:rPr>
              <a:t>. Это потребление разных частей или веществ одной пищи.    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73e87"/>
                </a:solidFill>
                <a:latin typeface="Candara"/>
              </a:rPr>
              <a:t>   </a:t>
            </a:r>
            <a:r>
              <a:rPr b="1" lang="ru-RU" sz="1800" spc="-1" strike="noStrike">
                <a:solidFill>
                  <a:srgbClr val="073e87"/>
                </a:solidFill>
                <a:latin typeface="Candara"/>
              </a:rPr>
              <a:t>Например: почвенные бактерии и высшие растения. Бактерии перерабатывают    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73e87"/>
                </a:solidFill>
                <a:latin typeface="Candara"/>
              </a:rPr>
              <a:t>   </a:t>
            </a:r>
            <a:r>
              <a:rPr b="1" lang="ru-RU" sz="1800" spc="-1" strike="noStrike">
                <a:solidFill>
                  <a:srgbClr val="073e87"/>
                </a:solidFill>
                <a:latin typeface="Candara"/>
              </a:rPr>
              <a:t>органику до минеральных солей, которые в свою очередь усваиваются  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73e87"/>
                </a:solidFill>
                <a:latin typeface="Candara"/>
              </a:rPr>
              <a:t>     </a:t>
            </a:r>
            <a:r>
              <a:rPr b="1" lang="ru-RU" sz="1800" spc="-1" strike="noStrike">
                <a:solidFill>
                  <a:srgbClr val="073e87"/>
                </a:solidFill>
                <a:latin typeface="Candara"/>
              </a:rPr>
              <a:t>высшими     растениями. 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73e87"/>
                </a:solidFill>
                <a:latin typeface="Candara"/>
              </a:rPr>
              <a:t>    </a:t>
            </a:r>
            <a:r>
              <a:rPr b="1" lang="ru-RU" sz="1800" spc="-1" strike="noStrike">
                <a:solidFill>
                  <a:srgbClr val="073e87"/>
                </a:solidFill>
                <a:latin typeface="Candara"/>
              </a:rPr>
              <a:t>- </a:t>
            </a:r>
            <a:r>
              <a:rPr b="1" lang="ru-RU" sz="1800" spc="-1" strike="noStrike">
                <a:solidFill>
                  <a:srgbClr val="000000"/>
                </a:solidFill>
                <a:latin typeface="Candara"/>
              </a:rPr>
              <a:t>Квартиранство. </a:t>
            </a:r>
            <a:r>
              <a:rPr b="1" lang="ru-RU" sz="1800" spc="-1" strike="noStrike">
                <a:solidFill>
                  <a:srgbClr val="073e87"/>
                </a:solidFill>
                <a:latin typeface="Candara"/>
              </a:rPr>
              <a:t>Среди орхидей много эпифитов. В тропическом лесу дефицит 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73e87"/>
                </a:solidFill>
                <a:latin typeface="Candara"/>
              </a:rPr>
              <a:t>      </a:t>
            </a:r>
            <a:r>
              <a:rPr b="1" lang="ru-RU" sz="1800" spc="-1" strike="noStrike">
                <a:solidFill>
                  <a:srgbClr val="073e87"/>
                </a:solidFill>
                <a:latin typeface="Candara"/>
              </a:rPr>
              <a:t>света. Прикрепляясь к стволу дерева орхидеи получают необходимый свет, не 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73e87"/>
                </a:solidFill>
                <a:latin typeface="Candara"/>
              </a:rPr>
              <a:t>     </a:t>
            </a:r>
            <a:r>
              <a:rPr b="1" lang="ru-RU" sz="1800" spc="-1" strike="noStrike">
                <a:solidFill>
                  <a:srgbClr val="073e87"/>
                </a:solidFill>
                <a:latin typeface="Candara"/>
              </a:rPr>
              <a:t>принося ни вреда, ни пользы дереву-опоре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85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ndara"/>
              </a:rPr>
              <a:t>Комменсализм.   Один организм извлекает из взаимоотношений пользу, для другого взаимоотношения нейтральны</a:t>
            </a: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>
    <p:pull dir="l"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4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4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4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4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4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4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4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4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4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178920" y="3860280"/>
            <a:ext cx="4537080" cy="284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ndara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andara"/>
              </a:rPr>
              <a:t>Что объединяет такие формы  комменсализма как нахлебничество и  квартирантство?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ndara"/>
              </a:rPr>
              <a:t>( При таких взаимодействиях  один из организмов улучшает свое положение, а другой не испытывает значимых изменений).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479" name="Picture 9" descr="C:\Documents and Settings\User\Мои документы\Мои рисунки\66.JPG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5375160" y="12600"/>
            <a:ext cx="3767400" cy="255276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2" descr=""/>
          <p:cNvPicPr/>
          <p:nvPr/>
        </p:nvPicPr>
        <p:blipFill>
          <a:blip r:embed="rId2"/>
          <a:stretch/>
        </p:blipFill>
        <p:spPr>
          <a:xfrm>
            <a:off x="4861080" y="2770200"/>
            <a:ext cx="4270320" cy="393048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3" descr=""/>
          <p:cNvPicPr/>
          <p:nvPr/>
        </p:nvPicPr>
        <p:blipFill>
          <a:blip r:embed="rId3"/>
          <a:stretch/>
        </p:blipFill>
        <p:spPr>
          <a:xfrm>
            <a:off x="179280" y="0"/>
            <a:ext cx="5184720" cy="3629160"/>
          </a:xfrm>
          <a:prstGeom prst="rect">
            <a:avLst/>
          </a:prstGeom>
          <a:ln w="0">
            <a:noFill/>
          </a:ln>
        </p:spPr>
      </p:pic>
      <p:sp>
        <p:nvSpPr>
          <p:cNvPr id="482" name="Прямоугольник 7"/>
          <p:cNvSpPr/>
          <p:nvPr/>
        </p:nvSpPr>
        <p:spPr>
          <a:xfrm>
            <a:off x="145800" y="3244680"/>
            <a:ext cx="301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Рыба прилипала и акула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Прямоугольник 8"/>
          <p:cNvSpPr/>
          <p:nvPr/>
        </p:nvSpPr>
        <p:spPr>
          <a:xfrm>
            <a:off x="5148360" y="5300640"/>
            <a:ext cx="388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Самка горчака откладывает икру в мантийную полость двустворчатого моллюска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Прямоугольник 9"/>
          <p:cNvSpPr/>
          <p:nvPr/>
        </p:nvSpPr>
        <p:spPr>
          <a:xfrm>
            <a:off x="5240160" y="2457360"/>
            <a:ext cx="381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статки пищи крупных хищников достаются птица–падальщикам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push dir="u"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500"/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500"/>
                                        <p:tgtEl>
                                          <p:spTgt spid="4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5" name=""/>
          <p:cNvGraphicFramePr/>
          <p:nvPr/>
        </p:nvGraphicFramePr>
        <p:xfrm>
          <a:off x="395280" y="1359000"/>
          <a:ext cx="8569440" cy="4876560"/>
        </p:xfrm>
        <a:graphic>
          <a:graphicData uri="http://schemas.openxmlformats.org/drawingml/2006/table">
            <a:tbl>
              <a:tblPr/>
              <a:tblGrid>
                <a:gridCol w="5040360"/>
                <a:gridCol w="3529080"/>
              </a:tblGrid>
              <a:tr h="1452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ьза всех партнеров очевидна, но не обязатель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5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сутствие партнеров  обязательное условие  сожительст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8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ин вид получает пользу  от  сожительства, а другому  это безразличн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86" name="Picture 2" descr=""/>
          <p:cNvPicPr/>
          <p:nvPr/>
        </p:nvPicPr>
        <p:blipFill>
          <a:blip r:embed="rId1"/>
          <a:stretch/>
        </p:blipFill>
        <p:spPr>
          <a:xfrm>
            <a:off x="1187280" y="404640"/>
            <a:ext cx="662472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94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7" name=""/>
          <p:cNvGraphicFramePr/>
          <p:nvPr/>
        </p:nvGraphicFramePr>
        <p:xfrm>
          <a:off x="395280" y="1359000"/>
          <a:ext cx="8569440" cy="4876560"/>
        </p:xfrm>
        <a:graphic>
          <a:graphicData uri="http://schemas.openxmlformats.org/drawingml/2006/table">
            <a:tbl>
              <a:tblPr/>
              <a:tblGrid>
                <a:gridCol w="5040360"/>
                <a:gridCol w="3529080"/>
              </a:tblGrid>
              <a:tr h="1452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ьза всех партнеров очевидна, но не обязатель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операция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5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сутствие партнеров  обязательное условие  сожительст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8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ин вид получает пользу  от  сожительства, а другому  это безразличн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88" name="Picture 2" descr=""/>
          <p:cNvPicPr/>
          <p:nvPr/>
        </p:nvPicPr>
        <p:blipFill>
          <a:blip r:embed="rId1"/>
          <a:stretch/>
        </p:blipFill>
        <p:spPr>
          <a:xfrm>
            <a:off x="1187280" y="404640"/>
            <a:ext cx="662472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9" name=""/>
          <p:cNvGraphicFramePr/>
          <p:nvPr/>
        </p:nvGraphicFramePr>
        <p:xfrm>
          <a:off x="395280" y="1359000"/>
          <a:ext cx="8569440" cy="4876560"/>
        </p:xfrm>
        <a:graphic>
          <a:graphicData uri="http://schemas.openxmlformats.org/drawingml/2006/table">
            <a:tbl>
              <a:tblPr/>
              <a:tblGrid>
                <a:gridCol w="5040360"/>
                <a:gridCol w="3529080"/>
              </a:tblGrid>
              <a:tr h="1452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ьза всех партнеров очевидна, но не обязатель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операция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5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сутствие партнеров  обязательное условие  сожительст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туализ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8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ин вид получает пользу  от  сожительства, а другому  это безразличн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90" name="Picture 2" descr=""/>
          <p:cNvPicPr/>
          <p:nvPr/>
        </p:nvPicPr>
        <p:blipFill>
          <a:blip r:embed="rId1"/>
          <a:stretch/>
        </p:blipFill>
        <p:spPr>
          <a:xfrm>
            <a:off x="1187280" y="404640"/>
            <a:ext cx="662472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1" name=""/>
          <p:cNvGraphicFramePr/>
          <p:nvPr/>
        </p:nvGraphicFramePr>
        <p:xfrm>
          <a:off x="395280" y="1359000"/>
          <a:ext cx="8569440" cy="4876560"/>
        </p:xfrm>
        <a:graphic>
          <a:graphicData uri="http://schemas.openxmlformats.org/drawingml/2006/table">
            <a:tbl>
              <a:tblPr/>
              <a:tblGrid>
                <a:gridCol w="5040360"/>
                <a:gridCol w="3529080"/>
              </a:tblGrid>
              <a:tr h="1452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ьза всех партнеров очевидна, но не обязатель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операция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5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сутствие партнеров  обязательное условие  сожительст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туализ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8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ин вид получает пользу  от  сожительства, а другому  это безразличн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92" name="Picture 2" descr=""/>
          <p:cNvPicPr/>
          <p:nvPr/>
        </p:nvPicPr>
        <p:blipFill>
          <a:blip r:embed="rId1"/>
          <a:stretch/>
        </p:blipFill>
        <p:spPr>
          <a:xfrm>
            <a:off x="1187280" y="404640"/>
            <a:ext cx="662472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Прямоугольник 2"/>
          <p:cNvSpPr/>
          <p:nvPr/>
        </p:nvSpPr>
        <p:spPr>
          <a:xfrm>
            <a:off x="395280" y="352440"/>
            <a:ext cx="856944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Цели урока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Образовательная: продолжить формирование знаний о проявлениях биотических факторов среды; раскрыть сущность позитивных отношений между организмам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Развивающая: сформировать умение различать проявление разных форм симбиоза; развивать познавательную активность учащихся, их коммуникативную и информативную компетентность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Воспитательная: воспитывать бережное отношение к окружающей среде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3" name=""/>
          <p:cNvGraphicFramePr/>
          <p:nvPr/>
        </p:nvGraphicFramePr>
        <p:xfrm>
          <a:off x="395280" y="1359000"/>
          <a:ext cx="8569440" cy="4876560"/>
        </p:xfrm>
        <a:graphic>
          <a:graphicData uri="http://schemas.openxmlformats.org/drawingml/2006/table">
            <a:tbl>
              <a:tblPr/>
              <a:tblGrid>
                <a:gridCol w="5040360"/>
                <a:gridCol w="3529080"/>
              </a:tblGrid>
              <a:tr h="1452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ьза всех партнеров очевидна, но не обязатель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операция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5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сутствие партнеров  обязательное условие  сожительст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туализ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8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ин вид получает пользу  от  сожительства, а другому  это безразличн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менсализ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94" name="Picture 2" descr=""/>
          <p:cNvPicPr/>
          <p:nvPr/>
        </p:nvPicPr>
        <p:blipFill>
          <a:blip r:embed="rId1"/>
          <a:stretch/>
        </p:blipFill>
        <p:spPr>
          <a:xfrm>
            <a:off x="1187280" y="404640"/>
            <a:ext cx="662472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68000" y="404280"/>
            <a:ext cx="835164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00000"/>
                </a:solidFill>
                <a:latin typeface="Arial"/>
              </a:rPr>
              <a:t>Применяем полученные знания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73e87"/>
                </a:solidFill>
                <a:latin typeface="Arial"/>
              </a:rPr>
              <a:t>С1. Объясните, почему для выращивания бобовых растений </a:t>
            </a:r>
            <a:r>
              <a:rPr b="1" i="1" lang="en-US" sz="3600" spc="-1" strike="noStrike" u="sng">
                <a:solidFill>
                  <a:srgbClr val="073e87"/>
                </a:solidFill>
                <a:uFillTx/>
                <a:latin typeface="Arial"/>
              </a:rPr>
              <a:t>не требуется</a:t>
            </a:r>
            <a:r>
              <a:rPr b="1" i="1" lang="en-US" sz="3600" spc="-1" strike="noStrike">
                <a:solidFill>
                  <a:srgbClr val="073e87"/>
                </a:solidFill>
                <a:latin typeface="Arial"/>
              </a:rPr>
              <a:t> подкормка азотными удобрениями.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73e87"/>
                </a:solidFill>
                <a:latin typeface="Arial"/>
              </a:rPr>
              <a:t>( САМОЕ ПОЛНОЕ ИЗДАНИЕ ТИПОВЫХ ВАРИАНТОВ ЗАДАНИЙ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73e87"/>
                </a:solidFill>
                <a:latin typeface="Arial"/>
              </a:rPr>
              <a:t>ЕГЭ </a:t>
            </a:r>
            <a:r>
              <a:rPr b="1" i="1" lang="en-US" sz="2000" spc="-1" strike="noStrike">
                <a:solidFill>
                  <a:srgbClr val="073e87"/>
                </a:solidFill>
                <a:latin typeface="Arial"/>
              </a:rPr>
              <a:t>2012.</a:t>
            </a:r>
            <a:r>
              <a:rPr b="0" i="1" lang="en-US" sz="2000" spc="-1" strike="noStrike">
                <a:solidFill>
                  <a:srgbClr val="073e87"/>
                </a:solidFill>
                <a:latin typeface="Arial"/>
              </a:rPr>
              <a:t> БИОЛОГИЯ/  ФИПИ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73e87"/>
                </a:solidFill>
                <a:latin typeface="Arial"/>
              </a:rPr>
              <a:t>Авторы-составители: Б.А. Никишова и С.П. Шаталова</a:t>
            </a:r>
            <a:r>
              <a:rPr b="1" i="1" lang="en-US" sz="2000" spc="-1" strike="noStrike">
                <a:solidFill>
                  <a:srgbClr val="073e87"/>
                </a:solidFill>
                <a:latin typeface="Arial"/>
              </a:rPr>
              <a:t>  )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73e87"/>
                </a:solidFill>
                <a:latin typeface="Arial"/>
              </a:rPr>
              <a:t>Элементы ответа: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73e87"/>
                </a:solidFill>
                <a:latin typeface="Arial"/>
              </a:rPr>
              <a:t>1) у бобовых на корнях поселяются клубеньковые бактерии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73e87"/>
                </a:solidFill>
                <a:latin typeface="Arial"/>
              </a:rPr>
              <a:t>2) они усваивают азот воздуха и обеспечивают растения азотным питанием.</a:t>
            </a:r>
            <a:r>
              <a:rPr b="0" lang="en-US" sz="2000" spc="-1" strike="noStrike">
                <a:solidFill>
                  <a:srgbClr val="073e87"/>
                </a:solidFill>
                <a:latin typeface="Candara"/>
              </a:rPr>
              <a:t>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8" dur="2000"/>
                                        <p:tgtEl>
                                          <p:spTgt spid="4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4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4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4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4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4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4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4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4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4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2" dur="500"/>
                                        <p:tgtEl>
                                          <p:spTgt spid="4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5" dur="500"/>
                                        <p:tgtEl>
                                          <p:spTgt spid="4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8" dur="500"/>
                                        <p:tgtEl>
                                          <p:spTgt spid="4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Прямоугольник 3"/>
          <p:cNvSpPr/>
          <p:nvPr/>
        </p:nvSpPr>
        <p:spPr>
          <a:xfrm>
            <a:off x="324000" y="333360"/>
            <a:ext cx="856908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1 Почему почву в лесопосадках заселяют микоризными грибами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Отличник ЕГЭ. Биология / ФИПИ. Авторы-составители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Калинова Г.С., Петросова Р.А., Никишова Е.А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" name="Прямоугольник 5"/>
          <p:cNvSpPr/>
          <p:nvPr/>
        </p:nvSpPr>
        <p:spPr>
          <a:xfrm>
            <a:off x="539640" y="3573360"/>
            <a:ext cx="8136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Элементы ответа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1)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деревья вступают в симбиоз с грибами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2)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корни растений получают дополнительное минеральное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питание, растения легче переносят неблагоприятные условия.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2" dur="2000"/>
                                        <p:tgtEl>
                                          <p:spTgt spid="4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5" dur="2000"/>
                                        <p:tgtEl>
                                          <p:spTgt spid="4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0" dur="500"/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3" dur="500"/>
                                        <p:tgtEl>
                                          <p:spTgt spid="4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6" dur="500"/>
                                        <p:tgtEl>
                                          <p:spTgt spid="4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9" dur="500"/>
                                        <p:tgtEl>
                                          <p:spTgt spid="4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ubTitle"/>
          </p:nvPr>
        </p:nvSpPr>
        <p:spPr>
          <a:xfrm>
            <a:off x="323640" y="333000"/>
            <a:ext cx="856908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5564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С2. Найдите  ошибки в приведенном  тексте, укажите номера предложений в которых они сделаны, исправьте их: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5564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Между организмами в процессе их существования могут возникать разнообразные как внутри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 так и межвидовые отношения.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5564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2.Симбиотические отношения между организмами всегда   носят обязательный  характер.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5564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3.Растения в симбиозе с азотфиксирующими бактериями могут произрастать на почвах, бедных азотом, и обогащать им почву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5564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4. Деревья с микоризой находятся в угнетенном состоянии и плохо растут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5564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5.Биологический смысл прикрепления прилипал заключается в облегчении передвижения и расселения этих рыб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871560" y="1989000"/>
            <a:ext cx="74088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73e87"/>
                </a:solidFill>
                <a:latin typeface="Arial"/>
              </a:rPr>
              <a:t>Ошибки допущены в предложениях-2,4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2.Симбиотические отношения между организмам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  носят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к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обязательный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ак и временный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характер.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4. Деревья с микоризой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стут гораздо лучше, так как через грибницы  дерево обеспечивается  водой и минеральными солями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684000" y="333360"/>
            <a:ext cx="754524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73e87"/>
                </a:solidFill>
                <a:latin typeface="Candara"/>
              </a:rPr>
              <a:t>Грибники знают, что рыжики следует искать в молодом ельнике или под соснами, подосиновики и подберезовики – в лиственных лесах.</a:t>
            </a:r>
            <a:endParaRPr b="0" lang="en-US" sz="4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73e87"/>
                </a:solidFill>
                <a:latin typeface="Candara"/>
              </a:rPr>
              <a:t>   </a:t>
            </a:r>
            <a:r>
              <a:rPr b="1" i="1" lang="en-US" sz="4400" spc="-1" strike="noStrike">
                <a:solidFill>
                  <a:srgbClr val="073e87"/>
                </a:solidFill>
                <a:latin typeface="Candara"/>
              </a:rPr>
              <a:t>Объясните почему ?</a:t>
            </a:r>
            <a:endParaRPr b="0" lang="en-US" sz="4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transition spd="slow"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39640" y="2349360"/>
            <a:ext cx="7772400" cy="177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00000"/>
                </a:solidFill>
                <a:latin typeface="Candara"/>
              </a:rPr>
              <a:t>Домашнее задание.</a:t>
            </a:r>
            <a:br>
              <a:rPr sz="4000"/>
            </a:br>
            <a:r>
              <a:rPr b="1" i="1" lang="en-US" sz="4000" spc="-1" strike="noStrike">
                <a:solidFill>
                  <a:srgbClr val="000000"/>
                </a:solidFill>
                <a:latin typeface="Candara"/>
              </a:rPr>
              <a:t>Каким  образом  в процессе эволюции могли сформироваться отношения комменсализма?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 txBox="1"/>
          <p:nvPr/>
        </p:nvSpPr>
        <p:spPr>
          <a:xfrm>
            <a:off x="395280" y="1483920"/>
            <a:ext cx="85694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</a:t>
            </a:r>
            <a:r>
              <a:rPr b="1" i="1" lang="ru-RU" sz="2400" spc="-1" strike="noStrike">
                <a:solidFill>
                  <a:srgbClr val="073e87"/>
                </a:solidFill>
                <a:latin typeface="Candara"/>
              </a:rPr>
              <a:t>1.Что такое симбиоз?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( Симбиоз- сожительство от греч.sym –вместе,         bios – жизнь; форма взаимоотношений, при которой оба партнера или один из них извлекает пользу от другого).</a:t>
            </a:r>
            <a:r>
              <a:rPr b="1" i="1" lang="ru-RU" sz="2400" spc="-1" strike="noStrike">
                <a:solidFill>
                  <a:srgbClr val="073e87"/>
                </a:solidFill>
                <a:latin typeface="Candara"/>
              </a:rPr>
              <a:t>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1" i="1" lang="ru-RU" sz="2400" spc="-1" strike="noStrike">
                <a:solidFill>
                  <a:srgbClr val="073e87"/>
                </a:solidFill>
                <a:latin typeface="Candara"/>
              </a:rPr>
              <a:t>2.Между организмами существуют прямые и косвенные 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73e87"/>
                </a:solidFill>
                <a:latin typeface="Candara"/>
              </a:rPr>
              <a:t>     </a:t>
            </a:r>
            <a:r>
              <a:rPr b="1" i="1" lang="ru-RU" sz="2400" spc="-1" strike="noStrike">
                <a:solidFill>
                  <a:srgbClr val="073e87"/>
                </a:solidFill>
                <a:latin typeface="Candara"/>
              </a:rPr>
              <a:t>связи, в чем их суть?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(прямые связи осуществляются при непосредственном 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влиянии одного вида на другой, косвенные – через влияние 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на внешнюю среду или на другие виды)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Candara"/>
              </a:rPr>
              <a:t>Актуализация знаний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4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4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4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4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250560" y="333000"/>
            <a:ext cx="87138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ndara"/>
              </a:rPr>
              <a:t>Различают множество типов парных взаимодействий: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73e87"/>
                </a:solidFill>
                <a:latin typeface="Candara"/>
              </a:rPr>
              <a:t>1. Трофические – связанные с питанием и потоками энергии: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73e87"/>
                </a:solidFill>
                <a:latin typeface="Candara"/>
              </a:rPr>
              <a:t>–  </a:t>
            </a:r>
            <a:r>
              <a:rPr b="1" i="1" lang="ru-RU" sz="2600" spc="-1" strike="noStrike">
                <a:solidFill>
                  <a:srgbClr val="073e87"/>
                </a:solidFill>
                <a:latin typeface="Candara"/>
              </a:rPr>
              <a:t>например, трофический симбиоз.  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73e87"/>
                </a:solidFill>
                <a:latin typeface="Candara"/>
              </a:rPr>
              <a:t>2. Топические – связанные с изменением условий обитания: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73e87"/>
                </a:solidFill>
                <a:latin typeface="Candara"/>
              </a:rPr>
              <a:t> – </a:t>
            </a:r>
            <a:r>
              <a:rPr b="1" i="1" lang="ru-RU" sz="2600" spc="-1" strike="noStrike">
                <a:solidFill>
                  <a:srgbClr val="073e87"/>
                </a:solidFill>
                <a:latin typeface="Candara"/>
              </a:rPr>
              <a:t>форические: перенос организмов одного вида организмами другого вида и др. 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73e87"/>
                </a:solidFill>
                <a:latin typeface="Candara"/>
              </a:rPr>
              <a:t>3. Информационно-сигнальные – связанные с передачей информации: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73e87"/>
                </a:solidFill>
                <a:latin typeface="Candara"/>
              </a:rPr>
              <a:t>–</a:t>
            </a:r>
            <a:r>
              <a:rPr b="1" i="1" lang="ru-RU" sz="2600" spc="-1" strike="noStrike">
                <a:solidFill>
                  <a:srgbClr val="073e87"/>
                </a:solidFill>
                <a:latin typeface="Candara"/>
              </a:rPr>
              <a:t>например,  реципрокный альтруизм (взаимопомощь).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4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4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4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4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4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4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Прямоугольник 1"/>
          <p:cNvSpPr/>
          <p:nvPr/>
        </p:nvSpPr>
        <p:spPr>
          <a:xfrm>
            <a:off x="395280" y="189000"/>
            <a:ext cx="849780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зучаем новую тему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итивные отношения  это форма взаимоотношений при которой оба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тнёра или один из них извлекает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ьзу от другого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9" name="Text Box 8"/>
          <p:cNvSpPr/>
          <p:nvPr/>
        </p:nvSpPr>
        <p:spPr>
          <a:xfrm>
            <a:off x="3995640" y="2443320"/>
            <a:ext cx="251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ahoma"/>
              </a:rPr>
              <a:t>(++ или +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40" name="Picture 7" descr=""/>
          <p:cNvPicPr/>
          <p:nvPr/>
        </p:nvPicPr>
        <p:blipFill>
          <a:blip r:embed="rId1"/>
          <a:stretch/>
        </p:blipFill>
        <p:spPr>
          <a:xfrm>
            <a:off x="5076720" y="3429000"/>
            <a:ext cx="3635640" cy="316692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6" descr=""/>
          <p:cNvPicPr/>
          <p:nvPr/>
        </p:nvPicPr>
        <p:blipFill>
          <a:blip r:embed="rId2"/>
          <a:stretch/>
        </p:blipFill>
        <p:spPr>
          <a:xfrm>
            <a:off x="468360" y="3357720"/>
            <a:ext cx="3738600" cy="319716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7" descr=""/>
          <p:cNvPicPr/>
          <p:nvPr/>
        </p:nvPicPr>
        <p:blipFill>
          <a:blip r:embed="rId3"/>
          <a:stretch/>
        </p:blipFill>
        <p:spPr>
          <a:xfrm>
            <a:off x="6550200" y="0"/>
            <a:ext cx="2584440" cy="29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3" name="Organization Chart 2"/>
          <p:cNvGrpSpPr/>
          <p:nvPr/>
        </p:nvGrpSpPr>
        <p:grpSpPr>
          <a:xfrm>
            <a:off x="457200" y="274680"/>
            <a:ext cx="8228880" cy="5849640"/>
            <a:chOff x="457200" y="274680"/>
            <a:chExt cx="8228880" cy="5849640"/>
          </a:xfrm>
        </p:grpSpPr>
        <p:cxnSp>
          <p:nvCxnSpPr>
            <p:cNvPr id="444" name="_s1028"/>
            <p:cNvCxnSpPr>
              <a:stCxn id="445" idx="0"/>
              <a:endCxn id="446" idx="2"/>
            </p:cNvCxnSpPr>
            <p:nvPr/>
          </p:nvCxnSpPr>
          <p:spPr>
            <a:xfrm flipV="1" rot="16200000">
              <a:off x="5423400" y="1758600"/>
              <a:ext cx="1176480" cy="2880720"/>
            </a:xfrm>
            <a:prstGeom prst="bentConnector3">
              <a:avLst>
                <a:gd name="adj1" fmla="val 970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47" name="_s1029"/>
            <p:cNvCxnSpPr>
              <a:stCxn id="448" idx="0"/>
              <a:endCxn id="446" idx="2"/>
            </p:cNvCxnSpPr>
            <p:nvPr/>
          </p:nvCxnSpPr>
          <p:spPr>
            <a:xfrm flipV="1">
              <a:off x="4571280" y="2611080"/>
              <a:ext cx="3240" cy="1176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49" name="_s1030"/>
            <p:cNvCxnSpPr>
              <a:stCxn id="450" idx="0"/>
              <a:endCxn id="446" idx="2"/>
            </p:cNvCxnSpPr>
            <p:nvPr/>
          </p:nvCxnSpPr>
          <p:spPr>
            <a:xfrm flipH="1" flipV="1" rot="5400000">
              <a:off x="2543040" y="1758960"/>
              <a:ext cx="1176480" cy="2880720"/>
            </a:xfrm>
            <a:prstGeom prst="bentConnector3">
              <a:avLst>
                <a:gd name="adj1" fmla="val 970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446" name="_s1031"/>
            <p:cNvSpPr/>
            <p:nvPr/>
          </p:nvSpPr>
          <p:spPr>
            <a:xfrm>
              <a:off x="3337200" y="274680"/>
              <a:ext cx="2468520" cy="2336760"/>
            </a:xfrm>
            <a:prstGeom prst="roundRect">
              <a:avLst>
                <a:gd name="adj" fmla="val 16667"/>
              </a:avLst>
            </a:prstGeom>
            <a:solidFill>
              <a:srgbClr val="31b6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700" spc="-1" strike="noStrike">
                  <a:solidFill>
                    <a:srgbClr val="000000"/>
                  </a:solidFill>
                  <a:latin typeface="Arial"/>
                </a:rPr>
                <a:t>симбиоз</a:t>
              </a:r>
              <a:endParaRPr b="0" lang="en-US" sz="4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0" name="_s1032"/>
            <p:cNvSpPr/>
            <p:nvPr/>
          </p:nvSpPr>
          <p:spPr>
            <a:xfrm>
              <a:off x="457200" y="3787560"/>
              <a:ext cx="2468520" cy="2336760"/>
            </a:xfrm>
            <a:prstGeom prst="roundRect">
              <a:avLst>
                <a:gd name="adj" fmla="val 16667"/>
              </a:avLst>
            </a:prstGeom>
            <a:solidFill>
              <a:srgbClr val="31b6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кооперация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8" name="_s1033"/>
            <p:cNvSpPr/>
            <p:nvPr/>
          </p:nvSpPr>
          <p:spPr>
            <a:xfrm>
              <a:off x="3337200" y="3787560"/>
              <a:ext cx="2468520" cy="2336760"/>
            </a:xfrm>
            <a:prstGeom prst="roundRect">
              <a:avLst>
                <a:gd name="adj" fmla="val 16667"/>
              </a:avLst>
            </a:prstGeom>
            <a:solidFill>
              <a:srgbClr val="31b6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мутуализм</a:t>
              </a: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5" name="_s1034"/>
            <p:cNvSpPr/>
            <p:nvPr/>
          </p:nvSpPr>
          <p:spPr>
            <a:xfrm>
              <a:off x="6217560" y="3787560"/>
              <a:ext cx="2468520" cy="2336760"/>
            </a:xfrm>
            <a:prstGeom prst="roundRect">
              <a:avLst>
                <a:gd name="adj" fmla="val 16667"/>
              </a:avLst>
            </a:prstGeom>
            <a:solidFill>
              <a:srgbClr val="31b6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комменсализм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transition spd="slow">
    <p:cover dir="l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 txBox="1"/>
          <p:nvPr/>
        </p:nvSpPr>
        <p:spPr>
          <a:xfrm>
            <a:off x="250560" y="857160"/>
            <a:ext cx="843588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Запрягся  рак- отшельник: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ния  на  нем.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шельник  не  досадует,  что  ноша  тяжела,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дь  часто 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ошки  падают 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 нему  с  ее  стола</a:t>
            </a:r>
            <a:r>
              <a:rPr b="1" lang="en-US" sz="4000" spc="-1" strike="noStrike">
                <a:solidFill>
                  <a:srgbClr val="bfbfbf"/>
                </a:solidFill>
                <a:latin typeface="Candara"/>
              </a:rPr>
              <a:t>.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36280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ndara"/>
              </a:rPr>
              <a:t>Определите тип взаимоотношений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53" name="Picture 4" descr="сканирование0001"/>
          <p:cNvPicPr/>
          <p:nvPr/>
        </p:nvPicPr>
        <p:blipFill>
          <a:blip r:embed="rId1"/>
          <a:stretch/>
        </p:blipFill>
        <p:spPr>
          <a:xfrm>
            <a:off x="5724360" y="3213000"/>
            <a:ext cx="2751480" cy="30164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4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4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 txBox="1"/>
          <p:nvPr/>
        </p:nvSpPr>
        <p:spPr>
          <a:xfrm>
            <a:off x="468000" y="476280"/>
            <a:ext cx="835164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Сожителями рака-отшельника и актинии часто бывают   многощетинковые черви.   Замечательно, что рак-отшельник не трогая "своего" червя, хотя поедает других.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чем основано   сожительство рака-отшельника, актинии  и многощетинкового червя?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transition spd="slow">
    <p:push dir="u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31" dur="500" fill="hold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32" dur="500" fill="hold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33" dur="500" fill="hold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34" dur="500" fill="hold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446040" y="189000"/>
            <a:ext cx="8229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Кооперация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– совместное существование, выгодное для обоих видов, но не являющееся непременным условием выживания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56" name="Picture 4" descr="Кривенцева3"/>
          <p:cNvPicPr/>
          <p:nvPr/>
        </p:nvPicPr>
        <p:blipFill>
          <a:blip r:embed="rId1"/>
          <a:stretch/>
        </p:blipFill>
        <p:spPr>
          <a:xfrm>
            <a:off x="446040" y="1670040"/>
            <a:ext cx="3765600" cy="497376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2" descr=""/>
          <p:cNvPicPr/>
          <p:nvPr/>
        </p:nvPicPr>
        <p:blipFill>
          <a:blip r:embed="rId2"/>
          <a:stretch/>
        </p:blipFill>
        <p:spPr>
          <a:xfrm>
            <a:off x="4859280" y="1665360"/>
            <a:ext cx="3816360" cy="48704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00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2T06:38:22Z</dcterms:created>
  <dc:creator>User1</dc:creator>
  <dc:description/>
  <dc:language>en-US</dc:language>
  <cp:lastModifiedBy>Василий</cp:lastModifiedBy>
  <dcterms:modified xsi:type="dcterms:W3CDTF">2012-03-16T13:08:13Z</dcterms:modified>
  <cp:revision>85</cp:revision>
  <dc:subject/>
  <dc:title>Слайд 1</dc:title>
</cp:coreProperties>
</file>