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1DF-3F01-4050-8164-EA7D9D34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49C-E4D7-4DB2-AED6-6A0EA063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29880-DFC5-4567-B2B8-3B79D474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D2E16-8867-4BE2-940F-1371C13C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2D251-FF54-48AC-A140-2825AA28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71162-FBC1-42F9-8B4F-EAB575A9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C716D-56CA-4350-BD49-B18D68E1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CB71D-8F01-42C2-A74E-B3BBDCF2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7C3C2-1AA2-4A16-87FE-85BD6862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26A86-3780-49B8-9F96-47870EF0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A1EEF-B94C-403E-A83F-05FA8466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27C-7347-4050-AE6C-AFC8965A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9DD3-F9FE-4AC5-8C3F-1D3A3A4E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74ED-3079-4227-8FA5-56B20B78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65DC-421F-418D-A798-A893E912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771A-7C11-48CF-AB42-76D7777A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0561-88D2-42E2-9672-07178A3D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C116-1831-4A89-8A6C-FE9B5475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25CE-820C-483E-BDA6-FE7F40CA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2BAC-A87C-4E70-A488-D2FDFDDB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D1A-A947-44EB-9939-99A4ABE0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EA44-137C-431F-8C31-2D42EDE0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F4CA-4D04-4752-882A-1481D6AE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2209-0A50-47DE-9592-EB4E5335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0979-E18E-4057-9F70-D092B8A2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3B36-3D1F-4F0B-8B9C-035F10A8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1CBE1-525E-4ED6-BFCE-3A9967B0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810B8-003B-4A1E-9C42-E1A28842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DB8CF-738D-459A-B69D-9E122FEA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7ECFC-CE49-4043-B065-07200144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1B1CA-8A57-4E27-BF6B-E26012CE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A1D-E4B5-4979-B73B-0E823A75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326C7-EE28-4F0E-A852-64E83523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7EE2E-BFD3-41AD-90A8-7541902A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C6D8-CF89-4C10-9E6B-2F5BB42A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92260-BB8D-4C6E-8D0A-9FCFF4E1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2868-F2E0-432A-903F-CB39F48C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2BDD5-BA96-4413-8849-E17A77CC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84B3D-5E00-4741-B5DA-99F6A64A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77B0B-D76C-4CB8-A608-33D507D0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D785A-CB06-457B-A649-EB704FF9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15288-3753-402C-A74B-8E740715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B4C-2D90-4DC7-8930-416F7E15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C719B-5B5F-4AF1-9456-535C3D04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B518B-BFCF-4322-8387-A334CBA8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A2F36-3901-4C4B-B564-832918F5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A890F-E290-422D-BCF3-85852894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C4441-D722-424E-94D6-D1EDCFB0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B189D-A1C1-4970-BA73-1E3653EC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A33C4-A9B5-4303-BE13-3BFCF335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6EB5C-96D2-4EB9-B5EC-3A0A8C48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A3363-3804-410F-9424-4A4E0542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28856-622C-4FDC-A7AA-724957FD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05B-711C-4459-B1D9-5FBBCA7C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237D4-4EDC-499A-A030-B414AD4A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D14F6-4D10-4E0E-A997-36B0AB99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C1961-C556-4B64-92C2-399E9557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DB476-706E-4CF3-997C-A74C52D6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121C7-839F-49C1-B467-A1137140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D7AA2-BC70-4FD9-8186-60897E3A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7F7A2-4890-4BB8-9115-6757C036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C257B-ED9F-4C33-AF0E-0D23217E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523A9-ADCB-4508-B993-0F9A4F2E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3757F-FA8F-44C3-A482-BCB7B130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831-8205-4649-A42A-95AC745D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75D40-362F-43FD-8B74-1A5B3A4E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90B15-A753-4FE4-97D9-E1E79D80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E60D1-9F31-49D9-8DE5-2A928038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D26A6-5EAC-4504-AC04-7F22AC95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FB002-EA4E-4781-8C21-9D6BE38C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4360A-0C35-480E-BB85-E962F95D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792E8-6DF8-41EA-9980-CBFC7005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37DC8-FEA8-4242-B212-ED2E0038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83036-DCED-4EB0-968E-65CF842B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1CFAC-EFF6-44F4-A6D7-9EC7F69A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7ED-F786-4527-A942-84EB4A06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3FC43-A1B9-4994-B37D-4101A18A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EC857-BA77-4F1D-B5A5-93548FC1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48EC2-0491-4AA3-AC0F-D7377C4A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C7AAD-485E-4B93-B213-ECFAC159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59B98-248D-47E9-841C-6030EC0B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9E9AA-2C54-4432-9076-0200BA20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FFFA6-DF57-46BE-8049-AF94AA9C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B7E4E-4930-4C6E-8CC5-4C5F2AB5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2CE0C-9E91-4F1C-A05E-739E3173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11E19-4655-461A-B411-A6EBB511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5E6-F087-45A3-AF40-6E9D6FE1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76C7A-D35A-414A-99A6-BADABB68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DD736-CC92-408C-8581-CEF5ED52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36FD2-C874-4D5E-887D-846C291B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D30B8-1119-4ABD-ACAE-A51E22E8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40C4D-41FF-43B2-907C-2662D220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E937F-7004-416F-BF61-D89973B3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AF63D-0EA0-4AEB-ACC1-67C30A1E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9B63E-034F-44C0-B9A8-6A95665D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47D36-3929-476E-B3CB-22EEF730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E44E4-1085-4EEC-8086-9DD1AABB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CEEA-D176-4E20-96F5-98B422AF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C2D28-6E7A-4196-BE98-6A32B997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EE8E0-5D43-4399-9091-EBB1B84C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F3231-75E5-4430-900B-B6974F29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65357-3B17-43E9-AAF5-89C0CF67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89162-1497-441C-858D-637224D9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939A2-5FE8-48BB-A7B1-2B9B8F62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DE53D-C4C6-46A1-AD70-EC596981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7E211-D740-4D32-928D-E4B0E429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3097B-09BF-4EE2-9638-2F6075EC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0A796-4302-4179-B3B4-19513D9A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F02C-6F2B-48B6-A0BE-8F96B5DF83A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F4CA-BCF5-461B-A8C2-40A5E909685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B21A-71AC-4215-93CA-27865C46DDD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6541-C062-4490-A5BE-BED1CF5DCCA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D4C3-8593-46AF-AB4B-5682455D590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C849-DBEA-4CC5-B4C7-53AB5B690AC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9E8C-D911-4CDC-95FE-F6645158734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28D8-6856-4FBA-B57C-33BA1FBD47E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CF10-6200-4C76-99B9-D08E53A4876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6"/>
          <p:cNvSpPr txBox="1"/>
          <p:nvPr/>
        </p:nvSpPr>
        <p:spPr>
          <a:xfrm>
            <a:off x="2500200" y="571680"/>
            <a:ext cx="3071880" cy="14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 уро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WordArt 7"/>
          <p:cNvSpPr txBox="1"/>
          <p:nvPr/>
        </p:nvSpPr>
        <p:spPr>
          <a:xfrm>
            <a:off x="571680" y="1284120"/>
            <a:ext cx="8100720" cy="18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зитивны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заимоотношения между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измами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Прямоугольник 7"/>
          <p:cNvSpPr/>
          <p:nvPr/>
        </p:nvSpPr>
        <p:spPr>
          <a:xfrm>
            <a:off x="1928880" y="4000680"/>
            <a:ext cx="66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Мишнина  Лидия Александровна, учитель биологии СОШ №3 Акбулакского района Оренбургской  обла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C:\Documents and Settings\User\Мои документы\Мои рисунки\66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92520" y="2573280"/>
            <a:ext cx="4287960" cy="3865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Картинка 1 из 5"/>
          <p:cNvPicPr/>
          <p:nvPr/>
        </p:nvPicPr>
        <p:blipFill>
          <a:blip r:embed="rId2"/>
          <a:stretch/>
        </p:blipFill>
        <p:spPr>
          <a:xfrm>
            <a:off x="222120" y="1409760"/>
            <a:ext cx="4384800" cy="33843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"/>
          <p:cNvSpPr/>
          <p:nvPr/>
        </p:nvSpPr>
        <p:spPr>
          <a:xfrm>
            <a:off x="539640" y="333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римеры  проявления кооперации в живой природе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94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"/>
          <p:cNvSpPr/>
          <p:nvPr/>
        </p:nvSpPr>
        <p:spPr>
          <a:xfrm>
            <a:off x="324000" y="836640"/>
            <a:ext cx="835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утуализм –  взаимополезное сожительство, когда присутствие партнёра становится обязательным условием существования каждого из н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2422440" y="19692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low Solid Italic"/>
              </a:rPr>
              <a:t>Мутуализм(++)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Picture 6" descr=""/>
          <p:cNvPicPr/>
          <p:nvPr/>
        </p:nvPicPr>
        <p:blipFill>
          <a:blip r:embed="rId1"/>
          <a:stretch/>
        </p:blipFill>
        <p:spPr>
          <a:xfrm>
            <a:off x="41400" y="2060640"/>
            <a:ext cx="4205160" cy="4537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Картинка 4 из 37"/>
          <p:cNvPicPr/>
          <p:nvPr/>
        </p:nvPicPr>
        <p:blipFill>
          <a:blip r:embed="rId2"/>
          <a:stretch/>
        </p:blipFill>
        <p:spPr>
          <a:xfrm>
            <a:off x="3805200" y="2060640"/>
            <a:ext cx="5338800" cy="453708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"/>
          <p:cNvSpPr/>
          <p:nvPr/>
        </p:nvSpPr>
        <p:spPr>
          <a:xfrm>
            <a:off x="187200" y="4365720"/>
            <a:ext cx="344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ишайники—это тесное взаимовыгодное сожительство грибов и водорос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Прямоугольник 2"/>
          <p:cNvSpPr/>
          <p:nvPr/>
        </p:nvSpPr>
        <p:spPr>
          <a:xfrm>
            <a:off x="5003640" y="57942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лубеньковые бактерии на корнях бобовых куль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480960" y="243000"/>
            <a:ext cx="8353440" cy="62640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3"/>
          <p:cNvSpPr/>
          <p:nvPr/>
        </p:nvSpPr>
        <p:spPr>
          <a:xfrm>
            <a:off x="755640" y="105264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характеризуйте особенности взаимоотношения некоторых грибов и деревье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611280" y="92160"/>
            <a:ext cx="1512720" cy="100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"/>
          <p:cNvPicPr/>
          <p:nvPr/>
        </p:nvPicPr>
        <p:blipFill>
          <a:blip r:embed="rId3"/>
          <a:stretch/>
        </p:blipFill>
        <p:spPr>
          <a:xfrm>
            <a:off x="2124000" y="10800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"/>
          <p:cNvPicPr/>
          <p:nvPr/>
        </p:nvPicPr>
        <p:blipFill>
          <a:blip r:embed="rId4"/>
          <a:stretch/>
        </p:blipFill>
        <p:spPr>
          <a:xfrm>
            <a:off x="3419640" y="92160"/>
            <a:ext cx="145404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Candara"/>
              </a:rPr>
              <a:t>Докажите, что типичным симбиозом является взаимоотношение термитов и жгутиковых простейших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( Термиты питаются древесиной, однако у них  нет ферментов для переваривания целлюлозы. Жгутиконосцы вырабатывают такие ферменты и переводят клетчатку в простые сахара. Без простейших – симбионтов – термиты погибают от голода)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5056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ахлебниче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Рыба – прилипала прикрепляется к рыбам, черепахам, китам. Они за их счет не питаются, а используют лишь как транспорт и покидают их, оказавшись на месте с подходящим кормом. Для этого у рыб спинной плавник преобразован в присоску. Насытившись, рыбы вновь ищут к кому бы прикрепиться. В дороге они пользуются остатками корма своих возниц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Сотрапезничество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. Это потребление разных частей или веществ одной пищи.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Например: почвенные бактерии и высшие растения. Бактерии перерабатывают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органику до минеральных солей, которые в свою очередь усваиваются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высшими     растениями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Квартиран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реди орхидей много эпифитов. В тропическом лесу дефицит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вета. Прикрепляясь к стволу дерева орхидеи получают необходимый свет, не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принося ни вреда, ни пользы дереву-опоре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Комменсализм.   Один организм извлекает из взаимоотношений пользу, для другого взаимоотношения нейтральны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78920" y="3860280"/>
            <a:ext cx="45370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Что объединяет такие формы  комменсализма как нахлебничество и  квартирантство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( При таких взаимодействиях  один из организмов улучшает свое положение, а другой не испытывает значимых изменений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79" name="Picture 9" descr="C:\Documents and Settings\User\Мои документы\Мои рисунки\66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375160" y="12600"/>
            <a:ext cx="3767400" cy="25527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4861080" y="2770200"/>
            <a:ext cx="4270320" cy="39304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179280" y="0"/>
            <a:ext cx="5184720" cy="362916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7"/>
          <p:cNvSpPr/>
          <p:nvPr/>
        </p:nvSpPr>
        <p:spPr>
          <a:xfrm>
            <a:off x="145800" y="32446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ыба прилипала и акул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Прямоугольник 8"/>
          <p:cNvSpPr/>
          <p:nvPr/>
        </p:nvSpPr>
        <p:spPr>
          <a:xfrm>
            <a:off x="5148360" y="5300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амка горчака откладывает икру в мантийную полость двустворчатого моллюс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Прямоугольник 9"/>
          <p:cNvSpPr/>
          <p:nvPr/>
        </p:nvSpPr>
        <p:spPr>
          <a:xfrm>
            <a:off x="5240160" y="245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татки пищи крупных хищников достаются птица–падальщика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2"/>
          <p:cNvSpPr/>
          <p:nvPr/>
        </p:nvSpPr>
        <p:spPr>
          <a:xfrm>
            <a:off x="395280" y="352440"/>
            <a:ext cx="856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тельная: продолжить формирование знаний о проявлениях биотических факторов среды; раскрыть сущность позитивных отношений между организм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ющая: сформировать умение различать проявление разных форм симбиоза; развивать познавательную активность учащихся, их коммуникативную и информативную компетент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: воспитывать бережное отношение к окружающей сред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с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351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Применяем полученные знани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С1. Объясните, почему для выращивания бобовых растений </a:t>
            </a:r>
            <a:r>
              <a:rPr b="1" i="1" lang="en-US" sz="3600" spc="-1" strike="noStrike" u="sng">
                <a:solidFill>
                  <a:srgbClr val="073e87"/>
                </a:solidFill>
                <a:uFillTx/>
                <a:latin typeface="Arial"/>
              </a:rPr>
              <a:t>не требуется</a:t>
            </a: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 подкормка азотными удобрениями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( САМОЕ ПОЛНОЕ ИЗДАНИЕ ТИПОВЫХ ВАРИАНТОВ ЗАДАНИ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ЕГЭ 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012.</a:t>
            </a: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 БИОЛОГИЯ/  ФИПИ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Авторы-составители: Б.А. Никишова и С.П. Шаталова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  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Элементы ответа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1) у бобовых на корнях поселяются клубеньковые бактер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) они усваивают азот воздуха и обеспечивают растения азотным питанием.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2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Прямоугольник 3"/>
          <p:cNvSpPr/>
          <p:nvPr/>
        </p:nvSpPr>
        <p:spPr>
          <a:xfrm>
            <a:off x="324000" y="333360"/>
            <a:ext cx="8569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1 Почему почву в лесопосадках заселяют микоризными грибам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тличник ЕГЭ. Биология / ФИПИ. Авторы-составите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линова Г.С., Петросова Р.А., Никишова Е.А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Прямоугольник 5"/>
          <p:cNvSpPr/>
          <p:nvPr/>
        </p:nvSpPr>
        <p:spPr>
          <a:xfrm>
            <a:off x="539640" y="3573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Элементы отве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деревья вступают в симбиоз с гриб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корни растений получают дополнительное минеральное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итание, растения легче переносят неблагоприятные условия.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2. Найдите  ошибки в приведенном  тексте, укажите номера предложений в которых они сделаны, исправьте их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ежду организмами в процессе их существования могут возникать разнообразные как внутри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так и межвидовые отношени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всегда   носят обязательный  характер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3.Растения в симбиозе с азотфиксирующими бактериями могут произрастать на почвах, бедных азотом, и обогащать им почв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4. Деревья с микоризой находятся в угнетенном состоянии и плохо растут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5.Биологический смысл прикрепления прилипал заключается в облегчении передвижения и расселения этих рыб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3e87"/>
                </a:solidFill>
                <a:latin typeface="Arial"/>
              </a:rPr>
              <a:t>Ошибки допущены в предложениях-2,4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нося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обязательный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и временный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характер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 Деревья с микориз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ут гораздо лучше, так как через грибницы  дерево обеспечивается  водой и минеральными солями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75452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Грибники знают, что рыжики следует искать в молодом ельнике или под соснами, подосиновики и подберезовики – в лиственных лесах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Объясните почему 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ndara"/>
              </a:rPr>
              <a:t>Домашнее задание.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ndara"/>
              </a:rPr>
              <a:t>Каким  образом  в процессе эволюции могли сформироваться отношения комменсализма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95280" y="148392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1.Что такое симбиоз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 Симбиоз- сожительство от греч.sym –вместе,         bios – жизнь; форма взаимоотношений, при которой оба партнера или один из них извлекает пользу от другого).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2.Между организмами существуют прямые и косвенны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связи, в чем их суть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прямые связи осуществляются при непосредственном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лиянии одного вида на другой, косвенные – через влияни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внешнюю среду или на другие виды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ndara"/>
              </a:rPr>
              <a:t>Актуализация знан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Различают множество типов парных взаимодействий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1. Трофические – связанные с питанием и потоками энерг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 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трофический симбиоз. 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2. Топические – связанные с изменением условий обитания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форические: перенос организмов одного вида организмами другого вида и др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3. Информационно-сигнальные – связанные с передачей информац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 реципрокный альтруизм (взаимопомощь)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"/>
          <p:cNvSpPr/>
          <p:nvPr/>
        </p:nvSpPr>
        <p:spPr>
          <a:xfrm>
            <a:off x="395280" y="189000"/>
            <a:ext cx="8497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учаем новую тем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ые отношения  это форма взаимоотношений при которой об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ёра или один из них извлекае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 от друг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995640" y="2443320"/>
            <a:ext cx="25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(++ или +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Picture 7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635640" cy="3166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738600" cy="3197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"/>
          <p:cNvPicPr/>
          <p:nvPr/>
        </p:nvPicPr>
        <p:blipFill>
          <a:blip r:embed="rId3"/>
          <a:stretch/>
        </p:blipFill>
        <p:spPr>
          <a:xfrm>
            <a:off x="6550200" y="0"/>
            <a:ext cx="25844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Organization Chart 2"/>
          <p:cNvGrpSpPr/>
          <p:nvPr/>
        </p:nvGrpSpPr>
        <p:grpSpPr>
          <a:xfrm>
            <a:off x="457200" y="274680"/>
            <a:ext cx="8228880" cy="5849640"/>
            <a:chOff x="457200" y="274680"/>
            <a:chExt cx="8228880" cy="5849640"/>
          </a:xfrm>
        </p:grpSpPr>
        <p:cxnSp>
          <p:nvCxnSpPr>
            <p:cNvPr id="444" name="_s1028"/>
            <p:cNvCxnSpPr>
              <a:stCxn id="445" idx="0"/>
              <a:endCxn id="446" idx="2"/>
            </p:cNvCxnSpPr>
            <p:nvPr/>
          </p:nvCxnSpPr>
          <p:spPr>
            <a:xfrm flipV="1" rot="16200000">
              <a:off x="5423400" y="175860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7" name="_s1029"/>
            <p:cNvCxnSpPr>
              <a:stCxn id="448" idx="0"/>
              <a:endCxn id="446" idx="2"/>
            </p:cNvCxnSpPr>
            <p:nvPr/>
          </p:nvCxnSpPr>
          <p:spPr>
            <a:xfrm flipV="1">
              <a:off x="4571280" y="2611080"/>
              <a:ext cx="3240" cy="117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9" name="_s1030"/>
            <p:cNvCxnSpPr>
              <a:stCxn id="450" idx="0"/>
              <a:endCxn id="446" idx="2"/>
            </p:cNvCxnSpPr>
            <p:nvPr/>
          </p:nvCxnSpPr>
          <p:spPr>
            <a:xfrm flipH="1" flipV="1" rot="5400000">
              <a:off x="2543040" y="175896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6" name="_s1031"/>
            <p:cNvSpPr/>
            <p:nvPr/>
          </p:nvSpPr>
          <p:spPr>
            <a:xfrm>
              <a:off x="3337200" y="27468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000000"/>
                  </a:solidFill>
                  <a:latin typeface="Arial"/>
                </a:rPr>
                <a:t>симбиоз</a:t>
              </a:r>
              <a:endParaRPr b="0" lang="en-US" sz="4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_s1032"/>
            <p:cNvSpPr/>
            <p:nvPr/>
          </p:nvSpPr>
          <p:spPr>
            <a:xfrm>
              <a:off x="45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ооперация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_s1033"/>
            <p:cNvSpPr/>
            <p:nvPr/>
          </p:nvSpPr>
          <p:spPr>
            <a:xfrm>
              <a:off x="333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мутуализм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_s1034"/>
            <p:cNvSpPr/>
            <p:nvPr/>
          </p:nvSpPr>
          <p:spPr>
            <a:xfrm>
              <a:off x="621756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омменсализм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0560" y="857160"/>
            <a:ext cx="8435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рягся  рак- отшельник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ния  на  нем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шельник  не  досадует,  что  ноша  тяжела,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 часто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шки  падают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нему  с  ее  стола</a:t>
            </a:r>
            <a:r>
              <a:rPr b="1" lang="en-US" sz="4000" spc="-1" strike="noStrike">
                <a:solidFill>
                  <a:srgbClr val="bfbfbf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ndara"/>
              </a:rPr>
              <a:t>Определите тип взаимоотношени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3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5724360" y="3213000"/>
            <a:ext cx="275148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68000" y="476280"/>
            <a:ext cx="8351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жителями рака-отшельника и актинии часто бывают   многощетинковые черви.   Замечательно, что рак-отшельник не трогая "своего" червя, хотя поедает других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м основано   сожительство рака-отшельника, актинии  и многощетинкового червя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46040" y="189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операция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– совместное существование, выгодное для обоих видов, но не являющееся непременным условием выжи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Picture 4" descr="Кривенцева3"/>
          <p:cNvPicPr/>
          <p:nvPr/>
        </p:nvPicPr>
        <p:blipFill>
          <a:blip r:embed="rId1"/>
          <a:stretch/>
        </p:blipFill>
        <p:spPr>
          <a:xfrm>
            <a:off x="446040" y="1670040"/>
            <a:ext cx="3765600" cy="4973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4859280" y="1665360"/>
            <a:ext cx="3816360" cy="4870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6:38:22Z</dcterms:created>
  <dc:creator>User1</dc:creator>
  <dc:description/>
  <dc:language>en-US</dc:language>
  <cp:lastModifiedBy>Василий</cp:lastModifiedBy>
  <dcterms:modified xsi:type="dcterms:W3CDTF">2012-03-16T13:08:13Z</dcterms:modified>
  <cp:revision>85</cp:revision>
  <dc:subject/>
  <dc:title>Слайд 1</dc:title>
</cp:coreProperties>
</file>