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7403-9BCC-4011-AFFF-9E15FB79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485-2653-42AD-ADB9-580322B4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04FB9-0DFD-4250-BE1D-D4CAA22F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27606-EC70-44F0-A8D6-E6C13416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939EC-0337-46F4-AF75-29D9EE1E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48B7E-306A-4326-BFE4-FF5F0A8B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8EDA1-FD4C-4EFC-BD97-31DBE307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DEBA3-73F4-4EE4-8206-E59B313D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8D218-A03F-4DBD-ACFF-F7660AB5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23A5A-A70A-4270-A1D3-858298A5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B7696-ECFB-47EF-B88E-A393DEC9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E94-AB24-4DD9-8AD8-C3D1B5B2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CEE2-E2AB-4CAA-9771-5098D1A4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9FA9-7992-47AF-99BA-917DE2CD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9979-A717-459C-A5B6-02FCB6EC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7367-FD5C-4D3E-B773-CB0E86E0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EDDF-06C5-40C1-A765-C0F351AB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B5C9-2F2E-4B34-BE27-C1C19F60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E2D1-B3C5-4ABF-81AA-79BAFA9C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DB16-0122-41CB-B3A7-3D1F82F7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ED6-83B3-4AA3-928D-E30839CB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1B52-5694-4BD8-BB48-A65C0F32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B53F-17DA-4FA3-90E5-FC83FA82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4562-68E6-47DB-AF3C-15A0B522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66AB-4D9B-4C51-A4AE-F4AA378D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BFC9-A6D6-4911-9E62-BF2FC907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F6A73-9BFB-452D-9DF7-C8C5A58E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878FD-075F-49ED-AA9D-E99CC925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1B067-EF5F-4F56-9746-15274E65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8FCA6-1F6D-4908-BF08-729713CB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FD72C-09DF-478C-94F5-38134456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DB1-F036-4E5F-B7D7-021FA556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6E40E-3AF5-4978-B527-266DC26B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C86B6-1FAD-43D2-ADBB-6EA207AA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C0537-BFA9-4F4B-9E8A-AFAA4CF0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500AE-595C-4B7A-B609-72284BAE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A1728-CF20-4986-8B30-A3379B88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748BC-DDDC-45E4-BDCA-461E136C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70F22-A8CA-4C0F-BB7D-D176ACFC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7E545-0398-4DE6-AFE0-BCDC33F3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81624-37C5-4E97-8661-9CA8CAB2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845FD-A687-436F-AD6B-AC41DD73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69CF-092A-418B-9234-3808A01D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1F627-1AD0-45B1-B5C7-39F5844B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DFF83-D28B-41B6-A524-DF349BF1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77B6C-D7EC-4DDE-96FF-5DDDB6E3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EA48C-8396-4EB5-BF07-E97F48E2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CBC8B-6E82-4AB7-8CBF-EA5B970D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C8F4C-3C46-460E-9D81-1991BC4F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AC81D-D0EE-4644-8C7A-ABE860F6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C85A2-FDD7-498E-9E9B-5CF96A77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6CE31-A5F2-4277-A7EC-043D323B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2B59C-17A7-4591-B9C4-EE763A2B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8F34-2437-40FA-A7DF-D9F2CEAE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0D5A2-263C-463C-8CB5-DDCA43F7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993C8-538B-4149-BE04-EA63C7E3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B7965-D303-45D5-8A26-39ED2947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D2667-F791-43FE-A3C7-17F5BD24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0412F-AFDD-4E76-A80D-CAB22C15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9EB10-514A-4DDD-B02E-93FF6DDC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411BC-3AAE-4F27-BD44-6EEC4FDA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98D36-0944-4328-A75A-22EA09CB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2ECCF-A937-4DC9-9647-EC40D2BF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B3D2D-25D1-4524-A1C2-E50749F3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D8E2-ADE8-46E2-B8EF-C34F961A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2DA33-4E09-4006-AE5C-18465B49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845C1-33C6-493B-8936-7715A8E6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6A4D2-5BD9-4FE2-9E3A-DE84F0B5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B4724-3B1E-4408-9BE1-04AC5C27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0DDE5-74B7-4F16-A71B-4E1A4C60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679FE-6A33-44EE-9639-682F4E95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C7329-F93F-4DF4-9026-9438412A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A81D7-41BC-4C58-81C5-F1964B78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A51E4-EFB8-47B4-86FC-DDCCE1EE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2BE21-8898-4FF5-A1D1-2715C21D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1C7-20F5-45CF-90A8-FEBDF848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A5D3C-B77F-42D7-943F-B09BEC07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8439E-FA31-4BF0-B63A-86B23718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BD553-848B-45A3-95DB-93829DEB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2517F-FC53-42FB-A7D5-6BADA875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B01E5-7070-4EFA-8D93-323518CD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6CC3F-F3D2-4CB1-A8C0-C4330CE3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805B4-8676-4030-9C48-8719722E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B11A0-5AAD-474B-9E7C-D91BA727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79AAE-57D3-4A4F-A867-769CC5A6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544B8-F842-4D74-8AC8-F00AE557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99D0-E0EB-48E8-8887-E5D2F532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35979-2910-4045-8ED8-0DF0612E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4C150-5092-43E1-8CDD-86CE4291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9BE37-0BAC-47DB-BB76-6A046E4E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212BD-C2E7-4FC1-BD6C-DEFC9A26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F03AD-D54A-4806-97D5-56E8ECE3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933CA-0B2E-46EC-9CE1-DC26BF8A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35ACD-4FAF-436F-AF9F-A1B6C0E1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F68CE-1BCD-41C3-97DA-50216362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F10FB-99E6-428E-B7E3-93F85D4B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8ECCA-ACD8-449D-8B7B-2C8BFEAA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3A2-DF65-49F3-9E29-D07387D1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66FFF-EDB3-4B3C-B726-E69275DB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B5B92-243E-457A-B137-9D13975E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DC11A-2259-4BA6-8480-C4C25377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776D6-3A74-4824-9D7D-BD04CE26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80539-FA30-44BE-9B0E-4ACF403B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97D29-9146-482A-9E6E-8588FF2D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ED4B8-DCF0-43CF-A8BF-6AC06B2F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37775-41AF-49CC-AF18-610EB595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968A3-2CB8-4ADC-8B88-120454D7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6C137-30E0-4D5D-9610-B32848F9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8D91-C5CD-45A0-A143-601D9A03A90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BC7D-18D7-41CE-A0A0-214E4DDCE7D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22E8-DCA0-467F-8765-391C6E9657D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F103-822D-44BC-AFFD-4E6765EBD72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0BC8-DA20-4F06-9935-63202E49462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F99D-E6FC-4B64-81DD-756E357066E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51AE-350F-411F-9F6D-EA10EF8CDC1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ECCF-2909-41E2-9A27-E0EB6A83E33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3761-6A14-40BB-8D5F-BB87DA518C2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6"/>
          <p:cNvSpPr txBox="1"/>
          <p:nvPr/>
        </p:nvSpPr>
        <p:spPr>
          <a:xfrm>
            <a:off x="2500200" y="571680"/>
            <a:ext cx="3071880" cy="14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 уро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2" name="WordArt 7"/>
          <p:cNvSpPr txBox="1"/>
          <p:nvPr/>
        </p:nvSpPr>
        <p:spPr>
          <a:xfrm>
            <a:off x="571680" y="1284120"/>
            <a:ext cx="8100720" cy="18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зитивны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заимоотношения между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измами 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Прямоугольник 7"/>
          <p:cNvSpPr/>
          <p:nvPr/>
        </p:nvSpPr>
        <p:spPr>
          <a:xfrm>
            <a:off x="1928880" y="4000680"/>
            <a:ext cx="66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Мишнина  Лидия Александровна, учитель биологии СОШ №3 Акбулакского района Оренбургской  обла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C:\Documents and Settings\User\Мои документы\Мои рисунки\66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592520" y="2573280"/>
            <a:ext cx="4287960" cy="38656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Картинка 1 из 5"/>
          <p:cNvPicPr/>
          <p:nvPr/>
        </p:nvPicPr>
        <p:blipFill>
          <a:blip r:embed="rId2"/>
          <a:stretch/>
        </p:blipFill>
        <p:spPr>
          <a:xfrm>
            <a:off x="222120" y="1409760"/>
            <a:ext cx="4384800" cy="33843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"/>
          <p:cNvSpPr/>
          <p:nvPr/>
        </p:nvSpPr>
        <p:spPr>
          <a:xfrm>
            <a:off x="539640" y="333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ите примеры  проявления кооперации в живой природе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94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4"/>
          <p:cNvSpPr/>
          <p:nvPr/>
        </p:nvSpPr>
        <p:spPr>
          <a:xfrm>
            <a:off x="324000" y="836640"/>
            <a:ext cx="835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утуализм –  взаимополезное сожительство, когда присутствие партнёра становится обязательным условием существования каждого из н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2422440" y="19692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low Solid Italic"/>
              </a:rPr>
              <a:t>Мутуализм(++)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3" name="Picture 6" descr=""/>
          <p:cNvPicPr/>
          <p:nvPr/>
        </p:nvPicPr>
        <p:blipFill>
          <a:blip r:embed="rId1"/>
          <a:stretch/>
        </p:blipFill>
        <p:spPr>
          <a:xfrm>
            <a:off x="41400" y="2060640"/>
            <a:ext cx="4205160" cy="45370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Картинка 4 из 37"/>
          <p:cNvPicPr/>
          <p:nvPr/>
        </p:nvPicPr>
        <p:blipFill>
          <a:blip r:embed="rId2"/>
          <a:stretch/>
        </p:blipFill>
        <p:spPr>
          <a:xfrm>
            <a:off x="3805200" y="2060640"/>
            <a:ext cx="5338800" cy="453708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1"/>
          <p:cNvSpPr/>
          <p:nvPr/>
        </p:nvSpPr>
        <p:spPr>
          <a:xfrm>
            <a:off x="187200" y="4365720"/>
            <a:ext cx="344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ишайники—это тесное взаимовыгодное сожительство грибов и водорос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Прямоугольник 2"/>
          <p:cNvSpPr/>
          <p:nvPr/>
        </p:nvSpPr>
        <p:spPr>
          <a:xfrm>
            <a:off x="5003640" y="57942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лубеньковые бактерии на корнях бобовых куль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480960" y="243000"/>
            <a:ext cx="8353440" cy="626400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3"/>
          <p:cNvSpPr/>
          <p:nvPr/>
        </p:nvSpPr>
        <p:spPr>
          <a:xfrm>
            <a:off x="755640" y="105264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характеризуйте особенности взаимоотношения некоторых грибов и деревье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611280" y="92160"/>
            <a:ext cx="1512720" cy="100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"/>
          <p:cNvPicPr/>
          <p:nvPr/>
        </p:nvPicPr>
        <p:blipFill>
          <a:blip r:embed="rId3"/>
          <a:stretch/>
        </p:blipFill>
        <p:spPr>
          <a:xfrm>
            <a:off x="2124000" y="108000"/>
            <a:ext cx="1295640" cy="971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"/>
          <p:cNvPicPr/>
          <p:nvPr/>
        </p:nvPicPr>
        <p:blipFill>
          <a:blip r:embed="rId4"/>
          <a:stretch/>
        </p:blipFill>
        <p:spPr>
          <a:xfrm>
            <a:off x="3419640" y="92160"/>
            <a:ext cx="1454040" cy="966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Candara"/>
              </a:rPr>
              <a:t>Докажите, что типичным симбиозом является взаимоотношение термитов и жгутиковых простейших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( Термиты питаются древесиной, однако у них  нет ферментов для переваривания целлюлозы. Жгутиконосцы вырабатывают такие ферменты и переводят клетчатку в простые сахара. Без простейших – симбионтов – термиты погибают от голода)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250560" y="1196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ахлебниче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Рыба – прилипала прикрепляется к рыбам, черепахам, китам. Они за их счет не питаются, а используют лишь как транспорт и покидают их, оказавшись на месте с подходящим кормом. Для этого у рыб спинной плавник преобразован в присоску. Насытившись, рыбы вновь ищут к кому бы прикрепиться. В дороге они пользуются остатками корма своих возниц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Сотрапезничество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. Это потребление разных частей или веществ одной пищи.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Например: почвенные бактерии и высшие растения. Бактерии перерабатывают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органику до минеральных солей, которые в свою очередь усваиваются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высшими     растениями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Квартиран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реди орхидей много эпифитов. В тропическом лесу дефицит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вета. Прикрепляясь к стволу дерева орхидеи получают необходимый свет, не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принося ни вреда, ни пользы дереву-опоре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Комменсализм.   Один организм извлекает из взаимоотношений пользу, для другого взаимоотношения нейтральны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78920" y="3860280"/>
            <a:ext cx="45370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Что объединяет такие формы  комменсализма как нахлебничество и  квартирантство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( При таких взаимодействиях  один из организмов улучшает свое положение, а другой не испытывает значимых изменений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79" name="Picture 9" descr="C:\Documents and Settings\User\Мои документы\Мои рисунки\66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375160" y="12600"/>
            <a:ext cx="3767400" cy="25527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2"/>
          <a:stretch/>
        </p:blipFill>
        <p:spPr>
          <a:xfrm>
            <a:off x="4861080" y="2770200"/>
            <a:ext cx="4270320" cy="39304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3"/>
          <a:stretch/>
        </p:blipFill>
        <p:spPr>
          <a:xfrm>
            <a:off x="179280" y="0"/>
            <a:ext cx="5184720" cy="362916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7"/>
          <p:cNvSpPr/>
          <p:nvPr/>
        </p:nvSpPr>
        <p:spPr>
          <a:xfrm>
            <a:off x="145800" y="324468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ыба прилипала и акул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Прямоугольник 8"/>
          <p:cNvSpPr/>
          <p:nvPr/>
        </p:nvSpPr>
        <p:spPr>
          <a:xfrm>
            <a:off x="5148360" y="530064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амка горчака откладывает икру в мантийную полость двустворчатого моллюс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Прямоугольник 9"/>
          <p:cNvSpPr/>
          <p:nvPr/>
        </p:nvSpPr>
        <p:spPr>
          <a:xfrm>
            <a:off x="5240160" y="2457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татки пищи крупных хищников достаются птица–падальщика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2"/>
          <p:cNvSpPr/>
          <p:nvPr/>
        </p:nvSpPr>
        <p:spPr>
          <a:xfrm>
            <a:off x="395280" y="352440"/>
            <a:ext cx="856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тельная: продолжить формирование знаний о проявлениях биотических факторов среды; раскрыть сущность позитивных отношений между организм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вающая: сформировать умение различать проявление разных форм симбиоза; развивать познавательную активность учащихся, их коммуникативную и информативную компетентн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ательная: воспитывать бережное отношение к окружающей сред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с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351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Применяем полученные знания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С1. Объясните, почему для выращивания бобовых растений </a:t>
            </a:r>
            <a:r>
              <a:rPr b="1" i="1" lang="en-US" sz="3600" spc="-1" strike="noStrike" u="sng">
                <a:solidFill>
                  <a:srgbClr val="073e87"/>
                </a:solidFill>
                <a:uFillTx/>
                <a:latin typeface="Arial"/>
              </a:rPr>
              <a:t>не требуется</a:t>
            </a: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 подкормка азотными удобрениями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( САМОЕ ПОЛНОЕ ИЗДАНИЕ ТИПОВЫХ ВАРИАНТОВ ЗАДАНИ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ЕГЭ 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012.</a:t>
            </a: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 БИОЛОГИЯ/  ФИПИ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Авторы-составители: Б.А. Никишова и С.П. Шаталова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  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Элементы ответа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1) у бобовых на корнях поселяются клубеньковые бактери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) они усваивают азот воздуха и обеспечивают растения азотным питанием.</a:t>
            </a: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2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Прямоугольник 3"/>
          <p:cNvSpPr/>
          <p:nvPr/>
        </p:nvSpPr>
        <p:spPr>
          <a:xfrm>
            <a:off x="324000" y="333360"/>
            <a:ext cx="8569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1 Почему почву в лесопосадках заселяют микоризными грибам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тличник ЕГЭ. Биология / ФИПИ. Авторы-составител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линова Г.С., Петросова Р.А., Никишова Е.А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Прямоугольник 5"/>
          <p:cNvSpPr/>
          <p:nvPr/>
        </p:nvSpPr>
        <p:spPr>
          <a:xfrm>
            <a:off x="539640" y="357336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Элементы отве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деревья вступают в симбиоз с гриб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корни растений получают дополнительное минеральное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итание, растения легче переносят неблагоприятные условия.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2. Найдите  ошибки в приведенном  тексте, укажите номера предложений в которых они сделаны, исправьте их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Между организмами в процессе их существования могут возникать разнообразные как внутри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так и межвидовые отношения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всегда   носят обязательный  характер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3.Растения в симбиозе с азотфиксирующими бактериями могут произрастать на почвах, бедных азотом, и обогащать им почв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4. Деревья с микоризой находятся в угнетенном состоянии и плохо растут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5.Биологический смысл прикрепления прилипал заключается в облегчении передвижения и расселения этих рыб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3e87"/>
                </a:solidFill>
                <a:latin typeface="Arial"/>
              </a:rPr>
              <a:t>Ошибки допущены в предложениях-2,4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нося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обязательный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и временный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характер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 Деревья с микориз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ут гораздо лучше, так как через грибницы  дерево обеспечивается  водой и минеральными солями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75452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Грибники знают, что рыжики следует искать в молодом ельнике или под соснами, подосиновики и подберезовики – в лиственных лесах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Объясните почему 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Candara"/>
              </a:rPr>
              <a:t>Домашнее задание.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ndara"/>
              </a:rPr>
              <a:t>Каким  образом  в процессе эволюции могли сформироваться отношения комменсализма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95280" y="1483920"/>
            <a:ext cx="8569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1.Что такое симбиоз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 Симбиоз- сожительство от греч.sym –вместе,         bios – жизнь; форма взаимоотношений, при которой оба партнера или один из них извлекает пользу от другого).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2.Между организмами существуют прямые и косвенны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связи, в чем их суть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прямые связи осуществляются при непосредственном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лиянии одного вида на другой, косвенные – через влияни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внешнюю среду или на другие виды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ndara"/>
              </a:rPr>
              <a:t>Актуализация знан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Различают множество типов парных взаимодействий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1. Трофические – связанные с питанием и потоками энерг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 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трофический симбиоз. 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2. Топические – связанные с изменением условий обитания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форические: перенос организмов одного вида организмами другого вида и др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3. Информационно-сигнальные – связанные с передачей информац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 реципрокный альтруизм (взаимопомощь)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"/>
          <p:cNvSpPr/>
          <p:nvPr/>
        </p:nvSpPr>
        <p:spPr>
          <a:xfrm>
            <a:off x="395280" y="189000"/>
            <a:ext cx="8497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учаем новую тем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ые отношения  это форма взаимоотношений при которой об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ёра или один из них извлекае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 от друг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995640" y="2443320"/>
            <a:ext cx="25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(++ или +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Picture 7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635640" cy="3166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738600" cy="3197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"/>
          <p:cNvPicPr/>
          <p:nvPr/>
        </p:nvPicPr>
        <p:blipFill>
          <a:blip r:embed="rId3"/>
          <a:stretch/>
        </p:blipFill>
        <p:spPr>
          <a:xfrm>
            <a:off x="6550200" y="0"/>
            <a:ext cx="25844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Organization Chart 2"/>
          <p:cNvGrpSpPr/>
          <p:nvPr/>
        </p:nvGrpSpPr>
        <p:grpSpPr>
          <a:xfrm>
            <a:off x="457200" y="274680"/>
            <a:ext cx="8228880" cy="5849640"/>
            <a:chOff x="457200" y="274680"/>
            <a:chExt cx="8228880" cy="5849640"/>
          </a:xfrm>
        </p:grpSpPr>
        <p:cxnSp>
          <p:nvCxnSpPr>
            <p:cNvPr id="444" name="_s1028"/>
            <p:cNvCxnSpPr>
              <a:stCxn id="445" idx="0"/>
              <a:endCxn id="446" idx="2"/>
            </p:cNvCxnSpPr>
            <p:nvPr/>
          </p:nvCxnSpPr>
          <p:spPr>
            <a:xfrm flipV="1" rot="16200000">
              <a:off x="5423400" y="175860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7" name="_s1029"/>
            <p:cNvCxnSpPr>
              <a:stCxn id="448" idx="0"/>
              <a:endCxn id="446" idx="2"/>
            </p:cNvCxnSpPr>
            <p:nvPr/>
          </p:nvCxnSpPr>
          <p:spPr>
            <a:xfrm flipV="1">
              <a:off x="4571280" y="2611080"/>
              <a:ext cx="3240" cy="117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9" name="_s1030"/>
            <p:cNvCxnSpPr>
              <a:stCxn id="450" idx="0"/>
              <a:endCxn id="446" idx="2"/>
            </p:cNvCxnSpPr>
            <p:nvPr/>
          </p:nvCxnSpPr>
          <p:spPr>
            <a:xfrm flipH="1" flipV="1" rot="5400000">
              <a:off x="2543040" y="175896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6" name="_s1031"/>
            <p:cNvSpPr/>
            <p:nvPr/>
          </p:nvSpPr>
          <p:spPr>
            <a:xfrm>
              <a:off x="3337200" y="27468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700" spc="-1" strike="noStrike">
                  <a:solidFill>
                    <a:srgbClr val="000000"/>
                  </a:solidFill>
                  <a:latin typeface="Arial"/>
                </a:rPr>
                <a:t>симбиоз</a:t>
              </a:r>
              <a:endParaRPr b="0" lang="en-US" sz="4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_s1032"/>
            <p:cNvSpPr/>
            <p:nvPr/>
          </p:nvSpPr>
          <p:spPr>
            <a:xfrm>
              <a:off x="45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ооперация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_s1033"/>
            <p:cNvSpPr/>
            <p:nvPr/>
          </p:nvSpPr>
          <p:spPr>
            <a:xfrm>
              <a:off x="333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мутуализм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_s1034"/>
            <p:cNvSpPr/>
            <p:nvPr/>
          </p:nvSpPr>
          <p:spPr>
            <a:xfrm>
              <a:off x="621756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комменсализм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cover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250560" y="857160"/>
            <a:ext cx="84358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рягся  рак- отшельник: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ния  на  нем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шельник  не  досадует,  что  ноша  тяжела,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 часто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шки  падают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нему  с  ее  стола</a:t>
            </a:r>
            <a:r>
              <a:rPr b="1" lang="en-US" sz="4000" spc="-1" strike="noStrike">
                <a:solidFill>
                  <a:srgbClr val="bfbfbf"/>
                </a:solidFill>
                <a:latin typeface="Candara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62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ndara"/>
              </a:rPr>
              <a:t>Определите тип взаимоотношений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3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5724360" y="3213000"/>
            <a:ext cx="2751480" cy="3016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68000" y="476280"/>
            <a:ext cx="83516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жителями рака-отшельника и актинии часто бывают   многощетинковые черви.   Замечательно, что рак-отшельник не трогая "своего" червя, хотя поедает других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м основано   сожительство рака-отшельника, актинии  и многощетинкового червя?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446040" y="189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операция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– совместное существование, выгодное для обоих видов, но не являющееся непременным условием выжи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Picture 4" descr="Кривенцева3"/>
          <p:cNvPicPr/>
          <p:nvPr/>
        </p:nvPicPr>
        <p:blipFill>
          <a:blip r:embed="rId1"/>
          <a:stretch/>
        </p:blipFill>
        <p:spPr>
          <a:xfrm>
            <a:off x="446040" y="1670040"/>
            <a:ext cx="3765600" cy="49737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4859280" y="1665360"/>
            <a:ext cx="3816360" cy="4870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6:38:22Z</dcterms:created>
  <dc:creator>User1</dc:creator>
  <dc:description/>
  <dc:language>en-US</dc:language>
  <cp:lastModifiedBy>Василий</cp:lastModifiedBy>
  <dcterms:modified xsi:type="dcterms:W3CDTF">2012-03-16T13:08:13Z</dcterms:modified>
  <cp:revision>85</cp:revision>
  <dc:subject/>
  <dc:title>Слайд 1</dc:title>
</cp:coreProperties>
</file>