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0C28-030A-4D99-83E8-7AFEE8D75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7935-9E01-46F2-8599-42217D0C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EF2F6-24BA-4850-BB27-FE182A56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FDA54-679C-4EF9-AC61-FA0A1CFB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628E3-F9D4-4719-B068-802B67B4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A783D-2958-4A3C-A44A-148CB90E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1088D-F38F-454F-8510-D351A273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9B656-73C5-4754-8D08-C32C6D96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F524C-D4DD-47ED-B2C6-8F548557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31F07-DE96-45F3-B7F3-60354D91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B70C1-92F5-400D-83CE-89654CAEB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E7E1-7E04-4571-BC4C-B7AA4024E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F2A6-C3BA-4C73-9E96-AAE268D5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B1A2-DF6D-49FE-A85C-EC629AE2B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34C7-F262-44CA-AC8E-6A55E1E2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846B-202A-41D8-8545-ACA5D62E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7E61-12AD-4183-820A-F6D2965E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6403-90AF-4B29-8A9D-01AB69C4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EF6F-1C95-4E7B-8680-D145AE4E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72D9-E2C2-47AC-B2A2-1930626B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67F0-E388-4992-8ACD-780DCB4F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42E4-CC7E-4355-A5E5-7F560D0A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2A8F-D64E-4864-9D70-24C249EC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FE1C-17D5-4FC8-AC83-A645C7BD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9C61-D9CC-46E9-BC70-CA1282940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CA60-CD06-44E6-AC78-79DD84A2C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4E0A0-C697-4518-9CD8-9735FA34F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83B75-A301-400D-B95C-23FDB14B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DA9B5-8A37-424D-BCC2-D5F31E06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D21E6-F916-4C12-BD2D-EA7E8FE9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53DF1-75F4-40F1-892B-1F79DAF9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86FA-C2F8-44CC-90A6-1998A92E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9842E-3D89-417E-A273-BF28BC39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13943-4742-483A-BDDD-159001C9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59FE5-B785-40A8-8041-F9742883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89E3B-8E3E-472C-B3EC-CB3B97AA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A50EC-D2E4-4FBF-8D37-620EE1F0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1FBA3-DED6-4488-9DE5-289827B62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9DDA0-E01E-4721-95CD-C967C977F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C8668-5A53-4858-B6C6-AEA19586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2355E-7732-4C4A-AFFC-C76FB183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642EE-4CCE-4EA1-B1E4-0871C67A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0523-A401-4EE7-AC87-6B20C3E7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6A137-EB75-4513-AAC7-19D7F917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7F0F5-0CB3-4DBB-B593-E7E35EEF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0BB3C-5A5D-4F54-83D4-BF22DC5D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6EA62-3FAA-4C62-A381-123E584A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CFB0C-A452-425B-B8CD-89626C81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85164-8480-4235-B335-1A9E7CBF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52883-8199-4F88-BE23-7A3E645D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324BA-8F8A-4E31-B373-24E4F131E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02D44-B92E-4927-9423-76F9B129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5874D-62F7-47AB-8293-39BC7E15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33C1-7875-49C1-9A0F-02736EB1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9AA46-5985-4973-892E-96FECF35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C9DB7-AF5E-4E77-BB21-026E2447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0FE3B-43A8-4DAC-B578-299DED5E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188ED-2DB8-4584-BEF0-30D318AC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71E6B-D9F6-4BAE-B784-7106F10A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A13FE-6B5D-4EA5-B754-DB7DD8E8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5021B-B7DA-493B-91D0-D008E936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A32D8-DBB0-4D2D-A554-EBE97972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F1A66-1F47-4AC3-9CC3-5DD2B042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D792D-E00E-4080-822A-4188C875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7F9E-D372-4ECA-998E-BA1559C7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CA7BA-339F-4209-AC47-0402802A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88D16-4F0E-43D3-A4DE-6C9F085F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7EDF4-7BD0-43E6-ABB1-51603CE6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8CBF6-0787-44DE-92CE-CCEE8028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013A3-BE10-480E-AD74-AD71BB25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BD761-BFFB-4A3E-83AC-A1166849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AD4D1-277D-46FA-AB76-3E850923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4CCC6-04CA-46D0-974A-0FF86BDE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57D0E-9851-414C-A2A6-B1552E6F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26F5E-7EA7-4083-AA98-3271F911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DFA2-3208-4521-B61E-16EABDCE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89EBE-C651-436A-B9DF-3045E639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CE627-3AE5-4293-8EFF-C8ECB4696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F7210-F2F7-4DA3-878C-B4492364D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939F7-D461-4C5B-B827-337F149B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CCD62-95FE-4797-B5BB-4AEAC83D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1AB64-E9F9-464D-A41C-BD89B903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E13B9-DD8A-49B0-8019-FED3553D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5803E-F7B0-4EE1-BF1C-F6667524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C7E59-C2AF-42C9-983B-D05C8363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9C5B2-71AD-48B8-967C-6874FC2A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7777-36B9-48FE-8774-CBBE4ACD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3ADFF-5328-4B23-BEF7-D468E0CF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A8231-8A92-4549-B8C1-5CDF05DF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C8A4F-8CBE-4B82-BC01-D517D139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9F35D-A90B-451F-A4E3-5A816D71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EFBD4-F198-45A4-8213-AB5648F8F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1655C-271D-4DC7-964B-24A9477D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7219C-E828-4913-8C54-9AA2D716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459B0-746C-414C-82EA-CC314C31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C4D20-61E5-4563-BEFC-7701E17A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C043B-93E0-4C80-847D-578E7B4F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DEF3-FE03-4719-A4D0-60F0639A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1AC5D-918B-4E56-B537-FBC88ABC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CFEFC-C3F3-47EC-8EA0-45586125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A79A5-31B3-480B-82D0-9E16BEA8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98BD0-B661-4AA8-B6FC-EFB33271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D03D8-D25E-4588-9502-2B25F3DF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DAD8C-3143-4012-98B0-96C81366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1CC2F-AA18-4966-A773-94CF05C8F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1E7FF-A22B-4036-BE9F-86E8DD6A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78241-9EE3-4475-B4B3-14CBFAF2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5CA23-B3E4-4732-9F17-7E040C5E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D70B-0C94-4AD4-80BD-49E9B8CE363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3FE4-C47F-40A0-9B88-002F929D15B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0711-D47B-4954-9ED1-C1955C5DD86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917A-8C0A-4DD1-BCD5-35B6E51725F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B091-629A-4D71-B1F9-716B5A66A0B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CEA4-C4B6-4F96-9257-84089B9E4222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6841-3482-4C0B-BB68-FEADC72E05B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B4B6-2F46-4BA9-BE3E-7BC950B40B5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4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85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4643-7CC9-4159-A5FB-D3C44FABEE0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WordArt 6"/>
          <p:cNvSpPr txBox="1"/>
          <p:nvPr/>
        </p:nvSpPr>
        <p:spPr>
          <a:xfrm>
            <a:off x="2500200" y="571680"/>
            <a:ext cx="3071880" cy="142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ма урок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2" name="WordArt 7"/>
          <p:cNvSpPr txBox="1"/>
          <p:nvPr/>
        </p:nvSpPr>
        <p:spPr>
          <a:xfrm>
            <a:off x="571680" y="1284120"/>
            <a:ext cx="8100720" cy="183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зитивные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заимоотношения между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рганизмами  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3" name="Прямоугольник 7"/>
          <p:cNvSpPr/>
          <p:nvPr/>
        </p:nvSpPr>
        <p:spPr>
          <a:xfrm>
            <a:off x="1928880" y="4000680"/>
            <a:ext cx="66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Мишнина  Лидия Александровна, учитель биологии СОШ №3 Акбулакского района Оренбургской  обла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6" descr="C:\Documents and Settings\User\Мои документы\Мои рисунки\66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592520" y="2573280"/>
            <a:ext cx="4287960" cy="38656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" descr="Картинка 1 из 5"/>
          <p:cNvPicPr/>
          <p:nvPr/>
        </p:nvPicPr>
        <p:blipFill>
          <a:blip r:embed="rId2"/>
          <a:stretch/>
        </p:blipFill>
        <p:spPr>
          <a:xfrm>
            <a:off x="222120" y="1409760"/>
            <a:ext cx="4384800" cy="3384360"/>
          </a:xfrm>
          <a:prstGeom prst="rect">
            <a:avLst/>
          </a:prstGeom>
          <a:ln w="0">
            <a:noFill/>
          </a:ln>
        </p:spPr>
      </p:pic>
      <p:sp>
        <p:nvSpPr>
          <p:cNvPr id="460" name="Прямоугольник 1"/>
          <p:cNvSpPr/>
          <p:nvPr/>
        </p:nvSpPr>
        <p:spPr>
          <a:xfrm>
            <a:off x="539640" y="333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ите примеры  проявления кооперации в живой природе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94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4"/>
          <p:cNvSpPr/>
          <p:nvPr/>
        </p:nvSpPr>
        <p:spPr>
          <a:xfrm>
            <a:off x="324000" y="836640"/>
            <a:ext cx="8351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утуализм –  взаимополезное сожительство, когда присутствие партнёра становится обязательным условием существования каждого из ни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2422440" y="196920"/>
            <a:ext cx="54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low Solid Italic"/>
              </a:rPr>
              <a:t>Мутуализм(++)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3" name="Picture 6" descr=""/>
          <p:cNvPicPr/>
          <p:nvPr/>
        </p:nvPicPr>
        <p:blipFill>
          <a:blip r:embed="rId1"/>
          <a:stretch/>
        </p:blipFill>
        <p:spPr>
          <a:xfrm>
            <a:off x="41400" y="2060640"/>
            <a:ext cx="4205160" cy="45370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Картинка 4 из 37"/>
          <p:cNvPicPr/>
          <p:nvPr/>
        </p:nvPicPr>
        <p:blipFill>
          <a:blip r:embed="rId2"/>
          <a:stretch/>
        </p:blipFill>
        <p:spPr>
          <a:xfrm>
            <a:off x="3805200" y="2060640"/>
            <a:ext cx="5338800" cy="453708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1"/>
          <p:cNvSpPr/>
          <p:nvPr/>
        </p:nvSpPr>
        <p:spPr>
          <a:xfrm>
            <a:off x="187200" y="4365720"/>
            <a:ext cx="344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Лишайники—это тесное взаимовыгодное сожительство грибов и водорос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Прямоугольник 2"/>
          <p:cNvSpPr/>
          <p:nvPr/>
        </p:nvSpPr>
        <p:spPr>
          <a:xfrm>
            <a:off x="5003640" y="579420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лубеньковые бактерии на корнях бобовых культу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8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480960" y="243000"/>
            <a:ext cx="8353440" cy="626400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3"/>
          <p:cNvSpPr/>
          <p:nvPr/>
        </p:nvSpPr>
        <p:spPr>
          <a:xfrm>
            <a:off x="755640" y="105264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характеризуйте особенности взаимоотношения некоторых грибов и деревье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1" name="Picture 3" descr=""/>
          <p:cNvPicPr/>
          <p:nvPr/>
        </p:nvPicPr>
        <p:blipFill>
          <a:blip r:embed="rId2"/>
          <a:stretch/>
        </p:blipFill>
        <p:spPr>
          <a:xfrm>
            <a:off x="611280" y="92160"/>
            <a:ext cx="1512720" cy="1008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"/>
          <p:cNvPicPr/>
          <p:nvPr/>
        </p:nvPicPr>
        <p:blipFill>
          <a:blip r:embed="rId3"/>
          <a:stretch/>
        </p:blipFill>
        <p:spPr>
          <a:xfrm>
            <a:off x="2124000" y="108000"/>
            <a:ext cx="1295640" cy="9716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5" descr=""/>
          <p:cNvPicPr/>
          <p:nvPr/>
        </p:nvPicPr>
        <p:blipFill>
          <a:blip r:embed="rId4"/>
          <a:stretch/>
        </p:blipFill>
        <p:spPr>
          <a:xfrm>
            <a:off x="3419640" y="92160"/>
            <a:ext cx="1454040" cy="966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73e87"/>
                </a:solidFill>
                <a:latin typeface="Candara"/>
              </a:rPr>
              <a:t>Докажите, что типичным симбиозом является взаимоотношение термитов и жгутиковых простейших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ndara"/>
              </a:rPr>
              <a:t>( Термиты питаются древесиной, однако у них  нет ферментов для переваривания целлюлозы. Жгутиконосцы вырабатывают такие ферменты и переводят клетчатку в простые сахара. Без простейших – симбионтов – термиты погибают от голода)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push dir="u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250560" y="1196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-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Нахлебничество.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Рыба – прилипала прикрепляется к рыбам, черепахам, китам. Они за их счет не питаются, а используют лишь как транспорт и покидают их, оказавшись на месте с подходящим кормом. Для этого у рыб спинной плавник преобразован в присоску. Насытившись, рыбы вновь ищут к кому бы прикрепиться. В дороге они пользуются остатками корма своих возниц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Сотрапезничество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. Это потребление разных частей или веществ одной пищи.  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Например: почвенные бактерии и высшие растения. Бактерии перерабатывают  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органику до минеральных солей, которые в свою очередь усваиваются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высшими     растениями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Квартиранство.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Среди орхидей много эпифитов. В тропическом лесу дефицит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света. Прикрепляясь к стволу дерева орхидеи получают необходимый свет, не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принося ни вреда, ни пользы дереву-опоре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Комменсализм.   Один организм извлекает из взаимоотношений пользу, для другого взаимоотношения нейтральны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ll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78920" y="3860280"/>
            <a:ext cx="453708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Что объединяет такие формы  комменсализма как нахлебничество и  квартирантство?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( При таких взаимодействиях  один из организмов улучшает свое положение, а другой не испытывает значимых изменений)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79" name="Picture 9" descr="C:\Documents and Settings\User\Мои документы\Мои рисунки\66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375160" y="12600"/>
            <a:ext cx="3767400" cy="25527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" descr=""/>
          <p:cNvPicPr/>
          <p:nvPr/>
        </p:nvPicPr>
        <p:blipFill>
          <a:blip r:embed="rId2"/>
          <a:stretch/>
        </p:blipFill>
        <p:spPr>
          <a:xfrm>
            <a:off x="4861080" y="2770200"/>
            <a:ext cx="4270320" cy="39304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3" descr=""/>
          <p:cNvPicPr/>
          <p:nvPr/>
        </p:nvPicPr>
        <p:blipFill>
          <a:blip r:embed="rId3"/>
          <a:stretch/>
        </p:blipFill>
        <p:spPr>
          <a:xfrm>
            <a:off x="179280" y="0"/>
            <a:ext cx="5184720" cy="3629160"/>
          </a:xfrm>
          <a:prstGeom prst="rect">
            <a:avLst/>
          </a:prstGeom>
          <a:ln w="0">
            <a:noFill/>
          </a:ln>
        </p:spPr>
      </p:pic>
      <p:sp>
        <p:nvSpPr>
          <p:cNvPr id="482" name="Прямоугольник 7"/>
          <p:cNvSpPr/>
          <p:nvPr/>
        </p:nvSpPr>
        <p:spPr>
          <a:xfrm>
            <a:off x="145800" y="324468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ыба прилипала и акул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Прямоугольник 8"/>
          <p:cNvSpPr/>
          <p:nvPr/>
        </p:nvSpPr>
        <p:spPr>
          <a:xfrm>
            <a:off x="5148360" y="5300640"/>
            <a:ext cx="38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амка горчака откладывает икру в мантийную полость двустворчатого моллюс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Прямоугольник 9"/>
          <p:cNvSpPr/>
          <p:nvPr/>
        </p:nvSpPr>
        <p:spPr>
          <a:xfrm>
            <a:off x="5240160" y="245736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татки пищи крупных хищников достаются птица–падальщикам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5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7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9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ту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1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ту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Прямоугольник 2"/>
          <p:cNvSpPr/>
          <p:nvPr/>
        </p:nvSpPr>
        <p:spPr>
          <a:xfrm>
            <a:off x="395280" y="352440"/>
            <a:ext cx="8569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и урока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бразовательная: продолжить формирование знаний о проявлениях биотических факторов среды; раскрыть сущность позитивных отношений между организм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вивающая: сформировать умение различать проявление разных форм симбиоза; развивать познавательную активность учащихся, их коммуникативную и информативную компетентнос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оспитательная: воспитывать бережное отношение к окружающей сред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3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ту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с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3516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Применяем полученные знания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73e87"/>
                </a:solidFill>
                <a:latin typeface="Arial"/>
              </a:rPr>
              <a:t>С1. Объясните, почему для выращивания бобовых растений </a:t>
            </a:r>
            <a:r>
              <a:rPr b="1" i="1" lang="en-US" sz="3600" spc="-1" strike="noStrike" u="sng">
                <a:solidFill>
                  <a:srgbClr val="073e87"/>
                </a:solidFill>
                <a:uFillTx/>
                <a:latin typeface="Arial"/>
              </a:rPr>
              <a:t>не требуется</a:t>
            </a:r>
            <a:r>
              <a:rPr b="1" i="1" lang="en-US" sz="3600" spc="-1" strike="noStrike">
                <a:solidFill>
                  <a:srgbClr val="073e87"/>
                </a:solidFill>
                <a:latin typeface="Arial"/>
              </a:rPr>
              <a:t> подкормка азотными удобрениями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( САМОЕ ПОЛНОЕ ИЗДАНИЕ ТИПОВЫХ ВАРИАНТОВ ЗАДАНИЙ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ЕГЭ </a:t>
            </a: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2012.</a:t>
            </a: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 БИОЛОГИЯ/  ФИПИ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Авторы-составители: Б.А. Никишова и С.П. Шаталова</a:t>
            </a: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  )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Элементы ответа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1) у бобовых на корнях поселяются клубеньковые бактерии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2) они усваивают азот воздуха и обеспечивают растения азотным питанием.</a:t>
            </a: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8" dur="20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Прямоугольник 3"/>
          <p:cNvSpPr/>
          <p:nvPr/>
        </p:nvSpPr>
        <p:spPr>
          <a:xfrm>
            <a:off x="324000" y="333360"/>
            <a:ext cx="85690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1 Почему почву в лесопосадках заселяют микоризными грибами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Отличник ЕГЭ. Биология / ФИПИ. Авторы-составител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линова Г.С., Петросова Р.А., Никишова Е.А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Прямоугольник 5"/>
          <p:cNvSpPr/>
          <p:nvPr/>
        </p:nvSpPr>
        <p:spPr>
          <a:xfrm>
            <a:off x="539640" y="357336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Элементы ответ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1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деревья вступают в симбиоз с гриба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корни растений получают дополнительное минеральное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итание, растения легче переносят неблагоприятные условия.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2000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2. Найдите  ошибки в приведенном  тексте, укажите номера предложений в которых они сделаны, исправьте их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Между организмами в процессе их существования могут возникать разнообразные как внутри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так и межвидовые отношения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2.Симбиотические отношения между организмами всегда   носят обязательный  характер.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3.Растения в симбиозе с азотфиксирующими бактериями могут произрастать на почвах, бедных азотом, и обогащать им почву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4. Деревья с микоризой находятся в угнетенном состоянии и плохо растут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5.Биологический смысл прикрепления прилипал заключается в облегчении передвижения и расселения этих рыб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71560" y="1989000"/>
            <a:ext cx="7408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73e87"/>
                </a:solidFill>
                <a:latin typeface="Arial"/>
              </a:rPr>
              <a:t>Ошибки допущены в предложениях-2,4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.Симбиотические отношения между организм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нося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обязательный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 и временный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характер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4. Деревья с микоризо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тут гораздо лучше, так как через грибницы  дерево обеспечивается  водой и минеральными солями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84000" y="333360"/>
            <a:ext cx="75452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73e87"/>
                </a:solidFill>
                <a:latin typeface="Candara"/>
              </a:rPr>
              <a:t>Грибники знают, что рыжики следует искать в молодом ельнике или под соснами, подосиновики и подберезовики – в лиственных лесах.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i="1" lang="en-US" sz="4400" spc="-1" strike="noStrike">
                <a:solidFill>
                  <a:srgbClr val="073e87"/>
                </a:solidFill>
                <a:latin typeface="Candara"/>
              </a:rPr>
              <a:t>Объясните почему ?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777240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Candara"/>
              </a:rPr>
              <a:t>Домашнее задание.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andara"/>
              </a:rPr>
              <a:t>Каким  образом  в процессе эволюции могли сформироваться отношения комменсализма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95280" y="1483920"/>
            <a:ext cx="8569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1.Что такое симбиоз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( Симбиоз- сожительство от греч.sym –вместе,         bios – жизнь; форма взаимоотношений, при которой оба партнера или один из них извлекает пользу от другого).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2.Между организмами существуют прямые и косвенные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связи, в чем их суть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(прямые связи осуществляются при непосредственном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лиянии одного вида на другой, косвенные – через влияние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 внешнюю среду или на другие виды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ndara"/>
              </a:rPr>
              <a:t>Актуализация знаний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250560" y="33300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ndara"/>
              </a:rPr>
              <a:t>Различают множество типов парных взаимодействий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1. Трофические – связанные с питанием и потоками энергии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–  </a:t>
            </a: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например, трофический симбиоз. 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2. Топические – связанные с изменением условий обитания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 – </a:t>
            </a: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форические: перенос организмов одного вида организмами другого вида и др.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3. Информационно-сигнальные – связанные с передачей информации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–</a:t>
            </a: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например,  реципрокный альтруизм (взаимопомощь)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Прямоугольник 1"/>
          <p:cNvSpPr/>
          <p:nvPr/>
        </p:nvSpPr>
        <p:spPr>
          <a:xfrm>
            <a:off x="395280" y="189000"/>
            <a:ext cx="84978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учаем новую тем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ые отношения  это форма взаимоотношений при которой об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ёра или один из них извлекае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у от другог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3995640" y="2443320"/>
            <a:ext cx="25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(++ или +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0" name="Picture 7" descr=""/>
          <p:cNvPicPr/>
          <p:nvPr/>
        </p:nvPicPr>
        <p:blipFill>
          <a:blip r:embed="rId1"/>
          <a:stretch/>
        </p:blipFill>
        <p:spPr>
          <a:xfrm>
            <a:off x="5076720" y="3429000"/>
            <a:ext cx="3635640" cy="31669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6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3738600" cy="31971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7" descr=""/>
          <p:cNvPicPr/>
          <p:nvPr/>
        </p:nvPicPr>
        <p:blipFill>
          <a:blip r:embed="rId3"/>
          <a:stretch/>
        </p:blipFill>
        <p:spPr>
          <a:xfrm>
            <a:off x="6550200" y="0"/>
            <a:ext cx="25844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Organization Chart 2"/>
          <p:cNvGrpSpPr/>
          <p:nvPr/>
        </p:nvGrpSpPr>
        <p:grpSpPr>
          <a:xfrm>
            <a:off x="457200" y="274680"/>
            <a:ext cx="8228880" cy="5849640"/>
            <a:chOff x="457200" y="274680"/>
            <a:chExt cx="8228880" cy="5849640"/>
          </a:xfrm>
        </p:grpSpPr>
        <p:cxnSp>
          <p:nvCxnSpPr>
            <p:cNvPr id="444" name="_s1028"/>
            <p:cNvCxnSpPr>
              <a:stCxn id="445" idx="0"/>
              <a:endCxn id="446" idx="2"/>
            </p:cNvCxnSpPr>
            <p:nvPr/>
          </p:nvCxnSpPr>
          <p:spPr>
            <a:xfrm flipV="1" rot="16200000">
              <a:off x="5423400" y="1758600"/>
              <a:ext cx="1176480" cy="2880720"/>
            </a:xfrm>
            <a:prstGeom prst="bentConnector3">
              <a:avLst>
                <a:gd name="adj1" fmla="val 97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7" name="_s1029"/>
            <p:cNvCxnSpPr>
              <a:stCxn id="448" idx="0"/>
              <a:endCxn id="446" idx="2"/>
            </p:cNvCxnSpPr>
            <p:nvPr/>
          </p:nvCxnSpPr>
          <p:spPr>
            <a:xfrm flipV="1">
              <a:off x="4571280" y="2611080"/>
              <a:ext cx="3240" cy="117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9" name="_s1030"/>
            <p:cNvCxnSpPr>
              <a:stCxn id="450" idx="0"/>
              <a:endCxn id="446" idx="2"/>
            </p:cNvCxnSpPr>
            <p:nvPr/>
          </p:nvCxnSpPr>
          <p:spPr>
            <a:xfrm flipH="1" flipV="1" rot="5400000">
              <a:off x="2543040" y="1758960"/>
              <a:ext cx="1176480" cy="2880720"/>
            </a:xfrm>
            <a:prstGeom prst="bentConnector3">
              <a:avLst>
                <a:gd name="adj1" fmla="val 97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46" name="_s1031"/>
            <p:cNvSpPr/>
            <p:nvPr/>
          </p:nvSpPr>
          <p:spPr>
            <a:xfrm>
              <a:off x="3337200" y="27468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700" spc="-1" strike="noStrike">
                  <a:solidFill>
                    <a:srgbClr val="000000"/>
                  </a:solidFill>
                  <a:latin typeface="Arial"/>
                </a:rPr>
                <a:t>симбиоз</a:t>
              </a:r>
              <a:endParaRPr b="0" lang="en-US" sz="4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_s1032"/>
            <p:cNvSpPr/>
            <p:nvPr/>
          </p:nvSpPr>
          <p:spPr>
            <a:xfrm>
              <a:off x="457200" y="378756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кооперация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_s1033"/>
            <p:cNvSpPr/>
            <p:nvPr/>
          </p:nvSpPr>
          <p:spPr>
            <a:xfrm>
              <a:off x="3337200" y="378756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мутуализм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_s1034"/>
            <p:cNvSpPr/>
            <p:nvPr/>
          </p:nvSpPr>
          <p:spPr>
            <a:xfrm>
              <a:off x="6217560" y="378756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комменсализм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cover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250560" y="857160"/>
            <a:ext cx="84358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прягся  рак- отшельник: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ния  на  нем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шельник  не  досадует,  что  ноша  тяжела,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  часто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шки  падают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 нему  с  ее  стола</a:t>
            </a:r>
            <a:r>
              <a:rPr b="1" lang="en-US" sz="4000" spc="-1" strike="noStrike">
                <a:solidFill>
                  <a:srgbClr val="bfbfbf"/>
                </a:solidFill>
                <a:latin typeface="Candara"/>
              </a:rPr>
              <a:t>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3628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ndara"/>
              </a:rPr>
              <a:t>Определите тип взаимоотношений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53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5724360" y="3213000"/>
            <a:ext cx="2751480" cy="3016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468000" y="476280"/>
            <a:ext cx="83516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ожителями рака-отшельника и актинии часто бывают   многощетинковые черви.   Замечательно, что рак-отшельник не трогая "своего" червя, хотя поедает других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ем основано   сожительство рака-отшельника, актинии  и многощетинкового червя?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push dir="u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3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446040" y="1890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ооперация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– совместное существование, выгодное для обоих видов, но не являющееся непременным условием выжи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6" name="Picture 4" descr="Кривенцева3"/>
          <p:cNvPicPr/>
          <p:nvPr/>
        </p:nvPicPr>
        <p:blipFill>
          <a:blip r:embed="rId1"/>
          <a:stretch/>
        </p:blipFill>
        <p:spPr>
          <a:xfrm>
            <a:off x="446040" y="1670040"/>
            <a:ext cx="3765600" cy="49737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4859280" y="1665360"/>
            <a:ext cx="3816360" cy="4870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06:38:22Z</dcterms:created>
  <dc:creator>User1</dc:creator>
  <dc:description/>
  <dc:language>en-US</dc:language>
  <cp:lastModifiedBy>Василий</cp:lastModifiedBy>
  <dcterms:modified xsi:type="dcterms:W3CDTF">2012-03-16T13:08:13Z</dcterms:modified>
  <cp:revision>85</cp:revision>
  <dc:subject/>
  <dc:title>Слайд 1</dc:title>
</cp:coreProperties>
</file>