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E00-2B12-417D-A76A-954422EF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2E3-04E8-4AAB-BE14-53F54A81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A03-B3E8-4E34-BEA5-D92269D7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A0D-38AA-42C6-8081-C181B176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4FE-58E1-4A68-BC60-8B8FAF49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C87-3EFF-4772-966C-EB4F9E0A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0B3-45DC-4D6D-A5CE-52306897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A74-9CBC-4D21-8FD1-07DC6950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347-1A23-4872-BFE0-3CFBA21A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799-288B-442B-AA4E-E672CA12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11D-6442-45D9-95F9-6A1F3F78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194-3C7B-4211-9406-B5AF81A5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713B-E868-4EC5-BA4D-5425132FD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ophthalmology.eurodoctor.ru/" TargetMode="External"/><Relationship Id="rId3" Type="http://schemas.openxmlformats.org/officeDocument/2006/relationships/hyperlink" Target="http://ophthalmology.eurodoctor.ru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cheese2001.at.tut.by/" TargetMode="External"/><Relationship Id="rId4" Type="http://schemas.openxmlformats.org/officeDocument/2006/relationships/hyperlink" Target="http://www.cheese2001.at.tut.by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xcimerclinic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Органы чувств: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64008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c0c0"/>
                </a:solidFill>
                <a:latin typeface="Arial"/>
              </a:rPr>
              <a:t>Работа учителя биологии Красносельской школы-интерната </a:t>
            </a:r>
            <a:r>
              <a:rPr b="1" lang="ru-RU" sz="1600" spc="-1" strike="noStrike">
                <a:solidFill>
                  <a:srgbClr val="c0c0c0"/>
                </a:solidFill>
                <a:latin typeface="Arial"/>
              </a:rPr>
              <a:t>МЫСКОВОЙ Ол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Нарушение зрения: Дальнозор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иперметропия) –  это оптический дефект, при котором человек хорошо видит предметы, удаленные от него, и плохо –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за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усилить преломляющую силу глаза и тем самым перенести плоскость резкости на сетча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3657600"/>
            <a:ext cx="4572000" cy="224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Асти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тигмат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это оптический дефект, при котором человек плохо видит предметы, как удаленные от него, так и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ь роговицы имеет несферическую форму (оптическая система глаза имеет два главных фок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скорректировать преломляющую силу глаза до совмещения точек фокуса на сетча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Ката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а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птический дефект, при котором происходит потеря хрусталиком прозр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бменных процессов в глазу приводит к потере хрусталиком прозрачности, на пути лучей света возникает преграда. Острота зрения начинает падать вплоть до полной его по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еративное вмеш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Гигиена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По материалам Интернет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204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, писать, работать за компьютером, шить или смотреть телевизор только при достаточном осв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читать в движущемся транспорте и ле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евать темные (солнцезащитные) очки на улице, так как слишком яркое освещение вредно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ть упражнени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ываться холодной водой для повышения тонуса глаз и окружающих их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ку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ить, чтобы не попала инфекция с пылью или грязными ру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2280" y="220896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phthalmology.eurodoctor.ru – сайт офтольмологической кли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excimerclinic.ru – сайт клиники «Экси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konovalov-eye-center.ru – сайт Офтальмологического центра Конова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оветская энциклопедия 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тнер В. Л. «Как мы видим» //Химия и Жизнь №11, 1982 г.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о естественным наукам. Глоссарий.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иферический отдел зрительного анализатора, служащий для восприятия световых раздра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 глаз расположена во впадинах черепа (глазницах). Каждый глаз укреплен при помощи четырех прямых и двух косых мышц, управляющих его движ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состоит из глазного яблока, зрительного нерва и вспомогатель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ловарь по естественным наукам. Глоссарий.р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Эволюция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553440" cy="436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Палочки и колб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Ратнер В. Л. «Как мы видим» //Химия и Жизнь №11, 1982 г.; Большая советская энциклопедия (электронная версия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369800"/>
            <a:ext cx="3886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сумеречного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б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дневного светоощущения и обеспечивающие цветовое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Функции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или предметн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ческ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еоскопическое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hthalmology.eurodoctor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Как человек вид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629400" cy="441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eese2001.at.tut.by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ормальное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Близору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опия) –  это оптический дефект, при котором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видит предметы, расположенные на близком расстоянии, и плохо – предметы, удаленные от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перед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ослабить преломляющую силу глаза и тем самым перенести плоскость резкости на сетча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62320" y="3543480"/>
            <a:ext cx="472428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9T09:52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