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5F64-259A-498E-B27D-EDC8A20F7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555A-E060-4BB6-9C01-6894E535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FF46-2F5E-41A4-B69D-30A73A886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BACF-12FE-42B4-BF27-6C5A7E6E4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16D0-70DC-4099-988B-5DA87E26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B3E0-88A4-4ED6-89DF-0BE782F6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F535-533A-4C18-BEF3-A41668C7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B69E-7728-44C5-8708-0CB76341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811E-A1D0-4762-827E-24A59F0E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D647-C0B8-4BFB-8370-9080126D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13EB-54FB-44FF-A3AA-A34629F6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7571-DB9E-4CDC-AD38-47D5B3D9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4B26-A5EF-41B9-BFE6-EFC184C0D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onovalov-eye-center.ru/" TargetMode="External"/><Relationship Id="rId3" Type="http://schemas.openxmlformats.org/officeDocument/2006/relationships/hyperlink" Target="http://www.excimerclinic.ru/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ophthalmology.eurodoctor.ru/" TargetMode="External"/><Relationship Id="rId3" Type="http://schemas.openxmlformats.org/officeDocument/2006/relationships/hyperlink" Target="http://ophthalmology.eurodoctor.ru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hyperlink" Target="http://www.cheese2001.at.tut.by/" TargetMode="External"/><Relationship Id="rId4" Type="http://schemas.openxmlformats.org/officeDocument/2006/relationships/hyperlink" Target="http://www.cheese2001.at.tut.by/" TargetMode="Externa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www.excimerclinic.ru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onovalov-eye-center.ru/" TargetMode="External"/><Relationship Id="rId3" Type="http://schemas.openxmlformats.org/officeDocument/2006/relationships/hyperlink" Target="http://www.excimerclinic.ru/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Органы чувств: Гл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6400800"/>
            <a:ext cx="8763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c0c0"/>
                </a:solidFill>
                <a:latin typeface="Arial"/>
              </a:rPr>
              <a:t>Работа учителя биологии Красносельской школы-интерната </a:t>
            </a:r>
            <a:r>
              <a:rPr b="1" lang="ru-RU" sz="1600" spc="-1" strike="noStrike">
                <a:solidFill>
                  <a:srgbClr val="c0c0c0"/>
                </a:solidFill>
                <a:latin typeface="Arial"/>
              </a:rPr>
              <a:t>МЫСКОВОЙ Оль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Arial"/>
              </a:rPr>
              <a:t>Нарушение зрения: Дальнозорк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льнозорк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гиперметропия) –  это оптический дефект, при котором человек хорошо видит предметы, удаленные от него, и плохо – расположенные вбли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чины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есоответствие преломляющей силы глаза и его длины (фокус оптической системы глаза находится за сетчаткой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рекция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еобходимо усилить преломляющую силу глаза и тем самым перенести плоскость резкости на сетчат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Офтальмологический центр Коновалова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konovalov-eye-center.r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линика Эксимер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xcimerclinic.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2590920" y="3657600"/>
            <a:ext cx="4572000" cy="2247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Нарушение зрения: Астигматиз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стигматиз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 это оптический дефект, при котором человек плохо видит предметы, как удаленные от него, так и расположенные вбли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чины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верхность роговицы имеет несферическую форму (оптическая система глаза имеет два главных фокус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рекция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еобходимо скорректировать преломляющую силу глаза до совмещения точек фокуса на сетчат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Офтальмологический центр Коновалова www.konovalov-eye-center.r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линика Эксимер www.excimerclinic.ru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438280" y="3581280"/>
            <a:ext cx="4648320" cy="2324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Нарушение зрения: Катара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тарак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это оптический дефект, при котором происходит потеря хрусталиком прозра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чины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рушение обменных процессов в глазу приводит к потере хрусталиком прозрачности, на пути лучей света возникает преграда. Острота зрения начинает падать вплоть до полной его поте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рекция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перативное вмешатель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Офтальмологический центр Коновалова www.konovalov-eye-center.r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линика Эксимер www.excimerclinic.ru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438280" y="3581280"/>
            <a:ext cx="4648320" cy="2324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Гигиена гл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По материалам Интернета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447920"/>
            <a:ext cx="820404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итать, писать, работать за компьютером, шить или смотреть телевизор только при достаточном освещ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читать в движущемся транспорте и леж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девать темные (солнцезащитные) очки на улице, так как слишком яркое освещение вредно для гл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лать упражнения для гл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мываться холодной водой для повышения тонуса глаз и окружающих их тка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кур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ледить, чтобы не попала инфекция с пылью или грязными рукам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132280" y="2208960"/>
            <a:ext cx="456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Список источ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phthalmology.eurodoctor.ru – сайт офтольмологической клин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.excimerclinic.ru – сайт клиники «Эксим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.konovalov-eye-center.ru – сайт Офтальмологического центра Конова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ая советская энциклопедия (электронная верс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тнер В. Л. «Как мы видим» //Химия и Жизнь №11, 1982 г.(электронная верс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арь по естественным наукам. Глоссарий.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Опреде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ла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ериферический отдел зрительного анализатора, служащий для восприятия световых раздраж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а глаз расположена во впадинах черепа (глазницах). Каждый глаз укреплен при помощи четырех прямых и двух косых мышц, управляющих его движен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з состоит из глазного яблока, зрительного нерва и вспомогательного аппа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Словарь по естественным наукам. Глоссарий.ру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Эволюция гл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295280" y="1523880"/>
            <a:ext cx="6629400" cy="4343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586692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Большая энциклопедия Кирилла и Мефодия 200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Строение гл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586692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Большая энциклопедия Кирилла и Мефодия 200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295280" y="1447920"/>
            <a:ext cx="6553440" cy="4368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Палочки и колбо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586692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Ратнер В. Л. «Как мы видим» //Химия и Жизнь №11, 1982 г.; Большая советская энциклопедия (электронная версия)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419720" y="137160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" y="1369800"/>
            <a:ext cx="3886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лочковые клет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фоторецепторы глаза человека и позвоночных животных, функционирующие как элементы сумеречного зр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бочковые клет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фоторецепторы глаза человека и позвоночных животных, функционирующие как элементы дневного светоощущения и обеспечивающие цветовое зр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Функции гл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523880"/>
            <a:ext cx="8001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тоощущ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оощущ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альное или предметное зр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ферическое зр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реоскопическое з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ophthalmology.eurodoctor.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Как человек види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219320" y="1447920"/>
            <a:ext cx="6629400" cy="4419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heese2001.at.tut.by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Нормальное зр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19320" y="1523880"/>
            <a:ext cx="6553080" cy="4368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Клиника Эксимер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xcimerclinic.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Нарушение зрения: Близорук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лизорук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миопия) –  это оптический дефект, при котором челове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рошо видит предметы, расположенные на близком расстоянии, и плохо – предметы, удаленные от не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соответствие преломляющей силы глаза и его длины (фокус оптической системы глаза находится перед сетчаткой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ррекция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обходимо ослабить преломляющую силу глаза и тем самым перенести плоскость резкости на сетчат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Офтальмологический центр Коновалова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konovalov-eye-center.r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линика Эксимер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xcimerclinic.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362320" y="3543480"/>
            <a:ext cx="4724280" cy="2361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2-29T09:52:04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