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CFD-6C91-417C-AC0F-250F57D8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FEA-B73C-4D2A-8B40-AF96828B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EB0-491E-4C67-B125-7A7E2B44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EDB-B739-493B-8543-443CCEFC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6A1-D034-419B-979D-1A6F1848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41F-0430-40A1-901A-DA914F6D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642-8F8D-4E25-B80E-5116A1FD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D24-87DE-43AD-9387-C09F7BF8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826-5152-46F5-9830-C4127080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0D6-C59A-4100-AF18-E5DB86D3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35C4-A9B0-4AED-93DA-3530AB71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2E0-E722-45F5-BB71-D5BF6F53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17B0-29CA-4EC9-AD20-03404F0F7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phthalmology.eurodoctor.ru/" TargetMode="External"/><Relationship Id="rId3" Type="http://schemas.openxmlformats.org/officeDocument/2006/relationships/hyperlink" Target="http://ophthalmology.eurodoctor.r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cheese2001.at.tut.by/" TargetMode="External"/><Relationship Id="rId4" Type="http://schemas.openxmlformats.org/officeDocument/2006/relationships/hyperlink" Target="http://www.cheese2001.at.tut.by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xcimerclinic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Органы чувств: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64008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c0c0"/>
                </a:solidFill>
                <a:latin typeface="Arial"/>
              </a:rPr>
              <a:t>Работа учителя биологии Красносельской школы-интерната </a:t>
            </a:r>
            <a:r>
              <a:rPr b="1" lang="ru-RU" sz="1600" spc="-1" strike="noStrike">
                <a:solidFill>
                  <a:srgbClr val="c0c0c0"/>
                </a:solidFill>
                <a:latin typeface="Arial"/>
              </a:rPr>
              <a:t>МЫСКОВОЙ Ол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Нарушение зрения: Дальнозор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иперметропия) –  это оптический дефект, при котором человек хорошо видит предметы, удаленные от него, и плохо –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за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усилить преломляющую силу глаза и тем самым перенести плоскость резкости на сетча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3657600"/>
            <a:ext cx="457200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Асти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это оптический дефект, при котором человек плохо видит предметы, как удаленные от него, так и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ь роговицы имеет несферическую форму (оптическая система глаза имеет два главных фок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скорректировать преломляющую силу глаза до совмещения точек фокуса на сетч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Ката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тический дефект, при котором происходит потеря хрусталиком прозр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бменных процессов в глазу приводит к потере хрусталиком прозрачности, на пути лучей света возникает преграда. Острота зрения начинает падать вплоть до полной его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еративное вмеш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Гигиена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По материалам Интернет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204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, писать, работать за компьютером, шить или смотреть телевизор только при достаточном осв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читать в движущемся транспорте и ле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вать темные (солнцезащитные) очки на улице, так как слишком яркое освещение вредно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ть упражнени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ываться холодной водой для повышения тонуса глаз и окружающих их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, чтобы не попала инфекция с пылью или грязными ру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2280" y="22089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phthalmology.eurodoctor.ru – сайт офтольмологической кли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excimerclinic.ru – сайт клиники «Экси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konovalov-eye-center.ru – сайт Офтальмологического центра Конова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тнер В. Л. «Как мы видим» //Химия и Жизнь №11, 1982 г.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о естественным наукам. Глоссарий.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иферический отдел зрительного анализатора, служащий для восприятия световых разд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 глаз расположена во впадинах черепа (глазницах). Каждый глаз укреплен при помощи четырех прямых и двух косых мышц, управляющих его дви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состоит из глазного яблока, зрительного нерва и вспомогатель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ловарь по естественным наукам. Глоссарий.р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Эволюция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Палочки и колб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Ратнер В. Л. «Как мы видим» //Химия и Жизнь №11, 1982 г.; Большая советская энциклопедия (электронная версия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369800"/>
            <a:ext cx="3886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сумеречного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б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дневного светоощущения и обеспечивающие цветовое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Функции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или предметн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ческ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еоскопическое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hthalmology.eurodoctor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Как человек вид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eese2001.at.tut.by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ормальное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опия) –  это оптический дефект, при котором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видит предметы, расположенные на близком расстоянии, и плохо – предметы, удаленные от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перед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ослабить преломляющую силу глаза и тем самым перенести плоскость резкости на сетча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543480"/>
            <a:ext cx="472428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9T09:52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