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5A55-6148-40FF-8BE1-0FDF5BC5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064-B96D-437F-85E0-B74EDF31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22D4-51DE-4050-A64A-DD4491D67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AF3C-993C-437D-8362-2E318942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A68-72FD-41AD-9518-E9971F33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FF9A-7E56-49A5-9BE2-BF73CF2A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936-0268-4689-9E04-1F39F39F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D4F-8755-4705-815F-C4135E39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271-064D-42B4-B59A-F4213A3A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99F2-828C-4B7C-B57E-68E1FA83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ACB-7227-413F-95F7-173CF901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6977-9ACD-4DFB-B2E5-3517B539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9C4C-200A-4591-960E-8A22951A7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ophthalmology.eurodoctor.ru/" TargetMode="External"/><Relationship Id="rId3" Type="http://schemas.openxmlformats.org/officeDocument/2006/relationships/hyperlink" Target="http://ophthalmology.eurodoctor.ru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hyperlink" Target="http://www.cheese2001.at.tut.by/" TargetMode="External"/><Relationship Id="rId4" Type="http://schemas.openxmlformats.org/officeDocument/2006/relationships/hyperlink" Target="http://www.cheese2001.at.tut.by/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xcimerclinic.ru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novalov-eye-center.ru/" TargetMode="External"/><Relationship Id="rId3" Type="http://schemas.openxmlformats.org/officeDocument/2006/relationships/hyperlink" Target="http://www.excimerclinic.ru/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Органы чувств: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640080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c0c0"/>
                </a:solidFill>
                <a:latin typeface="Arial"/>
              </a:rPr>
              <a:t>Работа учителя биологии Красносельской школы-интерната </a:t>
            </a:r>
            <a:r>
              <a:rPr b="1" lang="ru-RU" sz="1600" spc="-1" strike="noStrike">
                <a:solidFill>
                  <a:srgbClr val="c0c0c0"/>
                </a:solidFill>
                <a:latin typeface="Arial"/>
              </a:rPr>
              <a:t>МЫСКОВОЙ Оль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Arial"/>
              </a:rPr>
              <a:t>Нарушение зрения: Дальнозор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льнозорк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иперметропия) –  это оптический дефект, при котором человек хорошо видит предметы, удаленные от него, и плохо –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за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усилить преломляющую силу глаза и тем самым перенести плоскость резкости на сетчат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90920" y="3657600"/>
            <a:ext cx="4572000" cy="2247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Астигмат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тигмат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 это оптический дефект, при котором человек плохо видит предметы, как удаленные от него, так и расположенные вбли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верхность роговицы имеет несферическую форму (оптическая система глаза имеет два главных фок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обходимо скорректировать преломляющую силу глаза до совмещения точек фокуса на сетча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Катара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ра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это оптический дефект, при котором происходит потеря хрусталиком прозра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рушение обменных процессов в глазу приводит к потере хрусталиком прозрачности, на пути лучей света возникает преграда. Острота зрения начинает падать вплоть до полной его поте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еративное вмеша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www.excimerclinic.r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38280" y="3581280"/>
            <a:ext cx="4648320" cy="2324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Гигиена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По материалам Интернета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447920"/>
            <a:ext cx="82040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тать, писать, работать за компьютером, шить или смотреть телевизор только при достаточном освещ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читать в движущемся транспорте и ле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вать темные (солнцезащитные) очки на улице, так как слишком яркое освещение вредно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лать упражнения для гл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ываться холодной водой для повышения тонуса глаз и окружающих их тка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 ку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едить, чтобы не попала инфекция с пылью или грязными руками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32280" y="220896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Список источ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phthalmology.eurodoctor.ru – сайт офтольмологической кли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excimerclinic.ru – сайт клиники «Эксим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ww.konovalov-eye-center.ru – сайт Офтальмологического центра Конова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советская энциклопедия 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тнер В. Л. «Как мы видим» //Химия и Жизнь №11, 1982 г.(электронная верс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арь по естественным наукам. Глоссарий.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Опреде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ериферический отдел зрительного анализатора, служащий для восприятия световых разд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 глаз расположена во впадинах черепа (глазницах). Каждый глаз укреплен при помощи четырех прямых и двух косых мышц, управляющих его движ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лаз состоит из глазного яблока, зрительного нерва и вспомогательного ап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ловарь по естественным наукам. Глоссарий.ру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Эволюция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295280" y="1523880"/>
            <a:ext cx="6629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Строение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Большая энциклопедия Кирилла и Мефодия 200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6553440" cy="4368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Палочки и колб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86692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Ратнер В. Л. «Как мы видим» //Химия и Жизнь №11, 1982 г.; Большая советская энциклопедия (электронная версия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19720" y="137160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7200" y="1369800"/>
            <a:ext cx="3886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л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сумеречного з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лбочковые кл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фоторецепторы глаза человека и позвоночных животных, функционирующие как элементы дневного светоощущения и обеспечивающие цветовое зр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Функции гла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523880"/>
            <a:ext cx="8001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ощущ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или предметн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ферическое зр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еоскопическое з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phthalmology.eurodoctor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Как человек види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629400" cy="4419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eese2001.at.tut.by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ормальное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553080" cy="43689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ddddd"/>
                </a:solidFill>
                <a:latin typeface="Arial"/>
              </a:rPr>
              <a:t>Нарушение зрения: Близору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изорук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опия) –  это оптический дефект, при котором чело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рошо видит предметы, расположенные на близком расстоянии, и плохо – предметы, удаленные от н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соответствие преломляющей силы глаза и его длины (фокус оптической системы глаза находится перед сетчаткой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кция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обходимо ослабить преломляющую силу глаза и тем самым перенести плоскость резкости на сетчат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880960"/>
            <a:ext cx="8507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фтальмологический центр Коновалова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konovalov-eye-center.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иника Эксимер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xcimerclinic.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362320" y="3543480"/>
            <a:ext cx="4724280" cy="2361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6400800"/>
            <a:ext cx="883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Органы чувств: Глаз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                     МЫСКОВА Оль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2-29T09:52:04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