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E7CF-4F7E-46CE-ADF0-36620F9E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B8D-8111-453A-8E51-F6C39889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B5CE-9FE0-481C-B7A6-5CC5055E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A9E-7F19-4B0C-8FC3-1B2F1BE5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5DA-AD05-4E77-8508-ADE04293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31B8-6301-42F3-BCEE-34F64494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D91-AE09-4661-AE31-F08379A9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9D6-F209-4111-AF0F-28BC7809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1E2-6979-4240-B4E9-F8A270FB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6C0-6DFF-445A-BD34-8F320F5A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F71-34B6-45CB-A718-5B2F3635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E6F-8723-4D4B-98CA-D162BB4A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A9AB-153E-4207-A18A-68817BABD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ophthalmology.eurodoctor.ru/" TargetMode="External"/><Relationship Id="rId3" Type="http://schemas.openxmlformats.org/officeDocument/2006/relationships/hyperlink" Target="http://ophthalmology.eurodoctor.ru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cheese2001.at.tut.by/" TargetMode="External"/><Relationship Id="rId4" Type="http://schemas.openxmlformats.org/officeDocument/2006/relationships/hyperlink" Target="http://www.cheese2001.at.tut.by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xcimerclinic.ru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Органы чувств: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640080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c0c0"/>
                </a:solidFill>
                <a:latin typeface="Arial"/>
              </a:rPr>
              <a:t>Работа учителя биологии Красносельской школы-интерната </a:t>
            </a:r>
            <a:r>
              <a:rPr b="1" lang="ru-RU" sz="1600" spc="-1" strike="noStrike">
                <a:solidFill>
                  <a:srgbClr val="c0c0c0"/>
                </a:solidFill>
                <a:latin typeface="Arial"/>
              </a:rPr>
              <a:t>МЫСКОВОЙ Оль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Нарушение зрения: Дальнозор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льнозорк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иперметропия) –  это оптический дефект, при котором человек хорошо видит предметы, удаленные от него, и плохо –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за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усилить преломляющую силу глаза и тем самым перенести плоскость резкости на сетча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90920" y="3657600"/>
            <a:ext cx="4572000" cy="2247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Астигмат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стигмат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 это оптический дефект, при котором человек плохо видит предметы, как удаленные от него, так и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ь роговицы имеет несферическую форму (оптическая система глаза имеет два главных фоку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скорректировать преломляющую силу глаза до совмещения точек фокуса на сетча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Катара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тар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оптический дефект, при котором происходит потеря хрусталиком прозра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рушение обменных процессов в глазу приводит к потере хрусталиком прозрачности, на пути лучей света возникает преграда. Острота зрения начинает падать вплоть до полной его по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перативное вмеш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Гигиена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По материалам Интернет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447920"/>
            <a:ext cx="82040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ть, писать, работать за компьютером, шить или смотреть телевизор только при достаточном осве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читать в движущемся транспорте и ле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евать темные (солнцезащитные) очки на улице, так как слишком яркое освещение вредно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ать упражнения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ываться холодной водой для повышения тонуса глаз и окружающих их тк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ку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ить, чтобы не попала инфекция с пылью или грязными ру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2280" y="220896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phthalmology.eurodoctor.ru – сайт офтольмологической кли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excimerclinic.ru – сайт клиники «Эксим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konovalov-eye-center.ru – сайт Офтальмологического центра Конова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советская энциклопедия 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тнер В. Л. «Как мы видим» //Химия и Жизнь №11, 1982 г.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рь по естественным наукам. Глоссарий.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ериферический отдел зрительного анализатора, служащий для восприятия световых раздра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 глаз расположена во впадинах черепа (глазницах). Каждый глаз укреплен при помощи четырех прямых и двух косых мышц, управляющих его движ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 состоит из глазного яблока, зрительного нерва и вспомогательного ап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Словарь по естественным наукам. Глоссарий.ру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Эволюция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Строение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553440" cy="4368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Палочки и колб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Ратнер В. Л. «Как мы видим» //Химия и Жизнь №11, 1982 г.; Большая советская энциклопедия (электронная версия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369800"/>
            <a:ext cx="3886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сумеречного з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б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дневного светоощущения и обеспечивающие цветовое з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Функции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523880"/>
            <a:ext cx="8001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ое или предметн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ческ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еоскопическое з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phthalmology.eurodoctor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Как человек вид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629400" cy="4419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eese2001.at.tut.by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ормальное з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553080" cy="4368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Близору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опия) –  это оптический дефект, при котором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видит предметы, расположенные на близком расстоянии, и плохо – предметы, удаленные от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перед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обходимо ослабить преломляющую силу глаза и тем самым перенести плоскость резкости на сетча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362320" y="3543480"/>
            <a:ext cx="4724280" cy="23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2-29T09:52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