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85A5-D755-4893-9E49-C1503397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BAD2-6FDF-4098-826E-46524166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BF7-F3C4-4F51-BBD2-F02A3FB7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1787-6B08-4431-B3B3-2A37D172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D2BD-C7C5-4F10-99D1-8446FA0B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7352-5F6B-4510-B817-7D568E43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46F8-FE7D-47CB-9502-3CD43079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2367-79E7-4175-8C15-39CB8FA3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2CC8-E5F5-4F2C-A66D-2ADDE368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EFFF-5C00-4481-80B8-6BB40216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09FC-0E12-4309-9911-2296FC2B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E682-C4B5-45AA-9591-CFE94896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17F9-E186-4E47-B3B2-876F20A8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3C32-BC13-495B-8DF0-143AAA16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802A-7CE4-4EE7-BBBD-F6948AEC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94AD-27D4-4D82-AAB9-13305376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E034-F99D-4550-B259-7A1992DA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529F-BE56-4EA9-A288-C5EADDC1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9BF6-306C-4939-BF70-657C5604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9B83-6982-4C1D-A287-3EB9ADC5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A5CD-8F4C-4C7A-93B3-D38C1091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7069-5417-45EA-9146-AA8379B0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C94D-F888-4648-8229-23B35808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136D-3496-4A27-8C1C-2AB9AACC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D4F5-00A8-4435-8913-A1F5BF18C7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1525-1B10-43D2-B856-F849BCFCC59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езентацию составил учитель химии и биологии МКОУ «Лебединская СОШ» Воронежская область Богучарский р-он с. Лебединка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юлахмедов Мирзабег Гюлович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Arial"/>
              </a:rPr>
              <a:t>Биологический смысл митоз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авномерное разделение генетического материала между дочерними клетками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Деление клетки - митоз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4319640" cy="3168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Клеточный цикл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Интерфаза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Митоз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ff00"/>
                </a:solidFill>
                <a:latin typeface="Arial"/>
              </a:rPr>
              <a:t>Интер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величение клетки в размерах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епликация хромосом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двоение органоидов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ff00"/>
                </a:solidFill>
                <a:latin typeface="Arial"/>
              </a:rPr>
              <a:t>Митоз</a:t>
            </a:r>
            <a:br>
              <a:rPr sz="8000"/>
            </a:b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(деление клетки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Verdana"/>
              </a:rPr>
              <a:t>Фазы (этапы ) митоза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Про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Мет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Ан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Телофаза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Профаза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3008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пад ядерной оболочки на фрагмен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пирализация, скручивание и утолщение хромос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рушение ядрыше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хождение центриолей к полюсам и начало образования биполярного веретена деления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419640" y="5013360"/>
            <a:ext cx="2520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Мет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разование метафазной хромосомной пластин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вершение образования веретена дел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203640" y="3933720"/>
            <a:ext cx="2881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Ан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ентромер дочерних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окращение нитей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хождение хромосом к полюсам клет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3635280" y="4365720"/>
            <a:ext cx="216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Тело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счезновение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зникновение ядерной оболоч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кручивание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итоплазмы (цитокенез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бразование двух клето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708360" y="4724280"/>
            <a:ext cx="2087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6:16:53Z</dcterms:created>
  <dc:creator>ДОМ</dc:creator>
  <dc:description/>
  <dc:language>en-US</dc:language>
  <cp:lastModifiedBy>Василий</cp:lastModifiedBy>
  <dcterms:modified xsi:type="dcterms:W3CDTF">2012-03-08T14:26:02Z</dcterms:modified>
  <cp:revision>7</cp:revision>
  <dc:subject/>
  <dc:title>Деление клетки - митоз</dc:title>
</cp:coreProperties>
</file>