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C52B1-3CD1-4849-B6BE-F57132853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59E30-6931-4431-BE36-D38A5E5C7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F2BA7-327F-4B3A-86AE-4B5E20FD2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E87DF-D46B-4CF2-908D-D9D5BA887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7E685-3B43-4A43-9A3C-04D9C8ECA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8E307-AE2F-41DC-90B9-CEA163053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870F1-665F-460C-8751-6242AD78A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A373B-08A4-4F3C-8BA2-03C5BC73E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312E0-594A-4736-B837-720D185A4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AEEAE-9EFF-419E-9145-32D457838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4AD6A-B1B1-4072-8FE5-07C33AE8C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E3EB6-77AC-4421-A4E0-3F9BC7274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0457B-54D1-4319-8C98-F303ADDCA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A948B-BCCA-4C89-AA5B-78F5CE99A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AE411-5A87-48CB-BC35-ACD5766BE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32342-4FB7-4112-9FCB-6E8A1B192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6F96B-1EBF-4AE8-9BEF-7A2313082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E48C3-F885-4DAC-9A84-1CDC3177E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24E03-B973-4CF1-9C2B-F26BF5D9E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1C683-D5BB-4F08-A8AD-F09284E90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17607-C220-4C34-9C64-FD9E33837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6BE5A-84D6-45CF-A07E-6148B8DDA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04987-E295-4985-8233-87E2DBCE1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46A2C-2AC6-4CB1-8F50-B240DADD5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D2B60-FABB-41AF-A0EE-422DA58143D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38B0E-5411-4339-B990-736016FFDC01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3582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Презентацию составил учитель химии и биологии МКОУ «Лебединская СОШ» Воронежская область Богучарский р-он с. Лебединка</a:t>
            </a:r>
            <a:br>
              <a:rPr sz="4000"/>
            </a:b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Гюлахмедов Мирзабег Гюлович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ff00"/>
                </a:solidFill>
                <a:latin typeface="Arial"/>
              </a:rPr>
              <a:t>Биологический смысл митоза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Verdana"/>
              </a:rPr>
              <a:t>Равномерное разделение генетического материала между дочерними клетками</a:t>
            </a:r>
            <a:endParaRPr b="0" lang="en-US" sz="4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1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229600" cy="3240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99ff33"/>
                </a:solidFill>
                <a:latin typeface="Arial"/>
              </a:rPr>
              <a:t>Деление клетки - митоз</a:t>
            </a:r>
            <a:endParaRPr b="0" lang="en-US" sz="7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16" name="Picture 6" descr=""/>
          <p:cNvPicPr/>
          <p:nvPr/>
        </p:nvPicPr>
        <p:blipFill>
          <a:blip r:embed="rId1"/>
          <a:stretch/>
        </p:blipFill>
        <p:spPr>
          <a:xfrm>
            <a:off x="3276720" y="3213000"/>
            <a:ext cx="4319640" cy="3168720"/>
          </a:xfrm>
          <a:prstGeom prst="rect">
            <a:avLst/>
          </a:prstGeom>
          <a:ln w="9360">
            <a:solidFill>
              <a:srgbClr val="008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99ff33"/>
                </a:solidFill>
                <a:latin typeface="Arial"/>
              </a:rPr>
              <a:t>Клеточный цикл</a:t>
            </a:r>
            <a:endParaRPr b="0" lang="en-US" sz="7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65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eaeaea"/>
                </a:solidFill>
                <a:latin typeface="Verdana"/>
              </a:rPr>
              <a:t>Интерфаза</a:t>
            </a:r>
            <a:endParaRPr b="0" lang="en-US" sz="66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spcBef>
                <a:spcPts val="165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eaeaea"/>
                </a:solidFill>
                <a:latin typeface="Verdana"/>
              </a:rPr>
              <a:t>Митоз</a:t>
            </a:r>
            <a:endParaRPr b="0" lang="en-US" sz="66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00ff00"/>
                </a:solidFill>
                <a:latin typeface="Arial"/>
              </a:rPr>
              <a:t>Интерфаза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68360" y="1989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1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Verdana"/>
              </a:rPr>
              <a:t>Увеличение клетки в размерах</a:t>
            </a:r>
            <a:endParaRPr b="0" lang="en-US" sz="48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spcBef>
                <a:spcPts val="11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Verdana"/>
              </a:rPr>
              <a:t>Репликация хромосом</a:t>
            </a:r>
            <a:endParaRPr b="0" lang="en-US" sz="48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spcBef>
                <a:spcPts val="11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Verdana"/>
              </a:rPr>
              <a:t>Удвоение органоидов</a:t>
            </a:r>
            <a:endParaRPr b="0" lang="en-US" sz="4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fade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00ff00"/>
                </a:solidFill>
                <a:latin typeface="Arial"/>
              </a:rPr>
              <a:t>Митоз</a:t>
            </a:r>
            <a:br>
              <a:rPr sz="8000"/>
            </a:b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(деление клетки)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aeaea"/>
                </a:solidFill>
                <a:latin typeface="Verdana"/>
              </a:rPr>
              <a:t>Фазы (этапы ) митоза</a:t>
            </a:r>
            <a:endParaRPr b="0" lang="en-US" sz="54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spcBef>
                <a:spcPts val="11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Verdana"/>
              </a:rPr>
              <a:t>Профаза</a:t>
            </a:r>
            <a:endParaRPr b="0" lang="en-US" sz="48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spcBef>
                <a:spcPts val="11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Verdana"/>
              </a:rPr>
              <a:t>Метафаза</a:t>
            </a:r>
            <a:endParaRPr b="0" lang="en-US" sz="48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spcBef>
                <a:spcPts val="11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Verdana"/>
              </a:rPr>
              <a:t>Анафаза</a:t>
            </a:r>
            <a:endParaRPr b="0" lang="en-US" sz="48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spcBef>
                <a:spcPts val="11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Verdana"/>
              </a:rPr>
              <a:t>Телофаза </a:t>
            </a:r>
            <a:endParaRPr b="0" lang="en-US" sz="4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0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5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ff00"/>
                </a:solidFill>
                <a:latin typeface="Arial"/>
              </a:rPr>
              <a:t>Профаза</a:t>
            </a:r>
            <a:r>
              <a:rPr b="0" lang="en-US" sz="4000" spc="-1" strike="noStrike">
                <a:solidFill>
                  <a:srgbClr val="00ff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30088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Распад ядерной оболочки на фрагменты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Спирализация, скручивание и утолщение хромосом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Разрушение ядрышек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Расхождение центриолей к полюсам и начало образования биполярного веретена деления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5" name="Picture 4" descr=""/>
          <p:cNvPicPr/>
          <p:nvPr/>
        </p:nvPicPr>
        <p:blipFill>
          <a:blip r:embed="rId1"/>
          <a:stretch/>
        </p:blipFill>
        <p:spPr>
          <a:xfrm>
            <a:off x="3419640" y="5013360"/>
            <a:ext cx="2520720" cy="18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7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ff00"/>
                </a:solidFill>
                <a:latin typeface="Arial"/>
              </a:rPr>
              <a:t>Метафаза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47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Образование метафазной хромосомной пластинки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Завершение образования веретена деления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8" name="Picture 4" descr=""/>
          <p:cNvPicPr/>
          <p:nvPr/>
        </p:nvPicPr>
        <p:blipFill>
          <a:blip r:embed="rId1"/>
          <a:stretch/>
        </p:blipFill>
        <p:spPr>
          <a:xfrm>
            <a:off x="3203640" y="3933720"/>
            <a:ext cx="2881080" cy="25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4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ff00"/>
                </a:solidFill>
                <a:latin typeface="Arial"/>
              </a:rPr>
              <a:t>Анафаза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27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Разделение центромер дочерних хромосом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Сокращение нитей веретена деления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Расхождение хромосом к полюсам клетки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1" name="Picture 4" descr=""/>
          <p:cNvPicPr/>
          <p:nvPr/>
        </p:nvPicPr>
        <p:blipFill>
          <a:blip r:embed="rId1"/>
          <a:stretch/>
        </p:blipFill>
        <p:spPr>
          <a:xfrm>
            <a:off x="3635280" y="4365720"/>
            <a:ext cx="216072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1225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ff00"/>
                </a:solidFill>
                <a:latin typeface="Arial"/>
              </a:rPr>
              <a:t>Телофаза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310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Исчезновение веретена деления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Возникновение ядерной оболочки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Раскручивание хромосом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Разделение цитоплазмы (цитокенез)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Образование двух клеток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4" name="Picture 4" descr=""/>
          <p:cNvPicPr/>
          <p:nvPr/>
        </p:nvPicPr>
        <p:blipFill>
          <a:blip r:embed="rId1"/>
          <a:stretch/>
        </p:blipFill>
        <p:spPr>
          <a:xfrm>
            <a:off x="3708360" y="4724280"/>
            <a:ext cx="2087640" cy="18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9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31T06:16:53Z</dcterms:created>
  <dc:creator>ДОМ</dc:creator>
  <dc:description/>
  <dc:language>en-US</dc:language>
  <cp:lastModifiedBy>Василий</cp:lastModifiedBy>
  <dcterms:modified xsi:type="dcterms:W3CDTF">2012-03-08T14:26:02Z</dcterms:modified>
  <cp:revision>7</cp:revision>
  <dc:subject/>
  <dc:title>Деление клетки - митоз</dc:title>
</cp:coreProperties>
</file>