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EFB5-8CCD-4F40-8185-45446FF6A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929F-F549-4CF5-9835-E00F59D3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FF24-375B-4468-873F-4DDC9F38A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9307-853D-460B-84D0-7A651CE32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7878-2AA8-4DFF-9CB6-49318A31D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B9F9-C761-46AF-8427-61EDD368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8CF93-DCF7-4E99-8DE2-5028A55E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91EB3-518B-48CE-A51B-4E5897E7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6E40-D190-4628-892D-B68C78DE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B283-CF5A-4A45-83D9-0956A0EF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753B-3E6C-46B4-806B-68ED8D0B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362A-8E4D-4FAE-BAF9-9BE22067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F27F-22B2-4609-9ED2-156E9363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01AB-92F3-4966-B053-24F9371F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61ACB-E0BC-4DFF-BC02-34249447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5100E-94D8-4870-98BB-E093A0703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9926-A8C7-4B50-8E15-2B585DDCC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A2F6-24E6-4402-98D7-34BF7AE6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B9B3-07CD-404A-BAE4-46C4A4EF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0643-8E72-4944-AA40-0F297C19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9011-BF7B-440B-B81F-2078ECD9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256D-27A4-44CD-8E3E-012377ED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9869-FFE3-4C0A-ADF7-B1AB77A5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1A52-B491-49E3-B893-96C79D23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52B6-1D96-4ADB-B916-0AF5596C68C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4C3E-80E8-4CB2-B03B-B69F1AE95A1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58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резентацию составил учитель химии и биологии МКОУ «Лебединская СОШ» Воронежская область Богучарский р-он с. Лебединка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Гюлахмедов Мирзабег Гюлович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00"/>
                </a:solidFill>
                <a:latin typeface="Arial"/>
              </a:rPr>
              <a:t>Биологический смысл митоза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авномерное разделение генетического материала между дочерними клетками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99ff33"/>
                </a:solidFill>
                <a:latin typeface="Arial"/>
              </a:rPr>
              <a:t>Деление клетки - митоз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3276720" y="3213000"/>
            <a:ext cx="4319640" cy="316872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99ff33"/>
                </a:solidFill>
                <a:latin typeface="Arial"/>
              </a:rPr>
              <a:t>Клеточный цикл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65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aeaea"/>
                </a:solidFill>
                <a:latin typeface="Verdana"/>
              </a:rPr>
              <a:t>Интерфаза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65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aeaea"/>
                </a:solidFill>
                <a:latin typeface="Verdana"/>
              </a:rPr>
              <a:t>Митоз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ff00"/>
                </a:solidFill>
                <a:latin typeface="Arial"/>
              </a:rPr>
              <a:t>Интер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величение клетки в размерах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епликация хромосом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двоение органоидов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ff00"/>
                </a:solidFill>
                <a:latin typeface="Arial"/>
              </a:rPr>
              <a:t>Митоз</a:t>
            </a:r>
            <a:br>
              <a:rPr sz="8000"/>
            </a:b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(деление клетки)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Verdana"/>
              </a:rPr>
              <a:t>Фазы (этапы ) митоза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Профаз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Метафаз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Анафаз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Телофаза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Arial"/>
              </a:rPr>
              <a:t>Профаза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3008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спад ядерной оболочки на фрагмент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пирализация, скручивание и утолщение хромосо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зрушение ядрышек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схождение центриолей к полюсам и начало образования биполярного веретена деления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3419640" y="5013360"/>
            <a:ext cx="252072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f00"/>
                </a:solidFill>
                <a:latin typeface="Arial"/>
              </a:rPr>
              <a:t>Мета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бразование метафазной хромосомной пластинк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Завершение образования веретена делени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3203640" y="3933720"/>
            <a:ext cx="28810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f00"/>
                </a:solidFill>
                <a:latin typeface="Arial"/>
              </a:rPr>
              <a:t>Ана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зделение центромер дочерних хромосом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окращение нитей веретена делен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схождение хромосом к полюсам клетк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3635280" y="4365720"/>
            <a:ext cx="2160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f00"/>
                </a:solidFill>
                <a:latin typeface="Arial"/>
              </a:rPr>
              <a:t>Тело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Исчезновение веретена делен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озникновение ядерной оболочк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скручивание хромосом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зделение цитоплазмы (цитокенез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Образование двух клеток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3708360" y="4724280"/>
            <a:ext cx="208764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6:16:53Z</dcterms:created>
  <dc:creator>ДОМ</dc:creator>
  <dc:description/>
  <dc:language>en-US</dc:language>
  <cp:lastModifiedBy>Василий</cp:lastModifiedBy>
  <dcterms:modified xsi:type="dcterms:W3CDTF">2012-03-08T14:26:02Z</dcterms:modified>
  <cp:revision>7</cp:revision>
  <dc:subject/>
  <dc:title>Деление клетки - митоз</dc:title>
</cp:coreProperties>
</file>