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7FF-5873-4EA1-AFDD-4B1A0487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358-23A0-4A42-B5C1-1935887F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5B3-4EF4-4342-B7ED-6C3C9361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DE3-C36D-413C-92A3-FEFD587F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AA18-4857-4E70-AA8B-98DAA703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82FC-8B26-4890-859D-60B7E792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F532-2AD4-46EA-9C75-791CF951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5F61-488B-4B14-A2CE-28648C87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92D9-3AF2-4B1C-9F99-7B180D14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841B-AA45-429B-A27A-B81D57A9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E117-CE59-4AE7-8213-8E176284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4FE-2334-422E-98B3-F2FBA355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1A05-842B-4DD6-97FD-8780DBD6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4C63-CBE3-49D0-9421-850DBA60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E7ED-2F93-41CD-AE2E-549BD683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2A67-F0EA-4480-82E6-3A1D263E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D9EB-1F63-406D-8555-13A7C4C4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956-7936-4CD7-8087-A4D02900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3BB-31BB-4F9E-86B9-1D15BE91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D95-2074-45CB-8602-8AC8F39E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98B-E02B-4EB1-BF3C-925AB646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4C1-5819-4176-990F-18A70E42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72B-EB14-403C-94A5-416E43CD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62F-69B5-4934-9D54-E2658232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7618-8CC5-4288-8140-8C91BDC80C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FCEB-C1BA-42CD-ADB1-54468DB7F8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p.ru/daily/25633.5/799078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ШЕН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, вызываемое вирусом поражающим центральную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34200">
            <a:off x="1401480" y="916920"/>
            <a:ext cx="59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(К)ОУ Брединская СОШ № 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химии Титова Мари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4520" y="476280"/>
            <a:ext cx="895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лябинской области введен  карантин по бешенству в 7 рай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1 году от укусов животных пострадали почти 12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 лабораторно подтверждено 147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чала 2012 года выявлено 11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приятные пункты зарегистрированы в Брединском, Агаповс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шинском, Еткульском и Чебаркульском районах, а также в горо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а и Злато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205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1920" y="619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ЧНИК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07792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230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342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800" y="3573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3240" y="3500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165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160" y="5950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4520" y="623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УЧИЕ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УТИ ЗАРА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755640" y="1915920"/>
            <a:ext cx="799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человека обычно происходит при укусах, реже – при ослюнении больными бешенством животными. Фактор передачи – слюна больного животного, с которой вирус проникает в кожу, а затем по периферическим нервам достигает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65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БЕШЕНСТВО – СИМПТОМЫ ЗАБОЛЕВАНИЯ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360" y="17002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нач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8440" y="2565360"/>
            <a:ext cx="697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оявляются первые признаки бешенства в местах укус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пухание и покра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ловная 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ехватка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днимается 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ессонница, кошмары, беспричинный 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811080"/>
            <a:ext cx="871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фаз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иод возбуждения, наступает спустя 2 – 3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явления перв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680" y="2205000"/>
            <a:ext cx="88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ЕННЫЕ СПАЗМЫ МЫШЦ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РЕССИВНОСТЬ (больные кричат, рвут на себе одежду, ломают меб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ЕНИЕ СЛУХОВЫХ И ЗРИТЕЛЬНЫХ ГАЛЛЮЦИ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ЕННАЯ ТАХИКАР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НОЕ СЛЮНО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УПЫ ВОДОБОЯ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73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69640" y="4237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АРА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916280"/>
            <a:ext cx="66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АРАЛИЧИ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РАЖЕНИЕ ЧЕРЕПНО – МОЗГОВЫХ НЕР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СИХОМОТОРНОЕ ВОЗБУЖДЕНИЕ ОСЛАБ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СПОКОЕН, МОЖЕТ САМОСТОЯТЕЛЬН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ВЫШАЕТСЯ ТЕМПЕРАТУРА ДО 40 – 42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МЕРТЬ НАСТУПАЕТ ОТ ОСТАНОВКИ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ЛИ ОСТАНОВК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724280"/>
            <a:ext cx="82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ЗАБОЛЕВАНИЯ РЕДКО ПРЕВЫШАЕТ НЕДЕ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ЕСЛИ ВАС УКУСИ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91628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мыть с мылом место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титься в ближайший травмп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вести курс прививок, назначенных вра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ходя курс вакцинации от бешенств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льзя      переохлаждаться, перегреваться, переутом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kp.ru/daily/25633.5/79907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xota.ho.ua/index.php?subaction=showcomments&amp;id=1290628398&amp;archive=&amp;cnshow=news&amp;start_from=&amp;ucat=4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iras.ru/zdorove/page/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edinfa.ru/02/besh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ediazavod.ru/articles/111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49:34Z</dcterms:created>
  <dc:creator>User</dc:creator>
  <dc:description/>
  <dc:language>en-US</dc:language>
  <cp:lastModifiedBy>КарМаН</cp:lastModifiedBy>
  <dcterms:modified xsi:type="dcterms:W3CDTF">2012-02-28T08:11:10Z</dcterms:modified>
  <cp:revision>12</cp:revision>
  <dc:subject/>
  <dc:title>БЕШЕНСТВО</dc:title>
</cp:coreProperties>
</file>