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60D0-1724-4A57-8510-C7895A4D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F4C7-39AB-453B-9E6B-E44672EA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ED3-2F64-4B71-9F96-FFA54C6E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8CA9-6A5A-4C9C-B902-7FB41ABA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5926-0398-413F-9F9A-3AB8C9DB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94EB-02D1-4329-8763-E1FA1667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AEE1-83F7-418B-A9B6-A3E4C4F6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BE00-30E0-4573-A91B-724B1523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70A0-1D81-4746-AA1C-6B92FD87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9AB2-9495-44D4-B30E-FEBC03E1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1CDC-75E2-44FA-906F-EAB30A94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CC3-3DA6-43C1-B645-A9F3C696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AD32-F7DB-4AE2-9482-974E833A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5CDA-D8E2-4F3D-97D9-5E9A99D5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AF88-C3F2-4574-A9E5-9BB3C6A1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84A7-0991-4D69-A08C-E5868739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D0A7-2E3D-405B-A137-DB3C2F9B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4E4-1B57-44DB-BFEF-AB1A503C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F48-4CF8-4D15-9D76-0306B7E7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22B3-9216-4E41-9F84-117F3B62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78D7-F02C-4D21-AFF8-233A6B51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563-3F65-46FD-8104-3E0B0DDD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46F1-F053-4C52-918F-BD8B7EE4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D4E-B869-4131-BF32-4F337381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4270-9604-4EF5-AE5C-CC2D093F0E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81E5-8AE6-453E-AAC5-CCAFB713F9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p.ru/daily/25633.5/799078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БЕШЕНСТВО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рое инфекционное заболевание, вызываемое вирусом поражающим центральную нерв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 rot="10834200">
            <a:off x="1401480" y="916920"/>
            <a:ext cx="591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(К)ОУ Брединская СОШ № 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биологии и химии Титова Марина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4520" y="476280"/>
            <a:ext cx="8958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елябинской области введен  карантин по бешенству в 7 райо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011 году от укусов животных пострадали почти 12 тысяч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2011 год лабораторно подтверждено 147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ачала 2012 года выявлено 11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лагоприятные пункты зарегистрированы в Брединском, Агаповс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шинском, Еткульском и Чебаркульском районах, а также в город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са и Златоу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2205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51920" y="6192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ЧНИКИ ВИР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1873080" cy="1584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732720" y="4508640"/>
            <a:ext cx="2077920" cy="165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419640" y="4221000"/>
            <a:ext cx="223020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2016000" cy="165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804000" y="1700280"/>
            <a:ext cx="1933560" cy="1727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50920" y="1989000"/>
            <a:ext cx="1428480" cy="133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5280" y="342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7800" y="357336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83240" y="35002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61657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Н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70160" y="595008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4520" y="623736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ТУЧИЕ М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УТИ ЗАРА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 rot="10800000">
            <a:off x="755640" y="1915920"/>
            <a:ext cx="799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жение человека обычно происходит при укусах, реже – при ослюнении больными бешенством животными. Фактор передачи – слюна больного животного, с которой вирус проникает в кожу, а затем по периферическим нервам достигает ЦН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6514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Times New Roman"/>
              </a:rPr>
              <a:t>БЕШЕНСТВО – СИМПТОМЫ ЗАБОЛЕВАНИЯ</a:t>
            </a:r>
            <a:endParaRPr b="0" lang="en-US" sz="3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0360" y="170028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нач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8440" y="2565360"/>
            <a:ext cx="6977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Появляются первые признаки бешенства в местах укус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з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ипухание и покрас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головная 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ехватка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однимается темп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ессонница, кошмары, беспричинный ст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811080"/>
            <a:ext cx="871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 фаза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ериод возбуждения, наступает спустя 2 – 3 д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сле появления первых призн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6680" y="2205000"/>
            <a:ext cx="886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ЗНЕННЫЕ СПАЗМЫ МЫШЦ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ГРЕССИВНОСТЬ (больные кричат, рвут на себе одежду, ломают меб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ЯВЛЕНИЕ СЛУХОВЫХ И ЗРИТЕЛЬНЫХ ГАЛЛЮЦИН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РАЖЕННАЯ ТАХИКАР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ШЕННАЯ ПОТ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ИЛЕННОЕ СЛЮНООТ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ТУПЫ ВОДОБОЯ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735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69640" y="42372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ПАРАЛИ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1916280"/>
            <a:ext cx="666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АРАЛИЧИ КОНЕЧ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РАЖЕНИЕ ЧЕРЕПНО – МОЗГОВЫХ НЕР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СИХОМОТОРНОЕ ВОЗБУЖДЕНИЕ ОСЛАБ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СПОКОЕН, МОЖЕТ САМОСТОЯТЕЛЬН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ВЫШАЕТСЯ ТЕМПЕРАТУРА ДО 40 – 42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МЕРТЬ НАСТУПАЕТ ОТ ОСТАНОВКИ ДЫХ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ЛИ ОСТАНОВКИ СЕР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724280"/>
            <a:ext cx="82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РОДОЛЖИТЕЛЬНОСТЬ ЗАБОЛЕВАНИЯ РЕДКО ПРЕВЫШАЕТ НЕДЕЛ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00"/>
                </a:solidFill>
                <a:latin typeface="Times New Roman"/>
              </a:rPr>
              <a:t>ЕСЛИ ВАС УКУСИ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1916280"/>
            <a:ext cx="554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мыть с мылом место 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братиться в ближайший травмпун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вести курс прививок, назначенных врач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ходя курс вакцинации от бешенств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льзя      переохлаждаться, перегреваться, переутомл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05360"/>
            <a:ext cx="2089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kp.ru/daily/25633.5/79907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oxota.ho.ua/index.php?subaction=showcomments&amp;id=1290628398&amp;archive=&amp;cnshow=news&amp;start_from=&amp;ucat=4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iras.ru/zdorove/page/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edinfa.ru/02/beshen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ediazavod.ru/articles/1114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3:49:34Z</dcterms:created>
  <dc:creator>User</dc:creator>
  <dc:description/>
  <dc:language>en-US</dc:language>
  <cp:lastModifiedBy>КарМаН</cp:lastModifiedBy>
  <dcterms:modified xsi:type="dcterms:W3CDTF">2012-02-28T08:11:10Z</dcterms:modified>
  <cp:revision>12</cp:revision>
  <dc:subject/>
  <dc:title>БЕШЕНСТВО</dc:title>
</cp:coreProperties>
</file>