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5C2-0DED-45C9-92FA-A5BC7D17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742-E34B-42F9-9408-F4B3D0FB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AFC-A3C3-4AC5-97CA-124E130B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CD1-2273-4096-8EA5-88A980B7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2F8F-7DE5-409A-997A-CC78019E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275E-C8F9-4BE5-860F-1F1FDED1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470E-D997-485C-9B21-7F05AB9E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ECDD-17CC-40B1-8A48-02C36535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BDCD-9ADC-438C-9BD0-FBFC98A5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77BF-4821-4F82-B66B-E941FDBA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BD99-DCF3-4309-972E-3C0069FC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311-FA1B-40CA-981B-EE9E0E2E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9360-00B2-487E-8227-D58C313F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3163-1BE7-458D-BB09-57BE5231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1DCC-CC99-4C00-A3AC-20B700E3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890E-D807-4EA3-BEA2-4A1AAEB7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6D22-1577-435E-AC5E-0EB1D618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47E-A5D1-4603-B0BF-4D6A9634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D80-87F6-4B0B-8EC3-13056E85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0A3-A34E-405B-B4BE-C77CA036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6F5-A27B-469C-9716-BD18D837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61D-4F30-48E9-8497-80EF5551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B1B-91A8-45EA-9D8A-2D704667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372-4818-4DAC-B15F-5777CB50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2C53-5BC3-4302-BB99-0DCF986DF3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0E83-EF8E-4DF4-9BAE-887295C5D2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p.ru/daily/25633.5/799078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БЕШЕНСТВО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рое инфекционное заболевание, вызываемое вирусом поражающим центральную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834200">
            <a:off x="1401480" y="916920"/>
            <a:ext cx="591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(К)ОУ Брединская СОШ № 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биологии и химии Титова Мари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4520" y="476280"/>
            <a:ext cx="8958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лябинской области введен  карантин по бешенству в 7 рай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1 году от укусов животных пострадали почти 12 тысяч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2011 год лабораторно подтверждено 147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чала 2012 года выявлено 11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лагоприятные пункты зарегистрированы в Брединском, Агаповс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шинском, Еткульском и Чебаркульском районах, а также в город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а и Златоу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205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51920" y="6192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ЧНИКИ ВИ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2077920" cy="165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23020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804000" y="1700280"/>
            <a:ext cx="193356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50920" y="1989000"/>
            <a:ext cx="1428480" cy="133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342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7800" y="357336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3240" y="3500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165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0160" y="59500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4520" y="623736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УЧИЕ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УТИ ЗАРА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0800000">
            <a:off x="755640" y="1915920"/>
            <a:ext cx="799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жение человека обычно происходит при укусах, реже – при ослюнении больными бешенством животными. Фактор передачи – слюна больного животного, с которой вирус проникает в кожу, а затем по периферическим нервам достигает Ц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651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БЕШЕНСТВО – СИМПТОМЫ ЗАБОЛЕВАНИЯ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360" y="17002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нач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8440" y="2565360"/>
            <a:ext cx="697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Появляются первые признаки бешенства в местах укус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ипухание и покра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головная 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ехватка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днимается темп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ессонница, кошмары, беспричинный с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811080"/>
            <a:ext cx="871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фаза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ериод возбуждения, наступает спустя 2 – 3 д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сле появления первых при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6680" y="2205000"/>
            <a:ext cx="886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ЕННЫЕ СПАЗМЫ МЫШЦ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РЕССИВНОСТЬ (больные кричат, рвут на себе одежду, ломают меб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ВЛЕНИЕ СЛУХОВЫХ И ЗРИТЕЛЬНЫХ ГАЛЛЮЦИ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РАЖЕННАЯ ТАХИКАР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НАЯ ПОТ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ИЛЕННОЕ СЛЮНО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ТУПЫ ВОДОБОЯ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735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69640" y="42372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ПАРА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916280"/>
            <a:ext cx="66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АРАЛИЧИ КОНЕЧ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РАЖЕНИЕ ЧЕРЕПНО – МОЗГОВЫХ НЕР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СИХОМОТОРНОЕ ВОЗБУЖДЕНИЕ ОСЛАБ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СПОКОЕН, МОЖЕТ САМОСТОЯТЕЛЬН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ВЫШАЕТСЯ ТЕМПЕРАТУРА ДО 40 – 42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МЕРТЬ НАСТУПАЕТ ОТ ОСТАНОВКИ ДЫХ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ЛИ ОСТАНОВКИ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724280"/>
            <a:ext cx="82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РОДОЛЖИТЕЛЬНОСТЬ ЗАБОЛЕВАНИЯ РЕДКО ПРЕВЫШАЕТ НЕДЕЛ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Times New Roman"/>
              </a:rPr>
              <a:t>ЕСЛИ ВАС УКУСИ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1916280"/>
            <a:ext cx="55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мыть с мылом место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ратиться в ближайший травмпун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вести курс прививок, назначенных врач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ходя курс вакцинации от бешенств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льзя      переохлаждаться, перегреваться, переутомл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2089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kp.ru/daily/25633.5/79907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xota.ho.ua/index.php?subaction=showcomments&amp;id=1290628398&amp;archive=&amp;cnshow=news&amp;start_from=&amp;ucat=4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iras.ru/zdorove/page/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edinfa.ru/02/besh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ediazavod.ru/articles/111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3:49:34Z</dcterms:created>
  <dc:creator>User</dc:creator>
  <dc:description/>
  <dc:language>en-US</dc:language>
  <cp:lastModifiedBy>КарМаН</cp:lastModifiedBy>
  <dcterms:modified xsi:type="dcterms:W3CDTF">2012-02-28T08:11:10Z</dcterms:modified>
  <cp:revision>12</cp:revision>
  <dc:subject/>
  <dc:title>БЕШЕНСТВО</dc:title>
</cp:coreProperties>
</file>