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2BC-BE4D-4387-9E82-5151161F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6DC-AC1F-4B06-8344-ADD788F9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998-1A08-46F2-B978-B254C4E9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F28-3433-46E0-B46C-6FF8929F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6626-5389-4A1F-8540-20D36709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A043-E092-4969-9350-9659C07E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6B0A-E4E1-4EA2-ACBB-B3CDF7A9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E5E5-BABC-4CE1-80DB-E294129F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6DA8-F0DC-4C28-AE7B-469DDEDF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B33A-4BC9-4891-8951-59BCDFFC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51B6-4813-499D-B256-2072C14F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0CC-F9B2-48C6-A0E0-5FFAFA77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D4A5-0683-4C62-9C3C-B8297A33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2E80-BCEE-4FFE-9ABE-2E577F5D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54AD-6679-4C68-905C-3E142C82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0FEE-D531-4F18-BD04-1C9C8F63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A26C-81FE-4927-A56C-418C4F50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CAC-760E-45E4-B8A4-9FE69CD1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FA6-B789-4A57-8B5C-E4DEE05C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0EC-D917-4985-9D0E-E36768C9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ADB-2872-43DB-B582-D4B9F180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86E-0940-44E7-ACE5-65AABAC2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752F-17E1-4E4E-95FD-BE60BB03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4FB-8F37-4B03-85B1-89A6587B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1293-F906-4F8A-B45E-C5E0D820F7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95E4-3705-4BFD-B888-A6305B7B37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p.ru/daily/25633.5/799078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БЕШЕНСТВО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рое инфекционное заболевание, вызываемое вирусом поражающим центральную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834200">
            <a:off x="1401480" y="916920"/>
            <a:ext cx="591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(К)ОУ Брединская СОШ № 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биологии и химии Титова Мари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4520" y="476280"/>
            <a:ext cx="8958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лябинской области введен  карантин по бешенству в 7 рай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1 году от укусов животных пострадали почти 12 тысяч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2011 год лабораторно подтверждено 147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чала 2012 года выявлено 11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лагоприятные пункты зарегистрированы в Брединском, Агаповс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шинском, Еткульском и Чебаркульском районах, а также в город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а и Златоу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205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51920" y="6192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ЧНИКИ ВИ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2077920" cy="165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23020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804000" y="1700280"/>
            <a:ext cx="193356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50920" y="1989000"/>
            <a:ext cx="1428480" cy="133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342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7800" y="357336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3240" y="3500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165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0160" y="59500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4520" y="623736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УЧИЕ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УТИ ЗАРА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0800000">
            <a:off x="755640" y="1915920"/>
            <a:ext cx="799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жение человека обычно происходит при укусах, реже – при ослюнении больными бешенством животными. Фактор передачи – слюна больного животного, с которой вирус проникает в кожу, а затем по периферическим нервам достигает Ц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651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БЕШЕНСТВО – СИМПТОМЫ ЗАБОЛЕВАНИЯ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360" y="17002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нач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8440" y="2565360"/>
            <a:ext cx="697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Появляются первые признаки бешенства в местах укус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ипухание и покра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головная 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ехватка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днимается темп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ессонница, кошмары, беспричинный с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811080"/>
            <a:ext cx="871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фаза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ериод возбуждения, наступает спустя 2 – 3 д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сле появления первых при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6680" y="2205000"/>
            <a:ext cx="886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ЕННЫЕ СПАЗМЫ МЫШЦ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РЕССИВНОСТЬ (больные кричат, рвут на себе одежду, ломают меб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ВЛЕНИЕ СЛУХОВЫХ И ЗРИТЕЛЬНЫХ ГАЛЛЮЦИ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РАЖЕННАЯ ТАХИКАР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НАЯ ПОТ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ИЛЕННОЕ СЛЮНО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ТУПЫ ВОДОБОЯ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735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69640" y="42372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ПАРА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916280"/>
            <a:ext cx="66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АРАЛИЧИ КОНЕЧ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РАЖЕНИЕ ЧЕРЕПНО – МОЗГОВЫХ НЕР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СИХОМОТОРНОЕ ВОЗБУЖДЕНИЕ ОСЛАБ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СПОКОЕН, МОЖЕТ САМОСТОЯТЕЛЬН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ВЫШАЕТСЯ ТЕМПЕРАТУРА ДО 40 – 42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МЕРТЬ НАСТУПАЕТ ОТ ОСТАНОВКИ ДЫХ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ЛИ ОСТАНОВКИ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724280"/>
            <a:ext cx="82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РОДОЛЖИТЕЛЬНОСТЬ ЗАБОЛЕВАНИЯ РЕДКО ПРЕВЫШАЕТ НЕДЕЛ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Times New Roman"/>
              </a:rPr>
              <a:t>ЕСЛИ ВАС УКУСИ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1916280"/>
            <a:ext cx="55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мыть с мылом место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ратиться в ближайший травмпун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вести курс прививок, назначенных врач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ходя курс вакцинации от бешенств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льзя      переохлаждаться, перегреваться, переутомл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2089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kp.ru/daily/25633.5/79907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xota.ho.ua/index.php?subaction=showcomments&amp;id=1290628398&amp;archive=&amp;cnshow=news&amp;start_from=&amp;ucat=4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iras.ru/zdorove/page/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edinfa.ru/02/besh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ediazavod.ru/articles/111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3:49:34Z</dcterms:created>
  <dc:creator>User</dc:creator>
  <dc:description/>
  <dc:language>en-US</dc:language>
  <cp:lastModifiedBy>КарМаН</cp:lastModifiedBy>
  <dcterms:modified xsi:type="dcterms:W3CDTF">2012-02-28T08:11:10Z</dcterms:modified>
  <cp:revision>12</cp:revision>
  <dc:subject/>
  <dc:title>БЕШЕНСТВО</dc:title>
</cp:coreProperties>
</file>