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BA6-E296-4B50-A52E-6D618B37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D90-2515-4915-BBDF-6E6E352A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AE4-94EB-4D52-B49D-37DA5CA4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0E1-4C94-4164-AD60-8CFB43BA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E8C5-6710-4183-8071-5E44F28D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10EF-6EAB-466D-932F-B6280217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0A39-3653-4179-B324-CF76FA9D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D32F-6C1F-4940-B25C-918E7CC8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D16F-FB04-431A-9AE6-A8898891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CFBD-CB88-4034-A8BB-17D62A26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D6B6-1DD1-4144-80C5-ACD9373B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A70-0C29-4913-8D90-2B18A767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E41E-AB4F-4CEE-94A0-FC34127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1E72-921F-473C-B04F-BDD0C4D7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F2C5-ECAE-4F13-8B89-A7B48C53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DE82-1753-4278-9705-4FA047EA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E1AE-EEA6-494B-8176-E89FA939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09C-4F68-4704-AADB-915CCDA1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9AB-0CD1-418A-A59A-FDB4D469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DCC-E295-448F-BFD0-BB8BFAE2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2D5-10C0-4567-9CE6-EE55BB71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0B9-DBCB-4BDC-9814-360A34D6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AEF-20C0-4121-931E-9D718BA1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D66-2976-40DE-9851-4ABB9DA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04D8-07AD-41C3-800A-14A7EB6E24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44B0-1A8C-4ED1-9FBC-5018121B14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p.ru/daily/25633.5/799078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БЕШЕН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ое инфекционное заболевание, вызываемое вирусом поражающим центральную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34200">
            <a:off x="1401480" y="916920"/>
            <a:ext cx="591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(К)ОУ Брединская СОШ № 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биологии и химии Титова Мари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4520" y="476280"/>
            <a:ext cx="895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лябинской области введен  карантин по бешенству в 7 рай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1 году от укусов животных пострадали почти 12 тысяч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1 год лабораторно подтверждено 147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чала 2012 года выявлено 11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лагоприятные пункты зарегистрированы в Брединском, Агаповс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шинском, Еткульском и Чебаркульском районах, а также в город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а и Злато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205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51920" y="6192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ЧНИКИ ВИ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2077920" cy="165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2302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19335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428480" cy="133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342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800" y="35733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3240" y="3500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165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0160" y="59500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4520" y="62373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УЧИЕ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УТИ ЗАРА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0800000">
            <a:off x="755640" y="1915920"/>
            <a:ext cx="799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жение человека обычно происходит при укусах, реже – при ослюнении больными бешенством животными. Фактор передачи – слюна больного животного, с которой вирус проникает в кожу, а затем по периферическим нервам достигает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651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БЕШЕНСТВО – СИМПТОМЫ ЗАБОЛЕВАНИЯ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360" y="17002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нач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8440" y="2565360"/>
            <a:ext cx="697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Появляются первые признаки бешенства в местах укус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пухание и покра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оловная 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ехватка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днимается 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ессонница, кошмары, беспричинный 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811080"/>
            <a:ext cx="871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фаз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ериод возбуждения, наступает спустя 2 – 3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появления первых 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6680" y="2205000"/>
            <a:ext cx="88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ЕННЫЕ СПАЗМЫ МЫШЦ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РЕССИВНОСТЬ (больные кричат, рвут на себе одежду, ломают меб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ВЛЕНИЕ СЛУХОВЫХ И ЗРИТЕЛЬНЫХ ГАЛЛЮЦИ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РАЖЕННАЯ ТАХИКАР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НАЯ ПОТ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ИЛЕННОЕ СЛЮНО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ТУПЫ ВОДОБОЯ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735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69640" y="42372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ПАРА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916280"/>
            <a:ext cx="66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АРАЛИЧИ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РАЖЕНИЕ ЧЕРЕПНО – МОЗГОВЫХ НЕР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СИХОМОТОРНОЕ ВОЗБУЖДЕНИЕ ОСЛАБ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СПОКОЕН, МОЖЕТ САМОСТОЯТЕЛЬН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ВЫШАЕТСЯ ТЕМПЕРАТУРА ДО 40 – 42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МЕРТЬ НАСТУПАЕТ ОТ ОСТАНОВКИ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ЛИ ОСТАНОВК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724280"/>
            <a:ext cx="82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ОДОЛЖИТЕЛЬНОСТЬ ЗАБОЛЕВАНИЯ РЕДКО ПРЕВЫШАЕТ НЕДЕЛ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imes New Roman"/>
              </a:rPr>
              <a:t>ЕСЛИ ВАС УКУСИ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916280"/>
            <a:ext cx="55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мыть с мылом место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титься в ближайший травмпун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вести курс прививок, назначенных врач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ходя курс вакцинации от бешенств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льзя      переохлаждаться, перегреваться, переутомл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2089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kp.ru/daily/25633.5/79907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xota.ho.ua/index.php?subaction=showcomments&amp;id=1290628398&amp;archive=&amp;cnshow=news&amp;start_from=&amp;ucat=4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iras.ru/zdorove/page/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edinfa.ru/02/besh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ediazavod.ru/articles/111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3:49:34Z</dcterms:created>
  <dc:creator>User</dc:creator>
  <dc:description/>
  <dc:language>en-US</dc:language>
  <cp:lastModifiedBy>КарМаН</cp:lastModifiedBy>
  <dcterms:modified xsi:type="dcterms:W3CDTF">2012-02-28T08:11:10Z</dcterms:modified>
  <cp:revision>12</cp:revision>
  <dc:subject/>
  <dc:title>БЕШЕНСТВО</dc:title>
</cp:coreProperties>
</file>