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0F1A-F40E-446C-B19B-B9E641CC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E7E9-C08B-4E69-8341-42E11A7A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C410-3F62-462F-A8B4-168D7DD9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E9C-3D05-4862-8724-35E40DBA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3237-7FB5-45CC-BA75-B68E6B75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AE90-D6D1-44FB-A5D5-20B80DBD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E780-D9E4-46AD-9EB2-EDD9A1AC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09C9-2E27-4257-8863-F931B803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AA99-F67B-4AC4-B128-568BE49D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0B98-E184-46BC-BA09-8EC54C4A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A177-A91B-4B35-895C-9D9240D9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5DB-01AC-4BBE-92CE-FA15F2A5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5B27-0688-495C-8DFB-6C893B43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DCD0-DC38-4139-949E-266791FF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9644-12F0-4383-A9E9-C6152CB6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16FE-64F3-447C-9AB3-27E26657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E957-FBE2-41B7-A0CD-21936F2B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15D-AE00-464C-8C53-64A549F8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A99B-3CEE-4ECA-BC6A-C17DB603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78FC-6215-4769-8110-A4BD588E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728-9614-4295-A33A-6FE8A129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3FEF-1691-4970-93B4-5128D586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9954-D6E0-4A01-91FD-67EFE3BB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82A-5C92-4CE3-9FFC-0F4FCBA8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C25E-06EB-4ECE-8D11-C1CCF4002C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5FD2-5463-44F2-B719-05EF0FC73A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p.ru/daily/25633.5/799078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БЕШЕНСТВО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трое инфекционное заболевание, вызываемое вирусом поражающим центральную нервную сист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 rot="10834200">
            <a:off x="1401480" y="916920"/>
            <a:ext cx="591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(К)ОУ Брединская СОШ № 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итель биологии и химии Титова Марина Серг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4520" y="476280"/>
            <a:ext cx="8958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елябинской области введен  карантин по бешенству в 7 райо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2011 году от укусов животных пострадали почти 12 тысяч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2011 год лабораторно подтверждено 147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начала 2012 года выявлено 11 случаев опасного заболе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лагоприятные пункты зарегистрированы в Брединском, Агаповско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шинском, Еткульском и Чебаркульском районах, а также в город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са и Златоу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2205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51920" y="6192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ЧНИКИ ВИР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1873080" cy="1584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732720" y="4508640"/>
            <a:ext cx="2077920" cy="165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419640" y="4221000"/>
            <a:ext cx="223020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2016000" cy="1656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804000" y="1700280"/>
            <a:ext cx="1933560" cy="1727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50920" y="1989000"/>
            <a:ext cx="1428480" cy="133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5280" y="342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А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37800" y="357336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83240" y="35002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616572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Н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70160" y="595008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Ш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4520" y="623736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ТУЧИЕ М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УТИ ЗАРАЖЕНИ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 rot="10800000">
            <a:off x="755640" y="1915920"/>
            <a:ext cx="799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жение человека обычно происходит при укусах, реже – при ослюнении больными бешенством животными. Фактор передачи – слюна больного животного, с которой вирус проникает в кожу, а затем по периферическим нервам достигает ЦН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6514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Times New Roman"/>
              </a:rPr>
              <a:t>БЕШЕНСТВО – СИМПТОМЫ ЗАБОЛЕВАНИЯ</a:t>
            </a:r>
            <a:endParaRPr b="0" lang="en-US" sz="3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0360" y="1700280"/>
            <a:ext cx="31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нач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08440" y="2565360"/>
            <a:ext cx="6977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Появляются первые признаки бешенства в местах укус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з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рипухание и покрас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головная б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ехватка воз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поднимается темп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бессонница, кошмары, беспричинный ст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811080"/>
            <a:ext cx="871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 фаза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ериод возбуждения, наступает спустя 2 – 3 д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сле появления первых призна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6680" y="2205000"/>
            <a:ext cx="886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00"/>
                </a:solidFill>
                <a:uFillTx/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ЗНЕННЫЕ СПАЗМЫ МЫШЦ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ГРЕССИВНОСТЬ (больные кричат, рвут на себе одежду, ломают меб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ЯВЛЕНИЕ СЛУХОВЫХ И ЗРИТЕЛЬНЫХ ГАЛЛЮЦИН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РАЖЕННАЯ ТАХИКАР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ШЕННАЯ ПОТ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ИЛЕННОЕ СЛЮНООТД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СТУПЫ ВОДОБОЯ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273528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69640" y="42372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ФАЗА -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ПАРАЛИ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32000" y="1916280"/>
            <a:ext cx="6665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АРАЛИЧИ КОНЕЧ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РАЖЕНИЕ ЧЕРЕПНО – МОЗГОВЫХ НЕР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СИХОМОТОРНОЕ ВОЗБУЖДЕНИЕ ОСЛАБЕ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ЧЕЛОВЕК СПОКОЕН, МОЖЕТ САМОСТОЯТЕЛЬН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ВЫШАЕТСЯ ТЕМПЕРАТУРА ДО 40 – 42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МЕРТЬ НАСТУПАЕТ ОТ ОСТАНОВКИ ДЫХ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ЛИ ОСТАНОВКИ СЕР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4724280"/>
            <a:ext cx="82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РОДОЛЖИТЕЛЬНОСТЬ ЗАБОЛЕВАНИЯ РЕДКО ПРЕВЫШАЕТ НЕДЕЛ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00"/>
                </a:solidFill>
                <a:latin typeface="Times New Roman"/>
              </a:rPr>
              <a:t>ЕСЛИ ВАС УКУСИЛ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1916280"/>
            <a:ext cx="5545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мыть с мылом место у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братиться в ближайший травмпун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вести курс прививок, назначенных врач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ходя курс вакцинации от бешенства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льзя      переохлаждаться, перегреваться, переутомл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77080" y="4005360"/>
            <a:ext cx="208908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kp.ru/daily/25633.5/79907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oxota.ho.ua/index.php?subaction=showcomments&amp;id=1290628398&amp;archive=&amp;cnshow=news&amp;start_from=&amp;ucat=4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iras.ru/zdorove/page/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medinfa.ru/02/beshen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ediazavod.ru/articles/1114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3:49:34Z</dcterms:created>
  <dc:creator>User</dc:creator>
  <dc:description/>
  <dc:language>en-US</dc:language>
  <cp:lastModifiedBy>КарМаН</cp:lastModifiedBy>
  <dcterms:modified xsi:type="dcterms:W3CDTF">2012-02-28T08:11:10Z</dcterms:modified>
  <cp:revision>12</cp:revision>
  <dc:subject/>
  <dc:title>БЕШЕНСТВО</dc:title>
</cp:coreProperties>
</file>